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87E-5EC5-4802-B1AB-39A2CFC1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AE0-5DAE-4399-BECF-CE1ABB9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53DF-2139-4802-9A1A-3AEE7F64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6AD9-5851-46D1-A990-082B85D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2BCE6-CE0F-4704-84A0-2F97A211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1B30E-4E46-4447-A59D-B88F40D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A3B3F-5D05-42D8-906D-0233D59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E4AD-D4B5-44AC-B2D3-6E882D4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8D77C-8C26-4C79-AFC1-815A35F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B255D-3B7B-4619-B0A8-AB5DEAD8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10DC5-6FF3-4085-9BA2-CC8FFF4B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9DA95-91E7-4244-A290-36FCB5A6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070-60DE-4A38-A82E-6D9206A5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BA630-4CB0-47B0-A456-B92F6A3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CD204-3562-4153-82F2-3BD7AD2A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6786B-8A08-4420-ADF4-22B49A2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A8FB-1E99-496B-BB6F-6CB5B31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504AA-92A7-470A-AF8E-7E7F16E4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58F79-A978-4F4B-98BA-1DE10C05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9901A-B707-429D-803A-70DDE27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7E120-3BF5-4993-91AB-77D86E13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C1E42-39D6-4FB4-A90F-2A2344B4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EE46-0086-4304-BAFD-279BAFDA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A87-32F5-4BC7-ADD2-9ADB9FDD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5DF3D-9980-44A7-9116-1D32704A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4A383-96E1-4B4C-87E9-E75D3599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D734D-685E-4C71-88D1-177C7FA5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FEB15-EE00-4E16-AA97-42EF372F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991C-00A1-4E73-80BE-2F33282C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98C9D-AAF1-49EB-89CD-0EFB86B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AD418-19BE-43BB-B204-A0F8257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163F8-4AA2-49FA-83C3-EDA65BF2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DCC9C-FF0A-4EE1-9131-7E3E3FA7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37FEF-3A87-47AE-B678-A3A3940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8BEA-01AD-48D4-B63C-C12D9955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A3D42-CFC2-4B56-AC18-191B5E80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2148A-D9C7-4C8F-A63F-E0AB7970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A951C-9630-4388-B2BB-338FA8C5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DF3B5-676F-4914-9505-EAC95B8B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C7B0-DC50-46AF-B377-E900689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2AB8A-8D93-4393-B90A-12BAD91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38928-8D64-4D49-8F81-AA06308E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FEB4-265B-48AE-AB49-D09C20B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0D13E-6515-44FA-859A-55554E13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73B3-AB12-4863-9BD7-6832A2D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0E61-FFB7-410F-A1EB-BBC9108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7DA7C-EB88-414F-9E8B-8D49FE4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DBB5D-821E-4F49-ABE1-96D5FE0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74712-89A3-4D09-95ED-3001A0F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070F3-36B0-4D11-9CCA-5AEE794B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3D8D5-BC54-4879-852B-C58BAB50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ECB55-0E59-4FA3-8616-B55B2C38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20286-DE8A-4A15-AC94-664AC984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A8989-C597-458F-8204-5A1B2DB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1CE17-CCC2-4A34-9ECF-7DA7A432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14648-CF96-4BA5-881D-E5DF9AAA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32DD-4696-4201-A7C3-3CC3EE2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8BF7E-8F2B-442F-A3F3-A561983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40E17-3571-4EC7-B81E-26291CC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17016-85FF-4F6F-BB08-C44E2470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A0918-EB50-41ED-85D0-2A6F73B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FC4FC-EC5C-49FA-AD8B-726BEA1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EFBA3-6233-4DF8-AEC5-AD0B9966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4A2CF-3FD6-4ADC-8EC5-55278296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70B4F-7A1F-4698-B10A-A0D4648B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9EA61-4729-4358-853F-BF9E1C0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3491C-B0D7-4489-920E-F70D683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F5F-D370-4144-BC90-FFFFE130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20EA1-44F4-4FD0-9A69-5545E835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7C938-273F-46CA-BA0E-1B5EEBEE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13ADC-CE89-45C7-AE06-B92BDA0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A17D0-54C2-4713-89E1-2639633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786F1-13FF-4E81-BBFA-B23D288A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19B05-4C2B-42CD-BE53-835A851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F407C-763F-451A-AD7F-E51B7D0F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CD5DC-DC6A-4B84-A70D-147ABBBF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D0CC4-D75C-49F9-86FD-FB0BA70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1CC62-C3B4-4210-9283-87E5B797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7F2F-5563-454A-93CB-EE3B3DE2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627C82-0078-4B85-B0CB-EDAB39C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A6EC6-DB71-4743-BA15-EE5B8327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09F24-87F6-4CA5-9D8E-3B855BA8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CC4E9-A036-4CDB-89B9-A4D1E844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40EA8-9C40-4007-A738-36821A8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E51218-4239-4425-93BB-136A05C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4036A-1E30-4CB2-89E0-34AD9836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7500-8272-4464-A2D4-50A5DF7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86C10-FC89-4819-BC1D-B4218D7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68FD8-B7A2-4283-8F81-03013998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07D2-D964-44F3-A385-56D56685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34CE5-0930-4651-A09D-FC3AF5D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675C2-F2C4-4D4A-B86A-1CBEAB76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980BC-1EFA-4A19-9A83-3A004165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339DC-D9B8-4BE2-9AA7-17F9617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29A40-E076-4179-BDDD-E4EC05B0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47623-FE00-434C-A5FE-135D1E4F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B029D-D8C4-4E28-BED2-4764292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F6118-A4A4-44EF-A53C-970969F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8398E-8009-4739-910B-07B890A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4A3B1-947A-43E1-B8F4-BDB4351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FCF3-F0F5-4DA5-A49F-5CA1F7D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AD771-63C6-4FA4-8D32-34BE26E4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DF158-D79E-486B-9919-5A4D3B5E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AFF16-23CB-4B12-BF5E-B06BEBEC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1F6FE-63A3-424B-B1DE-6D27FC64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A3B6B-52F1-4833-B598-176F0DC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EC898-173D-428D-ABC4-B3D87ABD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0171B-7844-461C-B8E9-17B37F26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4DD03-B654-42D9-9C2E-FD5BE7FB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A5FE3B-1162-49A7-9E27-59C8500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5F10D-8AA7-4566-8BEB-E630CAA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9FA-C3FA-454D-A47E-2BBCA32A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A09E-49B4-4A04-8672-E9C9A848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F2081-5B9E-488B-BA57-870B4D8D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0B040-ABCB-4A3E-B3D2-29EFAB6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14382-6786-4F5D-A430-C1B7601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D4D44-B169-4EBC-BEE9-EA8FD3D5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9D0A5-7F77-4039-973B-F46D2813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6353C-49D2-44A1-8B81-7C72372C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08C2D-E19E-44D8-B6AB-3A77445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0357C-FD42-457D-B84B-D924DFD1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FC1DF-0038-4DE9-9E4A-42A374B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92202-0728-488C-BF77-60702AD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779-D200-4453-8EC1-D24B208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FCAE9-C07A-4996-B9CB-15BD9EF7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52F26-404E-4D47-8CC6-D6F8FD0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18E0B-D5C6-43BE-9258-C28D230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C90D30-7F77-405B-855F-C14F3D0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C2365-E0A7-4B2C-96B3-989A9BD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64EDB7-5031-4D86-B5E2-3FA7841F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091A6-A1B8-41D9-89B0-640D565C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F6F21-7F12-4AD2-A20C-682FF2FD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88C7E-77C8-44EE-B065-B37214CD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318F3-EC09-4659-9D37-B9C3B767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F083-BACC-41A5-B19C-1CFAE815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D710D6-8C23-4C32-9E3C-71E88F0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26F9A-6222-4EE5-A457-09506589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0BCA7-426A-406B-AAF6-3773B7FB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6D99E-5007-42D0-AFFF-56089A9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F5C3C9-7C95-4164-92B6-5D883A9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3F927-D73A-4C49-86A9-4D5CC69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26E67-08E2-472D-B2FD-6C38BFA3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1C209-70F7-4B76-A39C-B062BBEF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7A00F-A9AF-4CA0-824E-873CC693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A8BAEE-4E6A-4869-A0EE-1109584D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971A-2A9B-494F-9EF5-A7A7A59B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6C65F-1CF7-4216-8536-1368DD62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755E0-8C09-44AC-8A82-4AED43A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4751A-3625-4000-9870-952302C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14E6E-0C03-4DF4-8F71-97AFBB3C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53ED0-F791-49ED-8AA3-E35DDF3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AA5EB-7795-40C5-96B8-B7D8306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A8E88-F16B-41EF-9EF1-1C96633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929E8-1D65-4D6D-89E1-3D707A6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C19DD-9F82-462A-B8ED-7370D295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A2FCF-5131-4326-A465-EF633FA4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276B-4D77-4777-895D-87F2AD6E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5AA423-A892-4485-8D70-AF48D48F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3BFB5-AA68-40FC-A57E-11B30B21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CF8D5-8CED-420A-A232-2AC16E49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A64D7-6DFD-4965-8558-971ED04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1A1C1-3801-4FDB-8A52-231E44D2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8C7F6-5AB6-4521-A265-BA41B955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DBC542-6C29-46AD-A4B5-C90F0CC0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63690-2802-4D8B-9B62-B35A37F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A2FDF-84E5-40E2-B9A8-430E3AB7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08A00-3AA0-463A-9F9C-FA2BFEF7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7DE6-EEBD-47CE-9BFF-3B08D9BC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8FC04-F397-45F4-94E2-42CCF2C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572A4-56F2-40DE-8F82-D3559CAD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2175D-99B6-4C01-97FC-39412194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EF313-6233-49D8-86ED-473CD48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AA2A9-1DCB-4EC8-AB86-2CB47998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B65F4A-1A2D-4118-8FDC-90CFD990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61DB4-4940-4836-817A-EA25401A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1CC82-C5B9-455B-8162-7F0DC1E6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DF1DA5-126F-471A-BF24-A27C364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3CD1BF-54B0-467C-92D0-53CD62C3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0E10-4EB4-4C75-A454-74C6D83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B3577-444D-4F19-8D96-A778E15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3A40E-B874-448B-BFBF-88158ED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3AA586-6353-466B-B15C-F72CDC1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EF5250-C06E-43A4-828E-543C8D98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B40B4A-9AD2-40F9-A1DA-BC5B8C9E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0F9809-30BA-46CD-AB73-FC6382A9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E4FD42-008F-4730-BA8B-A2FCEE6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3EB2B6-489D-411F-89F8-2D98591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514D16-B95F-4326-8CBA-AAB86E0D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E776FC-0BF3-4E47-8B0B-A6F293C9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8E96-A253-4CA6-B1E7-AE7265F2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C2AE6-75FE-4331-AD2F-F3F753C1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3F68D0-C6D6-44F5-953F-F5229F9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4364C-9125-4270-9EF3-1C1522A2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63602-CAF8-4A20-BB5D-879CBE6A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4ECCD-B83B-4DD5-BB49-FB6B7CB6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106229-3D8C-4DB7-9DA3-2A518766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76903-3304-42D2-94E9-900480D3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B8CC2A-5893-4FF2-A9C8-707D907E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08E94-7610-45AF-8D34-23A0EF4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2A968-2C61-44C0-B2B8-EA4BCF1A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B5FF-969B-466B-A5B5-0CF0B593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D87066-C4E8-429A-9A89-78378FF8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1AB84-563F-4057-878E-6E5D46F8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8AC34-272B-40C5-AE2A-394B5E81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BC077D-3DD6-441E-86EB-0C3E81F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5E69A-43A0-4825-8B49-0725EA3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913CC-5827-4CA3-8FFC-2C632B0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352C6F-1925-4DFE-B0BA-4D26B64F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B02DE-FB5F-461D-9382-7F27BEF6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8EF86A-167C-4D27-95F1-61EE582D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AB596-E524-42AF-A73F-0F6DBE4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AFCB-7361-4A9F-89DC-2D16C45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DA55E2-2994-400C-BD35-F984123B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2F9569-670D-4A37-9096-B716ED0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7AB8A1-44C6-4652-A1DC-0C1742D4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8F6753-AD38-4CCE-BA5C-A05D6C9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BABA9F-5A1B-464F-BA58-469DC9C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B356C9-4527-498C-80DE-003B2F8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23BF2-E587-482E-B3AA-E4F9818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1E27AB-B934-41BB-AC73-1BAC92D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9E7E64-7B17-4EF3-8398-FA46C7B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BB30D0-EC27-48EE-BD03-C6F35A12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8F1-1872-41DC-A1AD-AEC9C78D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90E3-FF1D-4C09-861F-1AE8E52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6E6F11-542D-4C1D-98F9-8F1AD19E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08BB-5954-45CB-80CF-98C393A0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68B8-EFBE-4E05-B195-FEDB0E7F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87D5-6616-4AB0-B115-27B57E8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8895-880C-411C-B466-DCC3E54B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748D-4419-4777-B044-921CDC0A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6356-1054-41F8-B661-211F38DF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49AD-50B6-4E7E-80F8-008B03B5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04681-615C-45A3-9C9D-A16F1680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A544-160B-42E4-8608-CA27280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767-2F62-4E14-801E-72B22440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0A5A-F179-44AB-B549-0A1EC00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A9E0-7C1F-4B4D-BE45-22D34A0E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9F8B-67FF-4BE2-A2A7-10F69974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C2C1-82D9-497C-95F4-B07E24E6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20B1-C996-4745-AFC3-0D46726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36D4-9E77-47B8-8C1B-984262C2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805B8-B87F-4631-BBA9-88D4389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1AF2-FE9F-4830-9190-A0F3651C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52B7-6C1F-41CA-AE87-D335E417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08E1-7DD7-4A63-B946-5E1926B2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619-0386-4B60-80CA-4674EBC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BBC8-A541-47B1-B5A5-0CC5DE4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9FBD-9E3D-4F84-A524-0183A35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4A07-D6BA-4D02-8363-0CF1DC4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B2D8-03C6-434F-A5C2-0F006A04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99BC-0688-46FB-AC54-E184D33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5357-8D73-4322-BD6F-C5DA66A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BFAB7-7896-4C75-BEAF-78FD181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9722-D8A7-456A-AAF7-0BABE87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26DC5-BBBE-4E6E-A51C-8DEDFF07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8A32-4D93-43E0-A0F7-2FCBD7A0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A58-0F93-45C7-BC8A-1D8E184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F028-778A-49C0-AA7C-B8E11C10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5250-D276-4A31-B918-BCCDF223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390D-0E1D-446E-A809-028F9B2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13F4-D081-4CD2-8072-19242DF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A5A43-2291-4121-B30E-0A01ABDC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7AC6-308A-413C-AFC5-28C7C32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CFCD-B7A7-45E6-9873-B6744D1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16BA-9D87-4DDE-95D4-01D61B9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7E32-73D3-4848-AC20-9C0A6E3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9AF6-A856-4517-866F-03B764A0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D44-260B-4737-A63F-535D2D0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F01BD-044B-487B-8957-BFF5CDA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47C0-FA49-4A95-89E6-96EAB654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DE6E-3E47-4F15-AAC9-136805F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DFF04-5424-4869-B581-CB556FA8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0220-72BE-4DB4-ADEF-7CBF272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A74D5-1412-4B44-AF0A-95CA0A1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67C25-F4D4-4B5E-8223-5A0D2AA8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0860-48D5-490A-B0BC-2BD98DC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7F886-535E-4DD8-86EB-BB405077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7315-96E1-42CA-B067-64282D7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BA1-3A8E-4F0F-A02D-CC3C8DC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FE2F2-2172-4945-8936-F98953D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47DAA-7B9D-47D4-B84E-96E13E7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38061-23F5-4D6B-BDD3-41954C01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EFF1-7DFF-4C88-BB49-FAD0E75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EA067-97D4-4F15-9E2A-674F7BD3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8822-F4A3-4505-904F-E64867AE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67D27-797D-4FE6-82E0-3F3E7E35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19C38-DFA4-4B83-A2C8-0446BEB5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CFE5C-9550-46A2-BF30-1DC1E89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98C5A-11F5-41AF-B21B-B24F1AE0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EC3-7492-4B38-A12A-359B66D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0BC4-F8E1-4487-B874-0A75B77A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C3950-3A67-48BE-A54D-1409AAC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2D196-BE9F-4E74-B7EE-A162009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D624F-22D1-435E-BC08-CEB389B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5ADF8-8CCC-49CE-8A58-5918F43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15FDC-D48E-4AEC-BDD2-A348FD65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9870-7079-446F-9994-41FD840C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68136-CABF-4781-A20D-50DABCAA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AF4C-765A-4915-B6B5-E8784E9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51741-A27E-4BE0-B87D-8386C840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9223-4D11-40E9-96D6-5B6D9A94A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E69-B56D-46A4-8DBB-468C4795BB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7EA-3939-4845-AECA-8E5472275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B79-981F-4D84-A986-A9ED371943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788F-9494-4D7E-9412-F7F81E85A1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648E-A2CF-48D7-8C79-46CB03CCD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E861-228C-45EE-B0ED-B58AFC8C0C1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1A57-C069-4DD3-BAB9-7AABAE6E3D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4FF-275B-434C-9A23-8D285E6817F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263-8FA9-47B3-8E9F-815A9D03CB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93B-495C-4968-AF6F-35E813B9A1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DA7-1068-436C-87AE-6B8C6F43A1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068-CECD-4CCD-8EE1-DC3454D067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4454-ACED-436F-AF8F-FBE28D1C40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3C6-B66F-4C4F-9BAE-6A4C422E55E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394B-6785-41AE-9F93-DC860A53BA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EA6-EE73-4986-A017-2201D05960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1CD-BBD1-4B08-B37F-A8F444A68C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BE69-826C-421D-8D32-4DD683D7D1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9B7F-92A9-4702-A9EC-162F283434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807-D001-424A-80DD-1158C978F1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7A5-D335-4FE1-9ECD-2CB7158D98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D15-E482-48D1-9002-93069AFA001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BD9-CB6D-4701-807F-BC1727F2B4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4657-F62A-427E-841D-F1F441F576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18F5-700B-4A57-A42B-2F4DA07A1C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50F-829C-4198-BEDC-8B1A38F086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8391-39DD-454E-B322-C822DF31AA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C792-D2F9-4646-B45D-7C0068E5B5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D766-DD54-4AA1-91A8-B5169AA3EC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F87D-0B9B-4A17-95D3-BD52D775D9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7C1B-A9D8-469D-88E1-5C5D9E0C97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004B-A4AD-4391-9007-DF492AB916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F250-8E63-4F6A-86C0-3A09A5169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5CC-DB9D-48E6-B5F1-BDB5A83FC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4DC-C11E-42CF-A6F6-8509FAD659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AF70-FBA5-4C77-854E-99AC6DB20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3" descr=""/>
          <p:cNvPicPr/>
          <p:nvPr/>
        </p:nvPicPr>
        <p:blipFill>
          <a:blip r:embed="rId2"/>
          <a:srcRect l="9158" t="18571" r="24553" b="18117"/>
          <a:stretch/>
        </p:blipFill>
        <p:spPr>
          <a:xfrm>
            <a:off x="9217080" y="-592200"/>
            <a:ext cx="841320" cy="80172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4" descr=""/>
          <p:cNvPicPr/>
          <p:nvPr/>
        </p:nvPicPr>
        <p:blipFill>
          <a:blip r:embed="rId3"/>
          <a:srcRect l="0" t="33314" r="23930" b="31046"/>
          <a:stretch/>
        </p:blipFill>
        <p:spPr>
          <a:xfrm flipH="1" rot="20297400">
            <a:off x="9559440" y="-160560"/>
            <a:ext cx="963720" cy="4507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" descr=""/>
          <p:cNvPicPr/>
          <p:nvPr/>
        </p:nvPicPr>
        <p:blipFill>
          <a:blip r:embed="rId4"/>
          <a:srcRect l="0" t="33229" r="28381" b="17607"/>
          <a:stretch/>
        </p:blipFill>
        <p:spPr>
          <a:xfrm rot="10518600">
            <a:off x="8570160" y="-593640"/>
            <a:ext cx="827280" cy="5680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7" descr=""/>
          <p:cNvPicPr/>
          <p:nvPr/>
        </p:nvPicPr>
        <p:blipFill>
          <a:blip r:embed="rId5"/>
          <a:srcRect l="0" t="33314" r="23930" b="31046"/>
          <a:stretch/>
        </p:blipFill>
        <p:spPr>
          <a:xfrm flipH="1" rot="20298600">
            <a:off x="9274320" y="143640"/>
            <a:ext cx="963360" cy="4514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8" descr=""/>
          <p:cNvPicPr/>
          <p:nvPr/>
        </p:nvPicPr>
        <p:blipFill>
          <a:blip r:embed="rId6"/>
          <a:srcRect l="0" t="33314" r="23930" b="31046"/>
          <a:stretch/>
        </p:blipFill>
        <p:spPr>
          <a:xfrm flipH="1" rot="20297400">
            <a:off x="7517880" y="-46476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" descr=""/>
          <p:cNvPicPr/>
          <p:nvPr/>
        </p:nvPicPr>
        <p:blipFill>
          <a:blip r:embed="rId7"/>
          <a:srcRect l="9158" t="18571" r="24553" b="18117"/>
          <a:stretch/>
        </p:blipFill>
        <p:spPr>
          <a:xfrm>
            <a:off x="9750600" y="757080"/>
            <a:ext cx="841320" cy="8049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" descr=""/>
          <p:cNvPicPr/>
          <p:nvPr/>
        </p:nvPicPr>
        <p:blipFill>
          <a:blip r:embed="rId8"/>
          <a:srcRect l="0" t="33314" r="23930" b="31046"/>
          <a:stretch/>
        </p:blipFill>
        <p:spPr>
          <a:xfrm flipH="1" rot="20297400">
            <a:off x="9349920" y="-31248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" descr=""/>
          <p:cNvPicPr/>
          <p:nvPr/>
        </p:nvPicPr>
        <p:blipFill>
          <a:blip r:embed="rId9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6" descr=""/>
          <p:cNvPicPr/>
          <p:nvPr/>
        </p:nvPicPr>
        <p:blipFill>
          <a:blip r:embed="rId10"/>
          <a:srcRect l="31725" t="4394" r="9492" b="52673"/>
          <a:stretch/>
        </p:blipFill>
        <p:spPr>
          <a:xfrm rot="20135400">
            <a:off x="-338040" y="1574280"/>
            <a:ext cx="1550880" cy="220824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1" descr=""/>
          <p:cNvPicPr/>
          <p:nvPr/>
        </p:nvPicPr>
        <p:blipFill>
          <a:blip r:embed="rId11"/>
          <a:stretch/>
        </p:blipFill>
        <p:spPr>
          <a:xfrm>
            <a:off x="-246240" y="2112840"/>
            <a:ext cx="3732480" cy="303084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3" descr=""/>
          <p:cNvPicPr/>
          <p:nvPr/>
        </p:nvPicPr>
        <p:blipFill>
          <a:blip r:embed="rId12"/>
          <a:srcRect l="6833" t="0" r="45140" b="37834"/>
          <a:stretch/>
        </p:blipFill>
        <p:spPr>
          <a:xfrm>
            <a:off x="1344600" y="3844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5" descr=""/>
          <p:cNvPicPr/>
          <p:nvPr/>
        </p:nvPicPr>
        <p:blipFill>
          <a:blip r:embed="rId13"/>
          <a:srcRect l="6833" t="0" r="45140" b="37834"/>
          <a:stretch/>
        </p:blipFill>
        <p:spPr>
          <a:xfrm>
            <a:off x="1344600" y="3817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16" descr=""/>
          <p:cNvPicPr/>
          <p:nvPr/>
        </p:nvPicPr>
        <p:blipFill>
          <a:blip r:embed="rId14"/>
          <a:srcRect l="6833" t="0" r="45140" b="37834"/>
          <a:stretch/>
        </p:blipFill>
        <p:spPr>
          <a:xfrm>
            <a:off x="811080" y="3029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7" descr=""/>
          <p:cNvPicPr/>
          <p:nvPr/>
        </p:nvPicPr>
        <p:blipFill>
          <a:blip r:embed="rId15"/>
          <a:srcRect l="6833" t="0" r="45140" b="37834"/>
          <a:stretch/>
        </p:blipFill>
        <p:spPr>
          <a:xfrm>
            <a:off x="811080" y="3083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6" descr=""/>
          <p:cNvPicPr/>
          <p:nvPr/>
        </p:nvPicPr>
        <p:blipFill>
          <a:blip r:embed="rId16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1"/>
          <p:cNvSpPr/>
          <p:nvPr/>
        </p:nvSpPr>
        <p:spPr>
          <a:xfrm>
            <a:off x="2385720" y="22575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墨竹鲤鱼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2"/>
          <p:cNvSpPr/>
          <p:nvPr/>
        </p:nvSpPr>
        <p:spPr>
          <a:xfrm>
            <a:off x="48744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9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12" dur="23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E-006 1.4396E-006 C 0.00382 0.02008 0.00816 0.04109 0.00955 0.0621 C 0.01059 0.07723 0.01268 0.1072 0.01268 0.1072 C 0.01233 0.14581 0.02743 0.25826 0.00643 0.31603 C 0.00521 0.34693 0.00538 0.39079 -5E-006 0.42045 C -0.00192 0.46834 -0.00782 0.51776 -0.01424 0.56472 C -0.01702 0.58542 -0.01876 0.6089 -0.02536 0.62651 C -0.02796 0.64072 -0.02883 0.65369 -0.03334 0.66636 C -0.03525 0.68057 -0.0382 0.69262 -0.04133 0.70559 C -0.04515 0.72258 -0.04671 0.74112 -0.054 0.75409 C -0.0573 0.77139 -0.06043 0.78282 -0.06511 0.7992 C -0.0672 0.81403 -0.07206 0.83534 -0.07935 0.84399 C -0.08126 0.8548 -0.08473 0.86963 -0.0889 0.87828 C -0.09133 0.88323 -0.09428 0.88755 -0.09688 0.89249 C -0.09845 0.89527 -0.10157 0.90053 -0.10157 0.90053 C -0.10261 0.90454 -0.10331 0.90887 -0.1047 0.91196 C -0.10695 0.91752 -0.11268 0.92617 -0.11268 0.92617 C -0.11442 0.93605 -0.11668 0.94161 -0.12067 0.94903 C -0.12327 0.96231 -0.12501 0.95613 -0.13022 0.9654 C -0.13265 0.96973 -0.13386 0.9759 -0.13647 0.97961 C -0.13942 0.98455 -0.14602 0.99104 -0.14602 0.99104 C -0.15122 1.00525 -0.14775 0.99815 -0.15869 1.01081 C -0.16025 1.01267 -0.16355 1.01668 -0.16355 1.01668 C -0.1698 1.03151 -0.17015 1.02657 -0.17779 1.03615 C -0.18126 1.04047 -0.18386 1.04665 -0.18733 1.05036 C -0.18872 1.0519 -0.19063 1.05159 -0.19202 1.05314 C -0.19532 1.05653 -0.20157 1.06457 -0.20157 1.06457 C -0.20782 1.08156 -0.2007 1.06518 -0.21112 1.07878 C -0.22622 1.09793 -0.20452 1.07754 -0.22223 1.09299 C -0.22848 1.10751 -0.22935 1.10226 -0.23647 1.11245 C -0.24775 1.12882 -0.26164 1.14859 -0.27622 1.15508 C -0.29341 1.18598 -0.2757 1.15941 -0.29046 1.17176 C -0.31025 1.18937 -0.29133 1.1764 -0.30626 1.19154 C -0.31147 1.19679 -0.3198 1.19864 -0.32536 1.20266 C -0.3297 1.21069 -0.33681 1.21625 -0.34289 1.21965 C -0.34845 1.22644 -0.34567 1.22552 -0.3507 1.22552 E">
                                      <p:cBhvr>
                                        <p:cTn id="14" dur="24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66667E-006 -3.21594E-006 C 0.00434 0.02317 0.00261 0.01112 0.00469 0.03677 C 0.00382 0.12975 0.00816 0.17764 1.66667E-006 0.25147 C -0.00191 0.28792 -0.00451 0.32376 -0.01111 0.35867 C -0.01267 0.37473 -0.01406 0.3874 -0.0191 0.40099 C -0.02326 0.42323 -0.02552 0.44857 -0.03489 0.46618 C -0.03646 0.47483 -0.03559 0.47452 -0.03976 0.48008 C -0.04288 0.48409 -0.0493 0.49151 -0.0493 0.49151 C -0.0559 0.50912 -0.06493 0.51375 -0.07465 0.52549 C -0.07882 0.53043 -0.0842 0.53105 -0.08889 0.53383 C -0.09045 0.53476 -0.09375 0.53661 -0.09375 0.53661 C -0.09479 0.53846 -0.09549 0.54125 -0.09687 0.54248 C -0.09983 0.54526 -0.10642 0.54804 -0.10642 0.54804 C -0.11788 0.54526 -0.12118 0.5502 -0.12378 0.53105 C -0.12309 0.50757 -0.12396 0.45197 -0.10955 0.43497 C -0.1066 0.41922 -0.10625 0.41335 -0.09844 0.40408 C -0.09444 0.38215 -0.10035 0.40841 -0.09201 0.38987 C -0.08576 0.37597 -0.09618 0.38462 -0.08576 0.37844 C -0.07934 0.36114 -0.08663 0.3769 -0.07778 0.36732 C -0.06684 0.35558 -0.08368 0.3667 -0.06979 0.35867 C -0.06233 0.34971 -0.06701 0.35434 -0.05555 0.34755 C -0.05399 0.34662 -0.05243 0.34569 -0.05087 0.34477 C -0.0493 0.34384 -0.04601 0.34168 -0.04601 0.34168 C -0.04184 0.3426 -0.0375 0.34322 -0.03333 0.34477 C -0.03003 0.346 -0.02378 0.35033 -0.02378 0.35033 C -0.02222 0.35218 -0.02014 0.35311 -0.0191 0.35589 C -0.01424 0.36979 -0.01476 0.38709 -0.00955 0.40099 C -0.01111 0.44733 -0.01094 0.4498 -0.0191 0.48317 C -0.02483 0.50634 -0.01892 0.49367 -0.02535 0.50572 C -0.0283 0.52024 -0.02621 0.5119 -0.03333 0.53105 C -0.03437 0.53383 -0.03542 0.53661 -0.03646 0.53939 C -0.0375 0.54217 -0.03976 0.54804 -0.03976 0.54804 C -0.04201 0.55978 -0.04687 0.56812 -0.05087 0.57863 C -0.05885 0.59994 -0.06389 0.61786 -0.07621 0.63269 C -0.08073 0.64505 -0.08819 0.65493 -0.09375 0.66667 C -0.09878 0.67717 -0.1026 0.69077 -0.10799 0.70065 C -0.11528 0.71394 -0.12361 0.72506 -0.13177 0.73711 C -0.14739 0.75997 -0.15937 0.79055 -0.17621 0.81063 C -0.18264 0.82855 -0.17552 0.81125 -0.1842 0.82484 C -0.20121 0.85141 -0.1875 0.83442 -0.19844 0.84739 C -0.20521 0.86531 -0.22795 0.88848 -0.23976 0.89528 C -0.24635 0.90763 -0.25503 0.91134 -0.26354 0.91814 C -0.2691 0.92246 -0.27205 0.92864 -0.27778 0.93204 C -0.28524 0.94594 -0.27587 0.93049 -0.28576 0.94069 C -0.29358 0.94903 -0.29809 0.95861 -0.30642 0.96324 C -0.31163 0.96911 -0.31788 0.97961 -0.32378 0.98301 C -0.32778 0.98981 -0.33125 0.99382 -0.33646 0.99722 C -0.34167 1.00618 -0.34722 1.01267 -0.35399 1.01699 C -0.35451 1.01977 -0.35434 1.02317 -0.35555 1.02534 C -0.35677 1.0275 -0.35885 1.02688 -0.36042 1.02812 C -0.37535 1.04109 -0.35555 1.02719 -0.36979 1.03677 C -0.37083 1.03862 -0.3717 1.04109 -0.37309 1.04233 C -0.37604 1.0448 -0.38264 1.04789 -0.38264 1.04789 C -0.38698 1.05314 -0.3908 1.06024 -0.39531 1.06488 C -0.40538 1.07538 -0.39444 1.05808 -0.40486 1.07322 C -0.41146 1.0828 -0.41701 1.09392 -0.42535 1.09886 C -0.42639 1.10071 -0.42726 1.10319 -0.42864 1.10442 C -0.43212 1.10813 -0.4375 1.1072 -0.42864 1.1072 E">
                                      <p:cBhvr>
                                        <p:cTn id="16" dur="46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19802E-007 C 0.00642 0.01082 0.00451 0.0275 0.00642 0.04233 C 0.00712 0.0482 0.00955 0.05963 0.00955 0.05963 C 0.01076 0.10875 0.0125 0.13408 0.00955 0.18351 C 0.0092 0.18938 0.00729 0.19463 0.00642 0.2005 C 0.0033 0.22305 -0.0007 0.24591 -0.00469 0.26815 C -0.00573 0.27433 -0.00834 0.27928 -0.00955 0.28515 C -0.01372 0.30646 -0.01511 0.33921 -0.02379 0.35589 C -0.02552 0.36516 -0.03177 0.38122 -0.03177 0.38122 C -0.03472 0.39729 -0.0375 0.41737 -0.04445 0.42911 C -0.0467 0.44023 -0.04879 0.4532 -0.05243 0.46309 C -0.05677 0.47575 -0.06337 0.48564 -0.06823 0.49707 C -0.06962 0.49985 -0.06997 0.50294 -0.07136 0.50541 C -0.07622 0.51406 -0.08264 0.51962 -0.0875 0.52796 C -0.09063 0.54681 -0.08594 0.52858 -0.09358 0.53939 C -0.09514 0.54156 -0.09549 0.54526 -0.09688 0.54773 C -0.10018 0.5536 -0.10226 0.55391 -0.10625 0.55638 C -0.11111 0.56442 -0.11754 0.57523 -0.12379 0.57894 C -0.12709 0.58079 -0.13038 0.58233 -0.13334 0.5845 C -0.13507 0.58542 -0.13802 0.58728 -0.13802 0.58728 C -0.14202 0.59438 -0.14705 0.59778 -0.15226 0.60118 C -0.15538 0.60365 -0.15868 0.60519 -0.16198 0.60705 C -0.16337 0.60798 -0.16667 0.60983 -0.16667 0.60983 C -0.17917 0.62528 -0.19341 0.62744 -0.20782 0.6296 C -0.2217 0.62744 -0.23837 0.63671 -0.24913 0.62126 C -0.25243 0.61663 -0.25469 0.60056 -0.25556 0.59593 C -0.25608 0.59315 -0.25712 0.58728 -0.25712 0.58728 C -0.25643 0.56256 -0.26007 0.52858 -0.24913 0.50819 C -0.24566 0.48935 -0.23629 0.4668 -0.22535 0.46031 C -0.21476 0.44115 -0.22014 0.44579 -0.21111 0.44054 C -0.20521 0.43065 -0.19983 0.41984 -0.19219 0.4152 C -0.18716 0.40594 -0.17847 0.39358 -0.17153 0.38956 C -0.16389 0.3806 -0.1566 0.37813 -0.14775 0.37566 C -0.14462 0.37381 -0.14271 0.36886 -0.13976 0.36701 C -0.13611 0.36454 -0.11511 0.36145 -0.11441 0.36145 C -0.09688 0.35095 -0.07622 0.35743 -0.05868 0.35867 C -0.054 0.36145 -0.04931 0.36423 -0.04445 0.36701 C -0.04306 0.36794 -0.03976 0.36979 -0.03976 0.36979 C -0.0375 0.37412 -0.03386 0.37659 -0.03177 0.38122 C -0.03073 0.38338 -0.03108 0.38709 -0.03021 0.38956 C -0.02674 0.39945 -0.02222 0.40964 -0.01754 0.41798 C -0.01459 0.43436 -0.01302 0.43837 -0.00955 0.45166 C -0.00816 0.45722 -0.00729 0.46309 -0.00625 0.46865 C -0.00573 0.47143 -0.00469 0.4773 -0.00469 0.4773 C -0.00521 0.49954 -0.00052 0.56998 -0.01424 0.59593 C -0.01788 0.61446 -0.02084 0.63794 -0.02847 0.65246 C -0.03073 0.66451 -0.03681 0.67872 -0.04115 0.68891 C -0.04306 0.69849 -0.04549 0.70467 -0.04931 0.71177 C -0.05278 0.73155 -0.0474 0.70807 -0.05729 0.72568 C -0.05972 0.73031 -0.06094 0.73803 -0.06337 0.74267 C -0.06771 0.75039 -0.07292 0.75626 -0.07622 0.76522 C -0.07726 0.768 -0.07795 0.77171 -0.07934 0.77387 C -0.08056 0.77572 -0.08264 0.77572 -0.0842 0.77665 C -0.09358 0.79302 -0.10313 0.80723 -0.11285 0.82453 C -0.1191 0.83596 -0.12639 0.85079 -0.13507 0.85574 C -0.14427 0.86686 -0.154 0.87551 -0.16337 0.88663 C -0.16632 0.89003 -0.17032 0.88941 -0.17292 0.8925 C -0.1849 0.9064 -0.20087 0.91196 -0.21441 0.92061 C -0.2217 0.92555 -0.229 0.93235 -0.23663 0.9376 C -0.24532 0.94378 -0.25452 0.94625 -0.26337 0.95181 C -0.26511 0.95305 -0.2665 0.95614 -0.26823 0.95737 C -0.28004 0.96479 -0.29271 0.96571 -0.30469 0.97158 C -0.31545 0.97684 -0.32535 0.9827 -0.33646 0.98549 C -0.34479 0.99105 -0.35313 0.99599 -0.36181 0.9997 C -0.37587 1.01545 -0.39375 1.02194 -0.40972 1.0309 C -0.41806 1.04078 -0.42847 1.04511 -0.43802 1.05067 C -0.4507 1.05808 -0.43525 1.04882 -0.44757 1.05623 C -0.44913 1.05716 -0.45226 1.05901 -0.45226 1.05901 C -0.45764 1.06797 -0.46597 1.0692 -0.47292 1.07322 C -0.47448 1.07415 -0.47622 1.07507 -0.47778 1.076 C -0.47934 1.07693 -0.48091 1.07785 -0.48247 1.07878 C -0.48403 1.07971 -0.48733 1.08156 -0.48733 1.08156 C -0.49202 1.09052 -0.49827 1.09207 -0.50469 1.09577 C -0.51893 1.10411 -0.53282 1.114 -0.54757 1.11832 C -0.56059 1.12605 -0.57431 1.12759 -0.58733 1.13532 C -0.59045 1.13717 -0.59358 1.13902 -0.5967 1.14088 C -0.59827 1.1418 -0.60157 1.14366 -0.60157 1.14366 E">
                                      <p:cBhvr>
                                        <p:cTn id="18" dur="5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0" dur="40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2" dur="42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4" dur="38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8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8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800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8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37" dur="3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9" dur="3000" fill="hold"/>
                                        <p:tgtEl>
                                          <p:spTgt spid="10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44" dur="3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46" dur="3000" fill="hold"/>
                                        <p:tgtEl>
                                          <p:spTgt spid="103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51" dur="3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 repeatCount="indefinite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53" dur="3000" fill="hold"/>
                                        <p:tgtEl>
                                          <p:spTgt spid="103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 repeatCount="indefinite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58" dur="3000" fill="hold"/>
                                        <p:tgtEl>
                                          <p:spTgt spid="10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 repeatCount="indefinite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03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5564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2"/>
          <a:stretch/>
        </p:blipFill>
        <p:spPr>
          <a:xfrm flipH="1" rot="17290800">
            <a:off x="2137680" y="720720"/>
            <a:ext cx="1238400" cy="132588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9" descr=""/>
          <p:cNvPicPr/>
          <p:nvPr/>
        </p:nvPicPr>
        <p:blipFill>
          <a:blip r:embed="rId3"/>
          <a:srcRect l="6833" t="0" r="45140" b="37834"/>
          <a:stretch/>
        </p:blipFill>
        <p:spPr>
          <a:xfrm>
            <a:off x="8686800" y="4324320"/>
            <a:ext cx="179280" cy="17460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2"/>
          <p:cNvSpPr/>
          <p:nvPr/>
        </p:nvSpPr>
        <p:spPr>
          <a:xfrm>
            <a:off x="7192800" y="57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提示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3686760" y="1123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内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4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5"/>
          <a:stretch/>
        </p:blipFill>
        <p:spPr>
          <a:xfrm flipH="1" rot="17291400">
            <a:off x="2131920" y="2331360"/>
            <a:ext cx="1239840" cy="1325880"/>
          </a:xfrm>
          <a:prstGeom prst="rect">
            <a:avLst/>
          </a:prstGeom>
          <a:ln w="0">
            <a:noFill/>
          </a:ln>
        </p:spPr>
      </p:pic>
      <p:sp>
        <p:nvSpPr>
          <p:cNvPr id="1050" name="TextBox 15"/>
          <p:cNvSpPr/>
          <p:nvPr/>
        </p:nvSpPr>
        <p:spPr>
          <a:xfrm>
            <a:off x="4042080" y="2684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图片 16" descr=""/>
          <p:cNvPicPr/>
          <p:nvPr/>
        </p:nvPicPr>
        <p:blipFill>
          <a:blip r:embed="rId6"/>
          <a:srcRect l="31741" t="4400" r="9485" b="52681"/>
          <a:stretch/>
        </p:blipFill>
        <p:spPr>
          <a:xfrm rot="19065000">
            <a:off x="7940160" y="3835080"/>
            <a:ext cx="95112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3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73" dur="2300" fill="hold"/>
                                        <p:tgtEl>
                                          <p:spTgt spid="10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5" dur="23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8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6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0" dur="6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9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6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102" dur="6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9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2"/>
          <a:stretch/>
        </p:blipFill>
        <p:spPr>
          <a:xfrm flipH="1" rot="1132800">
            <a:off x="2190240" y="721440"/>
            <a:ext cx="1238400" cy="132588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2"/>
          <p:cNvSpPr/>
          <p:nvPr/>
        </p:nvSpPr>
        <p:spPr>
          <a:xfrm>
            <a:off x="7193160" y="572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上午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顾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3"/>
          <p:cNvSpPr/>
          <p:nvPr/>
        </p:nvSpPr>
        <p:spPr>
          <a:xfrm>
            <a:off x="3763080" y="1123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内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6" descr=""/>
          <p:cNvPicPr/>
          <p:nvPr/>
        </p:nvPicPr>
        <p:blipFill>
          <a:blip r:embed="rId3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4"/>
          <a:stretch/>
        </p:blipFill>
        <p:spPr>
          <a:xfrm flipH="1" rot="399000">
            <a:off x="2183760" y="2333160"/>
            <a:ext cx="1238040" cy="1324440"/>
          </a:xfrm>
          <a:prstGeom prst="rect">
            <a:avLst/>
          </a:prstGeom>
          <a:ln w="0">
            <a:noFill/>
          </a:ln>
        </p:spPr>
      </p:pic>
      <p:sp>
        <p:nvSpPr>
          <p:cNvPr id="1058" name="TextBox 15"/>
          <p:cNvSpPr/>
          <p:nvPr/>
        </p:nvSpPr>
        <p:spPr>
          <a:xfrm>
            <a:off x="4118400" y="26845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16" descr=""/>
          <p:cNvPicPr/>
          <p:nvPr/>
        </p:nvPicPr>
        <p:blipFill>
          <a:blip r:embed="rId5"/>
          <a:srcRect l="31741" t="4400" r="9485" b="52681"/>
          <a:stretch/>
        </p:blipFill>
        <p:spPr>
          <a:xfrm rot="19065000">
            <a:off x="7938720" y="3835080"/>
            <a:ext cx="950760" cy="13525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10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2843280" y="1886040"/>
            <a:ext cx="804960" cy="841320"/>
          </a:xfrm>
          <a:prstGeom prst="rect">
            <a:avLst/>
          </a:prstGeom>
          <a:ln w="0">
            <a:noFill/>
          </a:ln>
        </p:spPr>
      </p:pic>
      <p:sp>
        <p:nvSpPr>
          <p:cNvPr id="1061" name="TextBox 11"/>
          <p:cNvSpPr/>
          <p:nvPr/>
        </p:nvSpPr>
        <p:spPr>
          <a:xfrm>
            <a:off x="3744720" y="20383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图片 12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2819520" y="249228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63" name="TextBox 17"/>
          <p:cNvSpPr/>
          <p:nvPr/>
        </p:nvSpPr>
        <p:spPr>
          <a:xfrm>
            <a:off x="3502080" y="2643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18" descr=""/>
          <p:cNvPicPr/>
          <p:nvPr/>
        </p:nvPicPr>
        <p:blipFill>
          <a:blip r:embed="rId8"/>
          <a:srcRect l="18571" t="24553" r="18117" b="9158"/>
          <a:stretch/>
        </p:blipFill>
        <p:spPr>
          <a:xfrm>
            <a:off x="2819520" y="31021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65" name="TextBox 19"/>
          <p:cNvSpPr/>
          <p:nvPr/>
        </p:nvSpPr>
        <p:spPr>
          <a:xfrm>
            <a:off x="3502080" y="325440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图片 20" descr=""/>
          <p:cNvPicPr/>
          <p:nvPr/>
        </p:nvPicPr>
        <p:blipFill>
          <a:blip r:embed="rId9"/>
          <a:srcRect l="18571" t="24553" r="18117" b="9158"/>
          <a:stretch/>
        </p:blipFill>
        <p:spPr>
          <a:xfrm>
            <a:off x="2800440" y="3711600"/>
            <a:ext cx="804600" cy="841320"/>
          </a:xfrm>
          <a:prstGeom prst="rect">
            <a:avLst/>
          </a:prstGeom>
          <a:ln w="0">
            <a:noFill/>
          </a:ln>
        </p:spPr>
      </p:pic>
      <p:sp>
        <p:nvSpPr>
          <p:cNvPr id="1067" name="TextBox 21"/>
          <p:cNvSpPr/>
          <p:nvPr/>
        </p:nvSpPr>
        <p:spPr>
          <a:xfrm>
            <a:off x="3483000" y="38638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内容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4" descr=""/>
          <p:cNvPicPr/>
          <p:nvPr/>
        </p:nvPicPr>
        <p:blipFill>
          <a:blip r:embed="rId10"/>
          <a:stretch/>
        </p:blipFill>
        <p:spPr>
          <a:xfrm>
            <a:off x="2274840" y="0"/>
            <a:ext cx="45943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1" descr=""/>
          <p:cNvPicPr/>
          <p:nvPr/>
        </p:nvPicPr>
        <p:blipFill>
          <a:blip r:embed="rId2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6" descr=""/>
          <p:cNvPicPr/>
          <p:nvPr/>
        </p:nvPicPr>
        <p:blipFill>
          <a:blip r:embed="rId3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11" descr=""/>
          <p:cNvPicPr/>
          <p:nvPr/>
        </p:nvPicPr>
        <p:blipFill>
          <a:blip r:embed="rId4"/>
          <a:srcRect l="18571" t="24553" r="18117" b="9158"/>
          <a:stretch/>
        </p:blipFill>
        <p:spPr>
          <a:xfrm>
            <a:off x="576360" y="-17640"/>
            <a:ext cx="804600" cy="839880"/>
          </a:xfrm>
          <a:prstGeom prst="rect">
            <a:avLst/>
          </a:prstGeom>
          <a:ln w="0">
            <a:noFill/>
          </a:ln>
        </p:spPr>
      </p:pic>
      <p:sp>
        <p:nvSpPr>
          <p:cNvPr id="1072" name="TextBox 12"/>
          <p:cNvSpPr/>
          <p:nvPr/>
        </p:nvSpPr>
        <p:spPr>
          <a:xfrm>
            <a:off x="1264320" y="133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合金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3" name="图片 13" descr=""/>
          <p:cNvPicPr/>
          <p:nvPr/>
        </p:nvPicPr>
        <p:blipFill>
          <a:blip r:embed="rId5"/>
          <a:srcRect l="18571" t="24553" r="18117" b="9158"/>
          <a:stretch/>
        </p:blipFill>
        <p:spPr>
          <a:xfrm>
            <a:off x="552600" y="5875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4" name="TextBox 14"/>
          <p:cNvSpPr/>
          <p:nvPr/>
        </p:nvSpPr>
        <p:spPr>
          <a:xfrm>
            <a:off x="1115640" y="7383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风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图片 15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552600" y="119700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6"/>
          <p:cNvSpPr/>
          <p:nvPr/>
        </p:nvSpPr>
        <p:spPr>
          <a:xfrm>
            <a:off x="1303200" y="13492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很热调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图片 17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533520" y="1809720"/>
            <a:ext cx="803160" cy="8413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7"/>
          <p:cNvSpPr/>
          <p:nvPr/>
        </p:nvSpPr>
        <p:spPr>
          <a:xfrm>
            <a:off x="1158840" y="195732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色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图片 28" descr=""/>
          <p:cNvPicPr/>
          <p:nvPr/>
        </p:nvPicPr>
        <p:blipFill>
          <a:blip r:embed="rId8"/>
          <a:srcRect l="0" t="33314" r="23930" b="31046"/>
          <a:stretch/>
        </p:blipFill>
        <p:spPr>
          <a:xfrm rot="2178600">
            <a:off x="869760" y="2451240"/>
            <a:ext cx="677520" cy="58572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29"/>
          <p:cNvSpPr/>
          <p:nvPr/>
        </p:nvSpPr>
        <p:spPr>
          <a:xfrm>
            <a:off x="177840" y="2533680"/>
            <a:ext cx="98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fa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图片 30" descr=""/>
          <p:cNvPicPr/>
          <p:nvPr/>
        </p:nvPicPr>
        <p:blipFill>
          <a:blip r:embed="rId9"/>
          <a:srcRect l="0" t="33314" r="23930" b="31046"/>
          <a:stretch/>
        </p:blipFill>
        <p:spPr>
          <a:xfrm rot="2178600">
            <a:off x="870120" y="3097080"/>
            <a:ext cx="677520" cy="586080"/>
          </a:xfrm>
          <a:prstGeom prst="rect">
            <a:avLst/>
          </a:prstGeom>
          <a:ln w="0">
            <a:noFill/>
          </a:ln>
        </p:spPr>
      </p:pic>
      <p:sp>
        <p:nvSpPr>
          <p:cNvPr id="1082" name="TextBox 31"/>
          <p:cNvSpPr/>
          <p:nvPr/>
        </p:nvSpPr>
        <p:spPr>
          <a:xfrm>
            <a:off x="1219320" y="3173400"/>
            <a:ext cx="98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jhk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图片 32" descr=""/>
          <p:cNvPicPr/>
          <p:nvPr/>
        </p:nvPicPr>
        <p:blipFill>
          <a:blip r:embed="rId10"/>
          <a:srcRect l="0" t="33314" r="23930" b="31046"/>
          <a:stretch/>
        </p:blipFill>
        <p:spPr>
          <a:xfrm rot="2178600">
            <a:off x="869760" y="3859200"/>
            <a:ext cx="677520" cy="58572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33"/>
          <p:cNvSpPr/>
          <p:nvPr/>
        </p:nvSpPr>
        <p:spPr>
          <a:xfrm>
            <a:off x="1219320" y="3935520"/>
            <a:ext cx="98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olgl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2"/>
          <a:stretch/>
        </p:blipFill>
        <p:spPr>
          <a:xfrm flipH="1" rot="1132800">
            <a:off x="1628280" y="603000"/>
            <a:ext cx="1238400" cy="1323720"/>
          </a:xfrm>
          <a:prstGeom prst="rect">
            <a:avLst/>
          </a:prstGeom>
          <a:ln w="0">
            <a:noFill/>
          </a:ln>
        </p:spPr>
      </p:pic>
      <p:sp>
        <p:nvSpPr>
          <p:cNvPr id="1087" name="TextBox 2"/>
          <p:cNvSpPr/>
          <p:nvPr/>
        </p:nvSpPr>
        <p:spPr>
          <a:xfrm>
            <a:off x="7109640" y="57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还是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3"/>
          <p:cNvSpPr/>
          <p:nvPr/>
        </p:nvSpPr>
        <p:spPr>
          <a:xfrm>
            <a:off x="3484800" y="1003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内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6" descr=""/>
          <p:cNvPicPr/>
          <p:nvPr/>
        </p:nvPicPr>
        <p:blipFill>
          <a:blip r:embed="rId3"/>
          <a:stretch/>
        </p:blipFill>
        <p:spPr>
          <a:xfrm>
            <a:off x="-988920" y="-77760"/>
            <a:ext cx="3274920" cy="524016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6" descr=""/>
          <p:cNvPicPr/>
          <p:nvPr/>
        </p:nvPicPr>
        <p:blipFill>
          <a:blip r:embed="rId4"/>
          <a:srcRect l="31741" t="4400" r="9485" b="52681"/>
          <a:stretch/>
        </p:blipFill>
        <p:spPr>
          <a:xfrm rot="19065000">
            <a:off x="7938720" y="3835080"/>
            <a:ext cx="950760" cy="135252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10" descr=""/>
          <p:cNvPicPr/>
          <p:nvPr/>
        </p:nvPicPr>
        <p:blipFill>
          <a:blip r:embed="rId5"/>
          <a:srcRect l="18571" t="24553" r="18117" b="9158"/>
          <a:stretch/>
        </p:blipFill>
        <p:spPr>
          <a:xfrm>
            <a:off x="2004840" y="1733400"/>
            <a:ext cx="804960" cy="84168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11"/>
          <p:cNvSpPr/>
          <p:nvPr/>
        </p:nvSpPr>
        <p:spPr>
          <a:xfrm>
            <a:off x="2509920" y="188604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523464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2" descr=""/>
          <p:cNvPicPr/>
          <p:nvPr/>
        </p:nvPicPr>
        <p:blipFill>
          <a:blip r:embed="rId6"/>
          <a:srcRect l="18571" t="24553" r="18117" b="9158"/>
          <a:stretch/>
        </p:blipFill>
        <p:spPr>
          <a:xfrm>
            <a:off x="1981080" y="2419200"/>
            <a:ext cx="803520" cy="84168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17"/>
          <p:cNvSpPr/>
          <p:nvPr/>
        </p:nvSpPr>
        <p:spPr>
          <a:xfrm>
            <a:off x="2497680" y="25700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676556856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图片 18" descr=""/>
          <p:cNvPicPr/>
          <p:nvPr/>
        </p:nvPicPr>
        <p:blipFill>
          <a:blip r:embed="rId7"/>
          <a:srcRect l="18571" t="24553" r="18117" b="9158"/>
          <a:stretch/>
        </p:blipFill>
        <p:spPr>
          <a:xfrm>
            <a:off x="1981080" y="3105000"/>
            <a:ext cx="803520" cy="84168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9"/>
          <p:cNvSpPr/>
          <p:nvPr/>
        </p:nvSpPr>
        <p:spPr>
          <a:xfrm>
            <a:off x="2497680" y="325764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7698767897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20" descr=""/>
          <p:cNvPicPr/>
          <p:nvPr/>
        </p:nvPicPr>
        <p:blipFill>
          <a:blip r:embed="rId8"/>
          <a:srcRect l="18571" t="24553" r="18117" b="9158"/>
          <a:stretch/>
        </p:blipFill>
        <p:spPr>
          <a:xfrm>
            <a:off x="1981080" y="3787920"/>
            <a:ext cx="803520" cy="84132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21"/>
          <p:cNvSpPr/>
          <p:nvPr/>
        </p:nvSpPr>
        <p:spPr>
          <a:xfrm>
            <a:off x="2495520" y="394344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6796/9678654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1360800" y="57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导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图片 1" descr=""/>
          <p:cNvPicPr/>
          <p:nvPr/>
        </p:nvPicPr>
        <p:blipFill>
          <a:blip r:embed="rId9"/>
          <a:stretch/>
        </p:blipFill>
        <p:spPr>
          <a:xfrm>
            <a:off x="2274840" y="0"/>
            <a:ext cx="459432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灯片编号占位符 4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443E-B5E5-4AA4-9717-328C905817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图片 3" descr=""/>
          <p:cNvPicPr/>
          <p:nvPr/>
        </p:nvPicPr>
        <p:blipFill>
          <a:blip r:embed="rId2"/>
          <a:srcRect l="9158" t="18571" r="24553" b="18117"/>
          <a:stretch/>
        </p:blipFill>
        <p:spPr>
          <a:xfrm>
            <a:off x="9217080" y="-592200"/>
            <a:ext cx="841320" cy="80172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4" descr=""/>
          <p:cNvPicPr/>
          <p:nvPr/>
        </p:nvPicPr>
        <p:blipFill>
          <a:blip r:embed="rId3"/>
          <a:srcRect l="0" t="33314" r="23930" b="31046"/>
          <a:stretch/>
        </p:blipFill>
        <p:spPr>
          <a:xfrm flipH="1" rot="20297400">
            <a:off x="9559440" y="-160560"/>
            <a:ext cx="963720" cy="45072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5" descr=""/>
          <p:cNvPicPr/>
          <p:nvPr/>
        </p:nvPicPr>
        <p:blipFill>
          <a:blip r:embed="rId4"/>
          <a:srcRect l="0" t="33229" r="28381" b="17607"/>
          <a:stretch/>
        </p:blipFill>
        <p:spPr>
          <a:xfrm rot="10518600">
            <a:off x="8570160" y="-593640"/>
            <a:ext cx="827280" cy="56808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7" descr=""/>
          <p:cNvPicPr/>
          <p:nvPr/>
        </p:nvPicPr>
        <p:blipFill>
          <a:blip r:embed="rId5"/>
          <a:srcRect l="0" t="33314" r="23930" b="31046"/>
          <a:stretch/>
        </p:blipFill>
        <p:spPr>
          <a:xfrm flipH="1" rot="20298600">
            <a:off x="9274320" y="143640"/>
            <a:ext cx="963360" cy="45144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8" descr=""/>
          <p:cNvPicPr/>
          <p:nvPr/>
        </p:nvPicPr>
        <p:blipFill>
          <a:blip r:embed="rId6"/>
          <a:srcRect l="0" t="33314" r="23930" b="31046"/>
          <a:stretch/>
        </p:blipFill>
        <p:spPr>
          <a:xfrm flipH="1" rot="20297400">
            <a:off x="7517880" y="-46476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9" descr=""/>
          <p:cNvPicPr/>
          <p:nvPr/>
        </p:nvPicPr>
        <p:blipFill>
          <a:blip r:embed="rId7"/>
          <a:srcRect l="9158" t="18571" r="24553" b="18117"/>
          <a:stretch/>
        </p:blipFill>
        <p:spPr>
          <a:xfrm>
            <a:off x="9750600" y="757080"/>
            <a:ext cx="841320" cy="80496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10" descr=""/>
          <p:cNvPicPr/>
          <p:nvPr/>
        </p:nvPicPr>
        <p:blipFill>
          <a:blip r:embed="rId8"/>
          <a:srcRect l="0" t="33314" r="23930" b="31046"/>
          <a:stretch/>
        </p:blipFill>
        <p:spPr>
          <a:xfrm flipH="1" rot="20297400">
            <a:off x="9349920" y="-312480"/>
            <a:ext cx="963720" cy="4525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1" descr=""/>
          <p:cNvPicPr/>
          <p:nvPr/>
        </p:nvPicPr>
        <p:blipFill>
          <a:blip r:embed="rId9"/>
          <a:stretch/>
        </p:blipFill>
        <p:spPr>
          <a:xfrm>
            <a:off x="6310440" y="-522360"/>
            <a:ext cx="3058920" cy="579924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6" descr=""/>
          <p:cNvPicPr/>
          <p:nvPr/>
        </p:nvPicPr>
        <p:blipFill>
          <a:blip r:embed="rId10"/>
          <a:srcRect l="31725" t="4394" r="9492" b="52673"/>
          <a:stretch/>
        </p:blipFill>
        <p:spPr>
          <a:xfrm rot="20135400">
            <a:off x="-338040" y="1574280"/>
            <a:ext cx="1550880" cy="220824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11" descr=""/>
          <p:cNvPicPr/>
          <p:nvPr/>
        </p:nvPicPr>
        <p:blipFill>
          <a:blip r:embed="rId11"/>
          <a:stretch/>
        </p:blipFill>
        <p:spPr>
          <a:xfrm>
            <a:off x="-246240" y="2112840"/>
            <a:ext cx="3732480" cy="30308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13" descr=""/>
          <p:cNvPicPr/>
          <p:nvPr/>
        </p:nvPicPr>
        <p:blipFill>
          <a:blip r:embed="rId12"/>
          <a:srcRect l="6833" t="0" r="45140" b="37834"/>
          <a:stretch/>
        </p:blipFill>
        <p:spPr>
          <a:xfrm>
            <a:off x="1344600" y="3844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15" descr=""/>
          <p:cNvPicPr/>
          <p:nvPr/>
        </p:nvPicPr>
        <p:blipFill>
          <a:blip r:embed="rId13"/>
          <a:srcRect l="6833" t="0" r="45140" b="37834"/>
          <a:stretch/>
        </p:blipFill>
        <p:spPr>
          <a:xfrm>
            <a:off x="1344600" y="3817800"/>
            <a:ext cx="179280" cy="174600"/>
          </a:xfrm>
          <a:prstGeom prst="rect">
            <a:avLst/>
          </a:prstGeom>
          <a:ln w="0">
            <a:noFill/>
          </a:ln>
        </p:spPr>
      </p:pic>
      <p:pic>
        <p:nvPicPr>
          <p:cNvPr id="1114" name="图片 16" descr=""/>
          <p:cNvPicPr/>
          <p:nvPr/>
        </p:nvPicPr>
        <p:blipFill>
          <a:blip r:embed="rId14"/>
          <a:srcRect l="6833" t="0" r="45140" b="37834"/>
          <a:stretch/>
        </p:blipFill>
        <p:spPr>
          <a:xfrm>
            <a:off x="811080" y="3029040"/>
            <a:ext cx="179640" cy="17460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17" descr=""/>
          <p:cNvPicPr/>
          <p:nvPr/>
        </p:nvPicPr>
        <p:blipFill>
          <a:blip r:embed="rId15"/>
          <a:srcRect l="6833" t="0" r="45140" b="37834"/>
          <a:stretch/>
        </p:blipFill>
        <p:spPr>
          <a:xfrm>
            <a:off x="811080" y="3083040"/>
            <a:ext cx="179640" cy="17460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2"/>
          <p:cNvSpPr/>
          <p:nvPr/>
        </p:nvSpPr>
        <p:spPr>
          <a:xfrm>
            <a:off x="2588040" y="9907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大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4862520" y="2343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作者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8" name="Picture 6" descr=""/>
          <p:cNvPicPr/>
          <p:nvPr/>
        </p:nvPicPr>
        <p:blipFill>
          <a:blip r:embed="rId16"/>
          <a:stretch/>
        </p:blipFill>
        <p:spPr>
          <a:xfrm>
            <a:off x="8153280" y="-77760"/>
            <a:ext cx="3276720" cy="5240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9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4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48" dur="2300" fill="hold"/>
                                        <p:tgtEl>
                                          <p:spTgt spid="1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5E-006 1.4396E-006 C 0.00382 0.02008 0.00816 0.04109 0.00955 0.0621 C 0.01059 0.07723 0.01268 0.1072 0.01268 0.1072 C 0.01233 0.14581 0.02743 0.25826 0.00643 0.31603 C 0.00521 0.34693 0.00538 0.39079 -5E-006 0.42045 C -0.00192 0.46834 -0.00782 0.51776 -0.01424 0.56472 C -0.01702 0.58542 -0.01876 0.6089 -0.02536 0.62651 C -0.02796 0.64072 -0.02883 0.65369 -0.03334 0.66636 C -0.03525 0.68057 -0.0382 0.69262 -0.04133 0.70559 C -0.04515 0.72258 -0.04671 0.74112 -0.054 0.75409 C -0.0573 0.77139 -0.06043 0.78282 -0.06511 0.7992 C -0.0672 0.81403 -0.07206 0.83534 -0.07935 0.84399 C -0.08126 0.8548 -0.08473 0.86963 -0.0889 0.87828 C -0.09133 0.88323 -0.09428 0.88755 -0.09688 0.89249 C -0.09845 0.89527 -0.10157 0.90053 -0.10157 0.90053 C -0.10261 0.90454 -0.10331 0.90887 -0.1047 0.91196 C -0.10695 0.91752 -0.11268 0.92617 -0.11268 0.92617 C -0.11442 0.93605 -0.11668 0.94161 -0.12067 0.94903 C -0.12327 0.96231 -0.12501 0.95613 -0.13022 0.9654 C -0.13265 0.96973 -0.13386 0.9759 -0.13647 0.97961 C -0.13942 0.98455 -0.14602 0.99104 -0.14602 0.99104 C -0.15122 1.00525 -0.14775 0.99815 -0.15869 1.01081 C -0.16025 1.01267 -0.16355 1.01668 -0.16355 1.01668 C -0.1698 1.03151 -0.17015 1.02657 -0.17779 1.03615 C -0.18126 1.04047 -0.18386 1.04665 -0.18733 1.05036 C -0.18872 1.0519 -0.19063 1.05159 -0.19202 1.05314 C -0.19532 1.05653 -0.20157 1.06457 -0.20157 1.06457 C -0.20782 1.08156 -0.2007 1.06518 -0.21112 1.07878 C -0.22622 1.09793 -0.20452 1.07754 -0.22223 1.09299 C -0.22848 1.10751 -0.22935 1.10226 -0.23647 1.11245 C -0.24775 1.12882 -0.26164 1.14859 -0.27622 1.15508 C -0.29341 1.18598 -0.2757 1.15941 -0.29046 1.17176 C -0.31025 1.18937 -0.29133 1.1764 -0.30626 1.19154 C -0.31147 1.19679 -0.3198 1.19864 -0.32536 1.20266 C -0.3297 1.21069 -0.33681 1.21625 -0.34289 1.21965 C -0.34845 1.22644 -0.34567 1.22552 -0.3507 1.22552 E">
                                      <p:cBhvr>
                                        <p:cTn id="250" dur="2400" fill="hold"/>
                                        <p:tgtEl>
                                          <p:spTgt spid="1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66667E-006 -3.21594E-006 C 0.00434 0.02317 0.00261 0.01112 0.00469 0.03677 C 0.00382 0.12975 0.00816 0.17764 1.66667E-006 0.25147 C -0.00191 0.28792 -0.00451 0.32376 -0.01111 0.35867 C -0.01267 0.37473 -0.01406 0.3874 -0.0191 0.40099 C -0.02326 0.42323 -0.02552 0.44857 -0.03489 0.46618 C -0.03646 0.47483 -0.03559 0.47452 -0.03976 0.48008 C -0.04288 0.48409 -0.0493 0.49151 -0.0493 0.49151 C -0.0559 0.50912 -0.06493 0.51375 -0.07465 0.52549 C -0.07882 0.53043 -0.0842 0.53105 -0.08889 0.53383 C -0.09045 0.53476 -0.09375 0.53661 -0.09375 0.53661 C -0.09479 0.53846 -0.09549 0.54125 -0.09687 0.54248 C -0.09983 0.54526 -0.10642 0.54804 -0.10642 0.54804 C -0.11788 0.54526 -0.12118 0.5502 -0.12378 0.53105 C -0.12309 0.50757 -0.12396 0.45197 -0.10955 0.43497 C -0.1066 0.41922 -0.10625 0.41335 -0.09844 0.40408 C -0.09444 0.38215 -0.10035 0.40841 -0.09201 0.38987 C -0.08576 0.37597 -0.09618 0.38462 -0.08576 0.37844 C -0.07934 0.36114 -0.08663 0.3769 -0.07778 0.36732 C -0.06684 0.35558 -0.08368 0.3667 -0.06979 0.35867 C -0.06233 0.34971 -0.06701 0.35434 -0.05555 0.34755 C -0.05399 0.34662 -0.05243 0.34569 -0.05087 0.34477 C -0.0493 0.34384 -0.04601 0.34168 -0.04601 0.34168 C -0.04184 0.3426 -0.0375 0.34322 -0.03333 0.34477 C -0.03003 0.346 -0.02378 0.35033 -0.02378 0.35033 C -0.02222 0.35218 -0.02014 0.35311 -0.0191 0.35589 C -0.01424 0.36979 -0.01476 0.38709 -0.00955 0.40099 C -0.01111 0.44733 -0.01094 0.4498 -0.0191 0.48317 C -0.02483 0.50634 -0.01892 0.49367 -0.02535 0.50572 C -0.0283 0.52024 -0.02621 0.5119 -0.03333 0.53105 C -0.03437 0.53383 -0.03542 0.53661 -0.03646 0.53939 C -0.0375 0.54217 -0.03976 0.54804 -0.03976 0.54804 C -0.04201 0.55978 -0.04687 0.56812 -0.05087 0.57863 C -0.05885 0.59994 -0.06389 0.61786 -0.07621 0.63269 C -0.08073 0.64505 -0.08819 0.65493 -0.09375 0.66667 C -0.09878 0.67717 -0.1026 0.69077 -0.10799 0.70065 C -0.11528 0.71394 -0.12361 0.72506 -0.13177 0.73711 C -0.14739 0.75997 -0.15937 0.79055 -0.17621 0.81063 C -0.18264 0.82855 -0.17552 0.81125 -0.1842 0.82484 C -0.20121 0.85141 -0.1875 0.83442 -0.19844 0.84739 C -0.20521 0.86531 -0.22795 0.88848 -0.23976 0.89528 C -0.24635 0.90763 -0.25503 0.91134 -0.26354 0.91814 C -0.2691 0.92246 -0.27205 0.92864 -0.27778 0.93204 C -0.28524 0.94594 -0.27587 0.93049 -0.28576 0.94069 C -0.29358 0.94903 -0.29809 0.95861 -0.30642 0.96324 C -0.31163 0.96911 -0.31788 0.97961 -0.32378 0.98301 C -0.32778 0.98981 -0.33125 0.99382 -0.33646 0.99722 C -0.34167 1.00618 -0.34722 1.01267 -0.35399 1.01699 C -0.35451 1.01977 -0.35434 1.02317 -0.35555 1.02534 C -0.35677 1.0275 -0.35885 1.02688 -0.36042 1.02812 C -0.37535 1.04109 -0.35555 1.02719 -0.36979 1.03677 C -0.37083 1.03862 -0.3717 1.04109 -0.37309 1.04233 C -0.37604 1.0448 -0.38264 1.04789 -0.38264 1.04789 C -0.38698 1.05314 -0.3908 1.06024 -0.39531 1.06488 C -0.40538 1.07538 -0.39444 1.05808 -0.40486 1.07322 C -0.41146 1.0828 -0.41701 1.09392 -0.42535 1.09886 C -0.42639 1.10071 -0.42726 1.10319 -0.42864 1.10442 C -0.43212 1.10813 -0.4375 1.1072 -0.42864 1.1072 E">
                                      <p:cBhvr>
                                        <p:cTn id="252" dur="4600" fill="hold"/>
                                        <p:tgtEl>
                                          <p:spTgt spid="1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19802E-007 C 0.00642 0.01082 0.00451 0.0275 0.00642 0.04233 C 0.00712 0.0482 0.00955 0.05963 0.00955 0.05963 C 0.01076 0.10875 0.0125 0.13408 0.00955 0.18351 C 0.0092 0.18938 0.00729 0.19463 0.00642 0.2005 C 0.0033 0.22305 -0.0007 0.24591 -0.00469 0.26815 C -0.00573 0.27433 -0.00834 0.27928 -0.00955 0.28515 C -0.01372 0.30646 -0.01511 0.33921 -0.02379 0.35589 C -0.02552 0.36516 -0.03177 0.38122 -0.03177 0.38122 C -0.03472 0.39729 -0.0375 0.41737 -0.04445 0.42911 C -0.0467 0.44023 -0.04879 0.4532 -0.05243 0.46309 C -0.05677 0.47575 -0.06337 0.48564 -0.06823 0.49707 C -0.06962 0.49985 -0.06997 0.50294 -0.07136 0.50541 C -0.07622 0.51406 -0.08264 0.51962 -0.0875 0.52796 C -0.09063 0.54681 -0.08594 0.52858 -0.09358 0.53939 C -0.09514 0.54156 -0.09549 0.54526 -0.09688 0.54773 C -0.10018 0.5536 -0.10226 0.55391 -0.10625 0.55638 C -0.11111 0.56442 -0.11754 0.57523 -0.12379 0.57894 C -0.12709 0.58079 -0.13038 0.58233 -0.13334 0.5845 C -0.13507 0.58542 -0.13802 0.58728 -0.13802 0.58728 C -0.14202 0.59438 -0.14705 0.59778 -0.15226 0.60118 C -0.15538 0.60365 -0.15868 0.60519 -0.16198 0.60705 C -0.16337 0.60798 -0.16667 0.60983 -0.16667 0.60983 C -0.17917 0.62528 -0.19341 0.62744 -0.20782 0.6296 C -0.2217 0.62744 -0.23837 0.63671 -0.24913 0.62126 C -0.25243 0.61663 -0.25469 0.60056 -0.25556 0.59593 C -0.25608 0.59315 -0.25712 0.58728 -0.25712 0.58728 C -0.25643 0.56256 -0.26007 0.52858 -0.24913 0.50819 C -0.24566 0.48935 -0.23629 0.4668 -0.22535 0.46031 C -0.21476 0.44115 -0.22014 0.44579 -0.21111 0.44054 C -0.20521 0.43065 -0.19983 0.41984 -0.19219 0.4152 C -0.18716 0.40594 -0.17847 0.39358 -0.17153 0.38956 C -0.16389 0.3806 -0.1566 0.37813 -0.14775 0.37566 C -0.14462 0.37381 -0.14271 0.36886 -0.13976 0.36701 C -0.13611 0.36454 -0.11511 0.36145 -0.11441 0.36145 C -0.09688 0.35095 -0.07622 0.35743 -0.05868 0.35867 C -0.054 0.36145 -0.04931 0.36423 -0.04445 0.36701 C -0.04306 0.36794 -0.03976 0.36979 -0.03976 0.36979 C -0.0375 0.37412 -0.03386 0.37659 -0.03177 0.38122 C -0.03073 0.38338 -0.03108 0.38709 -0.03021 0.38956 C -0.02674 0.39945 -0.02222 0.40964 -0.01754 0.41798 C -0.01459 0.43436 -0.01302 0.43837 -0.00955 0.45166 C -0.00816 0.45722 -0.00729 0.46309 -0.00625 0.46865 C -0.00573 0.47143 -0.00469 0.4773 -0.00469 0.4773 C -0.00521 0.49954 -0.00052 0.56998 -0.01424 0.59593 C -0.01788 0.61446 -0.02084 0.63794 -0.02847 0.65246 C -0.03073 0.66451 -0.03681 0.67872 -0.04115 0.68891 C -0.04306 0.69849 -0.04549 0.70467 -0.04931 0.71177 C -0.05278 0.73155 -0.0474 0.70807 -0.05729 0.72568 C -0.05972 0.73031 -0.06094 0.73803 -0.06337 0.74267 C -0.06771 0.75039 -0.07292 0.75626 -0.07622 0.76522 C -0.07726 0.768 -0.07795 0.77171 -0.07934 0.77387 C -0.08056 0.77572 -0.08264 0.77572 -0.0842 0.77665 C -0.09358 0.79302 -0.10313 0.80723 -0.11285 0.82453 C -0.1191 0.83596 -0.12639 0.85079 -0.13507 0.85574 C -0.14427 0.86686 -0.154 0.87551 -0.16337 0.88663 C -0.16632 0.89003 -0.17032 0.88941 -0.17292 0.8925 C -0.1849 0.9064 -0.20087 0.91196 -0.21441 0.92061 C -0.2217 0.92555 -0.229 0.93235 -0.23663 0.9376 C -0.24532 0.94378 -0.25452 0.94625 -0.26337 0.95181 C -0.26511 0.95305 -0.2665 0.95614 -0.26823 0.95737 C -0.28004 0.96479 -0.29271 0.96571 -0.30469 0.97158 C -0.31545 0.97684 -0.32535 0.9827 -0.33646 0.98549 C -0.34479 0.99105 -0.35313 0.99599 -0.36181 0.9997 C -0.37587 1.01545 -0.39375 1.02194 -0.40972 1.0309 C -0.41806 1.04078 -0.42847 1.04511 -0.43802 1.05067 C -0.4507 1.05808 -0.43525 1.04882 -0.44757 1.05623 C -0.44913 1.05716 -0.45226 1.05901 -0.45226 1.05901 C -0.45764 1.06797 -0.46597 1.0692 -0.47292 1.07322 C -0.47448 1.07415 -0.47622 1.07507 -0.47778 1.076 C -0.47934 1.07693 -0.48091 1.07785 -0.48247 1.07878 C -0.48403 1.07971 -0.48733 1.08156 -0.48733 1.08156 C -0.49202 1.09052 -0.49827 1.09207 -0.50469 1.09577 C -0.51893 1.10411 -0.53282 1.114 -0.54757 1.11832 C -0.56059 1.12605 -0.57431 1.12759 -0.58733 1.13532 C -0.59045 1.13717 -0.59358 1.13902 -0.5967 1.14088 C -0.59827 1.1418 -0.60157 1.14366 -0.60157 1.14366 E">
                                      <p:cBhvr>
                                        <p:cTn id="254" dur="5000" fill="hold"/>
                                        <p:tgtEl>
                                          <p:spTgt spid="1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56" dur="4000" fill="hold"/>
                                        <p:tgtEl>
                                          <p:spTgt spid="1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399 0.01545 C -0.00086 0.03275 0.00226 0.0482 0.004 0.0658 C 0.004 0.07198 0.00365 0.17486 0.00087 0.21038 C -3.61111000000004E-006 0.2215 -0.00295 0.23263 -0.00399 0.24406 C -0.00625 0.26877 -0.00694 0.29441 -0.0151 0.31573 C -0.01666 0.33025 -0.01701 0.34507 -0.02309 0.35527 C -0.025 0.36824 -0.02656 0.38029 -0.03073 0.39141 C -0.03333 0.40562 -0.03541 0.42045 -0.04027 0.43312 C -0.04236 0.44486 -0.04739 0.45351 -0.05139 0.46401 C -0.05764 0.481 -0.05208 0.47822 -0.06076 0.4949 C -0.06389 0.51159 -0.0618 0.51777 -0.07031 0.5224 C -0.07465 0.54557 -0.08229 0.56997 -0.09392 0.58388 C -0.0967 0.5984 -0.10225 0.60859 -0.10972 0.61693 C -0.11319 0.63361 -0.12014 0.64937 -0.12864 0.65864 C -0.13229 0.66821 -0.13507 0.67099 -0.13975 0.67872 C -0.14878 0.69231 -0.15798 0.7059 -0.16666 0.72042 C -0.16909 0.7334 -0.17135 0.72969 -0.17777 0.7368 C -0.18454 0.75502 -0.18541 0.74545 -0.19496 0.75657 C -0.20156 0.7646 -0.20659 0.7714 -0.21389 0.77603 C -0.22118 0.78468 -0.22951 0.79611 -0.23767 0.80105 C -0.24357 0.80847 -0.24791 0.81681 -0.25503 0.82052 C -0.25607 0.82206 -0.25677 0.82484 -0.25816 0.82638 C -0.26111 0.82917 -0.2677 0.83195 -0.2677 0.83225 C -0.27343 0.83874 -0.28003 0.84616 -0.28645 0.8511 C -0.28958 0.85388 -0.29288 0.85512 -0.296 0.85697 C -0.29757 0.8579 -0.30086 0.85975 -0.30086 0.86006 C -0.30659 0.86655 -0.31284 0.86933 -0.31961 0.87365 C -0.32118 0.87427 -0.32291 0.8755 -0.32448 0.87643 C -0.32604 0.87705 -0.32916 0.87921 -0.32916 0.87952 C -0.33073 0.88106 -0.33229 0.88323 -0.33402 0.88477 C -0.33524 0.8857 -0.33715 0.8857 -0.33854 0.88724 C -0.34079 0.88971 -0.34253 0.89342 -0.34496 0.89589 C -0.34791 0.89836 -0.35451 0.90145 -0.35451 0.90176 C -0.35555 0.903 -0.35625 0.90578 -0.35764 0.90732 C -0.36059 0.9098 -0.36701 0.91258 -0.36701 0.91288 C -0.36857 0.91443 -0.36996 0.91659 -0.3717 0.91814 C -0.37326 0.91937 -0.37517 0.91937 -0.37656 0.92092 C -0.37777 0.92215 -0.37847 0.92493 -0.37968 0.92648 C -0.38125 0.92833 -0.38975 0.93142 -0.39079 0.93204 C -0.39357 0.93513 -0.39566 0.94069 -0.39861 0.94347 C -0.40555 0.94965 -0.41753 0.95397 -0.42552 0.95984 C -0.43611 0.96818 -0.44566 0.97714 -0.45711 0.98239 C -0.46788 0.99475 -0.46284 0.99135 -0.47118 0.9963 C -0.48767 1.01607 -0.46336 0.98795 -0.48229 1.00433 C -0.48576 1.00773 -0.48854 1.01174 -0.49166 1.01576 C -0.49444 1.01885 -0.49826 1.01885 -0.50121 1.02163 C -0.50659 1.02595 -0.50989 1.03151 -0.51545 1.03522 C -0.5276 1.04943 -0.53177 1.05561 -0.54548 1.06333 C -0.54704 1.06519 -0.54843 1.06735 -0.55 1.06889 C -0.55312 1.07106 -0.55954 1.07415 -0.55954 1.07445 C -0.56527 1.08094 -0.57066 1.08156 -0.57708 1.08527 C -0.58385 1.09361 -0.59149 1.09392 -0.59913 1.09948 C -0.60347 1.10226 -0.60764 1.10689 -0.61163 1.1106 C -0.61371 1.11245 -0.61632 1.11338 -0.61788 1.11585 C -0.61892 1.1177 -0.61979 1.12048 -0.62118 1.12141 C -0.62604 1.12604 -0.63177 1.12666 -0.63698 1.13006 C -0.63889 1.13099 -0.6401 1.13377 -0.64166 1.13562 C -0.65659 1.14736 -0.67291 1.1523 -0.68906 1.1523 L -0.70312 1.16064 E">
                                      <p:cBhvr>
                                        <p:cTn id="258" dur="42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5.55556E-006 1.82268E-006 C 0.0026 0.0139 0.00485 0.02533 0.00642 0.03954 C 0.0059 0.05993 0.00919 0.10534 -0.00157 0.12449 C -0.00244 0.13067 -0.00487 0.1489 -0.00626 0.15261 C -0.00973 0.16187 -0.01442 0.17361 -0.01581 0.18381 C -0.01772 0.19709 -0.01928 0.20914 -0.02379 0.22026 C -0.02831 0.25363 -0.02188 0.21254 -0.02848 0.24003 C -0.02935 0.24374 -0.029 0.24806 -0.03004 0.25146 C -0.0323 0.25857 -0.03542 0.26475 -0.03803 0.27123 C -0.03907 0.27401 -0.04115 0.27957 -0.04115 0.27957 C -0.04289 0.28915 -0.04515 0.29502 -0.04914 0.30244 C -0.05105 0.31232 -0.05365 0.31696 -0.05712 0.32499 C -0.06129 0.33518 -0.06494 0.34692 -0.0698 0.35588 C -0.07119 0.35835 -0.0731 0.35928 -0.07449 0.36175 C -0.08004 0.37164 -0.08369 0.38214 -0.09046 0.38986 C -0.09983 0.41272 -0.11355 0.42817 -0.12535 0.4464 C -0.13351 0.45906 -0.13403 0.46431 -0.14445 0.46895 C -0.15469 0.48748 -0.16528 0.50324 -0.17935 0.51127 C -0.19775 0.54525 -0.16928 0.49459 -0.19046 0.52548 C -0.19185 0.52764 -0.19219 0.53166 -0.19358 0.53382 C -0.19792 0.54031 -0.20261 0.54062 -0.20782 0.54247 C -0.21372 0.55267 -0.21997 0.55761 -0.22692 0.56502 C -0.23542 0.57398 -0.24237 0.58727 -0.2507 0.59592 C -0.25817 0.60364 -0.26667 0.60889 -0.27449 0.61569 C -0.279 0.62372 -0.28438 0.62619 -0.29046 0.6299 C -0.29671 0.64164 -0.29653 0.64318 -0.30782 0.64967 C -0.31094 0.65152 -0.31737 0.65523 -0.31737 0.65523 C -0.32483 0.66419 -0.33733 0.67593 -0.34601 0.68087 C -0.35765 0.69477 -0.34289 0.6784 -0.35712 0.68921 C -0.36702 0.69663 -0.35643 0.69292 -0.36667 0.70342 C -0.36997 0.70682 -0.37431 0.7059 -0.37778 0.70898 C -0.39167 0.72165 -0.37952 0.71516 -0.39202 0.72042 C -0.39792 0.73092 -0.40626 0.74111 -0.41424 0.74575 C -0.42535 0.75872 -0.43733 0.7683 -0.44914 0.77973 C -0.45903 0.78931 -0.46841 0.80444 -0.47935 0.81062 C -0.48091 0.81248 -0.4823 0.81526 -0.48403 0.81649 C -0.48612 0.81804 -0.48855 0.81742 -0.49046 0.81927 C -0.49237 0.82113 -0.49324 0.82545 -0.49515 0.82761 C -0.49758 0.83039 -0.50053 0.83132 -0.50313 0.83317 C -0.50903 0.84399 -0.51407 0.84955 -0.52223 0.85295 C -0.52431 0.85573 -0.52622 0.85943 -0.52848 0.8616 C -0.53091 0.86407 -0.53403 0.86438 -0.53647 0.86716 C -0.54671 0.87951 -0.54219 0.88229 -0.55556 0.88693 C -0.56147 0.89774 -0.5698 0.90485 -0.57778 0.90948 C -0.58265 0.91844 -0.58872 0.91998 -0.59515 0.92369 C -0.60226 0.92801 -0.60886 0.93821 -0.61581 0.94346 C -0.61928 0.94624 -0.62327 0.94686 -0.62692 0.94902 C -0.63143 0.95736 -0.63664 0.95891 -0.64272 0.96323 C -0.64688 0.97034 -0.65747 0.97775 -0.66337 0.98022 C -0.67969 0.99907 -0.69879 1.00834 -0.71581 1.02533 C -0.71737 1.02687 -0.71893 1.02934 -0.72049 1.03089 C -0.72466 1.0349 -0.729 1.03861 -0.73334 1.04232 C -0.73733 1.04603 -0.74011 1.05406 -0.74445 1.05653 C -0.74966 1.05962 -0.75035 1.05962 -0.75556 1.06487 C -0.76303 1.07228 -0.7691 1.07877 -0.77778 1.08186 C -0.78664 1.09762 -0.77761 1.08464 -0.79046 1.09329 C -0.79219 1.09453 -0.79341 1.09762 -0.79515 1.09885 C -0.80452 1.10627 -0.8132 1.11244 -0.82223 1.1214 C -0.82883 1.12789 -0.83664 1.14118 -0.84445 1.14118 E">
                                      <p:cBhvr>
                                        <p:cTn id="260" dur="38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8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8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8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8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73" dur="3000" fill="hold"/>
                                        <p:tgtEl>
                                          <p:spTgt spid="1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6" repeatCount="indefinite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75" dur="3000" fill="hold"/>
                                        <p:tgtEl>
                                          <p:spTgt spid="1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80" dur="3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82" dur="3000" fill="hold"/>
                                        <p:tgtEl>
                                          <p:spTgt spid="1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87" dur="3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 repeatCount="indefinite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89" dur="3000" fill="hold"/>
                                        <p:tgtEl>
                                          <p:spTgt spid="11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2" repeatCount="indefinite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1.11111E-006 2.40037E-006 L 0.00347 -0.80723 E">
                                      <p:cBhvr>
                                        <p:cTn id="294" dur="3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6" repeatCount="indefinite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96" dur="3000" fill="hold"/>
                                        <p:tgtEl>
                                          <p:spTgt spid="11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华文行楷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华文行楷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华文行楷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华文行楷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华文行楷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21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Sean</dc:creator>
  <dc:description/>
  <dc:language>en-US</dc:language>
  <cp:lastModifiedBy>yu wang</cp:lastModifiedBy>
  <cp:lastPrinted>1899-12-30T00:00:00Z</cp:lastPrinted>
  <dcterms:modified xsi:type="dcterms:W3CDTF">2015-08-12T14:51:42Z</dcterms:modified>
  <cp:revision>36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Version">
    <vt:r8>1</vt:r8>
  </property>
</Properties>
</file>