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515-3800-4177-8DD5-FB73F1BF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40A-D94B-4A83-8D4D-522BC523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F4B-EE3F-4220-B3EC-5BB769B0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955-E997-4823-9A10-1E57DCD0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0126-BCD9-465A-BBD3-3DAB5A00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C709-CE5B-478E-9634-7F1ACB75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0330-1D43-49CA-B6DD-52308BF4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ADBE-F4C8-46C7-B223-3F1754DE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E1BF-4687-48A6-AAF8-5074810A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3E88-C870-41A2-B3C0-CCDA3A34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81EA-28A4-438D-B9A7-63041BD9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58C-3CC9-4045-ABF1-673E8B67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A8EA-5FC7-4A22-8F5C-3F337A1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2EA9-218B-46DE-9444-A03248D9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A97C-2C07-48BA-8DE6-B4DCEF5A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A12A-122B-4386-BA8B-58FB2678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4D37-946C-4BC4-AE7A-2911CE0E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164-0787-41AF-8F72-3DD24FD5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ED3-6DB2-48A3-962C-DCF55AAF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145-C085-41A0-A5DD-50E093D3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98B-EC68-4060-9946-5DE432D4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54E-F01B-49A2-A29E-62304A27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AA8-06F0-487C-B115-5BF88F87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028-76A0-4B0C-8352-5B34079B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5EC1CF-9B91-4AEC-8AE5-D87A5206FF0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EA8159-63DF-4715-9654-04ADDA06BA5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043640" y="4507200"/>
            <a:ext cx="75999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浓浓中国风典雅复古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643200" y="5214960"/>
            <a:ext cx="414288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国文化及相关类别演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直接连接符 5"/>
          <p:cNvCxnSpPr/>
          <p:nvPr/>
        </p:nvCxnSpPr>
        <p:spPr>
          <a:xfrm>
            <a:off x="3500280" y="5214600"/>
            <a:ext cx="2286360" cy="216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14240" y="35712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4141800" y="3059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592632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139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87660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256860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549756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435456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87660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58546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414036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349740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8"/>
          <p:cNvSpPr/>
          <p:nvPr/>
        </p:nvSpPr>
        <p:spPr>
          <a:xfrm>
            <a:off x="11624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606888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56860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213984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61405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52600" y="63093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80532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621180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292572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406872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185436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42832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66405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  <Words>244</Words>
  <Paragraphs>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2T14:52:57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