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6"/>
          <c:dPt>
            <c:idx val="0"/>
            <c:explosion val="5"/>
            <c:spPr>
              <a:solidFill>
                <a:srgbClr val="1f4e7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explosion val="6"/>
            <c:spPr>
              <a:solidFill>
                <a:srgbClr val="ffff6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explosion val="6"/>
            <c:spPr>
              <a:solidFill>
                <a:srgbClr val="ff9933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explosion val="6"/>
            <c:spPr>
              <a:solidFill>
                <a:srgbClr val="99ccff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</c:v>
                </c:pt>
                <c:pt idx="1">
                  <c:v>3.5</c:v>
                </c:pt>
                <c:pt idx="2">
                  <c:v>1.7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BC4B1E-E4B6-430D-89C8-84B63EC2A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E3759A-8B9E-4B16-AE4D-55A8A1E20A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7EB5DD-8C71-4795-917F-8FAB31B35C0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F1B5BA-76B4-4443-9C33-82393B1CEB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AD2-E5C0-47D3-B205-B16DCF07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89D-D813-48A6-9343-3FB264DC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796-A68C-4495-9677-5A49CD8F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6EC-93E1-4CA1-9B41-DD60C431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5B8F-A99F-4A63-9401-516E9F99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B3F-0BA2-4B0D-A6E4-89BA7160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C3B4-F133-4DC6-A962-53567E93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A3C-5CD1-4E14-8B00-6B4B2CD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9806-4C69-47A8-BEAF-8AC65D3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9DA-7CF3-434E-8535-8B49136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0CB6-D838-493E-B64D-8C61929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C39-F0DB-4D7F-97C4-51D116F3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6591-6048-4BB7-BF47-1291D41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85A-9AD0-4296-93DE-ABE0F0F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498-CB42-425F-B2F8-C3E3ED61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3DBD-F4A3-43EF-A458-566127B3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39E-8DEC-4C98-BD51-29BD3E86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52C-4477-4E4A-8E58-1B87FA6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B92-7B42-476B-8CFA-B3B2DA50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123-107D-44E0-B7BE-A8998F38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365-7F48-4466-808D-D5C7392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1D3-9D4E-4BA5-85B5-97CAD80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4D2-01E6-45C6-A3EE-BAE9052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29E-2654-4C01-AA14-A77DDEA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339365-4363-4F2E-8567-2214318E1FE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53D0F8-66B7-4BC8-B004-5523EE59CC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71"/>
          <p:cNvSpPr/>
          <p:nvPr/>
        </p:nvSpPr>
        <p:spPr>
          <a:xfrm rot="19072800">
            <a:off x="7072200" y="2765520"/>
            <a:ext cx="7920" cy="7200"/>
          </a:xfrm>
          <a:custGeom>
            <a:avLst/>
            <a:gdLst>
              <a:gd name="textAreaLeft" fmla="*/ 0 w 7920"/>
              <a:gd name="textAreaRight" fmla="*/ 8280 w 7920"/>
              <a:gd name="textAreaTop" fmla="*/ 0 h 7200"/>
              <a:gd name="textAreaBottom" fmla="*/ 7560 h 7200"/>
            </a:gdLst>
            <a:ahLst/>
            <a:rect l="textAreaLeft" t="textAreaTop" r="textAreaRight" b="textAreaBottom"/>
            <a:pathLst>
              <a:path w="8283" h="7489">
                <a:moveTo>
                  <a:pt x="8283" y="0"/>
                </a:moveTo>
                <a:lnTo>
                  <a:pt x="8283" y="7489"/>
                </a:lnTo>
                <a:lnTo>
                  <a:pt x="0" y="0"/>
                </a:lnTo>
                <a:lnTo>
                  <a:pt x="8283" y="0"/>
                </a:ln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70"/>
          <p:cNvSpPr/>
          <p:nvPr/>
        </p:nvSpPr>
        <p:spPr>
          <a:xfrm rot="19072800">
            <a:off x="7087680" y="2764080"/>
            <a:ext cx="6840" cy="19440"/>
          </a:xfrm>
          <a:custGeom>
            <a:avLst/>
            <a:gdLst>
              <a:gd name="textAreaLeft" fmla="*/ 0 w 6840"/>
              <a:gd name="textAreaRight" fmla="*/ 7200 w 6840"/>
              <a:gd name="textAreaTop" fmla="*/ 0 h 19440"/>
              <a:gd name="textAreaBottom" fmla="*/ 19800 h 19440"/>
            </a:gdLst>
            <a:ahLst/>
            <a:rect l="textAreaLeft" t="textAreaTop" r="textAreaRight" b="textAreaBottom"/>
            <a:pathLst>
              <a:path w="7071" h="19645">
                <a:moveTo>
                  <a:pt x="7071" y="6393"/>
                </a:moveTo>
                <a:lnTo>
                  <a:pt x="0" y="19645"/>
                </a:lnTo>
                <a:lnTo>
                  <a:pt x="0" y="0"/>
                </a:lnTo>
                <a:lnTo>
                  <a:pt x="7071" y="6393"/>
                </a:ln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0" name="组合 2"/>
          <p:cNvGrpSpPr/>
          <p:nvPr/>
        </p:nvGrpSpPr>
        <p:grpSpPr>
          <a:xfrm>
            <a:off x="1339200" y="1576440"/>
            <a:ext cx="3391560" cy="3314880"/>
            <a:chOff x="1339200" y="1576440"/>
            <a:chExt cx="3391560" cy="3314880"/>
          </a:xfrm>
        </p:grpSpPr>
        <p:grpSp>
          <p:nvGrpSpPr>
            <p:cNvPr id="91" name="组合 103"/>
            <p:cNvGrpSpPr/>
            <p:nvPr/>
          </p:nvGrpSpPr>
          <p:grpSpPr>
            <a:xfrm>
              <a:off x="1339200" y="1576440"/>
              <a:ext cx="3391560" cy="3314880"/>
              <a:chOff x="1339200" y="1576440"/>
              <a:chExt cx="3391560" cy="3314880"/>
            </a:xfrm>
          </p:grpSpPr>
          <p:grpSp>
            <p:nvGrpSpPr>
              <p:cNvPr id="92" name="组合 73"/>
              <p:cNvGrpSpPr/>
              <p:nvPr/>
            </p:nvGrpSpPr>
            <p:grpSpPr>
              <a:xfrm>
                <a:off x="1339200" y="1576440"/>
                <a:ext cx="3391560" cy="3314880"/>
                <a:chOff x="1339200" y="1576440"/>
                <a:chExt cx="3391560" cy="3314880"/>
              </a:xfrm>
            </p:grpSpPr>
            <p:sp>
              <p:nvSpPr>
                <p:cNvPr id="93" name="任意多边形 56"/>
                <p:cNvSpPr/>
                <p:nvPr/>
              </p:nvSpPr>
              <p:spPr>
                <a:xfrm rot="2910600">
                  <a:off x="1946520" y="1941120"/>
                  <a:ext cx="2138760" cy="2585520"/>
                </a:xfrm>
                <a:custGeom>
                  <a:avLst/>
                  <a:gdLst>
                    <a:gd name="textAreaLeft" fmla="*/ 0 w 2138760"/>
                    <a:gd name="textAreaRight" fmla="*/ 2139120 w 2138760"/>
                    <a:gd name="textAreaTop" fmla="*/ 0 h 2585520"/>
                    <a:gd name="textAreaBottom" fmla="*/ 2585880 h 2585520"/>
                  </a:gdLst>
                  <a:ahLst/>
                  <a:rect l="textAreaLeft" t="textAreaTop" r="textAreaRight" b="textAreaBottom"/>
                  <a:pathLst>
                    <a:path w="2459522" h="2973456">
                      <a:moveTo>
                        <a:pt x="374763" y="503875"/>
                      </a:moveTo>
                      <a:cubicBezTo>
                        <a:pt x="885665" y="-73778"/>
                        <a:pt x="1743337" y="-161987"/>
                        <a:pt x="2354455" y="276687"/>
                      </a:cubicBezTo>
                      <a:lnTo>
                        <a:pt x="2459522" y="360530"/>
                      </a:lnTo>
                      <a:lnTo>
                        <a:pt x="1129733" y="360530"/>
                      </a:lnTo>
                      <a:lnTo>
                        <a:pt x="1129733" y="2099879"/>
                      </a:lnTo>
                      <a:lnTo>
                        <a:pt x="1641046" y="2099879"/>
                      </a:lnTo>
                      <a:lnTo>
                        <a:pt x="1217505" y="2578757"/>
                      </a:lnTo>
                      <a:lnTo>
                        <a:pt x="1487913" y="2972604"/>
                      </a:lnTo>
                      <a:lnTo>
                        <a:pt x="1432208" y="2973456"/>
                      </a:lnTo>
                      <a:cubicBezTo>
                        <a:pt x="1099275" y="2962649"/>
                        <a:pt x="768350" y="2840361"/>
                        <a:pt x="499733" y="2602785"/>
                      </a:cubicBezTo>
                      <a:cubicBezTo>
                        <a:pt x="-114248" y="2059753"/>
                        <a:pt x="-170199" y="1120039"/>
                        <a:pt x="374763" y="503875"/>
                      </a:cubicBezTo>
                      <a:close/>
                    </a:path>
                  </a:pathLst>
                </a:custGeom>
                <a:solidFill>
                  <a:schemeClr val="bg1">
                    <a:lumMod val="85000"/>
                    <a:alpha val="63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" name="任意多边形 68"/>
                <p:cNvSpPr/>
                <p:nvPr/>
              </p:nvSpPr>
              <p:spPr>
                <a:xfrm rot="19072800">
                  <a:off x="2884320" y="2814480"/>
                  <a:ext cx="1517040" cy="1565640"/>
                </a:xfrm>
                <a:custGeom>
                  <a:avLst/>
                  <a:gdLst>
                    <a:gd name="textAreaLeft" fmla="*/ 0 w 1517040"/>
                    <a:gd name="textAreaRight" fmla="*/ 1517400 w 1517040"/>
                    <a:gd name="textAreaTop" fmla="*/ 0 h 1565640"/>
                    <a:gd name="textAreaBottom" fmla="*/ 1566000 h 1565640"/>
                  </a:gdLst>
                  <a:ahLst/>
                  <a:rect l="textAreaLeft" t="textAreaTop" r="textAreaRight" b="textAreaBottom"/>
                  <a:pathLst>
                    <a:path w="1744844" h="1800444">
                      <a:moveTo>
                        <a:pt x="1744844" y="19045"/>
                      </a:moveTo>
                      <a:lnTo>
                        <a:pt x="1730282" y="1348756"/>
                      </a:lnTo>
                      <a:lnTo>
                        <a:pt x="1719205" y="1362328"/>
                      </a:lnTo>
                      <a:cubicBezTo>
                        <a:pt x="1538828" y="1561829"/>
                        <a:pt x="1316401" y="1700783"/>
                        <a:pt x="1077385" y="1777955"/>
                      </a:cubicBezTo>
                      <a:lnTo>
                        <a:pt x="996145" y="1800444"/>
                      </a:lnTo>
                      <a:lnTo>
                        <a:pt x="996145" y="1431593"/>
                      </a:lnTo>
                      <a:lnTo>
                        <a:pt x="1003216" y="1418341"/>
                      </a:lnTo>
                      <a:lnTo>
                        <a:pt x="996145" y="1411948"/>
                      </a:lnTo>
                      <a:lnTo>
                        <a:pt x="996145" y="1404459"/>
                      </a:lnTo>
                      <a:lnTo>
                        <a:pt x="987862" y="1404459"/>
                      </a:lnTo>
                      <a:lnTo>
                        <a:pt x="0" y="511283"/>
                      </a:lnTo>
                      <a:lnTo>
                        <a:pt x="5599" y="0"/>
                      </a:lnTo>
                      <a:lnTo>
                        <a:pt x="1744844" y="19045"/>
                      </a:lnTo>
                      <a:close/>
                    </a:path>
                  </a:pathLst>
                </a:custGeom>
                <a:solidFill>
                  <a:schemeClr val="bg2">
                    <a:lumMod val="9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" name="任意多边形 69"/>
                <p:cNvSpPr/>
                <p:nvPr/>
              </p:nvSpPr>
              <p:spPr>
                <a:xfrm rot="19072800">
                  <a:off x="3986640" y="3885480"/>
                  <a:ext cx="189000" cy="3546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354600"/>
                    <a:gd name="textAreaBottom" fmla="*/ 354960 h 354600"/>
                  </a:gdLst>
                  <a:ahLst/>
                  <a:rect l="textAreaLeft" t="textAreaTop" r="textAreaRight" b="textAreaBottom"/>
                  <a:pathLst>
                    <a:path w="217820" h="408250">
                      <a:moveTo>
                        <a:pt x="217820" y="0"/>
                      </a:moveTo>
                      <a:lnTo>
                        <a:pt x="217820" y="368851"/>
                      </a:lnTo>
                      <a:lnTo>
                        <a:pt x="178288" y="379795"/>
                      </a:lnTo>
                      <a:cubicBezTo>
                        <a:pt x="137648" y="389219"/>
                        <a:pt x="96666" y="396921"/>
                        <a:pt x="55458" y="402896"/>
                      </a:cubicBezTo>
                      <a:lnTo>
                        <a:pt x="0" y="408250"/>
                      </a:lnTo>
                      <a:lnTo>
                        <a:pt x="217820" y="0"/>
                      </a:lnTo>
                      <a:close/>
                    </a:path>
                  </a:pathLst>
                </a:cu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96" name="组合 53"/>
                <p:cNvGrpSpPr/>
                <p:nvPr/>
              </p:nvGrpSpPr>
              <p:grpSpPr>
                <a:xfrm>
                  <a:off x="2196720" y="3839760"/>
                  <a:ext cx="1933560" cy="837000"/>
                  <a:chOff x="2196720" y="3839760"/>
                  <a:chExt cx="1933560" cy="837000"/>
                </a:xfrm>
              </p:grpSpPr>
              <p:sp>
                <p:nvSpPr>
                  <p:cNvPr id="97" name="任意多边形 47"/>
                  <p:cNvSpPr/>
                  <p:nvPr/>
                </p:nvSpPr>
                <p:spPr>
                  <a:xfrm>
                    <a:off x="2196720" y="3839760"/>
                    <a:ext cx="1933560" cy="824400"/>
                  </a:xfrm>
                  <a:custGeom>
                    <a:avLst/>
                    <a:gdLst>
                      <a:gd name="textAreaLeft" fmla="*/ 0 w 1933560"/>
                      <a:gd name="textAreaRight" fmla="*/ 1933920 w 1933560"/>
                      <a:gd name="textAreaTop" fmla="*/ 0 h 824400"/>
                      <a:gd name="textAreaBottom" fmla="*/ 824760 h 824400"/>
                    </a:gdLst>
                    <a:ahLst/>
                    <a:rect l="textAreaLeft" t="textAreaTop" r="textAreaRight" b="textAreaBottom"/>
                    <a:pathLst>
                      <a:path w="2223523" h="948390">
                        <a:moveTo>
                          <a:pt x="115869" y="0"/>
                        </a:moveTo>
                        <a:lnTo>
                          <a:pt x="2107653" y="0"/>
                        </a:lnTo>
                        <a:lnTo>
                          <a:pt x="2223523" y="463480"/>
                        </a:lnTo>
                        <a:lnTo>
                          <a:pt x="2164940" y="527710"/>
                        </a:lnTo>
                        <a:cubicBezTo>
                          <a:pt x="1962791" y="729143"/>
                          <a:pt x="1702805" y="872942"/>
                          <a:pt x="1411932" y="932253"/>
                        </a:cubicBezTo>
                        <a:lnTo>
                          <a:pt x="1305822" y="948390"/>
                        </a:lnTo>
                        <a:lnTo>
                          <a:pt x="1231422" y="240291"/>
                        </a:lnTo>
                        <a:lnTo>
                          <a:pt x="975859" y="240291"/>
                        </a:lnTo>
                        <a:lnTo>
                          <a:pt x="901715" y="945958"/>
                        </a:lnTo>
                        <a:lnTo>
                          <a:pt x="811594" y="932253"/>
                        </a:lnTo>
                        <a:cubicBezTo>
                          <a:pt x="520721" y="872942"/>
                          <a:pt x="260735" y="729143"/>
                          <a:pt x="58586" y="527710"/>
                        </a:cubicBezTo>
                        <a:lnTo>
                          <a:pt x="0" y="463477"/>
                        </a:lnTo>
                        <a:lnTo>
                          <a:pt x="115869" y="0"/>
                        </a:lnTo>
                        <a:close/>
                      </a:path>
                    </a:pathLst>
                  </a:custGeom>
                  <a:solidFill>
                    <a:schemeClr val="tx1">
                      <a:lumMod val="65000"/>
                      <a:lumOff val="3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" name="等腰三角形 35"/>
                  <p:cNvSpPr/>
                  <p:nvPr/>
                </p:nvSpPr>
                <p:spPr>
                  <a:xfrm flipV="1">
                    <a:off x="2833200" y="3856320"/>
                    <a:ext cx="660240" cy="310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" name="任意多边形 48"/>
                  <p:cNvSpPr/>
                  <p:nvPr/>
                </p:nvSpPr>
                <p:spPr>
                  <a:xfrm>
                    <a:off x="2991960" y="4048920"/>
                    <a:ext cx="351000" cy="62784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627840"/>
                      <a:gd name="textAreaBottom" fmla="*/ 628200 h 627840"/>
                    </a:gdLst>
                    <a:ahLst/>
                    <a:rect l="textAreaLeft" t="textAreaTop" r="textAreaRight" b="textAreaBottom"/>
                    <a:pathLst>
                      <a:path w="404107" h="722114">
                        <a:moveTo>
                          <a:pt x="74144" y="0"/>
                        </a:moveTo>
                        <a:lnTo>
                          <a:pt x="329707" y="0"/>
                        </a:lnTo>
                        <a:lnTo>
                          <a:pt x="404107" y="708099"/>
                        </a:lnTo>
                        <a:lnTo>
                          <a:pt x="362332" y="714452"/>
                        </a:lnTo>
                        <a:cubicBezTo>
                          <a:pt x="312263" y="719519"/>
                          <a:pt x="261460" y="722114"/>
                          <a:pt x="210048" y="722114"/>
                        </a:cubicBezTo>
                        <a:cubicBezTo>
                          <a:pt x="158637" y="722114"/>
                          <a:pt x="107834" y="719519"/>
                          <a:pt x="57764" y="714452"/>
                        </a:cubicBezTo>
                        <a:lnTo>
                          <a:pt x="0" y="705667"/>
                        </a:lnTo>
                        <a:lnTo>
                          <a:pt x="74144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100" name="直接连接符 63"/>
                <p:cNvCxnSpPr/>
                <p:nvPr/>
              </p:nvCxnSpPr>
              <p:spPr>
                <a:xfrm>
                  <a:off x="3159360" y="4167720"/>
                  <a:ext cx="15480" cy="509400"/>
                </a:xfrm>
                <a:prstGeom prst="straightConnector1">
                  <a:avLst/>
                </a:prstGeom>
                <a:ln w="25400">
                  <a:noFill/>
                </a:ln>
              </p:spPr>
            </p:cxnSp>
            <p:sp>
              <p:nvSpPr>
                <p:cNvPr id="101" name="矩形 72"/>
                <p:cNvSpPr/>
                <p:nvPr/>
              </p:nvSpPr>
              <p:spPr>
                <a:xfrm>
                  <a:off x="2833200" y="3597480"/>
                  <a:ext cx="660240" cy="242280"/>
                </a:xfrm>
                <a:prstGeom prst="rect">
                  <a:avLst/>
                </a:prstGeom>
                <a:solidFill>
                  <a:srgbClr val="ffe8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" name="椭圆 27"/>
                <p:cNvSpPr/>
                <p:nvPr/>
              </p:nvSpPr>
              <p:spPr>
                <a:xfrm>
                  <a:off x="2374560" y="2304360"/>
                  <a:ext cx="1577880" cy="15166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" name="椭圆 99"/>
              <p:cNvSpPr/>
              <p:nvPr/>
            </p:nvSpPr>
            <p:spPr>
              <a:xfrm>
                <a:off x="2753640" y="3198960"/>
                <a:ext cx="158400" cy="1584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椭圆 100"/>
              <p:cNvSpPr/>
              <p:nvPr/>
            </p:nvSpPr>
            <p:spPr>
              <a:xfrm>
                <a:off x="3343680" y="3196440"/>
                <a:ext cx="158400" cy="1584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5" name="组合 102"/>
            <p:cNvGrpSpPr/>
            <p:nvPr/>
          </p:nvGrpSpPr>
          <p:grpSpPr>
            <a:xfrm>
              <a:off x="2318400" y="2137320"/>
              <a:ext cx="1681920" cy="1046160"/>
              <a:chOff x="2318400" y="2137320"/>
              <a:chExt cx="1681920" cy="1046160"/>
            </a:xfrm>
          </p:grpSpPr>
          <p:grpSp>
            <p:nvGrpSpPr>
              <p:cNvPr id="106" name="组合 86"/>
              <p:cNvGrpSpPr/>
              <p:nvPr/>
            </p:nvGrpSpPr>
            <p:grpSpPr>
              <a:xfrm>
                <a:off x="2318400" y="2137320"/>
                <a:ext cx="1681920" cy="902160"/>
                <a:chOff x="2318400" y="2137320"/>
                <a:chExt cx="1681920" cy="902160"/>
              </a:xfrm>
            </p:grpSpPr>
            <p:grpSp>
              <p:nvGrpSpPr>
                <p:cNvPr id="107" name="组合 84"/>
                <p:cNvGrpSpPr/>
                <p:nvPr/>
              </p:nvGrpSpPr>
              <p:grpSpPr>
                <a:xfrm>
                  <a:off x="2318400" y="2137320"/>
                  <a:ext cx="1681920" cy="902160"/>
                  <a:chOff x="2318400" y="2137320"/>
                  <a:chExt cx="1681920" cy="902160"/>
                </a:xfrm>
              </p:grpSpPr>
              <p:sp>
                <p:nvSpPr>
                  <p:cNvPr id="108" name="等腰三角形 81"/>
                  <p:cNvSpPr/>
                  <p:nvPr/>
                </p:nvSpPr>
                <p:spPr>
                  <a:xfrm rot="3129000">
                    <a:off x="3337560" y="2206080"/>
                    <a:ext cx="419760" cy="500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09" name="组合 83"/>
                  <p:cNvGrpSpPr/>
                  <p:nvPr/>
                </p:nvGrpSpPr>
                <p:grpSpPr>
                  <a:xfrm>
                    <a:off x="2318400" y="2165760"/>
                    <a:ext cx="1681920" cy="873720"/>
                    <a:chOff x="2318400" y="2165760"/>
                    <a:chExt cx="1681920" cy="873720"/>
                  </a:xfrm>
                </p:grpSpPr>
                <p:sp>
                  <p:nvSpPr>
                    <p:cNvPr id="110" name="任意多边形 78"/>
                    <p:cNvSpPr/>
                    <p:nvPr/>
                  </p:nvSpPr>
                  <p:spPr>
                    <a:xfrm>
                      <a:off x="2318400" y="2199240"/>
                      <a:ext cx="1681920" cy="840240"/>
                    </a:xfrm>
                    <a:custGeom>
                      <a:avLst/>
                      <a:gdLst>
                        <a:gd name="textAreaLeft" fmla="*/ 0 w 1681920"/>
                        <a:gd name="textAreaRight" fmla="*/ 1682280 w 1681920"/>
                        <a:gd name="textAreaTop" fmla="*/ 0 h 840240"/>
                        <a:gd name="textAreaBottom" fmla="*/ 840600 h 840240"/>
                      </a:gdLst>
                      <a:ahLst/>
                      <a:rect l="textAreaLeft" t="textAreaTop" r="textAreaRight" b="textAreaBottom"/>
                      <a:pathLst>
                        <a:path w="1958100" h="836340">
                          <a:moveTo>
                            <a:pt x="979050" y="0"/>
                          </a:moveTo>
                          <a:cubicBezTo>
                            <a:pt x="1455590" y="0"/>
                            <a:pt x="1853181" y="324072"/>
                            <a:pt x="1945133" y="754882"/>
                          </a:cubicBezTo>
                          <a:lnTo>
                            <a:pt x="1958100" y="836340"/>
                          </a:lnTo>
                          <a:lnTo>
                            <a:pt x="0" y="836340"/>
                          </a:lnTo>
                          <a:lnTo>
                            <a:pt x="12967" y="754882"/>
                          </a:lnTo>
                          <a:cubicBezTo>
                            <a:pt x="104919" y="324072"/>
                            <a:pt x="502510" y="0"/>
                            <a:pt x="979050" y="0"/>
                          </a:cubicBezTo>
                          <a:close/>
                        </a:path>
                      </a:pathLst>
                    </a:cu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" name="等腰三角形 82"/>
                    <p:cNvSpPr/>
                    <p:nvPr/>
                  </p:nvSpPr>
                  <p:spPr>
                    <a:xfrm rot="1957800">
                      <a:off x="3285000" y="2239200"/>
                      <a:ext cx="419760" cy="500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12" name="等腰三角形 85"/>
                <p:cNvSpPr/>
                <p:nvPr/>
              </p:nvSpPr>
              <p:spPr>
                <a:xfrm>
                  <a:off x="3625200" y="2822040"/>
                  <a:ext cx="114480" cy="21240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3" name="等腰三角形 101"/>
              <p:cNvSpPr/>
              <p:nvPr/>
            </p:nvSpPr>
            <p:spPr>
              <a:xfrm>
                <a:off x="3549960" y="2816640"/>
                <a:ext cx="256680" cy="366840"/>
              </a:xfrm>
              <a:prstGeom prst="triangle">
                <a:avLst>
                  <a:gd name="adj" fmla="val 50000"/>
                </a:avLst>
              </a:prstGeom>
              <a:solidFill>
                <a:schemeClr val="accent4">
                  <a:lumMod val="20000"/>
                  <a:lumOff val="8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14" name="矩形 9"/>
          <p:cNvSpPr/>
          <p:nvPr/>
        </p:nvSpPr>
        <p:spPr>
          <a:xfrm>
            <a:off x="5138640" y="2393640"/>
            <a:ext cx="5468760" cy="165492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1654920"/>
              <a:gd name="textAreaBottom" fmla="*/ 1655280 h 1654920"/>
            </a:gdLst>
            <a:ahLst/>
            <a:rect l="textAreaLeft" t="textAreaTop" r="textAreaRight" b="textAreaBottom"/>
            <a:pathLst>
              <a:path w="5469031" h="1655102">
                <a:moveTo>
                  <a:pt x="0" y="0"/>
                </a:moveTo>
                <a:lnTo>
                  <a:pt x="5018568" y="0"/>
                </a:lnTo>
                <a:lnTo>
                  <a:pt x="5469031" y="1619307"/>
                </a:lnTo>
                <a:lnTo>
                  <a:pt x="124432" y="1655102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140440" y="2393640"/>
            <a:ext cx="5340960" cy="1842120"/>
          </a:xfrm>
          <a:custGeom>
            <a:avLst/>
            <a:gdLst>
              <a:gd name="textAreaLeft" fmla="*/ 0 w 5340960"/>
              <a:gd name="textAreaRight" fmla="*/ 5341320 w 5340960"/>
              <a:gd name="textAreaTop" fmla="*/ 0 h 1842120"/>
              <a:gd name="textAreaBottom" fmla="*/ 1842480 h 1842120"/>
            </a:gdLst>
            <a:ahLst/>
            <a:rect l="textAreaLeft" t="textAreaTop" r="textAreaRight" b="textAreaBottom"/>
            <a:pathLst>
              <a:path w="5341441" h="1842590">
                <a:moveTo>
                  <a:pt x="0" y="0"/>
                </a:moveTo>
                <a:lnTo>
                  <a:pt x="5018568" y="0"/>
                </a:lnTo>
                <a:lnTo>
                  <a:pt x="5341441" y="1842590"/>
                </a:lnTo>
                <a:lnTo>
                  <a:pt x="50004" y="1740162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047200" y="2393640"/>
            <a:ext cx="5262840" cy="1998720"/>
          </a:xfrm>
          <a:custGeom>
            <a:avLst/>
            <a:gdLst>
              <a:gd name="textAreaLeft" fmla="*/ 0 w 5262840"/>
              <a:gd name="textAreaRight" fmla="*/ 5263200 w 526284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5263117" h="1998920">
                <a:moveTo>
                  <a:pt x="85061" y="0"/>
                </a:moveTo>
                <a:lnTo>
                  <a:pt x="5103629" y="0"/>
                </a:lnTo>
                <a:lnTo>
                  <a:pt x="5263117" y="1998920"/>
                </a:lnTo>
                <a:lnTo>
                  <a:pt x="0" y="1903230"/>
                </a:lnTo>
                <a:lnTo>
                  <a:pt x="85061" y="0"/>
                </a:lnTo>
                <a:close/>
              </a:path>
            </a:pathLst>
          </a:cu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4960080" y="2395440"/>
            <a:ext cx="5220360" cy="2126160"/>
          </a:xfrm>
          <a:custGeom>
            <a:avLst/>
            <a:gdLst>
              <a:gd name="textAreaLeft" fmla="*/ 0 w 5220360"/>
              <a:gd name="textAreaRight" fmla="*/ 5220720 w 5220360"/>
              <a:gd name="textAreaTop" fmla="*/ 0 h 2126160"/>
              <a:gd name="textAreaBottom" fmla="*/ 2126520 h 2126160"/>
            </a:gdLst>
            <a:ahLst/>
            <a:rect l="textAreaLeft" t="textAreaTop" r="textAreaRight" b="textAreaBottom"/>
            <a:pathLst>
              <a:path w="5220814" h="2126511">
                <a:moveTo>
                  <a:pt x="170121" y="0"/>
                </a:moveTo>
                <a:lnTo>
                  <a:pt x="5188689" y="0"/>
                </a:lnTo>
                <a:cubicBezTo>
                  <a:pt x="5185145" y="698205"/>
                  <a:pt x="5224130" y="1428306"/>
                  <a:pt x="5220586" y="2126511"/>
                </a:cubicBezTo>
                <a:lnTo>
                  <a:pt x="0" y="1998921"/>
                </a:lnTo>
                <a:lnTo>
                  <a:pt x="170121" y="0"/>
                </a:ln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文本框 3"/>
          <p:cNvSpPr/>
          <p:nvPr/>
        </p:nvSpPr>
        <p:spPr>
          <a:xfrm>
            <a:off x="5691960" y="2826360"/>
            <a:ext cx="4252680" cy="1095120"/>
          </a:xfrm>
          <a:prstGeom prst="rect">
            <a:avLst/>
          </a:prstGeom>
          <a:noFill/>
          <a:ln w="0">
            <a:noFill/>
          </a:ln>
          <a:effectLst>
            <a:outerShdw algn="tl" dir="2700000" dist="37674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个人简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角三角形 5"/>
          <p:cNvSpPr/>
          <p:nvPr/>
        </p:nvSpPr>
        <p:spPr>
          <a:xfrm>
            <a:off x="1679400" y="254520"/>
            <a:ext cx="937080" cy="967320"/>
          </a:xfrm>
          <a:custGeom>
            <a:avLst/>
            <a:gdLst>
              <a:gd name="textAreaLeft" fmla="*/ 0 w 937080"/>
              <a:gd name="textAreaRight" fmla="*/ 937440 w 937080"/>
              <a:gd name="textAreaTop" fmla="*/ 0 h 967320"/>
              <a:gd name="textAreaBottom" fmla="*/ 967680 h 967320"/>
            </a:gdLst>
            <a:ahLst/>
            <a:rect l="textAreaLeft" t="textAreaTop" r="textAreaRight" b="textAreaBottom"/>
            <a:pathLst>
              <a:path w="937550" h="967562">
                <a:moveTo>
                  <a:pt x="138223" y="967562"/>
                </a:moveTo>
                <a:lnTo>
                  <a:pt x="0" y="0"/>
                </a:lnTo>
                <a:lnTo>
                  <a:pt x="937550" y="393404"/>
                </a:lnTo>
                <a:lnTo>
                  <a:pt x="138223" y="967562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等腰三角形 6"/>
          <p:cNvSpPr/>
          <p:nvPr/>
        </p:nvSpPr>
        <p:spPr>
          <a:xfrm rot="610800">
            <a:off x="10580760" y="490680"/>
            <a:ext cx="585000" cy="736560"/>
          </a:xfrm>
          <a:custGeom>
            <a:avLst/>
            <a:gdLst>
              <a:gd name="textAreaLeft" fmla="*/ 0 w 585000"/>
              <a:gd name="textAreaRight" fmla="*/ 585360 w 5850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525088" h="1201760">
                <a:moveTo>
                  <a:pt x="-1" y="826097"/>
                </a:moveTo>
                <a:lnTo>
                  <a:pt x="1525088" y="0"/>
                </a:lnTo>
                <a:lnTo>
                  <a:pt x="1339742" y="1201761"/>
                </a:lnTo>
                <a:lnTo>
                  <a:pt x="-1" y="826097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直角三角形 7"/>
          <p:cNvSpPr/>
          <p:nvPr/>
        </p:nvSpPr>
        <p:spPr>
          <a:xfrm>
            <a:off x="457200" y="5280840"/>
            <a:ext cx="1281600" cy="1459800"/>
          </a:xfrm>
          <a:custGeom>
            <a:avLst/>
            <a:gdLst>
              <a:gd name="textAreaLeft" fmla="*/ 0 w 1281600"/>
              <a:gd name="textAreaRight" fmla="*/ 1281960 w 1281600"/>
              <a:gd name="textAreaTop" fmla="*/ 0 h 1459800"/>
              <a:gd name="textAreaBottom" fmla="*/ 1460160 h 1459800"/>
            </a:gdLst>
            <a:ahLst/>
            <a:rect l="textAreaLeft" t="textAreaTop" r="textAreaRight" b="textAreaBottom"/>
            <a:pathLst>
              <a:path w="879561" h="1005076">
                <a:moveTo>
                  <a:pt x="0" y="1005076"/>
                </a:moveTo>
                <a:lnTo>
                  <a:pt x="83098" y="0"/>
                </a:lnTo>
                <a:lnTo>
                  <a:pt x="879561" y="484802"/>
                </a:lnTo>
                <a:lnTo>
                  <a:pt x="0" y="1005076"/>
                </a:lnTo>
                <a:close/>
              </a:path>
            </a:pathLst>
          </a:cu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等腰三角形 8"/>
          <p:cNvSpPr/>
          <p:nvPr/>
        </p:nvSpPr>
        <p:spPr>
          <a:xfrm rot="11524800">
            <a:off x="11284200" y="2011680"/>
            <a:ext cx="396360" cy="302760"/>
          </a:xfrm>
          <a:custGeom>
            <a:avLst/>
            <a:gdLst>
              <a:gd name="textAreaLeft" fmla="*/ 0 w 396360"/>
              <a:gd name="textAreaRight" fmla="*/ 396720 w 396360"/>
              <a:gd name="textAreaTop" fmla="*/ 0 h 302760"/>
              <a:gd name="textAreaBottom" fmla="*/ 303120 h 302760"/>
            </a:gdLst>
            <a:ahLst/>
            <a:rect l="textAreaLeft" t="textAreaTop" r="textAreaRight" b="textAreaBottom"/>
            <a:pathLst>
              <a:path w="635689" h="482086">
                <a:moveTo>
                  <a:pt x="-1" y="468961"/>
                </a:moveTo>
                <a:lnTo>
                  <a:pt x="517079" y="0"/>
                </a:lnTo>
                <a:lnTo>
                  <a:pt x="635689" y="482086"/>
                </a:lnTo>
                <a:lnTo>
                  <a:pt x="-1" y="468961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任意多边形 40"/>
          <p:cNvSpPr/>
          <p:nvPr/>
        </p:nvSpPr>
        <p:spPr>
          <a:xfrm>
            <a:off x="7763040" y="5667120"/>
            <a:ext cx="1959480" cy="1190520"/>
          </a:xfrm>
          <a:custGeom>
            <a:avLst/>
            <a:gdLst>
              <a:gd name="textAreaLeft" fmla="*/ 0 w 1959480"/>
              <a:gd name="textAreaRight" fmla="*/ 1959840 w 195948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959837" h="1190742">
                <a:moveTo>
                  <a:pt x="1705891" y="0"/>
                </a:moveTo>
                <a:lnTo>
                  <a:pt x="1959837" y="1190742"/>
                </a:lnTo>
                <a:lnTo>
                  <a:pt x="1218738" y="1190742"/>
                </a:lnTo>
                <a:lnTo>
                  <a:pt x="0" y="631806"/>
                </a:lnTo>
                <a:lnTo>
                  <a:pt x="1705891" y="0"/>
                </a:lnTo>
                <a:close/>
              </a:path>
            </a:pathLst>
          </a:custGeom>
          <a:solidFill>
            <a:srgbClr val="ff9933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等腰三角形 11"/>
          <p:cNvSpPr/>
          <p:nvPr/>
        </p:nvSpPr>
        <p:spPr>
          <a:xfrm>
            <a:off x="3740040" y="5823360"/>
            <a:ext cx="792360" cy="789840"/>
          </a:xfrm>
          <a:custGeom>
            <a:avLst/>
            <a:gdLst>
              <a:gd name="textAreaLeft" fmla="*/ 0 w 792360"/>
              <a:gd name="textAreaRight" fmla="*/ 792720 w 792360"/>
              <a:gd name="textAreaTop" fmla="*/ 0 h 789840"/>
              <a:gd name="textAreaBottom" fmla="*/ 790200 h 789840"/>
            </a:gdLst>
            <a:ahLst/>
            <a:rect l="textAreaLeft" t="textAreaTop" r="textAreaRight" b="textAreaBottom"/>
            <a:pathLst>
              <a:path w="1001234" h="874571">
                <a:moveTo>
                  <a:pt x="72653" y="874571"/>
                </a:moveTo>
                <a:lnTo>
                  <a:pt x="0" y="0"/>
                </a:lnTo>
                <a:lnTo>
                  <a:pt x="1001234" y="406738"/>
                </a:lnTo>
                <a:lnTo>
                  <a:pt x="72653" y="874571"/>
                </a:lnTo>
                <a:close/>
              </a:path>
            </a:pathLst>
          </a:custGeom>
          <a:solidFill>
            <a:srgbClr val="ffff66">
              <a:alpha val="7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45760" y="981000"/>
            <a:ext cx="424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个人简历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323640" y="288000"/>
            <a:ext cx="2958480" cy="768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83600" y="288000"/>
            <a:ext cx="680040" cy="87048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938520" y="207720"/>
            <a:ext cx="2293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人概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9"/>
          <p:cNvSpPr/>
          <p:nvPr/>
        </p:nvSpPr>
        <p:spPr>
          <a:xfrm>
            <a:off x="1006920" y="867240"/>
            <a:ext cx="233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Tahoma"/>
                <a:ea typeface="Tahoma"/>
              </a:rPr>
              <a:t>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角三角形 30"/>
          <p:cNvSpPr/>
          <p:nvPr/>
        </p:nvSpPr>
        <p:spPr>
          <a:xfrm rot="429000">
            <a:off x="3276720" y="971640"/>
            <a:ext cx="253080" cy="239760"/>
          </a:xfrm>
          <a:custGeom>
            <a:avLst/>
            <a:gdLst>
              <a:gd name="textAreaLeft" fmla="*/ 0 w 253080"/>
              <a:gd name="textAreaRight" fmla="*/ 253440 w 2530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09357" h="369029">
                <a:moveTo>
                  <a:pt x="0" y="345647"/>
                </a:moveTo>
                <a:lnTo>
                  <a:pt x="172492" y="0"/>
                </a:lnTo>
                <a:lnTo>
                  <a:pt x="509358" y="369029"/>
                </a:lnTo>
                <a:lnTo>
                  <a:pt x="0" y="345647"/>
                </a:lnTo>
                <a:close/>
              </a:path>
            </a:pathLst>
          </a:custGeom>
          <a:solidFill>
            <a:schemeClr val="accent1">
              <a:lumMod val="50000"/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直角三角形 30"/>
          <p:cNvSpPr/>
          <p:nvPr/>
        </p:nvSpPr>
        <p:spPr>
          <a:xfrm rot="19425600">
            <a:off x="3207960" y="188280"/>
            <a:ext cx="539640" cy="388080"/>
          </a:xfrm>
          <a:custGeom>
            <a:avLst/>
            <a:gdLst>
              <a:gd name="textAreaLeft" fmla="*/ 0 w 539640"/>
              <a:gd name="textAreaRight" fmla="*/ 540000 w 539640"/>
              <a:gd name="textAreaTop" fmla="*/ 0 h 388080"/>
              <a:gd name="textAreaBottom" fmla="*/ 388440 h 388080"/>
            </a:gdLst>
            <a:ahLst/>
            <a:rect l="textAreaLeft" t="textAreaTop" r="textAreaRight" b="textAreaBottom"/>
            <a:pathLst>
              <a:path w="609529" h="345611">
                <a:moveTo>
                  <a:pt x="50693" y="345611"/>
                </a:moveTo>
                <a:lnTo>
                  <a:pt x="0" y="0"/>
                </a:lnTo>
                <a:lnTo>
                  <a:pt x="609529" y="132438"/>
                </a:lnTo>
                <a:lnTo>
                  <a:pt x="50693" y="345611"/>
                </a:lnTo>
                <a:close/>
              </a:path>
            </a:pathLst>
          </a:custGeom>
          <a:solidFill>
            <a:srgbClr val="99ccff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任意多边形 40"/>
          <p:cNvSpPr/>
          <p:nvPr/>
        </p:nvSpPr>
        <p:spPr>
          <a:xfrm rot="19150800">
            <a:off x="8227800" y="-248400"/>
            <a:ext cx="1437120" cy="1599840"/>
          </a:xfrm>
          <a:custGeom>
            <a:avLst/>
            <a:gdLst>
              <a:gd name="textAreaLeft" fmla="*/ 0 w 1437120"/>
              <a:gd name="textAreaRight" fmla="*/ 1437480 w 143712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1437454" h="1600335">
                <a:moveTo>
                  <a:pt x="1013246" y="325943"/>
                </a:moveTo>
                <a:lnTo>
                  <a:pt x="1437454" y="692404"/>
                </a:lnTo>
                <a:lnTo>
                  <a:pt x="425440" y="1600335"/>
                </a:lnTo>
                <a:lnTo>
                  <a:pt x="0" y="0"/>
                </a:lnTo>
                <a:close/>
              </a:path>
            </a:pathLst>
          </a:custGeom>
          <a:solidFill>
            <a:schemeClr val="accent1">
              <a:lumMod val="75000"/>
              <a:alpha val="5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直角三角形 42"/>
          <p:cNvSpPr/>
          <p:nvPr/>
        </p:nvSpPr>
        <p:spPr>
          <a:xfrm rot="8271000">
            <a:off x="10437120" y="5313960"/>
            <a:ext cx="1046520" cy="1153440"/>
          </a:xfrm>
          <a:custGeom>
            <a:avLst/>
            <a:gdLst>
              <a:gd name="textAreaLeft" fmla="*/ 0 w 1046520"/>
              <a:gd name="textAreaRight" fmla="*/ 1046880 w 1046520"/>
              <a:gd name="textAreaTop" fmla="*/ 0 h 1153440"/>
              <a:gd name="textAreaBottom" fmla="*/ 1153800 h 1153440"/>
            </a:gdLst>
            <a:ahLst/>
            <a:rect l="textAreaLeft" t="textAreaTop" r="textAreaRight" b="textAreaBottom"/>
            <a:pathLst>
              <a:path w="2639136" h="2580981">
                <a:moveTo>
                  <a:pt x="2639135" y="2173716"/>
                </a:moveTo>
                <a:lnTo>
                  <a:pt x="-1" y="2580982"/>
                </a:lnTo>
                <a:lnTo>
                  <a:pt x="969007" y="0"/>
                </a:lnTo>
                <a:lnTo>
                  <a:pt x="2639135" y="2173716"/>
                </a:lnTo>
                <a:close/>
              </a:path>
            </a:pathLst>
          </a:custGeom>
          <a:solidFill>
            <a:srgbClr val="99ccff">
              <a:alpha val="4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47"/>
          <p:cNvSpPr/>
          <p:nvPr/>
        </p:nvSpPr>
        <p:spPr>
          <a:xfrm>
            <a:off x="0" y="6294600"/>
            <a:ext cx="12191760" cy="56304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6" name="直接连接符 2"/>
          <p:cNvCxnSpPr/>
          <p:nvPr/>
        </p:nvCxnSpPr>
        <p:spPr>
          <a:xfrm>
            <a:off x="959760" y="287640"/>
            <a:ext cx="360" cy="87156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sp>
        <p:nvSpPr>
          <p:cNvPr id="137" name="文本框 5"/>
          <p:cNvSpPr/>
          <p:nvPr/>
        </p:nvSpPr>
        <p:spPr>
          <a:xfrm>
            <a:off x="1275840" y="2229840"/>
            <a:ext cx="2349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7"/>
          <p:cNvSpPr/>
          <p:nvPr/>
        </p:nvSpPr>
        <p:spPr>
          <a:xfrm>
            <a:off x="1275840" y="3114720"/>
            <a:ext cx="418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座右铭：要种一棵树，最好的时候是十年前，其次是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直接连接符 9"/>
          <p:cNvCxnSpPr/>
          <p:nvPr/>
        </p:nvCxnSpPr>
        <p:spPr>
          <a:xfrm>
            <a:off x="1382040" y="2966400"/>
            <a:ext cx="3849480" cy="36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cxnSp>
        <p:nvCxnSpPr>
          <p:cNvPr id="140" name="直接连接符 13"/>
          <p:cNvCxnSpPr/>
          <p:nvPr/>
        </p:nvCxnSpPr>
        <p:spPr>
          <a:xfrm>
            <a:off x="6095880" y="1456560"/>
            <a:ext cx="360" cy="376164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grpSp>
        <p:nvGrpSpPr>
          <p:cNvPr id="141" name="组合 18"/>
          <p:cNvGrpSpPr/>
          <p:nvPr/>
        </p:nvGrpSpPr>
        <p:grpSpPr>
          <a:xfrm>
            <a:off x="6726960" y="1884960"/>
            <a:ext cx="733320" cy="1187280"/>
            <a:chOff x="6726960" y="1884960"/>
            <a:chExt cx="733320" cy="1187280"/>
          </a:xfrm>
        </p:grpSpPr>
        <p:sp>
          <p:nvSpPr>
            <p:cNvPr id="142" name="圆角矩形 15"/>
            <p:cNvSpPr/>
            <p:nvPr/>
          </p:nvSpPr>
          <p:spPr>
            <a:xfrm>
              <a:off x="6726960" y="1884960"/>
              <a:ext cx="733320" cy="1187280"/>
            </a:xfrm>
            <a:prstGeom prst="roundRect">
              <a:avLst>
                <a:gd name="adj" fmla="val 16667"/>
              </a:avLst>
            </a:pr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矩形 16"/>
            <p:cNvSpPr/>
            <p:nvPr/>
          </p:nvSpPr>
          <p:spPr>
            <a:xfrm>
              <a:off x="6787080" y="1980720"/>
              <a:ext cx="609120" cy="892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椭圆 17"/>
            <p:cNvSpPr/>
            <p:nvPr/>
          </p:nvSpPr>
          <p:spPr>
            <a:xfrm>
              <a:off x="7035120" y="2916360"/>
              <a:ext cx="105840" cy="10584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文本框 20"/>
          <p:cNvSpPr/>
          <p:nvPr/>
        </p:nvSpPr>
        <p:spPr>
          <a:xfrm>
            <a:off x="8016840" y="2229840"/>
            <a:ext cx="283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-1234-1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6525000" y="3721680"/>
            <a:ext cx="1126440" cy="776160"/>
            <a:chOff x="6525000" y="3721680"/>
            <a:chExt cx="1126440" cy="776160"/>
          </a:xfrm>
        </p:grpSpPr>
        <p:sp>
          <p:nvSpPr>
            <p:cNvPr id="147" name="任意多边形 33"/>
            <p:cNvSpPr/>
            <p:nvPr/>
          </p:nvSpPr>
          <p:spPr>
            <a:xfrm>
              <a:off x="6603120" y="3721680"/>
              <a:ext cx="961560" cy="3938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1965" h="394376">
                  <a:moveTo>
                    <a:pt x="50931" y="0"/>
                  </a:moveTo>
                  <a:lnTo>
                    <a:pt x="919252" y="0"/>
                  </a:lnTo>
                  <a:lnTo>
                    <a:pt x="961965" y="8623"/>
                  </a:lnTo>
                  <a:lnTo>
                    <a:pt x="479775" y="394376"/>
                  </a:lnTo>
                  <a:lnTo>
                    <a:pt x="0" y="10555"/>
                  </a:lnTo>
                  <a:lnTo>
                    <a:pt x="576" y="10166"/>
                  </a:lnTo>
                  <a:cubicBezTo>
                    <a:pt x="16054" y="3620"/>
                    <a:pt x="33070" y="0"/>
                    <a:pt x="50931" y="0"/>
                  </a:cubicBezTo>
                  <a:close/>
                </a:path>
              </a:pathLst>
            </a:custGeom>
            <a:solidFill>
              <a:schemeClr val="bg1"/>
            </a:solidFill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任意多边形 38"/>
            <p:cNvSpPr/>
            <p:nvPr/>
          </p:nvSpPr>
          <p:spPr>
            <a:xfrm>
              <a:off x="6527160" y="4040280"/>
              <a:ext cx="1121040" cy="45756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1121390" h="457750">
                  <a:moveTo>
                    <a:pt x="650845" y="0"/>
                  </a:moveTo>
                  <a:lnTo>
                    <a:pt x="1121390" y="345032"/>
                  </a:lnTo>
                  <a:lnTo>
                    <a:pt x="1114584" y="378740"/>
                  </a:lnTo>
                  <a:cubicBezTo>
                    <a:pt x="1094945" y="425171"/>
                    <a:pt x="1048970" y="457750"/>
                    <a:pt x="995385" y="457750"/>
                  </a:cubicBezTo>
                  <a:lnTo>
                    <a:pt x="127064" y="457750"/>
                  </a:lnTo>
                  <a:cubicBezTo>
                    <a:pt x="73480" y="457750"/>
                    <a:pt x="27504" y="425171"/>
                    <a:pt x="7865" y="378740"/>
                  </a:cubicBezTo>
                  <a:lnTo>
                    <a:pt x="0" y="339782"/>
                  </a:lnTo>
                  <a:lnTo>
                    <a:pt x="462126" y="923"/>
                  </a:lnTo>
                  <a:lnTo>
                    <a:pt x="555908" y="75949"/>
                  </a:lnTo>
                  <a:lnTo>
                    <a:pt x="650845" y="0"/>
                  </a:lnTo>
                  <a:close/>
                </a:path>
              </a:pathLst>
            </a:cu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任意多边形 37"/>
            <p:cNvSpPr/>
            <p:nvPr/>
          </p:nvSpPr>
          <p:spPr>
            <a:xfrm>
              <a:off x="7178040" y="3730320"/>
              <a:ext cx="473400" cy="6544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473905" h="654836">
                  <a:moveTo>
                    <a:pt x="387253" y="0"/>
                  </a:moveTo>
                  <a:lnTo>
                    <a:pt x="394895" y="1543"/>
                  </a:lnTo>
                  <a:cubicBezTo>
                    <a:pt x="441326" y="21182"/>
                    <a:pt x="473905" y="67158"/>
                    <a:pt x="473905" y="120742"/>
                  </a:cubicBezTo>
                  <a:lnTo>
                    <a:pt x="473905" y="638189"/>
                  </a:lnTo>
                  <a:lnTo>
                    <a:pt x="470545" y="654836"/>
                  </a:lnTo>
                  <a:lnTo>
                    <a:pt x="0" y="309804"/>
                  </a:lnTo>
                  <a:lnTo>
                    <a:pt x="387253" y="0"/>
                  </a:lnTo>
                  <a:close/>
                </a:path>
              </a:pathLst>
            </a:cu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任意多边形 36"/>
            <p:cNvSpPr/>
            <p:nvPr/>
          </p:nvSpPr>
          <p:spPr>
            <a:xfrm>
              <a:off x="6525000" y="3732120"/>
              <a:ext cx="464040" cy="647280"/>
            </a:xfrm>
            <a:custGeom>
              <a:avLst/>
              <a:gdLst>
                <a:gd name="textAreaLeft" fmla="*/ 0 w 464040"/>
                <a:gd name="textAreaRight" fmla="*/ 464400 w 46404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464427" h="647654">
                  <a:moveTo>
                    <a:pt x="78434" y="0"/>
                  </a:moveTo>
                  <a:lnTo>
                    <a:pt x="464427" y="308795"/>
                  </a:lnTo>
                  <a:lnTo>
                    <a:pt x="2301" y="647654"/>
                  </a:lnTo>
                  <a:lnTo>
                    <a:pt x="0" y="636257"/>
                  </a:lnTo>
                  <a:lnTo>
                    <a:pt x="0" y="118810"/>
                  </a:lnTo>
                  <a:cubicBezTo>
                    <a:pt x="0" y="83087"/>
                    <a:pt x="14480" y="50746"/>
                    <a:pt x="37890" y="27335"/>
                  </a:cubicBezTo>
                  <a:lnTo>
                    <a:pt x="78434" y="0"/>
                  </a:lnTo>
                  <a:close/>
                </a:path>
              </a:pathLst>
            </a:cu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文本框 26"/>
          <p:cNvSpPr/>
          <p:nvPr/>
        </p:nvSpPr>
        <p:spPr>
          <a:xfrm>
            <a:off x="7837200" y="3869640"/>
            <a:ext cx="32094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MPLATE@XX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任意多边形 29"/>
          <p:cNvSpPr/>
          <p:nvPr/>
        </p:nvSpPr>
        <p:spPr>
          <a:xfrm>
            <a:off x="0" y="6294600"/>
            <a:ext cx="12191760" cy="5630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12192000" h="563526">
                <a:moveTo>
                  <a:pt x="0" y="0"/>
                </a:moveTo>
                <a:lnTo>
                  <a:pt x="10973223" y="0"/>
                </a:lnTo>
                <a:lnTo>
                  <a:pt x="10973225" y="1"/>
                </a:lnTo>
                <a:lnTo>
                  <a:pt x="11822088" y="1"/>
                </a:lnTo>
                <a:lnTo>
                  <a:pt x="11822088" y="0"/>
                </a:lnTo>
                <a:lnTo>
                  <a:pt x="12192000" y="0"/>
                </a:lnTo>
                <a:lnTo>
                  <a:pt x="12192000" y="563526"/>
                </a:lnTo>
                <a:lnTo>
                  <a:pt x="0" y="563526"/>
                </a:ln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任意多边形 27"/>
          <p:cNvSpPr/>
          <p:nvPr/>
        </p:nvSpPr>
        <p:spPr>
          <a:xfrm>
            <a:off x="10398600" y="5032800"/>
            <a:ext cx="1423080" cy="1261080"/>
          </a:xfrm>
          <a:custGeom>
            <a:avLst/>
            <a:gdLst>
              <a:gd name="textAreaLeft" fmla="*/ 0 w 1423080"/>
              <a:gd name="textAreaRight" fmla="*/ 1423440 w 1423080"/>
              <a:gd name="textAreaTop" fmla="*/ 0 h 1261080"/>
              <a:gd name="textAreaBottom" fmla="*/ 1261440 h 1261080"/>
            </a:gdLst>
            <a:ahLst/>
            <a:rect l="textAreaLeft" t="textAreaTop" r="textAreaRight" b="textAreaBottom"/>
            <a:pathLst>
              <a:path w="1423398" h="1261544">
                <a:moveTo>
                  <a:pt x="1363111" y="0"/>
                </a:moveTo>
                <a:lnTo>
                  <a:pt x="1423398" y="1261544"/>
                </a:lnTo>
                <a:lnTo>
                  <a:pt x="574533" y="1261544"/>
                </a:lnTo>
                <a:lnTo>
                  <a:pt x="0" y="981261"/>
                </a:lnTo>
                <a:lnTo>
                  <a:pt x="1363111" y="0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0805400" y="288000"/>
            <a:ext cx="680040" cy="87048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5" name="直接连接符 4"/>
          <p:cNvCxnSpPr/>
          <p:nvPr/>
        </p:nvCxnSpPr>
        <p:spPr>
          <a:xfrm>
            <a:off x="8370360" y="319680"/>
            <a:ext cx="360" cy="87120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sp>
        <p:nvSpPr>
          <p:cNvPr id="156" name="文本框 5"/>
          <p:cNvSpPr/>
          <p:nvPr/>
        </p:nvSpPr>
        <p:spPr>
          <a:xfrm>
            <a:off x="8511840" y="206280"/>
            <a:ext cx="2293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兴趣爱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"/>
          <p:cNvSpPr/>
          <p:nvPr/>
        </p:nvSpPr>
        <p:spPr>
          <a:xfrm>
            <a:off x="8402400" y="863640"/>
            <a:ext cx="2453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Tahoma"/>
                <a:ea typeface="Tahoma"/>
              </a:rPr>
              <a:t>Hobbies and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梯形 13"/>
          <p:cNvSpPr/>
          <p:nvPr/>
        </p:nvSpPr>
        <p:spPr>
          <a:xfrm rot="16200000">
            <a:off x="7393320" y="2034720"/>
            <a:ext cx="3710520" cy="2746440"/>
          </a:xfrm>
          <a:prstGeom prst="trapezoid">
            <a:avLst>
              <a:gd name="adj" fmla="val 25000"/>
            </a:avLst>
          </a:prstGeom>
          <a:solidFill>
            <a:srgbClr val="ff9933">
              <a:alpha val="90000"/>
            </a:srgb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梯形 12"/>
          <p:cNvSpPr/>
          <p:nvPr/>
        </p:nvSpPr>
        <p:spPr>
          <a:xfrm rot="16200000">
            <a:off x="5164920" y="2026080"/>
            <a:ext cx="3710520" cy="2763360"/>
          </a:xfrm>
          <a:prstGeom prst="trapezoid">
            <a:avLst>
              <a:gd name="adj" fmla="val 25000"/>
            </a:avLst>
          </a:prstGeom>
          <a:solidFill>
            <a:srgbClr val="ffff66">
              <a:alpha val="90000"/>
            </a:srgb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梯形 11"/>
          <p:cNvSpPr/>
          <p:nvPr/>
        </p:nvSpPr>
        <p:spPr>
          <a:xfrm rot="16200000">
            <a:off x="3061080" y="2154240"/>
            <a:ext cx="3710520" cy="2525040"/>
          </a:xfrm>
          <a:prstGeom prst="trapezoid">
            <a:avLst>
              <a:gd name="adj" fmla="val 25000"/>
            </a:avLst>
          </a:prstGeom>
          <a:solidFill>
            <a:schemeClr val="accent1">
              <a:lumMod val="60000"/>
              <a:lumOff val="40000"/>
              <a:alpha val="90000"/>
            </a:scheme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梯形 7"/>
          <p:cNvSpPr/>
          <p:nvPr/>
        </p:nvSpPr>
        <p:spPr>
          <a:xfrm rot="16200000">
            <a:off x="909000" y="2238480"/>
            <a:ext cx="3710520" cy="2338920"/>
          </a:xfrm>
          <a:prstGeom prst="trapezoid">
            <a:avLst>
              <a:gd name="adj" fmla="val 25000"/>
            </a:avLst>
          </a:prstGeom>
          <a:solidFill>
            <a:schemeClr val="accent1">
              <a:lumMod val="75000"/>
              <a:alpha val="90000"/>
            </a:scheme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文本框 15"/>
          <p:cNvSpPr/>
          <p:nvPr/>
        </p:nvSpPr>
        <p:spPr>
          <a:xfrm>
            <a:off x="6380640" y="338184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6"/>
          <p:cNvSpPr/>
          <p:nvPr/>
        </p:nvSpPr>
        <p:spPr>
          <a:xfrm>
            <a:off x="4262760" y="337140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7"/>
          <p:cNvSpPr/>
          <p:nvPr/>
        </p:nvSpPr>
        <p:spPr>
          <a:xfrm>
            <a:off x="1981080" y="338184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8"/>
          <p:cNvSpPr/>
          <p:nvPr/>
        </p:nvSpPr>
        <p:spPr>
          <a:xfrm>
            <a:off x="8719560" y="337140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1"/>
          <p:cNvSpPr/>
          <p:nvPr/>
        </p:nvSpPr>
        <p:spPr>
          <a:xfrm rot="14232600">
            <a:off x="25200" y="-365040"/>
            <a:ext cx="1523160" cy="1645560"/>
          </a:xfrm>
          <a:custGeom>
            <a:avLst/>
            <a:gdLst>
              <a:gd name="textAreaLeft" fmla="*/ 0 w 1523160"/>
              <a:gd name="textAreaRight" fmla="*/ 1523520 w 1523160"/>
              <a:gd name="textAreaTop" fmla="*/ 0 h 1645560"/>
              <a:gd name="textAreaBottom" fmla="*/ 1645920 h 1645560"/>
            </a:gdLst>
            <a:ahLst/>
            <a:rect l="textAreaLeft" t="textAreaTop" r="textAreaRight" b="textAreaBottom"/>
            <a:pathLst>
              <a:path w="1059740" h="1177714">
                <a:moveTo>
                  <a:pt x="1059740" y="358854"/>
                </a:moveTo>
                <a:lnTo>
                  <a:pt x="793729" y="771740"/>
                </a:lnTo>
                <a:lnTo>
                  <a:pt x="110840" y="1177714"/>
                </a:lnTo>
                <a:lnTo>
                  <a:pt x="0" y="0"/>
                </a:lnTo>
                <a:lnTo>
                  <a:pt x="1059740" y="358854"/>
                </a:lnTo>
                <a:close/>
              </a:path>
            </a:pathLst>
          </a:custGeom>
          <a:solidFill>
            <a:schemeClr val="accent1">
              <a:lumMod val="75000"/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等腰三角形 25"/>
          <p:cNvSpPr/>
          <p:nvPr/>
        </p:nvSpPr>
        <p:spPr>
          <a:xfrm flipV="1" rot="14763600">
            <a:off x="11005200" y="1415880"/>
            <a:ext cx="806400" cy="808200"/>
          </a:xfrm>
          <a:custGeom>
            <a:avLst/>
            <a:gdLst>
              <a:gd name="textAreaLeft" fmla="*/ 0 w 806400"/>
              <a:gd name="textAreaRight" fmla="*/ 806760 w 806400"/>
              <a:gd name="textAreaTop" fmla="*/ -360 h 808200"/>
              <a:gd name="textAreaBottom" fmla="*/ 808200 h 808200"/>
            </a:gdLst>
            <a:ahLst/>
            <a:rect l="textAreaLeft" t="textAreaTop" r="textAreaRight" b="textAreaBottom"/>
            <a:pathLst>
              <a:path w="806866" h="808476">
                <a:moveTo>
                  <a:pt x="0" y="685722"/>
                </a:moveTo>
                <a:lnTo>
                  <a:pt x="585745" y="0"/>
                </a:lnTo>
                <a:lnTo>
                  <a:pt x="806866" y="808476"/>
                </a:lnTo>
                <a:lnTo>
                  <a:pt x="0" y="685722"/>
                </a:lnTo>
                <a:close/>
              </a:path>
            </a:pathLst>
          </a:cu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8" name="组合 34"/>
          <p:cNvGrpSpPr/>
          <p:nvPr/>
        </p:nvGrpSpPr>
        <p:grpSpPr>
          <a:xfrm>
            <a:off x="2113200" y="1746000"/>
            <a:ext cx="1511280" cy="1964160"/>
            <a:chOff x="2113200" y="1746000"/>
            <a:chExt cx="1511280" cy="1964160"/>
          </a:xfrm>
        </p:grpSpPr>
        <p:grpSp>
          <p:nvGrpSpPr>
            <p:cNvPr id="169" name="组合 33"/>
            <p:cNvGrpSpPr/>
            <p:nvPr/>
          </p:nvGrpSpPr>
          <p:grpSpPr>
            <a:xfrm>
              <a:off x="2113200" y="2322720"/>
              <a:ext cx="992520" cy="1387440"/>
              <a:chOff x="2113200" y="2322720"/>
              <a:chExt cx="992520" cy="1387440"/>
            </a:xfrm>
          </p:grpSpPr>
          <p:sp>
            <p:nvSpPr>
              <p:cNvPr id="170" name="椭圆 30"/>
              <p:cNvSpPr/>
              <p:nvPr/>
            </p:nvSpPr>
            <p:spPr>
              <a:xfrm>
                <a:off x="2266200" y="2322720"/>
                <a:ext cx="839520" cy="83952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43729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" name="弧形 31"/>
              <p:cNvSpPr/>
              <p:nvPr/>
            </p:nvSpPr>
            <p:spPr>
              <a:xfrm>
                <a:off x="2113200" y="2544120"/>
                <a:ext cx="395640" cy="1166040"/>
              </a:xfrm>
              <a:prstGeom prst="arc">
                <a:avLst>
                  <a:gd name="adj1" fmla="val 16200000"/>
                  <a:gd name="adj2" fmla="val 0"/>
                </a:avLst>
              </a:prstGeom>
              <a:noFill/>
              <a:ln w="28575">
                <a:solidFill>
                  <a:srgbClr val="458dcf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" name="弧形 32"/>
            <p:cNvSpPr/>
            <p:nvPr/>
          </p:nvSpPr>
          <p:spPr>
            <a:xfrm rot="11225400">
              <a:off x="2763360" y="1790280"/>
              <a:ext cx="794520" cy="112572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28575">
              <a:solidFill>
                <a:srgbClr val="458dc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55"/>
          <p:cNvGrpSpPr/>
          <p:nvPr/>
        </p:nvGrpSpPr>
        <p:grpSpPr>
          <a:xfrm>
            <a:off x="4564800" y="2277360"/>
            <a:ext cx="901800" cy="816480"/>
            <a:chOff x="4564800" y="2277360"/>
            <a:chExt cx="901800" cy="816480"/>
          </a:xfrm>
        </p:grpSpPr>
        <p:sp>
          <p:nvSpPr>
            <p:cNvPr id="174" name="圆角矩形 35"/>
            <p:cNvSpPr/>
            <p:nvPr/>
          </p:nvSpPr>
          <p:spPr>
            <a:xfrm>
              <a:off x="4564800" y="2433600"/>
              <a:ext cx="901800" cy="660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矩形 36"/>
            <p:cNvSpPr/>
            <p:nvPr/>
          </p:nvSpPr>
          <p:spPr>
            <a:xfrm>
              <a:off x="4641480" y="2277360"/>
              <a:ext cx="144360" cy="1342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6" name="椭圆 38"/>
          <p:cNvSpPr/>
          <p:nvPr/>
        </p:nvSpPr>
        <p:spPr>
          <a:xfrm>
            <a:off x="4767120" y="2521080"/>
            <a:ext cx="485640" cy="485640"/>
          </a:xfrm>
          <a:prstGeom prst="ellipse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椭圆 37"/>
          <p:cNvSpPr/>
          <p:nvPr/>
        </p:nvSpPr>
        <p:spPr>
          <a:xfrm>
            <a:off x="4802040" y="2564280"/>
            <a:ext cx="416160" cy="4161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8" name="组合 53"/>
          <p:cNvGrpSpPr/>
          <p:nvPr/>
        </p:nvGrpSpPr>
        <p:grpSpPr>
          <a:xfrm>
            <a:off x="6694560" y="2249280"/>
            <a:ext cx="1042200" cy="1007640"/>
            <a:chOff x="6694560" y="2249280"/>
            <a:chExt cx="1042200" cy="1007640"/>
          </a:xfrm>
        </p:grpSpPr>
        <p:sp>
          <p:nvSpPr>
            <p:cNvPr id="179" name="椭圆 39"/>
            <p:cNvSpPr/>
            <p:nvPr/>
          </p:nvSpPr>
          <p:spPr>
            <a:xfrm>
              <a:off x="6742440" y="2249280"/>
              <a:ext cx="346680" cy="346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40"/>
            <p:cNvSpPr/>
            <p:nvPr/>
          </p:nvSpPr>
          <p:spPr>
            <a:xfrm>
              <a:off x="7390080" y="2595600"/>
              <a:ext cx="346680" cy="346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41"/>
            <p:cNvSpPr/>
            <p:nvPr/>
          </p:nvSpPr>
          <p:spPr>
            <a:xfrm>
              <a:off x="6694560" y="2910240"/>
              <a:ext cx="346680" cy="346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82" name="直接连接符 43"/>
            <p:cNvCxnSpPr>
              <a:stCxn id="179" idx="4"/>
            </p:cNvCxnSpPr>
            <p:nvPr/>
          </p:nvCxnSpPr>
          <p:spPr>
            <a:xfrm flipH="1">
              <a:off x="6910560" y="2596320"/>
              <a:ext cx="5760" cy="335520"/>
            </a:xfrm>
            <a:prstGeom prst="straightConnector1">
              <a:avLst/>
            </a:prstGeom>
            <a:ln w="31750">
              <a:solidFill>
                <a:srgbClr val="ffffff"/>
              </a:solidFill>
            </a:ln>
          </p:spPr>
        </p:cxnSp>
        <p:cxnSp>
          <p:nvCxnSpPr>
            <p:cNvPr id="183" name="直接连接符 45"/>
            <p:cNvCxnSpPr>
              <a:endCxn id="180" idx="1"/>
            </p:cNvCxnSpPr>
            <p:nvPr/>
          </p:nvCxnSpPr>
          <p:spPr>
            <a:xfrm>
              <a:off x="7006680" y="2492280"/>
              <a:ext cx="434520" cy="154440"/>
            </a:xfrm>
            <a:prstGeom prst="straightConnector1">
              <a:avLst/>
            </a:prstGeom>
            <a:ln w="31750">
              <a:solidFill>
                <a:srgbClr val="ffffff"/>
              </a:solidFill>
            </a:ln>
          </p:spPr>
        </p:cxnSp>
        <p:cxnSp>
          <p:nvCxnSpPr>
            <p:cNvPr id="184" name="直接连接符 47"/>
            <p:cNvCxnSpPr>
              <a:endCxn id="180" idx="3"/>
            </p:cNvCxnSpPr>
            <p:nvPr/>
          </p:nvCxnSpPr>
          <p:spPr>
            <a:xfrm flipV="1">
              <a:off x="6952680" y="2891880"/>
              <a:ext cx="488520" cy="249480"/>
            </a:xfrm>
            <a:prstGeom prst="straightConnector1">
              <a:avLst/>
            </a:prstGeom>
            <a:ln w="31750">
              <a:solidFill>
                <a:srgbClr val="ffffff"/>
              </a:solidFill>
            </a:ln>
          </p:spPr>
        </p:cxnSp>
      </p:grpSp>
      <p:sp>
        <p:nvSpPr>
          <p:cNvPr id="185" name="椭圆形标注 54"/>
          <p:cNvSpPr/>
          <p:nvPr/>
        </p:nvSpPr>
        <p:spPr>
          <a:xfrm>
            <a:off x="8995680" y="2197440"/>
            <a:ext cx="1032840" cy="929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19"/>
          <p:cNvGrpSpPr/>
          <p:nvPr/>
        </p:nvGrpSpPr>
        <p:grpSpPr>
          <a:xfrm>
            <a:off x="286920" y="224640"/>
            <a:ext cx="2533320" cy="1368360"/>
            <a:chOff x="286920" y="224640"/>
            <a:chExt cx="2533320" cy="1368360"/>
          </a:xfrm>
        </p:grpSpPr>
        <p:sp>
          <p:nvSpPr>
            <p:cNvPr id="187" name="矩形 4"/>
            <p:cNvSpPr/>
            <p:nvPr/>
          </p:nvSpPr>
          <p:spPr>
            <a:xfrm>
              <a:off x="286920" y="224640"/>
              <a:ext cx="2527200" cy="102852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直角三角形 17"/>
            <p:cNvSpPr/>
            <p:nvPr/>
          </p:nvSpPr>
          <p:spPr>
            <a:xfrm rot="10800000">
              <a:off x="2371320" y="1248840"/>
              <a:ext cx="448920" cy="344160"/>
            </a:xfrm>
            <a:prstGeom prst="rtTriangle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9" name="矩形 31"/>
          <p:cNvSpPr/>
          <p:nvPr/>
        </p:nvSpPr>
        <p:spPr>
          <a:xfrm>
            <a:off x="0" y="6294600"/>
            <a:ext cx="12191760" cy="56304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855080" y="1658160"/>
            <a:ext cx="2826360" cy="19720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1855080" y="3630600"/>
            <a:ext cx="2826360" cy="197208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4681800" y="1658160"/>
            <a:ext cx="2826360" cy="1972080"/>
          </a:xfrm>
          <a:prstGeom prst="rect">
            <a:avLst/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矩形 11"/>
          <p:cNvSpPr/>
          <p:nvPr/>
        </p:nvSpPr>
        <p:spPr>
          <a:xfrm>
            <a:off x="4681800" y="3630600"/>
            <a:ext cx="2826360" cy="1972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矩形 12"/>
          <p:cNvSpPr/>
          <p:nvPr/>
        </p:nvSpPr>
        <p:spPr>
          <a:xfrm>
            <a:off x="7508160" y="1658160"/>
            <a:ext cx="2826360" cy="197208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13"/>
          <p:cNvSpPr/>
          <p:nvPr/>
        </p:nvSpPr>
        <p:spPr>
          <a:xfrm>
            <a:off x="7508160" y="3630600"/>
            <a:ext cx="2826360" cy="197208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2085480" y="3900240"/>
            <a:ext cx="2440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6"/>
          <p:cNvSpPr/>
          <p:nvPr/>
        </p:nvSpPr>
        <p:spPr>
          <a:xfrm>
            <a:off x="4874760" y="1846800"/>
            <a:ext cx="2440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403920" y="238680"/>
            <a:ext cx="2293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任职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"/>
          <p:cNvSpPr/>
          <p:nvPr/>
        </p:nvSpPr>
        <p:spPr>
          <a:xfrm>
            <a:off x="475200" y="853200"/>
            <a:ext cx="233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rvic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7701120" y="3900240"/>
            <a:ext cx="2440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等腰三角形 21"/>
          <p:cNvSpPr/>
          <p:nvPr/>
        </p:nvSpPr>
        <p:spPr>
          <a:xfrm>
            <a:off x="9781920" y="224640"/>
            <a:ext cx="1987920" cy="1150560"/>
          </a:xfrm>
          <a:custGeom>
            <a:avLst/>
            <a:gdLst>
              <a:gd name="textAreaLeft" fmla="*/ 0 w 1987920"/>
              <a:gd name="textAreaRight" fmla="*/ 1988280 w 1987920"/>
              <a:gd name="textAreaTop" fmla="*/ 0 h 1150560"/>
              <a:gd name="textAreaBottom" fmla="*/ 1150920 h 1150560"/>
            </a:gdLst>
            <a:ahLst/>
            <a:rect l="textAreaLeft" t="textAreaTop" r="textAreaRight" b="textAreaBottom"/>
            <a:pathLst>
              <a:path w="1339702" h="871870">
                <a:moveTo>
                  <a:pt x="0" y="446567"/>
                </a:moveTo>
                <a:lnTo>
                  <a:pt x="845288" y="0"/>
                </a:lnTo>
                <a:lnTo>
                  <a:pt x="1339702" y="871870"/>
                </a:lnTo>
                <a:lnTo>
                  <a:pt x="0" y="446567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等腰三角形 25"/>
          <p:cNvSpPr/>
          <p:nvPr/>
        </p:nvSpPr>
        <p:spPr>
          <a:xfrm>
            <a:off x="392040" y="4815360"/>
            <a:ext cx="1158480" cy="1293840"/>
          </a:xfrm>
          <a:custGeom>
            <a:avLst/>
            <a:gdLst>
              <a:gd name="textAreaLeft" fmla="*/ 0 w 1158480"/>
              <a:gd name="textAreaRight" fmla="*/ 1158840 w 115848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1158949" h="1294269">
                <a:moveTo>
                  <a:pt x="0" y="985925"/>
                </a:moveTo>
                <a:lnTo>
                  <a:pt x="547577" y="0"/>
                </a:lnTo>
                <a:lnTo>
                  <a:pt x="1158949" y="1294269"/>
                </a:lnTo>
                <a:lnTo>
                  <a:pt x="0" y="985925"/>
                </a:lnTo>
                <a:close/>
              </a:path>
            </a:pathLst>
          </a:custGeom>
          <a:solidFill>
            <a:srgbClr val="458d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直角三角形 27"/>
          <p:cNvSpPr/>
          <p:nvPr/>
        </p:nvSpPr>
        <p:spPr>
          <a:xfrm flipH="1">
            <a:off x="1854360" y="3291480"/>
            <a:ext cx="2826360" cy="346320"/>
          </a:xfrm>
          <a:prstGeom prst="rtTriangle">
            <a:avLst/>
          </a:prstGeom>
          <a:solidFill>
            <a:schemeClr val="accent1">
              <a:lumMod val="5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直角三角形 29"/>
          <p:cNvSpPr/>
          <p:nvPr/>
        </p:nvSpPr>
        <p:spPr>
          <a:xfrm flipH="1">
            <a:off x="7507440" y="3291480"/>
            <a:ext cx="2826360" cy="346320"/>
          </a:xfrm>
          <a:prstGeom prst="rtTriangle">
            <a:avLst/>
          </a:prstGeom>
          <a:solidFill>
            <a:srgbClr val="ff9933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直角三角形 30"/>
          <p:cNvSpPr/>
          <p:nvPr/>
        </p:nvSpPr>
        <p:spPr>
          <a:xfrm flipH="1" flipV="1">
            <a:off x="4681080" y="3622680"/>
            <a:ext cx="2826360" cy="276840"/>
          </a:xfrm>
          <a:prstGeom prst="rtTriangle">
            <a:avLst/>
          </a:prstGeom>
          <a:solidFill>
            <a:srgbClr val="ffff66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9"/>
          <p:cNvGrpSpPr/>
          <p:nvPr/>
        </p:nvGrpSpPr>
        <p:grpSpPr>
          <a:xfrm>
            <a:off x="9760320" y="127440"/>
            <a:ext cx="2569320" cy="1064880"/>
            <a:chOff x="9760320" y="127440"/>
            <a:chExt cx="2569320" cy="1064880"/>
          </a:xfrm>
        </p:grpSpPr>
        <p:sp>
          <p:nvSpPr>
            <p:cNvPr id="207" name="矩形 3"/>
            <p:cNvSpPr/>
            <p:nvPr/>
          </p:nvSpPr>
          <p:spPr>
            <a:xfrm flipH="1">
              <a:off x="9759960" y="127440"/>
              <a:ext cx="2436120" cy="106488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文本框 5"/>
            <p:cNvSpPr/>
            <p:nvPr/>
          </p:nvSpPr>
          <p:spPr>
            <a:xfrm>
              <a:off x="9903600" y="168840"/>
              <a:ext cx="2293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性格分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6"/>
            <p:cNvSpPr/>
            <p:nvPr/>
          </p:nvSpPr>
          <p:spPr>
            <a:xfrm>
              <a:off x="9990720" y="802080"/>
              <a:ext cx="2338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aracter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0" name="图表 37"/>
          <p:cNvGraphicFramePr/>
          <p:nvPr/>
        </p:nvGraphicFramePr>
        <p:xfrm>
          <a:off x="248760" y="1422720"/>
          <a:ext cx="6145560" cy="4169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11" name="椭圆 38"/>
          <p:cNvSpPr/>
          <p:nvPr/>
        </p:nvSpPr>
        <p:spPr>
          <a:xfrm>
            <a:off x="6496560" y="1637280"/>
            <a:ext cx="743760" cy="743760"/>
          </a:xfrm>
          <a:prstGeom prst="ellipse">
            <a:avLst/>
          </a:prstGeom>
          <a:solidFill>
            <a:schemeClr val="accent1">
              <a:lumMod val="50000"/>
            </a:schemeClr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椭圆 39"/>
          <p:cNvSpPr/>
          <p:nvPr/>
        </p:nvSpPr>
        <p:spPr>
          <a:xfrm>
            <a:off x="6496560" y="2619000"/>
            <a:ext cx="743760" cy="743760"/>
          </a:xfrm>
          <a:prstGeom prst="ellipse">
            <a:avLst/>
          </a:prstGeom>
          <a:solidFill>
            <a:srgbClr val="ffff66"/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椭圆 40"/>
          <p:cNvSpPr/>
          <p:nvPr/>
        </p:nvSpPr>
        <p:spPr>
          <a:xfrm>
            <a:off x="6496560" y="3643560"/>
            <a:ext cx="743760" cy="743760"/>
          </a:xfrm>
          <a:prstGeom prst="ellipse">
            <a:avLst/>
          </a:prstGeom>
          <a:solidFill>
            <a:srgbClr val="ff9933"/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椭圆 41"/>
          <p:cNvSpPr/>
          <p:nvPr/>
        </p:nvSpPr>
        <p:spPr>
          <a:xfrm>
            <a:off x="6496560" y="4667760"/>
            <a:ext cx="743760" cy="743760"/>
          </a:xfrm>
          <a:prstGeom prst="ellipse">
            <a:avLst/>
          </a:prstGeom>
          <a:solidFill>
            <a:srgbClr val="99ccff"/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文本框 42"/>
          <p:cNvSpPr/>
          <p:nvPr/>
        </p:nvSpPr>
        <p:spPr>
          <a:xfrm>
            <a:off x="3849120" y="3269880"/>
            <a:ext cx="104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43"/>
          <p:cNvSpPr/>
          <p:nvPr/>
        </p:nvSpPr>
        <p:spPr>
          <a:xfrm>
            <a:off x="1864080" y="3562200"/>
            <a:ext cx="104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4"/>
          <p:cNvSpPr/>
          <p:nvPr/>
        </p:nvSpPr>
        <p:spPr>
          <a:xfrm>
            <a:off x="1864080" y="2478600"/>
            <a:ext cx="104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45"/>
          <p:cNvSpPr/>
          <p:nvPr/>
        </p:nvSpPr>
        <p:spPr>
          <a:xfrm>
            <a:off x="2640240" y="1967760"/>
            <a:ext cx="1041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6"/>
          <p:cNvSpPr/>
          <p:nvPr/>
        </p:nvSpPr>
        <p:spPr>
          <a:xfrm>
            <a:off x="7452720" y="175896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8"/>
          <p:cNvSpPr/>
          <p:nvPr/>
        </p:nvSpPr>
        <p:spPr>
          <a:xfrm>
            <a:off x="7452720" y="266940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9"/>
          <p:cNvSpPr/>
          <p:nvPr/>
        </p:nvSpPr>
        <p:spPr>
          <a:xfrm>
            <a:off x="7452720" y="369684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0"/>
          <p:cNvSpPr/>
          <p:nvPr/>
        </p:nvSpPr>
        <p:spPr>
          <a:xfrm>
            <a:off x="7452720" y="472428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等腰三角形 51"/>
          <p:cNvSpPr/>
          <p:nvPr/>
        </p:nvSpPr>
        <p:spPr>
          <a:xfrm>
            <a:off x="489240" y="142920"/>
            <a:ext cx="1722240" cy="131796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1317960"/>
              <a:gd name="textAreaBottom" fmla="*/ 1318320 h 1317960"/>
            </a:gdLst>
            <a:ahLst/>
            <a:rect l="textAreaLeft" t="textAreaTop" r="textAreaRight" b="textAreaBottom"/>
            <a:pathLst>
              <a:path w="1573618" h="1107604">
                <a:moveTo>
                  <a:pt x="0" y="1107604"/>
                </a:moveTo>
                <a:lnTo>
                  <a:pt x="85060" y="0"/>
                </a:lnTo>
                <a:lnTo>
                  <a:pt x="1573618" y="193204"/>
                </a:lnTo>
                <a:lnTo>
                  <a:pt x="0" y="1107604"/>
                </a:lnTo>
                <a:close/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矩形 53"/>
          <p:cNvSpPr/>
          <p:nvPr/>
        </p:nvSpPr>
        <p:spPr>
          <a:xfrm>
            <a:off x="9462960" y="127440"/>
            <a:ext cx="297360" cy="1064880"/>
          </a:xfrm>
          <a:prstGeom prst="rect">
            <a:avLst/>
          </a:prstGeom>
          <a:solidFill>
            <a:srgbClr val="66cc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直角三角形 54"/>
          <p:cNvSpPr/>
          <p:nvPr/>
        </p:nvSpPr>
        <p:spPr>
          <a:xfrm rot="1604400">
            <a:off x="5456520" y="678600"/>
            <a:ext cx="563040" cy="899640"/>
          </a:xfrm>
          <a:custGeom>
            <a:avLst/>
            <a:gdLst>
              <a:gd name="textAreaLeft" fmla="*/ 0 w 563040"/>
              <a:gd name="textAreaRight" fmla="*/ 563400 w 5630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808074" h="1116419">
                <a:moveTo>
                  <a:pt x="0" y="808075"/>
                </a:moveTo>
                <a:lnTo>
                  <a:pt x="808074" y="0"/>
                </a:lnTo>
                <a:lnTo>
                  <a:pt x="606056" y="1116419"/>
                </a:lnTo>
                <a:lnTo>
                  <a:pt x="0" y="808075"/>
                </a:lnTo>
                <a:close/>
              </a:path>
            </a:pathLst>
          </a:custGeom>
          <a:solidFill>
            <a:srgbClr val="ff9933">
              <a:alpha val="5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直角三角形 55"/>
          <p:cNvSpPr/>
          <p:nvPr/>
        </p:nvSpPr>
        <p:spPr>
          <a:xfrm>
            <a:off x="0" y="5592600"/>
            <a:ext cx="5284080" cy="1265040"/>
          </a:xfrm>
          <a:prstGeom prst="rtTriangle">
            <a:avLst/>
          </a:prstGeom>
          <a:solidFill>
            <a:srgbClr val="99ccff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直角三角形 56"/>
          <p:cNvSpPr/>
          <p:nvPr/>
        </p:nvSpPr>
        <p:spPr>
          <a:xfrm flipH="1">
            <a:off x="2211480" y="5334840"/>
            <a:ext cx="9979920" cy="1527120"/>
          </a:xfrm>
          <a:prstGeom prst="rtTriangle">
            <a:avLst/>
          </a:prstGeom>
          <a:solidFill>
            <a:schemeClr val="accent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0"/>
          <p:cNvSpPr/>
          <p:nvPr/>
        </p:nvSpPr>
        <p:spPr>
          <a:xfrm>
            <a:off x="7378200" y="5211000"/>
            <a:ext cx="3898800" cy="829800"/>
          </a:xfrm>
          <a:prstGeom prst="rect">
            <a:avLst/>
          </a:prstGeom>
          <a:noFill/>
          <a:ln w="28575">
            <a:solidFill>
              <a:srgbClr val="ff99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矩形 19"/>
          <p:cNvSpPr/>
          <p:nvPr/>
        </p:nvSpPr>
        <p:spPr>
          <a:xfrm>
            <a:off x="7378200" y="3801600"/>
            <a:ext cx="3898800" cy="829800"/>
          </a:xfrm>
          <a:prstGeom prst="rect">
            <a:avLst/>
          </a:prstGeom>
          <a:noFill/>
          <a:ln w="28575">
            <a:solidFill>
              <a:srgbClr val="ffff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7378200" y="2392200"/>
            <a:ext cx="3898800" cy="829800"/>
          </a:xfrm>
          <a:prstGeom prst="rect">
            <a:avLst/>
          </a:prstGeom>
          <a:noFill/>
          <a:ln w="28575">
            <a:solidFill>
              <a:srgbClr val="99cc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17"/>
          <p:cNvSpPr/>
          <p:nvPr/>
        </p:nvSpPr>
        <p:spPr>
          <a:xfrm>
            <a:off x="7378200" y="982800"/>
            <a:ext cx="3898800" cy="829800"/>
          </a:xfrm>
          <a:prstGeom prst="rect">
            <a:avLst/>
          </a:prstGeom>
          <a:noFill/>
          <a:ln w="28575">
            <a:solidFill>
              <a:srgbClr val="5b9bd5">
                <a:shade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6201000" y="0"/>
            <a:ext cx="293760" cy="1681200"/>
          </a:xfrm>
          <a:custGeom>
            <a:avLst/>
            <a:gdLst>
              <a:gd name="textAreaLeft" fmla="*/ 0 w 293760"/>
              <a:gd name="textAreaRight" fmla="*/ 294120 w 2937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304800" h="1650124">
                <a:moveTo>
                  <a:pt x="10510" y="0"/>
                </a:moveTo>
                <a:lnTo>
                  <a:pt x="304800" y="0"/>
                </a:lnTo>
                <a:lnTo>
                  <a:pt x="304800" y="1397876"/>
                </a:lnTo>
                <a:lnTo>
                  <a:pt x="0" y="1650124"/>
                </a:lnTo>
                <a:cubicBezTo>
                  <a:pt x="3503" y="1100083"/>
                  <a:pt x="7007" y="550041"/>
                  <a:pt x="10510" y="0"/>
                </a:cubicBezTo>
                <a:close/>
              </a:path>
            </a:pathLst>
          </a:custGeom>
          <a:solidFill>
            <a:srgbClr val="cc6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6200640" cy="68576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0" y="0"/>
            <a:ext cx="6495120" cy="139752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文本框 4"/>
          <p:cNvSpPr/>
          <p:nvPr/>
        </p:nvSpPr>
        <p:spPr>
          <a:xfrm>
            <a:off x="410040" y="314280"/>
            <a:ext cx="5380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ore Tha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"/>
          <p:cNvSpPr/>
          <p:nvPr/>
        </p:nvSpPr>
        <p:spPr>
          <a:xfrm>
            <a:off x="6968520" y="953640"/>
            <a:ext cx="921960" cy="921960"/>
          </a:xfrm>
          <a:prstGeom prst="ellipse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椭圆 9"/>
          <p:cNvSpPr/>
          <p:nvPr/>
        </p:nvSpPr>
        <p:spPr>
          <a:xfrm>
            <a:off x="6952680" y="2352960"/>
            <a:ext cx="921960" cy="921960"/>
          </a:xfrm>
          <a:prstGeom prst="ellipse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椭圆 10"/>
          <p:cNvSpPr/>
          <p:nvPr/>
        </p:nvSpPr>
        <p:spPr>
          <a:xfrm>
            <a:off x="6957360" y="3749040"/>
            <a:ext cx="917280" cy="917280"/>
          </a:xfrm>
          <a:prstGeom prst="ellipse">
            <a:avLst/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椭圆 11"/>
          <p:cNvSpPr/>
          <p:nvPr/>
        </p:nvSpPr>
        <p:spPr>
          <a:xfrm>
            <a:off x="6947280" y="5158440"/>
            <a:ext cx="927360" cy="927360"/>
          </a:xfrm>
          <a:prstGeom prst="ellipse">
            <a:avLst/>
          </a:prstGeom>
          <a:solidFill>
            <a:srgbClr val="ff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文本框 12"/>
          <p:cNvSpPr/>
          <p:nvPr/>
        </p:nvSpPr>
        <p:spPr>
          <a:xfrm>
            <a:off x="7194240" y="10353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3"/>
          <p:cNvSpPr/>
          <p:nvPr/>
        </p:nvSpPr>
        <p:spPr>
          <a:xfrm>
            <a:off x="7183800" y="24843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4"/>
          <p:cNvSpPr/>
          <p:nvPr/>
        </p:nvSpPr>
        <p:spPr>
          <a:xfrm>
            <a:off x="7183800" y="38937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5"/>
          <p:cNvSpPr/>
          <p:nvPr/>
        </p:nvSpPr>
        <p:spPr>
          <a:xfrm>
            <a:off x="7183800" y="53031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1"/>
          <p:cNvSpPr/>
          <p:nvPr/>
        </p:nvSpPr>
        <p:spPr>
          <a:xfrm>
            <a:off x="8055000" y="116712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2"/>
          <p:cNvSpPr/>
          <p:nvPr/>
        </p:nvSpPr>
        <p:spPr>
          <a:xfrm>
            <a:off x="8047080" y="257652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3"/>
          <p:cNvSpPr/>
          <p:nvPr/>
        </p:nvSpPr>
        <p:spPr>
          <a:xfrm>
            <a:off x="8047080" y="398592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4"/>
          <p:cNvSpPr/>
          <p:nvPr/>
        </p:nvSpPr>
        <p:spPr>
          <a:xfrm>
            <a:off x="8111520" y="539136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直角三角形 54"/>
          <p:cNvSpPr/>
          <p:nvPr/>
        </p:nvSpPr>
        <p:spPr>
          <a:xfrm rot="1604400">
            <a:off x="9654480" y="868680"/>
            <a:ext cx="1850760" cy="2067840"/>
          </a:xfrm>
          <a:custGeom>
            <a:avLst/>
            <a:gdLst>
              <a:gd name="textAreaLeft" fmla="*/ 0 w 1850760"/>
              <a:gd name="textAreaRight" fmla="*/ 1851120 w 1850760"/>
              <a:gd name="textAreaTop" fmla="*/ 0 h 2067840"/>
              <a:gd name="textAreaBottom" fmla="*/ 2068200 h 2067840"/>
            </a:gdLst>
            <a:ahLst/>
            <a:rect l="textAreaLeft" t="textAreaTop" r="textAreaRight" b="textAreaBottom"/>
            <a:pathLst>
              <a:path w="1876039" h="2339554">
                <a:moveTo>
                  <a:pt x="0" y="450071"/>
                </a:moveTo>
                <a:lnTo>
                  <a:pt x="1876039" y="0"/>
                </a:lnTo>
                <a:lnTo>
                  <a:pt x="1605833" y="2339554"/>
                </a:lnTo>
                <a:lnTo>
                  <a:pt x="0" y="450071"/>
                </a:lnTo>
                <a:close/>
              </a:path>
            </a:pathLst>
          </a:custGeom>
          <a:solidFill>
            <a:schemeClr val="accent1">
              <a:lumMod val="50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9" name="组合 111"/>
          <p:cNvGrpSpPr/>
          <p:nvPr/>
        </p:nvGrpSpPr>
        <p:grpSpPr>
          <a:xfrm>
            <a:off x="168120" y="0"/>
            <a:ext cx="3846240" cy="905760"/>
            <a:chOff x="168120" y="0"/>
            <a:chExt cx="3846240" cy="905760"/>
          </a:xfrm>
        </p:grpSpPr>
        <p:sp>
          <p:nvSpPr>
            <p:cNvPr id="250" name="矩形 109"/>
            <p:cNvSpPr/>
            <p:nvPr/>
          </p:nvSpPr>
          <p:spPr>
            <a:xfrm>
              <a:off x="168120" y="0"/>
              <a:ext cx="3667680" cy="905760"/>
            </a:xfrm>
            <a:prstGeom prst="rect">
              <a:avLst/>
            </a:prstGeom>
            <a:solidFill>
              <a:srgbClr val="ffff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矩形 110"/>
            <p:cNvSpPr/>
            <p:nvPr/>
          </p:nvSpPr>
          <p:spPr>
            <a:xfrm>
              <a:off x="3836160" y="0"/>
              <a:ext cx="178200" cy="905760"/>
            </a:xfrm>
            <a:prstGeom prst="rect">
              <a:avLst/>
            </a:prstGeom>
            <a:solidFill>
              <a:srgbClr val="ff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2" name="矩形 116"/>
          <p:cNvSpPr/>
          <p:nvPr/>
        </p:nvSpPr>
        <p:spPr>
          <a:xfrm>
            <a:off x="1182240" y="3831120"/>
            <a:ext cx="2075400" cy="1413360"/>
          </a:xfrm>
          <a:prstGeom prst="rect">
            <a:avLst/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矩形 117"/>
          <p:cNvSpPr/>
          <p:nvPr/>
        </p:nvSpPr>
        <p:spPr>
          <a:xfrm>
            <a:off x="3804840" y="3831120"/>
            <a:ext cx="2075400" cy="141336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矩形 118"/>
          <p:cNvSpPr/>
          <p:nvPr/>
        </p:nvSpPr>
        <p:spPr>
          <a:xfrm>
            <a:off x="6427080" y="3831120"/>
            <a:ext cx="2075400" cy="1413360"/>
          </a:xfrm>
          <a:prstGeom prst="rect">
            <a:avLst/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矩形 119"/>
          <p:cNvSpPr/>
          <p:nvPr/>
        </p:nvSpPr>
        <p:spPr>
          <a:xfrm>
            <a:off x="9049320" y="3831120"/>
            <a:ext cx="2075400" cy="1413360"/>
          </a:xfrm>
          <a:prstGeom prst="rect">
            <a:avLst/>
          </a:prstGeom>
          <a:solidFill>
            <a:srgbClr val="ff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矩形 112"/>
          <p:cNvSpPr/>
          <p:nvPr/>
        </p:nvSpPr>
        <p:spPr>
          <a:xfrm>
            <a:off x="1182240" y="1755360"/>
            <a:ext cx="2075400" cy="20754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矩形 113"/>
          <p:cNvSpPr/>
          <p:nvPr/>
        </p:nvSpPr>
        <p:spPr>
          <a:xfrm>
            <a:off x="3804840" y="1755360"/>
            <a:ext cx="2075400" cy="207540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114"/>
          <p:cNvSpPr/>
          <p:nvPr/>
        </p:nvSpPr>
        <p:spPr>
          <a:xfrm>
            <a:off x="6427080" y="1755360"/>
            <a:ext cx="2075400" cy="207540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矩形 115"/>
          <p:cNvSpPr/>
          <p:nvPr/>
        </p:nvSpPr>
        <p:spPr>
          <a:xfrm>
            <a:off x="9049320" y="1755360"/>
            <a:ext cx="2075400" cy="2075400"/>
          </a:xfrm>
          <a:prstGeom prst="rect">
            <a:avLst/>
          </a:prstGeom>
          <a:blipFill rotWithShape="0">
            <a:blip r:embed="rId4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等腰三角形 120"/>
          <p:cNvSpPr/>
          <p:nvPr/>
        </p:nvSpPr>
        <p:spPr>
          <a:xfrm flipV="1">
            <a:off x="193392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等腰三角形 121"/>
          <p:cNvSpPr/>
          <p:nvPr/>
        </p:nvSpPr>
        <p:spPr>
          <a:xfrm flipV="1">
            <a:off x="455616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等腰三角形 122"/>
          <p:cNvSpPr/>
          <p:nvPr/>
        </p:nvSpPr>
        <p:spPr>
          <a:xfrm flipV="1">
            <a:off x="717840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等腰三角形 123"/>
          <p:cNvSpPr/>
          <p:nvPr/>
        </p:nvSpPr>
        <p:spPr>
          <a:xfrm flipV="1">
            <a:off x="980100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文本框 125"/>
          <p:cNvSpPr/>
          <p:nvPr/>
        </p:nvSpPr>
        <p:spPr>
          <a:xfrm>
            <a:off x="9288360" y="412236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26"/>
          <p:cNvSpPr/>
          <p:nvPr/>
        </p:nvSpPr>
        <p:spPr>
          <a:xfrm>
            <a:off x="4015080" y="412236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27"/>
          <p:cNvSpPr/>
          <p:nvPr/>
        </p:nvSpPr>
        <p:spPr>
          <a:xfrm>
            <a:off x="6666120" y="412236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28"/>
          <p:cNvSpPr/>
          <p:nvPr/>
        </p:nvSpPr>
        <p:spPr>
          <a:xfrm>
            <a:off x="1499040" y="412884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角三角形 130"/>
          <p:cNvSpPr/>
          <p:nvPr/>
        </p:nvSpPr>
        <p:spPr>
          <a:xfrm>
            <a:off x="0" y="5592600"/>
            <a:ext cx="5284080" cy="1265040"/>
          </a:xfrm>
          <a:prstGeom prst="rtTriangle">
            <a:avLst/>
          </a:prstGeom>
          <a:solidFill>
            <a:srgbClr val="ffff66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直角三角形 131"/>
          <p:cNvSpPr/>
          <p:nvPr/>
        </p:nvSpPr>
        <p:spPr>
          <a:xfrm flipH="1">
            <a:off x="2211480" y="5334840"/>
            <a:ext cx="9979920" cy="1527120"/>
          </a:xfrm>
          <a:prstGeom prst="rtTriangle">
            <a:avLst/>
          </a:prstGeom>
          <a:solidFill>
            <a:srgbClr val="ff990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直角三角形 54"/>
          <p:cNvSpPr/>
          <p:nvPr/>
        </p:nvSpPr>
        <p:spPr>
          <a:xfrm rot="1604400">
            <a:off x="5308200" y="288000"/>
            <a:ext cx="797040" cy="986760"/>
          </a:xfrm>
          <a:custGeom>
            <a:avLst/>
            <a:gdLst>
              <a:gd name="textAreaLeft" fmla="*/ 0 w 797040"/>
              <a:gd name="textAreaRight" fmla="*/ 797400 w 797040"/>
              <a:gd name="textAreaTop" fmla="*/ 0 h 986760"/>
              <a:gd name="textAreaBottom" fmla="*/ 987120 h 986760"/>
            </a:gdLst>
            <a:ahLst/>
            <a:rect l="textAreaLeft" t="textAreaTop" r="textAreaRight" b="textAreaBottom"/>
            <a:pathLst>
              <a:path w="808074" h="1116419">
                <a:moveTo>
                  <a:pt x="0" y="808075"/>
                </a:moveTo>
                <a:lnTo>
                  <a:pt x="808074" y="0"/>
                </a:lnTo>
                <a:lnTo>
                  <a:pt x="606056" y="1116419"/>
                </a:lnTo>
                <a:lnTo>
                  <a:pt x="0" y="808075"/>
                </a:lnTo>
                <a:close/>
              </a:path>
            </a:pathLst>
          </a:custGeom>
          <a:solidFill>
            <a:schemeClr val="accent1">
              <a:lumMod val="40000"/>
              <a:lumOff val="60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直角三角形 54"/>
          <p:cNvSpPr/>
          <p:nvPr/>
        </p:nvSpPr>
        <p:spPr>
          <a:xfrm rot="16788000">
            <a:off x="468720" y="2511360"/>
            <a:ext cx="475560" cy="639720"/>
          </a:xfrm>
          <a:custGeom>
            <a:avLst/>
            <a:gdLst>
              <a:gd name="textAreaLeft" fmla="*/ 0 w 475560"/>
              <a:gd name="textAreaRight" fmla="*/ 475920 w 4755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808074" h="1116419">
                <a:moveTo>
                  <a:pt x="0" y="808075"/>
                </a:moveTo>
                <a:lnTo>
                  <a:pt x="808074" y="0"/>
                </a:lnTo>
                <a:lnTo>
                  <a:pt x="606056" y="1116419"/>
                </a:lnTo>
                <a:lnTo>
                  <a:pt x="0" y="808075"/>
                </a:lnTo>
                <a:close/>
              </a:path>
            </a:pathLst>
          </a:custGeom>
          <a:solidFill>
            <a:srgbClr val="ff9900">
              <a:alpha val="3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文本框 135"/>
          <p:cNvSpPr/>
          <p:nvPr/>
        </p:nvSpPr>
        <p:spPr>
          <a:xfrm>
            <a:off x="351000" y="186120"/>
            <a:ext cx="3414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6160" y="64569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等腰三角形 22"/>
          <p:cNvSpPr/>
          <p:nvPr/>
        </p:nvSpPr>
        <p:spPr>
          <a:xfrm>
            <a:off x="6831720" y="375840"/>
            <a:ext cx="3299760" cy="1669320"/>
          </a:xfrm>
          <a:custGeom>
            <a:avLst/>
            <a:gdLst>
              <a:gd name="textAreaLeft" fmla="*/ 0 w 3299760"/>
              <a:gd name="textAreaRight" fmla="*/ 3300120 w 3299760"/>
              <a:gd name="textAreaTop" fmla="*/ 0 h 1669320"/>
              <a:gd name="textAreaBottom" fmla="*/ 1669680 h 1669320"/>
            </a:gdLst>
            <a:ahLst/>
            <a:rect l="textAreaLeft" t="textAreaTop" r="textAreaRight" b="textAreaBottom"/>
            <a:pathLst>
              <a:path w="3300248" h="1669831">
                <a:moveTo>
                  <a:pt x="0" y="1669831"/>
                </a:moveTo>
                <a:lnTo>
                  <a:pt x="982718" y="0"/>
                </a:lnTo>
                <a:lnTo>
                  <a:pt x="3300248" y="408591"/>
                </a:lnTo>
                <a:lnTo>
                  <a:pt x="0" y="1669831"/>
                </a:lnTo>
                <a:close/>
              </a:path>
            </a:pathLst>
          </a:custGeom>
          <a:solidFill>
            <a:srgbClr val="ffff99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5780160" cy="6857640"/>
          </a:xfrm>
          <a:prstGeom prst="rect">
            <a:avLst/>
          </a:prstGeom>
          <a:ln w="0">
            <a:noFill/>
          </a:ln>
        </p:spPr>
      </p:pic>
      <p:sp>
        <p:nvSpPr>
          <p:cNvPr id="276" name="任意多边形 5"/>
          <p:cNvSpPr/>
          <p:nvPr/>
        </p:nvSpPr>
        <p:spPr>
          <a:xfrm rot="5400000">
            <a:off x="2693160" y="3087360"/>
            <a:ext cx="6857640" cy="682920"/>
          </a:xfrm>
          <a:custGeom>
            <a:avLst/>
            <a:gdLst>
              <a:gd name="textAreaLeft" fmla="*/ 0 w 6857640"/>
              <a:gd name="textAreaRight" fmla="*/ 6858000 w 6857640"/>
              <a:gd name="textAreaTop" fmla="*/ 0 h 682920"/>
              <a:gd name="textAreaBottom" fmla="*/ 683280 h 682920"/>
            </a:gdLst>
            <a:ahLst/>
            <a:rect l="textAreaLeft" t="textAreaTop" r="textAreaRight" b="textAreaBottom"/>
            <a:pathLst>
              <a:path w="6858000" h="683170">
                <a:moveTo>
                  <a:pt x="0" y="683170"/>
                </a:moveTo>
                <a:lnTo>
                  <a:pt x="0" y="420413"/>
                </a:lnTo>
                <a:lnTo>
                  <a:pt x="3097924" y="420413"/>
                </a:lnTo>
                <a:lnTo>
                  <a:pt x="3429000" y="0"/>
                </a:lnTo>
                <a:lnTo>
                  <a:pt x="3760075" y="420413"/>
                </a:lnTo>
                <a:lnTo>
                  <a:pt x="6858000" y="420413"/>
                </a:lnTo>
                <a:lnTo>
                  <a:pt x="6858000" y="683170"/>
                </a:lnTo>
                <a:close/>
              </a:path>
            </a:pathLst>
          </a:custGeom>
          <a:solidFill>
            <a:srgbClr val="ff9933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文本框 7"/>
          <p:cNvSpPr/>
          <p:nvPr/>
        </p:nvSpPr>
        <p:spPr>
          <a:xfrm>
            <a:off x="788400" y="0"/>
            <a:ext cx="49921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Job Expec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0" y="0"/>
            <a:ext cx="630360" cy="78012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矩形 9"/>
          <p:cNvSpPr/>
          <p:nvPr/>
        </p:nvSpPr>
        <p:spPr>
          <a:xfrm>
            <a:off x="6568920" y="780480"/>
            <a:ext cx="556560" cy="921960"/>
          </a:xfrm>
          <a:prstGeom prst="rect">
            <a:avLst/>
          </a:prstGeom>
          <a:solidFill>
            <a:srgbClr val="ff9900"/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文本框 10"/>
          <p:cNvSpPr/>
          <p:nvPr/>
        </p:nvSpPr>
        <p:spPr>
          <a:xfrm>
            <a:off x="7125840" y="780480"/>
            <a:ext cx="4172400" cy="912600"/>
          </a:xfrm>
          <a:prstGeom prst="rect">
            <a:avLst/>
          </a:prstGeom>
          <a:noFill/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1"/>
          <p:cNvSpPr/>
          <p:nvPr/>
        </p:nvSpPr>
        <p:spPr>
          <a:xfrm>
            <a:off x="6568920" y="2176200"/>
            <a:ext cx="556560" cy="921960"/>
          </a:xfrm>
          <a:prstGeom prst="rect">
            <a:avLst/>
          </a:prstGeom>
          <a:solidFill>
            <a:srgbClr val="99ccff"/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文本框 12"/>
          <p:cNvSpPr/>
          <p:nvPr/>
        </p:nvSpPr>
        <p:spPr>
          <a:xfrm>
            <a:off x="7125840" y="2176200"/>
            <a:ext cx="4172400" cy="912600"/>
          </a:xfrm>
          <a:prstGeom prst="rect">
            <a:avLst/>
          </a:prstGeom>
          <a:noFill/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6568920" y="3740040"/>
            <a:ext cx="556560" cy="921960"/>
          </a:xfrm>
          <a:prstGeom prst="rect">
            <a:avLst/>
          </a:prstGeom>
          <a:solidFill>
            <a:srgbClr val="ffff66"/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文本框 14"/>
          <p:cNvSpPr/>
          <p:nvPr/>
        </p:nvSpPr>
        <p:spPr>
          <a:xfrm>
            <a:off x="7125840" y="3740040"/>
            <a:ext cx="4172400" cy="912600"/>
          </a:xfrm>
          <a:prstGeom prst="rect">
            <a:avLst/>
          </a:prstGeom>
          <a:noFill/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>
            <a:off x="6568920" y="5175720"/>
            <a:ext cx="556560" cy="92196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文本框 16"/>
          <p:cNvSpPr/>
          <p:nvPr/>
        </p:nvSpPr>
        <p:spPr>
          <a:xfrm>
            <a:off x="7125840" y="5175720"/>
            <a:ext cx="4172400" cy="912600"/>
          </a:xfrm>
          <a:prstGeom prst="rect">
            <a:avLst/>
          </a:prstGeom>
          <a:noFill/>
          <a:ln w="0">
            <a:solidFill>
              <a:srgbClr val="5b9bd5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2660400">
            <a:off x="10923120" y="5420160"/>
            <a:ext cx="1065960" cy="1796760"/>
          </a:xfrm>
          <a:custGeom>
            <a:avLst/>
            <a:gdLst>
              <a:gd name="textAreaLeft" fmla="*/ 0 w 1065960"/>
              <a:gd name="textAreaRight" fmla="*/ 1066320 w 1065960"/>
              <a:gd name="textAreaTop" fmla="*/ 0 h 1796760"/>
              <a:gd name="textAreaBottom" fmla="*/ 1797120 h 1796760"/>
            </a:gdLst>
            <a:ahLst/>
            <a:rect l="textAreaLeft" t="textAreaTop" r="textAreaRight" b="textAreaBottom"/>
            <a:pathLst>
              <a:path w="1066459" h="1797269">
                <a:moveTo>
                  <a:pt x="651642" y="0"/>
                </a:moveTo>
                <a:lnTo>
                  <a:pt x="1066459" y="1144090"/>
                </a:lnTo>
                <a:lnTo>
                  <a:pt x="398073" y="1797269"/>
                </a:lnTo>
                <a:lnTo>
                  <a:pt x="0" y="1797269"/>
                </a:lnTo>
                <a:lnTo>
                  <a:pt x="651642" y="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"/>
          <p:cNvSpPr/>
          <p:nvPr/>
        </p:nvSpPr>
        <p:spPr>
          <a:xfrm>
            <a:off x="5511960" y="2693160"/>
            <a:ext cx="3886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华康俪金黑W8(P)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0" y="0"/>
            <a:ext cx="12191760" cy="378000"/>
            <a:chOff x="0" y="0"/>
            <a:chExt cx="12191760" cy="378000"/>
          </a:xfrm>
        </p:grpSpPr>
        <p:sp>
          <p:nvSpPr>
            <p:cNvPr id="290" name="矩形 14"/>
            <p:cNvSpPr/>
            <p:nvPr/>
          </p:nvSpPr>
          <p:spPr>
            <a:xfrm>
              <a:off x="0" y="0"/>
              <a:ext cx="3115800" cy="3780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矩形 19"/>
            <p:cNvSpPr/>
            <p:nvPr/>
          </p:nvSpPr>
          <p:spPr>
            <a:xfrm>
              <a:off x="3116160" y="0"/>
              <a:ext cx="3010680" cy="37800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矩形 20"/>
            <p:cNvSpPr/>
            <p:nvPr/>
          </p:nvSpPr>
          <p:spPr>
            <a:xfrm>
              <a:off x="6127560" y="0"/>
              <a:ext cx="3152880" cy="378000"/>
            </a:xfrm>
            <a:prstGeom prst="rect">
              <a:avLst/>
            </a:prstGeom>
            <a:solidFill>
              <a:srgbClr val="ffff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矩形 21"/>
            <p:cNvSpPr/>
            <p:nvPr/>
          </p:nvSpPr>
          <p:spPr>
            <a:xfrm>
              <a:off x="9280800" y="0"/>
              <a:ext cx="2910960" cy="378000"/>
            </a:xfrm>
            <a:prstGeom prst="rect">
              <a:avLst/>
            </a:prstGeom>
            <a:solidFill>
              <a:srgbClr val="ff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4" name="组合 23"/>
          <p:cNvGrpSpPr/>
          <p:nvPr/>
        </p:nvGrpSpPr>
        <p:grpSpPr>
          <a:xfrm>
            <a:off x="0" y="6479640"/>
            <a:ext cx="12191760" cy="378000"/>
            <a:chOff x="0" y="6479640"/>
            <a:chExt cx="12191760" cy="378000"/>
          </a:xfrm>
        </p:grpSpPr>
        <p:sp>
          <p:nvSpPr>
            <p:cNvPr id="295" name="矩形 24"/>
            <p:cNvSpPr/>
            <p:nvPr/>
          </p:nvSpPr>
          <p:spPr>
            <a:xfrm>
              <a:off x="0" y="6479640"/>
              <a:ext cx="3115800" cy="3780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矩形 25"/>
            <p:cNvSpPr/>
            <p:nvPr/>
          </p:nvSpPr>
          <p:spPr>
            <a:xfrm>
              <a:off x="3116160" y="6479640"/>
              <a:ext cx="3010680" cy="37800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矩形 26"/>
            <p:cNvSpPr/>
            <p:nvPr/>
          </p:nvSpPr>
          <p:spPr>
            <a:xfrm>
              <a:off x="6127560" y="6479640"/>
              <a:ext cx="3152880" cy="378000"/>
            </a:xfrm>
            <a:prstGeom prst="rect">
              <a:avLst/>
            </a:prstGeom>
            <a:solidFill>
              <a:srgbClr val="ffff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矩形 27"/>
            <p:cNvSpPr/>
            <p:nvPr/>
          </p:nvSpPr>
          <p:spPr>
            <a:xfrm>
              <a:off x="9280800" y="6479640"/>
              <a:ext cx="2910960" cy="378000"/>
            </a:xfrm>
            <a:prstGeom prst="rect">
              <a:avLst/>
            </a:prstGeom>
            <a:solidFill>
              <a:srgbClr val="ff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9" name="组合 28"/>
          <p:cNvGrpSpPr/>
          <p:nvPr/>
        </p:nvGrpSpPr>
        <p:grpSpPr>
          <a:xfrm>
            <a:off x="2814480" y="1772640"/>
            <a:ext cx="2667600" cy="2607840"/>
            <a:chOff x="2814480" y="1772640"/>
            <a:chExt cx="2667600" cy="2607840"/>
          </a:xfrm>
        </p:grpSpPr>
        <p:grpSp>
          <p:nvGrpSpPr>
            <p:cNvPr id="300" name="组合 29"/>
            <p:cNvGrpSpPr/>
            <p:nvPr/>
          </p:nvGrpSpPr>
          <p:grpSpPr>
            <a:xfrm>
              <a:off x="2814480" y="1772640"/>
              <a:ext cx="2667600" cy="2607840"/>
              <a:chOff x="2814480" y="1772640"/>
              <a:chExt cx="2667600" cy="2607840"/>
            </a:xfrm>
          </p:grpSpPr>
          <p:grpSp>
            <p:nvGrpSpPr>
              <p:cNvPr id="301" name="组合 39"/>
              <p:cNvGrpSpPr/>
              <p:nvPr/>
            </p:nvGrpSpPr>
            <p:grpSpPr>
              <a:xfrm>
                <a:off x="2814480" y="1772640"/>
                <a:ext cx="2667600" cy="2607840"/>
                <a:chOff x="2814480" y="1772640"/>
                <a:chExt cx="2667600" cy="2607840"/>
              </a:xfrm>
            </p:grpSpPr>
            <p:sp>
              <p:nvSpPr>
                <p:cNvPr id="302" name="任意多边形 42"/>
                <p:cNvSpPr/>
                <p:nvPr/>
              </p:nvSpPr>
              <p:spPr>
                <a:xfrm rot="2910600">
                  <a:off x="3292200" y="2059560"/>
                  <a:ext cx="1682640" cy="2034000"/>
                </a:xfrm>
                <a:custGeom>
                  <a:avLst/>
                  <a:gdLst>
                    <a:gd name="textAreaLeft" fmla="*/ 0 w 1682640"/>
                    <a:gd name="textAreaRight" fmla="*/ 1683000 w 1682640"/>
                    <a:gd name="textAreaTop" fmla="*/ 0 h 2034000"/>
                    <a:gd name="textAreaBottom" fmla="*/ 2034360 h 2034000"/>
                  </a:gdLst>
                  <a:ahLst/>
                  <a:rect l="textAreaLeft" t="textAreaTop" r="textAreaRight" b="textAreaBottom"/>
                  <a:pathLst>
                    <a:path w="2459522" h="2973456">
                      <a:moveTo>
                        <a:pt x="374763" y="503875"/>
                      </a:moveTo>
                      <a:cubicBezTo>
                        <a:pt x="885665" y="-73778"/>
                        <a:pt x="1743337" y="-161987"/>
                        <a:pt x="2354455" y="276687"/>
                      </a:cubicBezTo>
                      <a:lnTo>
                        <a:pt x="2459522" y="360530"/>
                      </a:lnTo>
                      <a:lnTo>
                        <a:pt x="1129733" y="360530"/>
                      </a:lnTo>
                      <a:lnTo>
                        <a:pt x="1129733" y="2099879"/>
                      </a:lnTo>
                      <a:lnTo>
                        <a:pt x="1641046" y="2099879"/>
                      </a:lnTo>
                      <a:lnTo>
                        <a:pt x="1217505" y="2578757"/>
                      </a:lnTo>
                      <a:lnTo>
                        <a:pt x="1487913" y="2972604"/>
                      </a:lnTo>
                      <a:lnTo>
                        <a:pt x="1432208" y="2973456"/>
                      </a:lnTo>
                      <a:cubicBezTo>
                        <a:pt x="1099275" y="2962649"/>
                        <a:pt x="768350" y="2840361"/>
                        <a:pt x="499733" y="2602785"/>
                      </a:cubicBezTo>
                      <a:cubicBezTo>
                        <a:pt x="-114248" y="2059753"/>
                        <a:pt x="-170199" y="1120039"/>
                        <a:pt x="374763" y="503875"/>
                      </a:cubicBezTo>
                      <a:close/>
                    </a:path>
                  </a:pathLst>
                </a:custGeom>
                <a:solidFill>
                  <a:schemeClr val="bg1">
                    <a:lumMod val="85000"/>
                    <a:alpha val="63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3" name="任意多边形 43"/>
                <p:cNvSpPr/>
                <p:nvPr/>
              </p:nvSpPr>
              <p:spPr>
                <a:xfrm rot="19072800">
                  <a:off x="4029840" y="2746800"/>
                  <a:ext cx="1193400" cy="1231560"/>
                </a:xfrm>
                <a:custGeom>
                  <a:avLst/>
                  <a:gdLst>
                    <a:gd name="textAreaLeft" fmla="*/ 0 w 1193400"/>
                    <a:gd name="textAreaRight" fmla="*/ 1193760 w 1193400"/>
                    <a:gd name="textAreaTop" fmla="*/ 0 h 1231560"/>
                    <a:gd name="textAreaBottom" fmla="*/ 1231920 h 1231560"/>
                  </a:gdLst>
                  <a:ahLst/>
                  <a:rect l="textAreaLeft" t="textAreaTop" r="textAreaRight" b="textAreaBottom"/>
                  <a:pathLst>
                    <a:path w="1744844" h="1800444">
                      <a:moveTo>
                        <a:pt x="1744844" y="19045"/>
                      </a:moveTo>
                      <a:lnTo>
                        <a:pt x="1730282" y="1348756"/>
                      </a:lnTo>
                      <a:lnTo>
                        <a:pt x="1719205" y="1362328"/>
                      </a:lnTo>
                      <a:cubicBezTo>
                        <a:pt x="1538828" y="1561829"/>
                        <a:pt x="1316401" y="1700783"/>
                        <a:pt x="1077385" y="1777955"/>
                      </a:cubicBezTo>
                      <a:lnTo>
                        <a:pt x="996145" y="1800444"/>
                      </a:lnTo>
                      <a:lnTo>
                        <a:pt x="996145" y="1431593"/>
                      </a:lnTo>
                      <a:lnTo>
                        <a:pt x="1003216" y="1418341"/>
                      </a:lnTo>
                      <a:lnTo>
                        <a:pt x="996145" y="1411948"/>
                      </a:lnTo>
                      <a:lnTo>
                        <a:pt x="996145" y="1404459"/>
                      </a:lnTo>
                      <a:lnTo>
                        <a:pt x="987862" y="1404459"/>
                      </a:lnTo>
                      <a:lnTo>
                        <a:pt x="0" y="511283"/>
                      </a:lnTo>
                      <a:lnTo>
                        <a:pt x="5599" y="0"/>
                      </a:lnTo>
                      <a:lnTo>
                        <a:pt x="1744844" y="19045"/>
                      </a:lnTo>
                      <a:close/>
                    </a:path>
                  </a:pathLst>
                </a:custGeom>
                <a:solidFill>
                  <a:schemeClr val="bg2">
                    <a:lumMod val="9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4" name="任意多边形 44"/>
                <p:cNvSpPr/>
                <p:nvPr/>
              </p:nvSpPr>
              <p:spPr>
                <a:xfrm rot="19072800">
                  <a:off x="4897080" y="3589560"/>
                  <a:ext cx="148680" cy="27900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79000"/>
                    <a:gd name="textAreaBottom" fmla="*/ 279360 h 279000"/>
                  </a:gdLst>
                  <a:ahLst/>
                  <a:rect l="textAreaLeft" t="textAreaTop" r="textAreaRight" b="textAreaBottom"/>
                  <a:pathLst>
                    <a:path w="217820" h="408250">
                      <a:moveTo>
                        <a:pt x="217820" y="0"/>
                      </a:moveTo>
                      <a:lnTo>
                        <a:pt x="217820" y="368851"/>
                      </a:lnTo>
                      <a:lnTo>
                        <a:pt x="178288" y="379795"/>
                      </a:lnTo>
                      <a:cubicBezTo>
                        <a:pt x="137648" y="389219"/>
                        <a:pt x="96666" y="396921"/>
                        <a:pt x="55458" y="402896"/>
                      </a:cubicBezTo>
                      <a:lnTo>
                        <a:pt x="0" y="408250"/>
                      </a:lnTo>
                      <a:lnTo>
                        <a:pt x="217820" y="0"/>
                      </a:lnTo>
                      <a:close/>
                    </a:path>
                  </a:pathLst>
                </a:cu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305" name="组合 45"/>
                <p:cNvGrpSpPr/>
                <p:nvPr/>
              </p:nvGrpSpPr>
              <p:grpSpPr>
                <a:xfrm>
                  <a:off x="3489120" y="3553560"/>
                  <a:ext cx="1521000" cy="658080"/>
                  <a:chOff x="3489120" y="3553560"/>
                  <a:chExt cx="1521000" cy="658080"/>
                </a:xfrm>
              </p:grpSpPr>
              <p:sp>
                <p:nvSpPr>
                  <p:cNvPr id="306" name="任意多边形 49"/>
                  <p:cNvSpPr/>
                  <p:nvPr/>
                </p:nvSpPr>
                <p:spPr>
                  <a:xfrm>
                    <a:off x="3489120" y="3553560"/>
                    <a:ext cx="1521000" cy="648720"/>
                  </a:xfrm>
                  <a:custGeom>
                    <a:avLst/>
                    <a:gdLst>
                      <a:gd name="textAreaLeft" fmla="*/ 0 w 1521000"/>
                      <a:gd name="textAreaRight" fmla="*/ 1521360 w 1521000"/>
                      <a:gd name="textAreaTop" fmla="*/ 0 h 648720"/>
                      <a:gd name="textAreaBottom" fmla="*/ 649080 h 648720"/>
                    </a:gdLst>
                    <a:ahLst/>
                    <a:rect l="textAreaLeft" t="textAreaTop" r="textAreaRight" b="textAreaBottom"/>
                    <a:pathLst>
                      <a:path w="2223523" h="948390">
                        <a:moveTo>
                          <a:pt x="115869" y="0"/>
                        </a:moveTo>
                        <a:lnTo>
                          <a:pt x="2107653" y="0"/>
                        </a:lnTo>
                        <a:lnTo>
                          <a:pt x="2223523" y="463480"/>
                        </a:lnTo>
                        <a:lnTo>
                          <a:pt x="2164940" y="527710"/>
                        </a:lnTo>
                        <a:cubicBezTo>
                          <a:pt x="1962791" y="729143"/>
                          <a:pt x="1702805" y="872942"/>
                          <a:pt x="1411932" y="932253"/>
                        </a:cubicBezTo>
                        <a:lnTo>
                          <a:pt x="1305822" y="948390"/>
                        </a:lnTo>
                        <a:lnTo>
                          <a:pt x="1231422" y="240291"/>
                        </a:lnTo>
                        <a:lnTo>
                          <a:pt x="975859" y="240291"/>
                        </a:lnTo>
                        <a:lnTo>
                          <a:pt x="901715" y="945958"/>
                        </a:lnTo>
                        <a:lnTo>
                          <a:pt x="811594" y="932253"/>
                        </a:lnTo>
                        <a:cubicBezTo>
                          <a:pt x="520721" y="872942"/>
                          <a:pt x="260735" y="729143"/>
                          <a:pt x="58586" y="527710"/>
                        </a:cubicBezTo>
                        <a:lnTo>
                          <a:pt x="0" y="463477"/>
                        </a:lnTo>
                        <a:lnTo>
                          <a:pt x="115869" y="0"/>
                        </a:lnTo>
                        <a:close/>
                      </a:path>
                    </a:pathLst>
                  </a:custGeom>
                  <a:solidFill>
                    <a:schemeClr val="tx1">
                      <a:lumMod val="65000"/>
                      <a:lumOff val="3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7" name="等腰三角形 50"/>
                  <p:cNvSpPr/>
                  <p:nvPr/>
                </p:nvSpPr>
                <p:spPr>
                  <a:xfrm flipV="1">
                    <a:off x="3989880" y="3567240"/>
                    <a:ext cx="519480" cy="244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8" name="任意多边形 51"/>
                  <p:cNvSpPr/>
                  <p:nvPr/>
                </p:nvSpPr>
                <p:spPr>
                  <a:xfrm>
                    <a:off x="4114800" y="3718080"/>
                    <a:ext cx="276120" cy="493560"/>
                  </a:xfrm>
                  <a:custGeom>
                    <a:avLst/>
                    <a:gdLst>
                      <a:gd name="textAreaLeft" fmla="*/ 0 w 276120"/>
                      <a:gd name="textAreaRight" fmla="*/ 276480 w 276120"/>
                      <a:gd name="textAreaTop" fmla="*/ 0 h 493560"/>
                      <a:gd name="textAreaBottom" fmla="*/ 493920 h 493560"/>
                    </a:gdLst>
                    <a:ahLst/>
                    <a:rect l="textAreaLeft" t="textAreaTop" r="textAreaRight" b="textAreaBottom"/>
                    <a:pathLst>
                      <a:path w="404107" h="722114">
                        <a:moveTo>
                          <a:pt x="74144" y="0"/>
                        </a:moveTo>
                        <a:lnTo>
                          <a:pt x="329707" y="0"/>
                        </a:lnTo>
                        <a:lnTo>
                          <a:pt x="404107" y="708099"/>
                        </a:lnTo>
                        <a:lnTo>
                          <a:pt x="362332" y="714452"/>
                        </a:lnTo>
                        <a:cubicBezTo>
                          <a:pt x="312263" y="719519"/>
                          <a:pt x="261460" y="722114"/>
                          <a:pt x="210048" y="722114"/>
                        </a:cubicBezTo>
                        <a:cubicBezTo>
                          <a:pt x="158637" y="722114"/>
                          <a:pt x="107834" y="719519"/>
                          <a:pt x="57764" y="714452"/>
                        </a:cubicBezTo>
                        <a:lnTo>
                          <a:pt x="0" y="705667"/>
                        </a:lnTo>
                        <a:lnTo>
                          <a:pt x="74144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309" name="直接连接符 46"/>
                <p:cNvCxnSpPr/>
                <p:nvPr/>
              </p:nvCxnSpPr>
              <p:spPr>
                <a:xfrm>
                  <a:off x="4246200" y="3811320"/>
                  <a:ext cx="12600" cy="401040"/>
                </a:xfrm>
                <a:prstGeom prst="straightConnector1">
                  <a:avLst/>
                </a:prstGeom>
                <a:ln w="25400">
                  <a:noFill/>
                </a:ln>
              </p:spPr>
            </p:cxnSp>
            <p:sp>
              <p:nvSpPr>
                <p:cNvPr id="310" name="矩形 47"/>
                <p:cNvSpPr/>
                <p:nvPr/>
              </p:nvSpPr>
              <p:spPr>
                <a:xfrm>
                  <a:off x="3989880" y="3362760"/>
                  <a:ext cx="519480" cy="190440"/>
                </a:xfrm>
                <a:prstGeom prst="rect">
                  <a:avLst/>
                </a:prstGeom>
                <a:solidFill>
                  <a:srgbClr val="ffe8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" name="椭圆 48"/>
                <p:cNvSpPr/>
                <p:nvPr/>
              </p:nvSpPr>
              <p:spPr>
                <a:xfrm>
                  <a:off x="3628800" y="2345760"/>
                  <a:ext cx="1241280" cy="119304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12" name="椭圆 40"/>
              <p:cNvSpPr/>
              <p:nvPr/>
            </p:nvSpPr>
            <p:spPr>
              <a:xfrm>
                <a:off x="3927240" y="3049200"/>
                <a:ext cx="124560" cy="12456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3" name="椭圆 41"/>
              <p:cNvSpPr/>
              <p:nvPr/>
            </p:nvSpPr>
            <p:spPr>
              <a:xfrm>
                <a:off x="4391280" y="3047400"/>
                <a:ext cx="124560" cy="12456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14" name="组合 30"/>
            <p:cNvGrpSpPr/>
            <p:nvPr/>
          </p:nvGrpSpPr>
          <p:grpSpPr>
            <a:xfrm>
              <a:off x="3584880" y="2214000"/>
              <a:ext cx="1323000" cy="822960"/>
              <a:chOff x="3584880" y="2214000"/>
              <a:chExt cx="1323000" cy="822960"/>
            </a:xfrm>
          </p:grpSpPr>
          <p:grpSp>
            <p:nvGrpSpPr>
              <p:cNvPr id="315" name="组合 31"/>
              <p:cNvGrpSpPr/>
              <p:nvPr/>
            </p:nvGrpSpPr>
            <p:grpSpPr>
              <a:xfrm>
                <a:off x="3584880" y="2214000"/>
                <a:ext cx="1323000" cy="709920"/>
                <a:chOff x="3584880" y="2214000"/>
                <a:chExt cx="1323000" cy="709920"/>
              </a:xfrm>
            </p:grpSpPr>
            <p:grpSp>
              <p:nvGrpSpPr>
                <p:cNvPr id="316" name="组合 33"/>
                <p:cNvGrpSpPr/>
                <p:nvPr/>
              </p:nvGrpSpPr>
              <p:grpSpPr>
                <a:xfrm>
                  <a:off x="3584880" y="2214000"/>
                  <a:ext cx="1323000" cy="709920"/>
                  <a:chOff x="3584880" y="2214000"/>
                  <a:chExt cx="1323000" cy="709920"/>
                </a:xfrm>
              </p:grpSpPr>
              <p:sp>
                <p:nvSpPr>
                  <p:cNvPr id="317" name="等腰三角形 35"/>
                  <p:cNvSpPr/>
                  <p:nvPr/>
                </p:nvSpPr>
                <p:spPr>
                  <a:xfrm rot="3129000">
                    <a:off x="4386960" y="2268000"/>
                    <a:ext cx="330120" cy="393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318" name="组合 36"/>
                  <p:cNvGrpSpPr/>
                  <p:nvPr/>
                </p:nvGrpSpPr>
                <p:grpSpPr>
                  <a:xfrm>
                    <a:off x="3584880" y="2236680"/>
                    <a:ext cx="1323000" cy="687240"/>
                    <a:chOff x="3584880" y="2236680"/>
                    <a:chExt cx="1323000" cy="687240"/>
                  </a:xfrm>
                </p:grpSpPr>
                <p:sp>
                  <p:nvSpPr>
                    <p:cNvPr id="319" name="任意多边形 37"/>
                    <p:cNvSpPr/>
                    <p:nvPr/>
                  </p:nvSpPr>
                  <p:spPr>
                    <a:xfrm>
                      <a:off x="3584880" y="2262960"/>
                      <a:ext cx="1323000" cy="660960"/>
                    </a:xfrm>
                    <a:custGeom>
                      <a:avLst/>
                      <a:gdLst>
                        <a:gd name="textAreaLeft" fmla="*/ 0 w 1323000"/>
                        <a:gd name="textAreaRight" fmla="*/ 1323360 w 1323000"/>
                        <a:gd name="textAreaTop" fmla="*/ 0 h 660960"/>
                        <a:gd name="textAreaBottom" fmla="*/ 661320 h 660960"/>
                      </a:gdLst>
                      <a:ahLst/>
                      <a:rect l="textAreaLeft" t="textAreaTop" r="textAreaRight" b="textAreaBottom"/>
                      <a:pathLst>
                        <a:path w="1958100" h="836340">
                          <a:moveTo>
                            <a:pt x="979050" y="0"/>
                          </a:moveTo>
                          <a:cubicBezTo>
                            <a:pt x="1455590" y="0"/>
                            <a:pt x="1853181" y="324072"/>
                            <a:pt x="1945133" y="754882"/>
                          </a:cubicBezTo>
                          <a:lnTo>
                            <a:pt x="1958100" y="836340"/>
                          </a:lnTo>
                          <a:lnTo>
                            <a:pt x="0" y="836340"/>
                          </a:lnTo>
                          <a:lnTo>
                            <a:pt x="12967" y="754882"/>
                          </a:lnTo>
                          <a:cubicBezTo>
                            <a:pt x="104919" y="324072"/>
                            <a:pt x="502510" y="0"/>
                            <a:pt x="979050" y="0"/>
                          </a:cubicBezTo>
                          <a:close/>
                        </a:path>
                      </a:pathLst>
                    </a:cu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0" name="等腰三角形 38"/>
                    <p:cNvSpPr/>
                    <p:nvPr/>
                  </p:nvSpPr>
                  <p:spPr>
                    <a:xfrm rot="1957800">
                      <a:off x="4345200" y="2294280"/>
                      <a:ext cx="330120" cy="393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21" name="等腰三角形 34"/>
                <p:cNvSpPr/>
                <p:nvPr/>
              </p:nvSpPr>
              <p:spPr>
                <a:xfrm>
                  <a:off x="4612680" y="2752920"/>
                  <a:ext cx="90000" cy="16704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22" name="等腰三角形 32"/>
              <p:cNvSpPr/>
              <p:nvPr/>
            </p:nvSpPr>
            <p:spPr>
              <a:xfrm>
                <a:off x="4553640" y="2748600"/>
                <a:ext cx="201960" cy="288360"/>
              </a:xfrm>
              <a:prstGeom prst="triangle">
                <a:avLst>
                  <a:gd name="adj" fmla="val 50000"/>
                </a:avLst>
              </a:prstGeom>
              <a:solidFill>
                <a:schemeClr val="accent4">
                  <a:lumMod val="20000"/>
                  <a:lumOff val="8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23" name="矩形 2"/>
          <p:cNvSpPr/>
          <p:nvPr/>
        </p:nvSpPr>
        <p:spPr>
          <a:xfrm>
            <a:off x="586800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四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  <Words>538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7:55Z</dcterms:created>
  <dc:creator>www.pptbz.com</dc:creator>
  <dc:description/>
  <dc:language>en-US</dc:language>
  <cp:lastModifiedBy>yu wang</cp:lastModifiedBy>
  <dcterms:modified xsi:type="dcterms:W3CDTF">2015-08-12T14:52:40Z</dcterms:modified>
  <cp:revision>118</cp:revision>
  <dc:subject/>
  <dc:title>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宽屏</vt:lpwstr>
  </property>
  <property fmtid="{D5CDD505-2E9C-101B-9397-08002B2CF9AE}" pid="4" name="Slides">
    <vt:r8>10</vt:r8>
  </property>
</Properties>
</file>