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FAF-0864-4575-8584-10943DD7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649-9A2B-4393-8C69-C14EA7E7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315-C180-4305-8937-3F36C3D6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2EC-8936-4504-9860-0B34F441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216E-34B5-431B-824A-05D53E73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AD6F-3122-4CC3-ADAF-EA45DB0E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F805-A12B-4816-ACCD-0430310E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07B1-066F-4455-B3CA-17B37FBD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7ACB-6DF9-4406-A05D-9A00E837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DE2D-62F5-490B-BA28-8752EB6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4795-6D0D-4874-8BCA-450A0679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71E-1B4C-4D64-BD51-2126BD3F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A21F-80A4-4CAC-913D-6BCC8913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C496-1EEA-4287-99E4-E15B7EB5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884B-B715-472E-B76F-FFA9C745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F101-A4D0-45BB-B449-186C0932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6844-A40D-4F85-957E-A5A3D471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331-7BED-4671-AE8D-F749C625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3BD-CA7B-4A23-9E40-56B50A85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E29-FE2E-4197-B449-EC3C2067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2DB-B255-4EEA-B5BD-879228AE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CE3-ADCF-4560-9DBB-C7528C23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E2F-04F3-43EA-873F-208803B2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9AB-3FD1-482E-8ADE-4422766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DEC7CF-6E76-403D-B6D4-DD4E4D78272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1F5319-38C7-4A67-893B-3CFD0F688CB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357200" y="2214720"/>
            <a:ext cx="41428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连接符 5"/>
          <p:cNvCxnSpPr/>
          <p:nvPr/>
        </p:nvCxnSpPr>
        <p:spPr>
          <a:xfrm>
            <a:off x="1428480" y="2230200"/>
            <a:ext cx="2429280" cy="21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sp>
        <p:nvSpPr>
          <p:cNvPr id="84" name="TextBox 7"/>
          <p:cNvSpPr/>
          <p:nvPr/>
        </p:nvSpPr>
        <p:spPr>
          <a:xfrm>
            <a:off x="755640" y="1631160"/>
            <a:ext cx="5616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蒲公英清爽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26398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5711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592632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26398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071720" y="50004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3545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9258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2828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7828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1090800" y="6429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31402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442584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571176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464040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23544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9258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11624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55688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578340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78280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24256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20" y="66657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80532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8546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335448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30686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514044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34257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6203880" y="3121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42832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44258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30686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7117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456876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24973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59263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449748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44258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  <Words>295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5:26Z</dcterms:modified>
  <cp:revision>1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