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20B-62E6-409A-A198-FFCDB8ED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088-759E-4B47-AB10-E6A26DE6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DFE-869E-400E-81B0-75B5DC34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590-4C49-4210-9E02-5086D911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EF2D-0AF1-452E-B21F-7560EF9B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A6D4-A890-4580-91CB-A5DD8A04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1793-830E-4958-9EF3-432F9957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7994-C1FE-4FEB-B2BC-35A5C4C0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9081-9FEF-4D2B-AD45-C2649B1A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AC42-4E37-4B35-903B-46374A49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A3A1-733A-4026-8C18-1002B144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03B-C031-4C91-88D3-6E54EB20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827A-748B-4790-B073-50511B77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126E-F0E6-4B5C-B9A4-61EB1CB4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3A57-9E90-4ED0-A4A3-9AAD0415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C48-E15D-4C2F-93D3-DE817A74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19C8-21A1-4B88-AC6F-D5612E6B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EE2-DC93-43AE-A76C-4F4BBB70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678-8FDA-4B1E-AB5A-810C2DF6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F77-7FD0-4010-98D5-A4E091E9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85F-D3F1-416F-B960-980E6F45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A2A-A6FA-4951-8D1B-C5B47C8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272-0D19-4EE6-BA55-103DF56E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3D4-6C0B-4B89-8AA8-FF82AE0B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B2AA53-9813-4EFE-B5E1-FDC6378B5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BAF1FA-9F25-4B88-A359-6B9216ECF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124640"/>
            <a:ext cx="83253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3366cc"/>
                </a:solidFill>
                <a:latin typeface="Times New Roman"/>
                <a:ea typeface="宋体"/>
              </a:rPr>
              <a:t>浅蓝色简洁线条</a:t>
            </a:r>
            <a:r>
              <a:rPr b="1" lang="en-US" sz="4000" spc="-1" strike="noStrike">
                <a:solidFill>
                  <a:srgbClr val="3366cc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-19080" y="85680"/>
            <a:ext cx="9096120" cy="712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 </a:t>
            </a:r>
            <a:r>
              <a:rPr b="1" lang="en-US" sz="105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          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plate7">
  <a:themeElements>
    <a:clrScheme name="template7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plate7">
  <a:themeElements>
    <a:clrScheme name="template7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mplate7</Template>
  <TotalTime>2</TotalTime>
  <Application>LibreOffice/7.4.7.2$Linux_X86_64 LibreOffice_project/40$Build-2</Application>
  <AppVersion>15.0000</AppVersion>
  <Words>158</Words>
  <Paragraphs>31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3:26:41Z</dcterms:created>
  <dc:creator>微软用户</dc:creator>
  <dc:description/>
  <dc:language>en-US</dc:language>
  <cp:lastModifiedBy>yu wang</cp:lastModifiedBy>
  <dcterms:modified xsi:type="dcterms:W3CDTF">2015-08-14T12:52:09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