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182-A335-4B31-AA8A-F6FD10F6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E27-7AD2-44F0-A12C-ABBE0095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CCD-27D7-4F8E-A6E2-73AC0C1C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C66-8013-47B4-BEAC-C37660D2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CC27-159D-4359-8D33-3109678C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16C9-E4A2-4FF1-B8BB-0CA64537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C1C5-D700-4E7C-87AA-0D5D9191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96D2-ADB3-45D2-8EF2-A14E74D1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2AF9-81C2-47E9-93EB-D9941B39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2E73-2923-455F-9B30-89450AB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A2E9-2B35-43DF-B52D-12014BE3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C7E-C458-43FC-BCA2-E0D02E89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E438-8AAC-4732-853B-868CC5B9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62C3-CF5D-4000-A9F9-CD93DD5D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6A72-7CA7-4B07-83AE-1BF3332C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77E6-DDF3-49A7-8448-E351C132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3BFC-6A50-4C30-B645-839D2D4A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8D6D-0896-432B-8924-559DB48A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3D19-EE09-47A3-AAF5-BD170391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914C-A2D4-448E-8659-45530B85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9664-28E2-4204-AD63-F4D04956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A932-8BC5-42DB-BF37-318F7F46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3AA-C576-414A-B617-075ACF11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279B7-0866-4EDA-97AF-A277779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BC74C-0654-4990-B003-9ED02A28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6A6F-AFD3-45DE-85CA-740FF45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068AF-AB0C-4C13-84A2-022D0A34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2D5A-BC48-4DDF-9424-516F4004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C7A85-C2EC-4A17-BAAE-C4411CF6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6C6B-27BD-4850-A9F9-37776701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85887-D2C5-4E03-B38A-816721B7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0B07-10F2-49EE-9E04-58691D0D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EFFD-8C27-4A93-BB25-2A4FAFDE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2E4-BC4C-4624-ADA7-378B47AD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ED0B-EFBA-43BA-BE40-55E829F5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BB84-F1FC-4F0B-9EEB-9D028151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513C-615C-4097-9F6F-C8EF5DAD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04BEF-78DA-4578-A7FD-D6C97D9C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4856C-E12B-4A32-B49E-FD0E8D48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B1C5-853D-44D1-9FFB-E1996559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B236-FD87-453A-AC07-827F352A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EC80-3A56-4CCD-96CF-8D59D3CD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F8BA-4BE8-4156-A890-0E4E2FCD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89FE3-7C27-4717-8D0D-D3D6A3A3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4A5-F678-479F-ABCE-EA289822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A5E3E-68AE-44C2-8B59-0EDFCFAC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DFF11-11A3-4DF7-BD1F-D4CE8580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49EE3-04D0-472B-853C-530F2CA4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A6D81-94EC-45C7-9D95-440F8E2C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7B70A-CCD8-45C8-BA53-AC5944BF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88335-05FA-4404-BB61-C2D97569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2A03B-1059-4C0E-9719-554D3C10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E8783-D183-421A-A87E-77854E3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2B711-9406-4BE4-844E-DA449DDA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291B5-37B9-4FBB-B07B-A5E17EBF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ED3-ABE1-43E1-B4EC-58B42108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0386-2D55-434B-8308-41D5F4C1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5C7-B6B4-4675-90F7-3FF82804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AB8-22CA-4CEC-9F7B-7167C73C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28D-A757-4B14-BF9F-ADC0DA89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5dcd43d98f2944e139012f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89F3-E0C8-4A5F-89EF-8E413E82A9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0071206_775471a332860a22f784bUMnrO4hdf7Q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BF01-C8C4-4690-BC2F-5615864F64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9eef11b8b2db8f2af5133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0473-0317-4EA6-8745-2D315A9A03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01500c7400397127b151b92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60ED-18AC-4E9E-B3F5-D4A0EB3339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926f446f5792b4fd80cb4a5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B3F8-DB13-490D-A965-06242C76C7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2176920" y="155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爽淡雅论文答辩精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900000" y="6308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huangyihuawen2_0495"/>
          <p:cNvPicPr/>
          <p:nvPr/>
        </p:nvPicPr>
        <p:blipFill>
          <a:blip r:embed="rId1"/>
          <a:stretch/>
        </p:blipFill>
        <p:spPr>
          <a:xfrm>
            <a:off x="250920" y="765000"/>
            <a:ext cx="5905440" cy="5905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08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  </a:t>
            </a:r>
            <a:r>
              <a:rPr b="1" i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8:42:48Z</dcterms:created>
  <dc:creator/>
  <dc:description/>
  <cp:keywords/>
  <dc:language>en-US</dc:language>
  <cp:lastModifiedBy>yu wang</cp:lastModifiedBy>
  <cp:lastPrinted>1899-12-30T00:00:00Z</cp:lastPrinted>
  <dcterms:modified xsi:type="dcterms:W3CDTF">2015-08-14T12:52:18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