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081-B396-457B-9233-5D90C0B1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CCC-84C0-4CE4-9A67-06243912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15C-396C-4238-9A13-06CF0A67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888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76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3200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888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76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79B0-0D8A-417F-B709-B81083AD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3B69-FD42-4685-81AD-02203E7C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4E94-8B01-4C04-9190-F21124CC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F932-DDBB-4056-B08B-A7C2EB01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8DAA-96E5-48C7-A324-4CAD2732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6EFA-F7B5-4424-A7EC-C07B7881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32000" y="63000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C86F-43FB-432F-A717-78DE1B3E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A3D2-90A6-45D7-A97C-5B3FA461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AEF-D730-4560-AFA0-B6EBA3BE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E389-0B08-45D6-BE6B-59B10C23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D55F-8DFB-4B23-9C86-71EBF705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BC98-50CF-4E6D-90A0-72E40FA5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10F9-9B56-45BC-8F11-5DFFD245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888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0576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3200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888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0576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805F-E2D0-411D-8974-39917CA3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C5E-4329-4894-B27A-1E592C3F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821-A473-48FE-8EAD-4DE18FDD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9461-0753-411A-A1CF-053619A3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32000" y="63000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600-0446-4921-817E-4CCCD96B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D55-D257-4C2F-87BE-77686308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47C-D945-49F9-A73E-B4E43B09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5938-559A-4561-95F7-8F0D12F3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图片2"/>
          <p:cNvPicPr/>
          <p:nvPr/>
        </p:nvPicPr>
        <p:blipFill>
          <a:blip r:embed="rId2"/>
          <a:stretch/>
        </p:blipFill>
        <p:spPr>
          <a:xfrm>
            <a:off x="-30240" y="0"/>
            <a:ext cx="9366480" cy="702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99cc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18FF-6F8C-4BDF-97B3-3B4C09C5A627}" type="slidenum">
              <a:rPr b="0" lang="zh-CN" sz="1000" spc="-1" strike="noStrike">
                <a:solidFill>
                  <a:srgbClr val="0099cc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C9FB-DEAB-4260-911E-ABF1A62B0F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30160" y="3429000"/>
            <a:ext cx="651348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Arial"/>
              </a:rPr>
              <a:t>清爽荷花中国风</a:t>
            </a:r>
            <a:r>
              <a:rPr b="1" lang="en-US" sz="4000" spc="-1" strike="noStrike">
                <a:solidFill>
                  <a:srgbClr val="0099cc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99cc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17800" y="5014800"/>
            <a:ext cx="406404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23:48:26Z</dcterms:created>
  <dc:creator>Administrator</dc:creator>
  <dc:description/>
  <dc:language>en-US</dc:language>
  <cp:lastModifiedBy>yu wang</cp:lastModifiedBy>
  <cp:lastPrinted>1899-12-30T00:00:00Z</cp:lastPrinted>
  <dcterms:modified xsi:type="dcterms:W3CDTF">2015-08-12T14:53:10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