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FDA-A539-4E60-A51C-D58E73A4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AA5-D3F6-4B65-AE92-82BEB028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24A-1E7C-41EE-80D1-BBDF29B8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95A-97A6-42D1-BE30-13D3C579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07E6-5C3F-44BD-8830-7B546935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13B7-2A95-4A21-9E1C-5A559849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82C1-4EAD-46E2-BFD2-A1DE0DD2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12FE-24F1-40FF-BD29-9B7AE6FD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C4B2-85E5-497C-81FB-9F587B9C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8C63-6E44-48A7-A814-98EA2294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E12D-EA18-43FC-90CB-9BCB5E9A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7FD-10C5-4575-93DE-F0115168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9A51-7EF8-415D-9D67-8146B27B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40E2-16A7-4FD8-A03C-09266723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4678-4F1D-460B-A597-0B07319C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BD7E-28C2-4BAF-9C63-3AFE44A8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50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78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2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50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78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C9C2-8F78-40B1-95A0-342117FA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16E9-4C49-4B85-92F3-D1BC6F03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31C3-6B18-403B-82E5-93E225A9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C7EB-B922-40EE-8E1C-A97E12B0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BB27-37D5-49DF-8D13-2A3E639E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CA7C-0733-4003-93BE-2E810406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187-8222-4A0A-816C-C01E46F0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F6AD-052A-4E7C-826E-6046BD16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AF4B-3E4D-4831-8A3D-D610F20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D695-B5C4-4F6E-AE0F-A8D96DBA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A1C4-8159-4B29-81B0-7844D73C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4394-EBFB-4397-A43B-C90ABAE8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66E1-5C0B-4472-B8CD-3FEB7ED1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150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78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22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150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78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137A-F015-44AF-9085-0548FB9F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8A8-A324-45D0-8BF7-25D06753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944-E4E3-4E1A-985B-93F6128D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0C0-8EF9-4E0F-AE54-7DBEEC07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5AA-48CD-47BB-A57C-0C6C68C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21E-5946-4422-BF24-4F149B71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620-540D-4E4B-91CE-D8863A7B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91436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057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78ECBB-8AC6-41C9-B087-79215AFE92D1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92929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92929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292929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92929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92929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29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29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29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80" y="533520"/>
            <a:ext cx="430488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Arial Black"/>
              </a:rPr>
              <a:t>单击此处编辑母版文本样式</a:t>
            </a: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Arial Black"/>
              </a:rPr>
              <a:t>第二级</a:t>
            </a:r>
            <a:endParaRPr b="0" lang="en-US" sz="1600" spc="-1" strike="noStrike">
              <a:solidFill>
                <a:srgbClr val="292929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292929"/>
                </a:solidFill>
                <a:latin typeface="Arial Black"/>
              </a:rPr>
              <a:t>第三级</a:t>
            </a:r>
            <a:endParaRPr b="0" lang="en-US" sz="1400" spc="-1" strike="noStrike">
              <a:solidFill>
                <a:srgbClr val="292929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四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五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10160" y="533520"/>
            <a:ext cx="430488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Arial Black"/>
              </a:rPr>
              <a:t>单击此处编辑母版文本样式</a:t>
            </a: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Arial Black"/>
              </a:rPr>
              <a:t>第二级</a:t>
            </a:r>
            <a:endParaRPr b="0" lang="en-US" sz="1600" spc="-1" strike="noStrike">
              <a:solidFill>
                <a:srgbClr val="292929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292929"/>
                </a:solidFill>
                <a:latin typeface="Arial Black"/>
              </a:rPr>
              <a:t>第三级</a:t>
            </a:r>
            <a:endParaRPr b="0" lang="en-US" sz="1400" spc="-1" strike="noStrike">
              <a:solidFill>
                <a:srgbClr val="292929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四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五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660240" y="6689880"/>
            <a:ext cx="177768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606840" y="6689880"/>
            <a:ext cx="24127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061040" y="6689880"/>
            <a:ext cx="177768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99B15F-6083-4DC9-ACF1-5F7618ACB605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Arial Black"/>
              </a:rPr>
              <a:t>单击此处编辑母版文本样式</a:t>
            </a: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Arial Black"/>
              </a:rPr>
              <a:t>第二级</a:t>
            </a:r>
            <a:endParaRPr b="0" lang="en-US" sz="1600" spc="-1" strike="noStrike">
              <a:solidFill>
                <a:srgbClr val="292929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292929"/>
                </a:solidFill>
                <a:latin typeface="Arial Black"/>
              </a:rPr>
              <a:t>第三级</a:t>
            </a:r>
            <a:endParaRPr b="0" lang="en-US" sz="1400" spc="-1" strike="noStrike">
              <a:solidFill>
                <a:srgbClr val="292929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四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五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60240" y="6689880"/>
            <a:ext cx="177768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606840" y="6689880"/>
            <a:ext cx="24127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61040" y="6689880"/>
            <a:ext cx="177768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9864D9-82A5-4AE4-896B-B277880F9294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91436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清新黄色创意设计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364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 Black"/>
                <a:ea typeface="宋体"/>
              </a:rPr>
              <a:t>Your Subtitle Goes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0488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 Black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29292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91436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364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0" y="5949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0488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 Black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29292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 Black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 </a:t>
            </a: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dongtai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chuangyi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gongzuo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kejian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shangwu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sucai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fengjing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anjie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aoyu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lunwen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yiliao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boolean_approach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oolean_approach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oolean_approach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oolean_approach</Template>
  <TotalTime>2</TotalTime>
  <Application>LibreOffice/7.4.7.2$Linux_X86_64 LibreOffice_project/40$Build-2</Application>
  <AppVersion>15.0000</AppVersion>
  <Words>190</Words>
  <Paragraphs>38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2:43:47Z</dcterms:created>
  <dc:creator>微软中国</dc:creator>
  <dc:description/>
  <dc:language>en-US</dc:language>
  <cp:lastModifiedBy>yu wang</cp:lastModifiedBy>
  <dcterms:modified xsi:type="dcterms:W3CDTF">2015-08-12T14:53:08Z</dcterms:modified>
  <cp:revision>3</cp:revision>
  <dc:subject/>
  <dc:title>Boolean Approa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