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181F-842E-4C3C-8B51-C88D2238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9760" y="1357200"/>
            <a:ext cx="822924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760" y="3819600"/>
            <a:ext cx="822924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9ECF-7ECE-4715-997F-09618410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9760" y="13572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6800" y="13572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9760" y="38196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6800" y="38196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E3FA-950C-48EC-A380-4CFDB83D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9760" y="1357200"/>
            <a:ext cx="26496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2200" y="1357200"/>
            <a:ext cx="26496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4640" y="1357200"/>
            <a:ext cx="26496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9760" y="3819600"/>
            <a:ext cx="26496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2200" y="3819600"/>
            <a:ext cx="26496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4640" y="3819600"/>
            <a:ext cx="26496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FD60-203C-49D9-A5B6-A52868DF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D944-9111-4FEE-8BEB-790D96265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9760" y="1357200"/>
            <a:ext cx="8229240" cy="47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23DF-8701-49BC-8FB2-30E19E5F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9760" y="1357200"/>
            <a:ext cx="8229240" cy="47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5CE6-2C5D-4D41-A814-F1FE0BA6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9760" y="1357200"/>
            <a:ext cx="4015800" cy="47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26800" y="1357200"/>
            <a:ext cx="4015800" cy="47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8EA3-F147-455A-8ABD-B7384A25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8264-90DC-477B-8D26-5825CB6D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14280" y="428760"/>
            <a:ext cx="750060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FFD4-D220-43C6-A03C-1278102A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9760" y="13572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6800" y="1357200"/>
            <a:ext cx="4015800" cy="47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9760" y="38196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3BFD-033E-4473-98D0-3800A9E8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9760" y="1357200"/>
            <a:ext cx="8229240" cy="47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BD9B-03BD-427D-AF06-7D2A3CE0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9760" y="1357200"/>
            <a:ext cx="4015800" cy="47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26800" y="13572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26800" y="38196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2F16-E886-4F83-9911-C4CCAEA7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9760" y="13572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6800" y="13572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9760" y="3819600"/>
            <a:ext cx="822924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08F8-68B4-4FBF-8861-3FE19B54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9760" y="1357200"/>
            <a:ext cx="822924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9760" y="3819600"/>
            <a:ext cx="822924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E2E0-1250-412C-BA62-71DE3904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9760" y="13572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6800" y="13572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9760" y="38196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26800" y="38196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1CCE-D2B5-41BC-A67B-63B46C545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9760" y="1357200"/>
            <a:ext cx="26496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2200" y="1357200"/>
            <a:ext cx="26496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74640" y="1357200"/>
            <a:ext cx="26496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9760" y="3819600"/>
            <a:ext cx="26496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2200" y="3819600"/>
            <a:ext cx="26496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74640" y="3819600"/>
            <a:ext cx="26496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74A0-3644-4CA5-B3B0-DFF1D7C2C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9760" y="1357200"/>
            <a:ext cx="8229240" cy="47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2CE4-2486-4A4F-BBF4-034710D8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9760" y="1357200"/>
            <a:ext cx="4015800" cy="47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6800" y="1357200"/>
            <a:ext cx="4015800" cy="47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3CB2-60E5-478C-9C05-38BDF0F5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B1A8-1631-4204-B0F9-E6E531B6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14280" y="428760"/>
            <a:ext cx="750060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F662-6EB2-4E03-9E6A-77C0E771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9760" y="13572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6800" y="1357200"/>
            <a:ext cx="4015800" cy="47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9760" y="38196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F4EC-5708-4653-8237-809BD1B0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9760" y="1357200"/>
            <a:ext cx="4015800" cy="47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6800" y="13572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6800" y="38196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E25F-7F96-4D76-8F12-F12AA598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9760" y="13572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6800" y="13572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9760" y="3819600"/>
            <a:ext cx="822924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AF83-D1D5-4672-8BDD-789C27DC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142920" y="142920"/>
            <a:ext cx="8857800" cy="6571800"/>
          </a:xfrm>
          <a:prstGeom prst="rect">
            <a:avLst/>
          </a:prstGeom>
          <a:solidFill>
            <a:schemeClr val="bg1"/>
          </a:solidFill>
          <a:ln w="107950">
            <a:solidFill>
              <a:srgbClr val="117e0c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/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d-ID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2920" y="142920"/>
            <a:ext cx="8857800" cy="6571800"/>
          </a:xfrm>
          <a:prstGeom prst="rect">
            <a:avLst/>
          </a:prstGeom>
          <a:solidFill>
            <a:schemeClr val="bg1"/>
          </a:solidFill>
          <a:ln w="107950">
            <a:solidFill>
              <a:srgbClr val="117e0c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/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d-ID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id-ID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id-ID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F88206A-41D1-4229-A6D3-C61ED22B40E4}" type="slidenum">
              <a:rPr b="0" lang="id-ID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E:\Gambar\400_F_12859387_XtdOIXfMeCSGbGOns9MOeNXoVUMup6lD.png"/>
          <p:cNvPicPr/>
          <p:nvPr/>
        </p:nvPicPr>
        <p:blipFill>
          <a:blip r:embed="rId2"/>
          <a:stretch/>
        </p:blipFill>
        <p:spPr>
          <a:xfrm>
            <a:off x="928800" y="362880"/>
            <a:ext cx="7214760" cy="60778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id-ID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id-ID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id-ID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id-ID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id-ID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id-ID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6"/>
          <p:cNvSpPr/>
          <p:nvPr/>
        </p:nvSpPr>
        <p:spPr>
          <a:xfrm>
            <a:off x="142920" y="142920"/>
            <a:ext cx="8857800" cy="6571800"/>
          </a:xfrm>
          <a:prstGeom prst="rect">
            <a:avLst/>
          </a:prstGeom>
          <a:solidFill>
            <a:schemeClr val="bg1"/>
          </a:solidFill>
          <a:ln w="107950">
            <a:solidFill>
              <a:srgbClr val="117e0c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/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d-ID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45" name="Picture 3" descr="C:\Documents and Settings\oktaviantina\My Documents\My Pictures\e.jpg"/>
          <p:cNvPicPr/>
          <p:nvPr/>
        </p:nvPicPr>
        <p:blipFill>
          <a:blip r:embed="rId2"/>
          <a:stretch/>
        </p:blipFill>
        <p:spPr>
          <a:xfrm flipH="1">
            <a:off x="7112880" y="5143680"/>
            <a:ext cx="1783440" cy="1463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038710"/>
                </a:solidFill>
                <a:latin typeface="DejaVu Serif"/>
              </a:rPr>
              <a:t>Click to edit Master title style</a:t>
            </a: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09760" y="1357200"/>
            <a:ext cx="822924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3871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38710"/>
                </a:solidFill>
                <a:latin typeface="Calibri"/>
              </a:rPr>
              <a:t>Click to edit Master text styles</a:t>
            </a: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3871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38710"/>
                </a:solidFill>
                <a:latin typeface="Calibri"/>
              </a:rPr>
              <a:t>Second level</a:t>
            </a:r>
            <a:endParaRPr b="0" lang="id-ID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3871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38710"/>
                </a:solidFill>
                <a:latin typeface="Calibri"/>
              </a:rPr>
              <a:t>Third level</a:t>
            </a:r>
            <a:endParaRPr b="0" lang="id-ID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3871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38710"/>
                </a:solidFill>
                <a:latin typeface="Calibri"/>
              </a:rPr>
              <a:t>Fourth level</a:t>
            </a:r>
            <a:endParaRPr b="0" lang="id-ID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3871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38710"/>
                </a:solidFill>
                <a:latin typeface="Calibri"/>
              </a:rPr>
              <a:t>Fifth level</a:t>
            </a:r>
            <a:endParaRPr b="0" lang="id-ID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7200" y="62071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id-ID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071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2071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id-ID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936B806-3A72-46E9-B8E3-1A15FD3CACE4}" type="slidenum">
              <a:rPr b="0" lang="id-ID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H:\400_F_23472676_QB9k0TLPq5Z0S2GfQOgwaeEApk7T4M3K.png"/>
          <p:cNvPicPr/>
          <p:nvPr/>
        </p:nvPicPr>
        <p:blipFill>
          <a:blip r:embed="rId3"/>
          <a:stretch/>
        </p:blipFill>
        <p:spPr>
          <a:xfrm flipH="1">
            <a:off x="429120" y="428760"/>
            <a:ext cx="75636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4240" y="2925000"/>
            <a:ext cx="7786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zh-CN" sz="4000" spc="-1" strike="noStrike">
                <a:solidFill>
                  <a:srgbClr val="117e0c"/>
                </a:solidFill>
                <a:latin typeface="方正姚体"/>
                <a:ea typeface="方正姚体"/>
              </a:rPr>
              <a:t>清新树叶</a:t>
            </a:r>
            <a:r>
              <a:rPr b="0" i="1" lang="en-US" sz="4000" spc="-1" strike="noStrike">
                <a:solidFill>
                  <a:srgbClr val="117e0c"/>
                </a:solidFill>
                <a:latin typeface="方正姚体"/>
                <a:ea typeface="方正姚体"/>
              </a:rPr>
              <a:t>PPT</a:t>
            </a:r>
            <a:r>
              <a:rPr b="0" i="1" lang="zh-CN" sz="4000" spc="-1" strike="noStrike">
                <a:solidFill>
                  <a:srgbClr val="117e0c"/>
                </a:solidFill>
                <a:latin typeface="方正姚体"/>
                <a:ea typeface="方正姚体"/>
              </a:rPr>
              <a:t>模板完整版下载</a:t>
            </a:r>
            <a:endParaRPr b="0" lang="id-ID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1" i="1" lang="id-ID" sz="3200" spc="-1" strike="noStrike">
              <a:solidFill>
                <a:srgbClr val="038710"/>
              </a:solidFill>
              <a:latin typeface="DejaVu Serif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9760" y="1357200"/>
            <a:ext cx="822924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3871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zh-CN" sz="3200" spc="-1" strike="noStrike">
                <a:solidFill>
                  <a:srgbClr val="038710"/>
                </a:solidFill>
                <a:latin typeface="DejaVu Serif"/>
              </a:rPr>
              <a:t>使用规范说明</a:t>
            </a: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id-ID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id-ID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id-ID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id-ID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id-ID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id-ID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id-ID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id-ID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id-ID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id-ID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id-ID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id-ID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id-ID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id-ID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id-ID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id-ID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id-ID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id-ID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id-ID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id-ID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id-ID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id-ID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id-ID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id-ID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id-ID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id-ID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id-ID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id-ID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id-ID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id-ID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id-ID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id-ID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id-ID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id-ID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id-ID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id-ID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id-ID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id-ID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id-ID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id-ID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id-ID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id-ID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id-ID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id-ID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  <Words>156</Words>
  <Paragraphs>31</Paragraphs>
  <Company>4Presentation.ne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1:06:50Z</dcterms:created>
  <dc:creator>4Presentation.net</dc:creator>
  <dc:description/>
  <dc:language>en-US</dc:language>
  <cp:lastModifiedBy>yu wang</cp:lastModifiedBy>
  <dcterms:modified xsi:type="dcterms:W3CDTF">2015-08-14T12:52:16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