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1CE0-164B-4E7D-B4B4-A2BC3F42AB3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AD0F-CEE3-49CC-97FC-3A126B80387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2AAA-8104-4F7F-A713-E39B2A8DAA2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DB48-A10B-49C0-90E1-3C4D9628490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AC5C-60A2-42A7-BA51-28366989869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3E13-C1D6-4D93-90AD-D5A03FDB471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4FD1-4611-44EC-930B-EF3F76F8D3C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22AA-C2C7-4B85-9EE3-E3AB48C1057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7588-E146-4940-B075-6E5F98663A3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B8FC-6E05-4464-9A96-0FAE1B40BEF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31280" y="44280"/>
            <a:ext cx="75250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1280" y="44280"/>
            <a:ext cx="75250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na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9c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9c2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9c2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69c2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69c2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669000"/>
            <a:ext cx="4572000" cy="189000"/>
          </a:xfrm>
          <a:prstGeom prst="rect">
            <a:avLst/>
          </a:prstGeom>
          <a:gradFill rotWithShape="0">
            <a:gsLst>
              <a:gs pos="0">
                <a:srgbClr val="69c2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572000" y="6669000"/>
            <a:ext cx="4572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580000" y="6696000"/>
            <a:ext cx="3564000" cy="11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company slog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未知"/>
          <p:cNvSpPr/>
          <p:nvPr/>
        </p:nvSpPr>
        <p:spPr>
          <a:xfrm>
            <a:off x="6624720" y="0"/>
            <a:ext cx="2427120" cy="657360"/>
          </a:xfrm>
          <a:custGeom>
            <a:avLst/>
            <a:gdLst/>
            <a:ahLst/>
            <a:rect l="l" t="t" r="r" b="b"/>
            <a:pathLst>
              <a:path w="1349" h="509">
                <a:moveTo>
                  <a:pt x="690" y="0"/>
                </a:moveTo>
                <a:lnTo>
                  <a:pt x="1349" y="7"/>
                </a:lnTo>
                <a:lnTo>
                  <a:pt x="1349" y="483"/>
                </a:lnTo>
                <a:lnTo>
                  <a:pt x="0" y="509"/>
                </a:lnTo>
                <a:cubicBezTo>
                  <a:pt x="456" y="293"/>
                  <a:pt x="589" y="105"/>
                  <a:pt x="690" y="0"/>
                </a:cubicBezTo>
                <a:close/>
              </a:path>
            </a:pathLst>
          </a:custGeom>
          <a:solidFill>
            <a:srgbClr val="ff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未知"/>
          <p:cNvSpPr/>
          <p:nvPr/>
        </p:nvSpPr>
        <p:spPr>
          <a:xfrm>
            <a:off x="6734160" y="0"/>
            <a:ext cx="2409840" cy="657360"/>
          </a:xfrm>
          <a:custGeom>
            <a:avLst/>
            <a:gdLst/>
            <a:ahLst/>
            <a:rect l="l" t="t" r="r" b="b"/>
            <a:pathLst>
              <a:path w="1518" h="414">
                <a:moveTo>
                  <a:pt x="776" y="0"/>
                </a:moveTo>
                <a:lnTo>
                  <a:pt x="1518" y="0"/>
                </a:lnTo>
                <a:lnTo>
                  <a:pt x="1518" y="414"/>
                </a:lnTo>
                <a:lnTo>
                  <a:pt x="0" y="414"/>
                </a:lnTo>
                <a:cubicBezTo>
                  <a:pt x="513" y="238"/>
                  <a:pt x="663" y="85"/>
                  <a:pt x="776" y="0"/>
                </a:cubicBezTo>
                <a:close/>
              </a:path>
            </a:pathLst>
          </a:custGeom>
          <a:solidFill>
            <a:srgbClr val="69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8018640" y="115920"/>
            <a:ext cx="1058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  <a:ea typeface="Gulim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2744640"/>
          </a:xfrm>
          <a:prstGeom prst="rect">
            <a:avLst/>
          </a:prstGeom>
          <a:gradFill rotWithShape="0">
            <a:gsLst>
              <a:gs pos="0">
                <a:srgbClr val="69c2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4905360"/>
            <a:ext cx="9144000" cy="1952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9c2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Picture 6" descr="main"/>
          <p:cNvPicPr/>
          <p:nvPr/>
        </p:nvPicPr>
        <p:blipFill>
          <a:blip r:embed="rId2"/>
          <a:stretch/>
        </p:blipFill>
        <p:spPr>
          <a:xfrm>
            <a:off x="0" y="2744640"/>
            <a:ext cx="9144000" cy="2162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9c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9c2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9c2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69c2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69c2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182844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PowerPoint </a:t>
            </a:r>
            <a:r>
              <a:rPr b="1" lang="en-US" sz="3600" spc="-1" strike="noStrike">
                <a:solidFill>
                  <a:srgbClr val="69c2ff"/>
                </a:solidFill>
                <a:latin typeface="Verdana"/>
                <a:ea typeface="Gulim"/>
              </a:rPr>
              <a:t>Templat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9280" y="4941720"/>
            <a:ext cx="928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Gulim"/>
              </a:rPr>
              <a:t>清新雅致清晰明了的生物毕业答辩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Gulim"/>
              </a:rPr>
              <a:t>PP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69c2ff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69c2ff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able of Cont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3"/>
          <p:cNvSpPr/>
          <p:nvPr/>
        </p:nvSpPr>
        <p:spPr>
          <a:xfrm rot="16200000">
            <a:off x="732600" y="1751400"/>
            <a:ext cx="498600" cy="700200"/>
          </a:xfrm>
          <a:custGeom>
            <a:avLst/>
            <a:gdLst>
              <a:gd name="textAreaLeft" fmla="*/ 24120 w 498600"/>
              <a:gd name="textAreaRight" fmla="*/ 474480 w 498600"/>
              <a:gd name="textAreaTop" fmla="*/ 24120 h 700200"/>
              <a:gd name="textAreaBottom" fmla="*/ 676080 h 700200"/>
            </a:gdLst>
            <a:ahLst/>
            <a:rect l="textAreaLeft" t="textAreaTop" r="textAreaRight" b="textAreaBottom"/>
            <a:pathLst>
              <a:path w="21600" h="30327">
                <a:moveTo>
                  <a:pt x="3600" y="0"/>
                </a:moveTo>
                <a:arcTo wR="3600" hR="3600" stAng="16200000" swAng="-5400000"/>
                <a:lnTo>
                  <a:pt x="0" y="26727"/>
                </a:lnTo>
                <a:arcTo wR="3600" hR="3600" stAng="10800000" swAng="-5400000"/>
                <a:lnTo>
                  <a:pt x="18000" y="303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AutoShape 4"/>
          <p:cNvSpPr/>
          <p:nvPr/>
        </p:nvSpPr>
        <p:spPr>
          <a:xfrm rot="16200000">
            <a:off x="4442760" y="-1483200"/>
            <a:ext cx="582480" cy="7166160"/>
          </a:xfrm>
          <a:custGeom>
            <a:avLst/>
            <a:gdLst>
              <a:gd name="textAreaLeft" fmla="*/ 28440 w 582480"/>
              <a:gd name="textAreaRight" fmla="*/ 554040 w 582480"/>
              <a:gd name="textAreaTop" fmla="*/ 28440 h 7166160"/>
              <a:gd name="textAreaBottom" fmla="*/ 7137720 h 7166160"/>
            </a:gdLst>
            <a:ahLst/>
            <a:rect l="textAreaLeft" t="textAreaTop" r="textAreaRight" b="textAreaBottom"/>
            <a:pathLst>
              <a:path w="21600" h="265591">
                <a:moveTo>
                  <a:pt x="3600" y="0"/>
                </a:moveTo>
                <a:arcTo wR="3600" hR="3600" stAng="16200000" swAng="-5400000"/>
                <a:lnTo>
                  <a:pt x="0" y="261991"/>
                </a:lnTo>
                <a:arcTo wR="3600" hR="3600" stAng="10800000" swAng="-5400000"/>
                <a:lnTo>
                  <a:pt x="18000" y="2655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f93c1"/>
              </a:gs>
              <a:gs pos="50000">
                <a:srgbClr val="69c2ff"/>
              </a:gs>
              <a:gs pos="100000">
                <a:srgbClr val="4f93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31800" y="1898640"/>
            <a:ext cx="7685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1      Introd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AutoShape 6"/>
          <p:cNvSpPr/>
          <p:nvPr/>
        </p:nvSpPr>
        <p:spPr>
          <a:xfrm rot="16200000">
            <a:off x="732600" y="2769120"/>
            <a:ext cx="498240" cy="700200"/>
          </a:xfrm>
          <a:custGeom>
            <a:avLst/>
            <a:gdLst>
              <a:gd name="textAreaLeft" fmla="*/ 24120 w 498240"/>
              <a:gd name="textAreaRight" fmla="*/ 474120 w 498240"/>
              <a:gd name="textAreaTop" fmla="*/ 24120 h 700200"/>
              <a:gd name="textAreaBottom" fmla="*/ 676080 h 700200"/>
            </a:gdLst>
            <a:ahLst/>
            <a:rect l="textAreaLeft" t="textAreaTop" r="textAreaRight" b="textAreaBottom"/>
            <a:pathLst>
              <a:path w="21600" h="30349">
                <a:moveTo>
                  <a:pt x="3600" y="0"/>
                </a:moveTo>
                <a:arcTo wR="3600" hR="3600" stAng="16200000" swAng="-5400000"/>
                <a:lnTo>
                  <a:pt x="0" y="26749"/>
                </a:lnTo>
                <a:arcTo wR="3600" hR="3600" stAng="10800000" swAng="-5400000"/>
                <a:lnTo>
                  <a:pt x="18000" y="303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AutoShape 7"/>
          <p:cNvSpPr/>
          <p:nvPr/>
        </p:nvSpPr>
        <p:spPr>
          <a:xfrm rot="16200000">
            <a:off x="4442400" y="-466200"/>
            <a:ext cx="582840" cy="7166160"/>
          </a:xfrm>
          <a:custGeom>
            <a:avLst/>
            <a:gdLst>
              <a:gd name="textAreaLeft" fmla="*/ 28440 w 582840"/>
              <a:gd name="textAreaRight" fmla="*/ 554400 w 582840"/>
              <a:gd name="textAreaTop" fmla="*/ 28440 h 7166160"/>
              <a:gd name="textAreaBottom" fmla="*/ 7137720 h 7166160"/>
            </a:gdLst>
            <a:ahLst/>
            <a:rect l="textAreaLeft" t="textAreaTop" r="textAreaRight" b="textAreaBottom"/>
            <a:pathLst>
              <a:path w="21600" h="265427">
                <a:moveTo>
                  <a:pt x="3600" y="0"/>
                </a:moveTo>
                <a:arcTo wR="3600" hR="3600" stAng="16200000" swAng="-5400000"/>
                <a:lnTo>
                  <a:pt x="0" y="261827"/>
                </a:lnTo>
                <a:arcTo wR="3600" hR="3600" stAng="10800000" swAng="-5400000"/>
                <a:lnTo>
                  <a:pt x="18000" y="265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18383"/>
              </a:gs>
              <a:gs pos="50000">
                <a:srgbClr val="ffadad"/>
              </a:gs>
              <a:gs pos="100000">
                <a:srgbClr val="c1838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31800" y="2917800"/>
            <a:ext cx="7685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      Strate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AutoShape 9"/>
          <p:cNvSpPr/>
          <p:nvPr/>
        </p:nvSpPr>
        <p:spPr>
          <a:xfrm rot="16200000">
            <a:off x="732600" y="3789720"/>
            <a:ext cx="498600" cy="700200"/>
          </a:xfrm>
          <a:custGeom>
            <a:avLst/>
            <a:gdLst>
              <a:gd name="textAreaLeft" fmla="*/ 24120 w 498600"/>
              <a:gd name="textAreaRight" fmla="*/ 474480 w 498600"/>
              <a:gd name="textAreaTop" fmla="*/ 24120 h 700200"/>
              <a:gd name="textAreaBottom" fmla="*/ 676080 h 700200"/>
            </a:gdLst>
            <a:ahLst/>
            <a:rect l="textAreaLeft" t="textAreaTop" r="textAreaRight" b="textAreaBottom"/>
            <a:pathLst>
              <a:path w="21600" h="30327">
                <a:moveTo>
                  <a:pt x="3600" y="0"/>
                </a:moveTo>
                <a:arcTo wR="3600" hR="3600" stAng="16200000" swAng="-5400000"/>
                <a:lnTo>
                  <a:pt x="0" y="26727"/>
                </a:lnTo>
                <a:arcTo wR="3600" hR="3600" stAng="10800000" swAng="-5400000"/>
                <a:lnTo>
                  <a:pt x="18000" y="303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AutoShape 10"/>
          <p:cNvSpPr/>
          <p:nvPr/>
        </p:nvSpPr>
        <p:spPr>
          <a:xfrm rot="16200000">
            <a:off x="4442760" y="554760"/>
            <a:ext cx="582480" cy="7166160"/>
          </a:xfrm>
          <a:custGeom>
            <a:avLst/>
            <a:gdLst>
              <a:gd name="textAreaLeft" fmla="*/ 28440 w 582480"/>
              <a:gd name="textAreaRight" fmla="*/ 554040 w 582480"/>
              <a:gd name="textAreaTop" fmla="*/ 28440 h 7166160"/>
              <a:gd name="textAreaBottom" fmla="*/ 7137720 h 7166160"/>
            </a:gdLst>
            <a:ahLst/>
            <a:rect l="textAreaLeft" t="textAreaTop" r="textAreaRight" b="textAreaBottom"/>
            <a:pathLst>
              <a:path w="21600" h="265591">
                <a:moveTo>
                  <a:pt x="3600" y="0"/>
                </a:moveTo>
                <a:arcTo wR="3600" hR="3600" stAng="16200000" swAng="-5400000"/>
                <a:lnTo>
                  <a:pt x="0" y="261991"/>
                </a:lnTo>
                <a:arcTo wR="3600" hR="3600" stAng="10800000" swAng="-5400000"/>
                <a:lnTo>
                  <a:pt x="18000" y="2655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f93c1"/>
              </a:gs>
              <a:gs pos="50000">
                <a:srgbClr val="69c2ff"/>
              </a:gs>
              <a:gs pos="100000">
                <a:srgbClr val="4f93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31800" y="3938760"/>
            <a:ext cx="7685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3      Challengers Forwa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12"/>
          <p:cNvSpPr/>
          <p:nvPr/>
        </p:nvSpPr>
        <p:spPr>
          <a:xfrm rot="16200000">
            <a:off x="732600" y="4810680"/>
            <a:ext cx="498240" cy="700200"/>
          </a:xfrm>
          <a:custGeom>
            <a:avLst/>
            <a:gdLst>
              <a:gd name="textAreaLeft" fmla="*/ 24120 w 498240"/>
              <a:gd name="textAreaRight" fmla="*/ 474120 w 498240"/>
              <a:gd name="textAreaTop" fmla="*/ 24120 h 700200"/>
              <a:gd name="textAreaBottom" fmla="*/ 676080 h 700200"/>
            </a:gdLst>
            <a:ahLst/>
            <a:rect l="textAreaLeft" t="textAreaTop" r="textAreaRight" b="textAreaBottom"/>
            <a:pathLst>
              <a:path w="21600" h="30349">
                <a:moveTo>
                  <a:pt x="3600" y="0"/>
                </a:moveTo>
                <a:arcTo wR="3600" hR="3600" stAng="16200000" swAng="-5400000"/>
                <a:lnTo>
                  <a:pt x="0" y="26749"/>
                </a:lnTo>
                <a:arcTo wR="3600" hR="3600" stAng="10800000" swAng="-5400000"/>
                <a:lnTo>
                  <a:pt x="18000" y="303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13"/>
          <p:cNvSpPr/>
          <p:nvPr/>
        </p:nvSpPr>
        <p:spPr>
          <a:xfrm rot="16200000">
            <a:off x="4442400" y="1575000"/>
            <a:ext cx="582840" cy="7166160"/>
          </a:xfrm>
          <a:custGeom>
            <a:avLst/>
            <a:gdLst>
              <a:gd name="textAreaLeft" fmla="*/ 28440 w 582840"/>
              <a:gd name="textAreaRight" fmla="*/ 554400 w 582840"/>
              <a:gd name="textAreaTop" fmla="*/ 28440 h 7166160"/>
              <a:gd name="textAreaBottom" fmla="*/ 7137720 h 7166160"/>
            </a:gdLst>
            <a:ahLst/>
            <a:rect l="textAreaLeft" t="textAreaTop" r="textAreaRight" b="textAreaBottom"/>
            <a:pathLst>
              <a:path w="21600" h="265427">
                <a:moveTo>
                  <a:pt x="3600" y="0"/>
                </a:moveTo>
                <a:arcTo wR="3600" hR="3600" stAng="16200000" swAng="-5400000"/>
                <a:lnTo>
                  <a:pt x="0" y="261827"/>
                </a:lnTo>
                <a:arcTo wR="3600" hR="3600" stAng="10800000" swAng="-5400000"/>
                <a:lnTo>
                  <a:pt x="18000" y="265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18383"/>
              </a:gs>
              <a:gs pos="50000">
                <a:srgbClr val="ffadad"/>
              </a:gs>
              <a:gs pos="100000">
                <a:srgbClr val="c1838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631800" y="4959360"/>
            <a:ext cx="7685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4      Conclu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Related Docum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9c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c2ff"/>
                </a:solidFill>
                <a:latin typeface="Verdana"/>
                <a:ea typeface="Gulim"/>
              </a:rPr>
              <a:t>Competitor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ad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dad"/>
                </a:solidFill>
                <a:latin typeface="Verdana"/>
                <a:ea typeface="Gulim"/>
              </a:rPr>
              <a:t>Strength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9c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c2ff"/>
                </a:solidFill>
                <a:latin typeface="Verdana"/>
                <a:ea typeface="Gulim"/>
              </a:rPr>
              <a:t>Weakness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Related Docum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3"/>
          <p:cNvSpPr/>
          <p:nvPr/>
        </p:nvSpPr>
        <p:spPr>
          <a:xfrm rot="5400000">
            <a:off x="3013200" y="3889440"/>
            <a:ext cx="350640" cy="287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utoShape 4"/>
          <p:cNvSpPr/>
          <p:nvPr/>
        </p:nvSpPr>
        <p:spPr>
          <a:xfrm rot="5400000">
            <a:off x="5873040" y="3888720"/>
            <a:ext cx="350640" cy="288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804960" y="1808280"/>
            <a:ext cx="1941480" cy="119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642960" y="2257560"/>
            <a:ext cx="2266920" cy="3511440"/>
          </a:xfrm>
          <a:custGeom>
            <a:avLst/>
            <a:gdLst>
              <a:gd name="textAreaLeft" fmla="*/ 110520 w 2266920"/>
              <a:gd name="textAreaRight" fmla="*/ 2156400 w 2266920"/>
              <a:gd name="textAreaTop" fmla="*/ 110520 h 3511440"/>
              <a:gd name="textAreaBottom" fmla="*/ 3400920 h 3511440"/>
            </a:gdLst>
            <a:ahLst/>
            <a:rect l="textAreaLeft" t="textAreaTop" r="textAreaRight" b="textAreaBottom"/>
            <a:pathLst>
              <a:path w="21600" h="33456">
                <a:moveTo>
                  <a:pt x="3600" y="0"/>
                </a:moveTo>
                <a:arcTo wR="3600" hR="3600" stAng="16200000" swAng="-5400000"/>
                <a:lnTo>
                  <a:pt x="0" y="29856"/>
                </a:lnTo>
                <a:arcTo wR="3600" hR="3600" stAng="10800000" swAng="-5400000"/>
                <a:lnTo>
                  <a:pt x="18000" y="334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15a76"/>
              </a:gs>
              <a:gs pos="50000">
                <a:srgbClr val="69c2ff"/>
              </a:gs>
              <a:gs pos="100000">
                <a:srgbClr val="315a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377000" y="187308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3605040" y="1808280"/>
            <a:ext cx="1941840" cy="119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3444840" y="2257560"/>
            <a:ext cx="2266920" cy="3511440"/>
          </a:xfrm>
          <a:custGeom>
            <a:avLst/>
            <a:gdLst>
              <a:gd name="textAreaLeft" fmla="*/ 110520 w 2266920"/>
              <a:gd name="textAreaRight" fmla="*/ 2156400 w 2266920"/>
              <a:gd name="textAreaTop" fmla="*/ 110520 h 3511440"/>
              <a:gd name="textAreaBottom" fmla="*/ 3400920 h 3511440"/>
            </a:gdLst>
            <a:ahLst/>
            <a:rect l="textAreaLeft" t="textAreaTop" r="textAreaRight" b="textAreaBottom"/>
            <a:pathLst>
              <a:path w="21600" h="33456">
                <a:moveTo>
                  <a:pt x="3600" y="0"/>
                </a:moveTo>
                <a:arcTo wR="3600" hR="3600" stAng="16200000" swAng="-5400000"/>
                <a:lnTo>
                  <a:pt x="0" y="29856"/>
                </a:lnTo>
                <a:arcTo wR="3600" hR="3600" stAng="10800000" swAng="-5400000"/>
                <a:lnTo>
                  <a:pt x="18000" y="334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15a76"/>
              </a:gs>
              <a:gs pos="50000">
                <a:srgbClr val="69c2ff"/>
              </a:gs>
              <a:gs pos="100000">
                <a:srgbClr val="315a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177440" y="187308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6510240" y="1808280"/>
            <a:ext cx="1940040" cy="119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6348240" y="2257560"/>
            <a:ext cx="2267280" cy="3511440"/>
          </a:xfrm>
          <a:custGeom>
            <a:avLst/>
            <a:gdLst>
              <a:gd name="textAreaLeft" fmla="*/ 110520 w 2267280"/>
              <a:gd name="textAreaRight" fmla="*/ 2156760 w 2267280"/>
              <a:gd name="textAreaTop" fmla="*/ 110520 h 3511440"/>
              <a:gd name="textAreaBottom" fmla="*/ 3400920 h 3511440"/>
            </a:gdLst>
            <a:ahLst/>
            <a:rect l="textAreaLeft" t="textAreaTop" r="textAreaRight" b="textAreaBottom"/>
            <a:pathLst>
              <a:path w="21600" h="33451">
                <a:moveTo>
                  <a:pt x="3600" y="0"/>
                </a:moveTo>
                <a:arcTo wR="3600" hR="3600" stAng="16200000" swAng="-5400000"/>
                <a:lnTo>
                  <a:pt x="0" y="29851"/>
                </a:lnTo>
                <a:arcTo wR="3600" hR="3600" stAng="10800000" swAng="-5400000"/>
                <a:lnTo>
                  <a:pt x="18000" y="334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65050"/>
              </a:gs>
              <a:gs pos="50000">
                <a:srgbClr val="ffadad"/>
              </a:gs>
              <a:gs pos="100000">
                <a:srgbClr val="76505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7080840" y="187308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51000" y="6227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9c2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Related Docum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3"/>
          <p:cNvSpPr/>
          <p:nvPr/>
        </p:nvSpPr>
        <p:spPr>
          <a:xfrm flipH="1" rot="5400000">
            <a:off x="1963800" y="1104480"/>
            <a:ext cx="2047680" cy="3168720"/>
          </a:xfrm>
          <a:prstGeom prst="flowChartPunchedCard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4"/>
          <p:cNvSpPr/>
          <p:nvPr/>
        </p:nvSpPr>
        <p:spPr>
          <a:xfrm flipH="1" flipV="1" rot="16200000">
            <a:off x="1951920" y="3147120"/>
            <a:ext cx="2047680" cy="3144960"/>
          </a:xfrm>
          <a:prstGeom prst="flowChartPunchedCar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5"/>
          <p:cNvSpPr/>
          <p:nvPr/>
        </p:nvSpPr>
        <p:spPr>
          <a:xfrm flipV="1" rot="5400000">
            <a:off x="5108760" y="3135240"/>
            <a:ext cx="2047680" cy="3168720"/>
          </a:xfrm>
          <a:prstGeom prst="flowChartPunchedCar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AutoShape 6"/>
          <p:cNvSpPr/>
          <p:nvPr/>
        </p:nvSpPr>
        <p:spPr>
          <a:xfrm rot="16200000">
            <a:off x="5132520" y="1111320"/>
            <a:ext cx="2000160" cy="3168720"/>
          </a:xfrm>
          <a:prstGeom prst="flowChartPunchedCar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그림1"/>
          <p:cNvPicPr/>
          <p:nvPr/>
        </p:nvPicPr>
        <p:blipFill>
          <a:blip r:embed="rId5"/>
          <a:stretch/>
        </p:blipFill>
        <p:spPr>
          <a:xfrm flipH="1">
            <a:off x="3376080" y="2517840"/>
            <a:ext cx="1171800" cy="120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그림1"/>
          <p:cNvPicPr/>
          <p:nvPr/>
        </p:nvPicPr>
        <p:blipFill>
          <a:blip r:embed="rId6"/>
          <a:stretch/>
        </p:blipFill>
        <p:spPr>
          <a:xfrm rot="10800000">
            <a:off x="3376080" y="3681000"/>
            <a:ext cx="1171800" cy="1135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그림1"/>
          <p:cNvPicPr/>
          <p:nvPr/>
        </p:nvPicPr>
        <p:blipFill>
          <a:blip r:embed="rId7"/>
          <a:stretch/>
        </p:blipFill>
        <p:spPr>
          <a:xfrm flipH="1" rot="10800000">
            <a:off x="4548240" y="3681000"/>
            <a:ext cx="1168200" cy="1135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그림1"/>
          <p:cNvPicPr/>
          <p:nvPr/>
        </p:nvPicPr>
        <p:blipFill>
          <a:blip r:embed="rId8"/>
          <a:stretch/>
        </p:blipFill>
        <p:spPr>
          <a:xfrm>
            <a:off x="4548240" y="2517840"/>
            <a:ext cx="1168200" cy="12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그림21"/>
          <p:cNvPicPr/>
          <p:nvPr/>
        </p:nvPicPr>
        <p:blipFill>
          <a:blip r:embed="rId9"/>
          <a:stretch/>
        </p:blipFill>
        <p:spPr>
          <a:xfrm>
            <a:off x="3780000" y="2884320"/>
            <a:ext cx="1547640" cy="1584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2"/>
          <p:cNvSpPr/>
          <p:nvPr/>
        </p:nvSpPr>
        <p:spPr>
          <a:xfrm>
            <a:off x="2302560" y="2301840"/>
            <a:ext cx="663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6035400" y="2301840"/>
            <a:ext cx="663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6035400" y="4680000"/>
            <a:ext cx="663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302560" y="4680000"/>
            <a:ext cx="663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Related Docum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358920" y="5805360"/>
            <a:ext cx="8424720" cy="503280"/>
          </a:xfrm>
          <a:custGeom>
            <a:avLst/>
            <a:gdLst>
              <a:gd name="textAreaLeft" fmla="*/ 1316160 w 8424720"/>
              <a:gd name="textAreaRight" fmla="*/ 8102160 w 8424720"/>
              <a:gd name="textAreaTop" fmla="*/ 112680 h 503280"/>
              <a:gd name="textAreaBottom" fmla="*/ 390600 h 503280"/>
            </a:gdLst>
            <a:ahLst/>
            <a:rect l="textAreaLeft" t="textAreaTop" r="textAreaRight" b="textAreaBottom"/>
            <a:pathLst>
              <a:path w="21600" h="21600">
                <a:moveTo>
                  <a:pt x="20102" y="0"/>
                </a:moveTo>
                <a:lnTo>
                  <a:pt x="20102" y="4838"/>
                </a:lnTo>
                <a:lnTo>
                  <a:pt x="3375" y="4838"/>
                </a:lnTo>
                <a:lnTo>
                  <a:pt x="3375" y="16762"/>
                </a:lnTo>
                <a:lnTo>
                  <a:pt x="20102" y="16762"/>
                </a:lnTo>
                <a:lnTo>
                  <a:pt x="20102" y="21600"/>
                </a:lnTo>
                <a:lnTo>
                  <a:pt x="21600" y="10800"/>
                </a:lnTo>
                <a:lnTo>
                  <a:pt x="20102" y="0"/>
                </a:lnTo>
                <a:close/>
              </a:path>
              <a:path w="21600" h="21600">
                <a:moveTo>
                  <a:pt x="1350" y="4838"/>
                </a:moveTo>
                <a:lnTo>
                  <a:pt x="1350" y="16762"/>
                </a:lnTo>
                <a:lnTo>
                  <a:pt x="2700" y="16762"/>
                </a:lnTo>
                <a:lnTo>
                  <a:pt x="2700" y="4838"/>
                </a:lnTo>
                <a:lnTo>
                  <a:pt x="1350" y="4838"/>
                </a:lnTo>
                <a:close/>
              </a:path>
              <a:path w="21600" h="21600">
                <a:moveTo>
                  <a:pt x="0" y="4838"/>
                </a:moveTo>
                <a:lnTo>
                  <a:pt x="0" y="16762"/>
                </a:lnTo>
                <a:lnTo>
                  <a:pt x="675" y="16762"/>
                </a:lnTo>
                <a:lnTo>
                  <a:pt x="675" y="4838"/>
                </a:lnTo>
                <a:lnTo>
                  <a:pt x="0" y="483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40" name="AutoShape 4"/>
          <p:cNvCxnSpPr>
            <a:stCxn id="141" idx="3"/>
            <a:endCxn id="142" idx="1"/>
          </p:cNvCxnSpPr>
          <p:nvPr/>
        </p:nvCxnSpPr>
        <p:spPr>
          <a:xfrm flipV="1">
            <a:off x="1801440" y="3719160"/>
            <a:ext cx="338760" cy="505440"/>
          </a:xfrm>
          <a:prstGeom prst="bentConnector3">
            <a:avLst>
              <a:gd name="adj1" fmla="val 496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5"/>
          <p:cNvCxnSpPr>
            <a:stCxn id="144" idx="3"/>
            <a:endCxn id="145" idx="1"/>
          </p:cNvCxnSpPr>
          <p:nvPr/>
        </p:nvCxnSpPr>
        <p:spPr>
          <a:xfrm flipV="1">
            <a:off x="5275440" y="2784240"/>
            <a:ext cx="358920" cy="504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6"/>
          <p:cNvCxnSpPr>
            <a:stCxn id="142" idx="3"/>
            <a:endCxn id="144" idx="1"/>
          </p:cNvCxnSpPr>
          <p:nvPr/>
        </p:nvCxnSpPr>
        <p:spPr>
          <a:xfrm flipV="1">
            <a:off x="3548160" y="3287160"/>
            <a:ext cx="319680" cy="432360"/>
          </a:xfrm>
          <a:prstGeom prst="bentConnector3">
            <a:avLst>
              <a:gd name="adj1" fmla="val 497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7"/>
          <p:cNvCxnSpPr>
            <a:stCxn id="145" idx="3"/>
            <a:endCxn id="148" idx="1"/>
          </p:cNvCxnSpPr>
          <p:nvPr/>
        </p:nvCxnSpPr>
        <p:spPr>
          <a:xfrm flipV="1">
            <a:off x="7040520" y="2352240"/>
            <a:ext cx="340200" cy="43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AutoShape 8"/>
          <p:cNvSpPr/>
          <p:nvPr/>
        </p:nvSpPr>
        <p:spPr>
          <a:xfrm>
            <a:off x="7380360" y="1415880"/>
            <a:ext cx="1406520" cy="1873440"/>
          </a:xfrm>
          <a:custGeom>
            <a:avLst/>
            <a:gdLst>
              <a:gd name="textAreaLeft" fmla="*/ 68400 w 1406520"/>
              <a:gd name="textAreaRight" fmla="*/ 1338120 w 1406520"/>
              <a:gd name="textAreaTop" fmla="*/ 68400 h 1873440"/>
              <a:gd name="textAreaBottom" fmla="*/ 1805040 h 1873440"/>
            </a:gdLst>
            <a:ahLst/>
            <a:rect l="textAreaLeft" t="textAreaTop" r="textAreaRight" b="textAreaBottom"/>
            <a:pathLst>
              <a:path w="21600" h="28769">
                <a:moveTo>
                  <a:pt x="3600" y="0"/>
                </a:moveTo>
                <a:arcTo wR="3600" hR="3600" stAng="16200000" swAng="-5400000"/>
                <a:lnTo>
                  <a:pt x="0" y="25169"/>
                </a:lnTo>
                <a:arcTo wR="3600" hR="3600" stAng="10800000" swAng="-5400000"/>
                <a:lnTo>
                  <a:pt x="18000" y="287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f93c1"/>
              </a:gs>
              <a:gs pos="50000">
                <a:srgbClr val="69c2ff"/>
              </a:gs>
              <a:gs pos="100000">
                <a:srgbClr val="4f93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MS PGothic"/>
              </a:rPr>
              <a:t>text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9" descr="shadow"/>
          <p:cNvPicPr/>
          <p:nvPr/>
        </p:nvPicPr>
        <p:blipFill>
          <a:blip r:embed="rId1"/>
          <a:stretch/>
        </p:blipFill>
        <p:spPr>
          <a:xfrm>
            <a:off x="7396200" y="3560760"/>
            <a:ext cx="1460520" cy="2160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0"/>
          <p:cNvSpPr/>
          <p:nvPr/>
        </p:nvSpPr>
        <p:spPr>
          <a:xfrm>
            <a:off x="5634000" y="1847880"/>
            <a:ext cx="1406520" cy="1873080"/>
          </a:xfrm>
          <a:custGeom>
            <a:avLst/>
            <a:gdLst>
              <a:gd name="textAreaLeft" fmla="*/ 68400 w 1406520"/>
              <a:gd name="textAreaRight" fmla="*/ 1338120 w 1406520"/>
              <a:gd name="textAreaTop" fmla="*/ 68400 h 1873080"/>
              <a:gd name="textAreaBottom" fmla="*/ 1804680 h 1873080"/>
            </a:gdLst>
            <a:ahLst/>
            <a:rect l="textAreaLeft" t="textAreaTop" r="textAreaRight" b="textAreaBottom"/>
            <a:pathLst>
              <a:path w="21600" h="28763">
                <a:moveTo>
                  <a:pt x="3600" y="0"/>
                </a:moveTo>
                <a:arcTo wR="3600" hR="3600" stAng="16200000" swAng="-5400000"/>
                <a:lnTo>
                  <a:pt x="0" y="25163"/>
                </a:lnTo>
                <a:arcTo wR="3600" hR="3600" stAng="10800000" swAng="-5400000"/>
                <a:lnTo>
                  <a:pt x="18000" y="287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18383"/>
              </a:gs>
              <a:gs pos="50000">
                <a:srgbClr val="ffadad"/>
              </a:gs>
              <a:gs pos="100000">
                <a:srgbClr val="c1838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MS PGothic"/>
              </a:rPr>
              <a:t>text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867120" y="2349360"/>
            <a:ext cx="1408320" cy="1876680"/>
          </a:xfrm>
          <a:custGeom>
            <a:avLst/>
            <a:gdLst>
              <a:gd name="textAreaLeft" fmla="*/ 68760 w 1408320"/>
              <a:gd name="textAreaRight" fmla="*/ 1339560 w 1408320"/>
              <a:gd name="textAreaTop" fmla="*/ 68760 h 1876680"/>
              <a:gd name="textAreaBottom" fmla="*/ 1807920 h 1876680"/>
            </a:gdLst>
            <a:ahLst/>
            <a:rect l="textAreaLeft" t="textAreaTop" r="textAreaRight" b="textAreaBottom"/>
            <a:pathLst>
              <a:path w="21600" h="28782">
                <a:moveTo>
                  <a:pt x="3600" y="0"/>
                </a:moveTo>
                <a:arcTo wR="3600" hR="3600" stAng="16200000" swAng="-5400000"/>
                <a:lnTo>
                  <a:pt x="0" y="25182"/>
                </a:lnTo>
                <a:arcTo wR="3600" hR="3600" stAng="10800000" swAng="-5400000"/>
                <a:lnTo>
                  <a:pt x="18000" y="28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f93c1"/>
              </a:gs>
              <a:gs pos="50000">
                <a:srgbClr val="69c2ff"/>
              </a:gs>
              <a:gs pos="100000">
                <a:srgbClr val="4f93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MS PGothic"/>
              </a:rPr>
              <a:t>text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AutoShape 14"/>
          <p:cNvSpPr/>
          <p:nvPr/>
        </p:nvSpPr>
        <p:spPr>
          <a:xfrm>
            <a:off x="2139840" y="2782800"/>
            <a:ext cx="1408320" cy="1873440"/>
          </a:xfrm>
          <a:custGeom>
            <a:avLst/>
            <a:gdLst>
              <a:gd name="textAreaLeft" fmla="*/ 68760 w 1408320"/>
              <a:gd name="textAreaRight" fmla="*/ 1339560 w 1408320"/>
              <a:gd name="textAreaTop" fmla="*/ 68760 h 1873440"/>
              <a:gd name="textAreaBottom" fmla="*/ 1804680 h 1873440"/>
            </a:gdLst>
            <a:ahLst/>
            <a:rect l="textAreaLeft" t="textAreaTop" r="textAreaRight" b="textAreaBottom"/>
            <a:pathLst>
              <a:path w="21600" h="28732">
                <a:moveTo>
                  <a:pt x="3600" y="0"/>
                </a:moveTo>
                <a:arcTo wR="3600" hR="3600" stAng="16200000" swAng="-5400000"/>
                <a:lnTo>
                  <a:pt x="0" y="25132"/>
                </a:lnTo>
                <a:arcTo wR="3600" hR="3600" stAng="10800000" swAng="-5400000"/>
                <a:lnTo>
                  <a:pt x="18000" y="287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18383"/>
              </a:gs>
              <a:gs pos="50000">
                <a:srgbClr val="ffadad"/>
              </a:gs>
              <a:gs pos="100000">
                <a:srgbClr val="c1838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MS PGothic"/>
              </a:rPr>
              <a:t>text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AutoShape 16"/>
          <p:cNvSpPr/>
          <p:nvPr/>
        </p:nvSpPr>
        <p:spPr>
          <a:xfrm>
            <a:off x="395280" y="3292560"/>
            <a:ext cx="1406520" cy="1861920"/>
          </a:xfrm>
          <a:custGeom>
            <a:avLst/>
            <a:gdLst>
              <a:gd name="textAreaLeft" fmla="*/ 68400 w 1406520"/>
              <a:gd name="textAreaRight" fmla="*/ 1338120 w 1406520"/>
              <a:gd name="textAreaTop" fmla="*/ 68400 h 1861920"/>
              <a:gd name="textAreaBottom" fmla="*/ 1793520 h 1861920"/>
            </a:gdLst>
            <a:ahLst/>
            <a:rect l="textAreaLeft" t="textAreaTop" r="textAreaRight" b="textAreaBottom"/>
            <a:pathLst>
              <a:path w="21600" h="28592">
                <a:moveTo>
                  <a:pt x="3600" y="0"/>
                </a:moveTo>
                <a:arcTo wR="3600" hR="3600" stAng="16200000" swAng="-5400000"/>
                <a:lnTo>
                  <a:pt x="0" y="24992"/>
                </a:lnTo>
                <a:arcTo wR="3600" hR="3600" stAng="10800000" swAng="-5400000"/>
                <a:lnTo>
                  <a:pt x="18000" y="285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f93c1"/>
              </a:gs>
              <a:gs pos="50000">
                <a:srgbClr val="69c2ff"/>
              </a:gs>
              <a:gs pos="100000">
                <a:srgbClr val="4f93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Related Docum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250920" y="1633680"/>
            <a:ext cx="2450880" cy="111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93c1"/>
              </a:gs>
              <a:gs pos="50000">
                <a:srgbClr val="69c2ff"/>
              </a:gs>
              <a:gs pos="100000">
                <a:srgbClr val="4f93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52" name="AutoShape 4"/>
          <p:cNvCxnSpPr>
            <a:stCxn id="153" idx="1"/>
            <a:endCxn id="154" idx="3"/>
          </p:cNvCxnSpPr>
          <p:nvPr/>
        </p:nvCxnSpPr>
        <p:spPr>
          <a:xfrm flipV="1" rot="10800000">
            <a:off x="2701080" y="3649320"/>
            <a:ext cx="634320" cy="1419840"/>
          </a:xfrm>
          <a:prstGeom prst="bentConnector3">
            <a:avLst>
              <a:gd name="adj1" fmla="val 498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5"/>
          <p:cNvCxnSpPr>
            <a:stCxn id="153" idx="1"/>
            <a:endCxn id="151" idx="3"/>
          </p:cNvCxnSpPr>
          <p:nvPr/>
        </p:nvCxnSpPr>
        <p:spPr>
          <a:xfrm rot="10800000">
            <a:off x="2701080" y="2188440"/>
            <a:ext cx="634320" cy="1461240"/>
          </a:xfrm>
          <a:prstGeom prst="bentConnector3">
            <a:avLst>
              <a:gd name="adj1" fmla="val 498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6"/>
          <p:cNvCxnSpPr>
            <a:stCxn id="153" idx="3"/>
            <a:endCxn id="157" idx="1"/>
          </p:cNvCxnSpPr>
          <p:nvPr/>
        </p:nvCxnSpPr>
        <p:spPr>
          <a:xfrm flipV="1">
            <a:off x="5807160" y="2259720"/>
            <a:ext cx="565920" cy="1389960"/>
          </a:xfrm>
          <a:prstGeom prst="bentConnector3">
            <a:avLst>
              <a:gd name="adj1" fmla="val 499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AutoShape 7"/>
          <p:cNvCxnSpPr>
            <a:stCxn id="153" idx="3"/>
            <a:endCxn id="159" idx="1"/>
          </p:cNvCxnSpPr>
          <p:nvPr/>
        </p:nvCxnSpPr>
        <p:spPr>
          <a:xfrm>
            <a:off x="5807160" y="3649320"/>
            <a:ext cx="565920" cy="1492920"/>
          </a:xfrm>
          <a:prstGeom prst="bentConnector3">
            <a:avLst>
              <a:gd name="adj1" fmla="val 499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AutoShape 8"/>
          <p:cNvCxnSpPr>
            <a:stCxn id="153" idx="1"/>
            <a:endCxn id="161" idx="3"/>
          </p:cNvCxnSpPr>
          <p:nvPr/>
        </p:nvCxnSpPr>
        <p:spPr>
          <a:xfrm flipH="1">
            <a:off x="2701440" y="3649320"/>
            <a:ext cx="634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AutoShape 9"/>
          <p:cNvCxnSpPr>
            <a:stCxn id="153" idx="3"/>
            <a:endCxn id="163" idx="1"/>
          </p:cNvCxnSpPr>
          <p:nvPr/>
        </p:nvCxnSpPr>
        <p:spPr>
          <a:xfrm>
            <a:off x="5807160" y="3649320"/>
            <a:ext cx="565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AutoShape 10"/>
          <p:cNvSpPr/>
          <p:nvPr/>
        </p:nvSpPr>
        <p:spPr>
          <a:xfrm>
            <a:off x="250920" y="3094200"/>
            <a:ext cx="2450880" cy="111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93c1"/>
              </a:gs>
              <a:gs pos="50000">
                <a:srgbClr val="69c2ff"/>
              </a:gs>
              <a:gs pos="100000">
                <a:srgbClr val="4f93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11"/>
          <p:cNvSpPr/>
          <p:nvPr/>
        </p:nvSpPr>
        <p:spPr>
          <a:xfrm>
            <a:off x="250920" y="4513320"/>
            <a:ext cx="2450880" cy="111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93c1"/>
              </a:gs>
              <a:gs pos="50000">
                <a:srgbClr val="69c2ff"/>
              </a:gs>
              <a:gs pos="100000">
                <a:srgbClr val="4f93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6372360" y="1704960"/>
            <a:ext cx="2450880" cy="111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93c1"/>
              </a:gs>
              <a:gs pos="50000">
                <a:srgbClr val="69c2ff"/>
              </a:gs>
              <a:gs pos="100000">
                <a:srgbClr val="4f93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AutoShape 13"/>
          <p:cNvSpPr/>
          <p:nvPr/>
        </p:nvSpPr>
        <p:spPr>
          <a:xfrm>
            <a:off x="6372360" y="3094200"/>
            <a:ext cx="2450880" cy="111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93c1"/>
              </a:gs>
              <a:gs pos="50000">
                <a:srgbClr val="69c2ff"/>
              </a:gs>
              <a:gs pos="100000">
                <a:srgbClr val="4f93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14"/>
          <p:cNvSpPr/>
          <p:nvPr/>
        </p:nvSpPr>
        <p:spPr>
          <a:xfrm>
            <a:off x="6372360" y="4586400"/>
            <a:ext cx="2450880" cy="111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93c1"/>
              </a:gs>
              <a:gs pos="50000">
                <a:srgbClr val="69c2ff"/>
              </a:gs>
              <a:gs pos="100000">
                <a:srgbClr val="4f93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3335400" y="1674720"/>
            <a:ext cx="2471760" cy="3949920"/>
          </a:xfrm>
          <a:custGeom>
            <a:avLst/>
            <a:gdLst>
              <a:gd name="textAreaLeft" fmla="*/ 120600 w 2471760"/>
              <a:gd name="textAreaRight" fmla="*/ 2351160 w 2471760"/>
              <a:gd name="textAreaTop" fmla="*/ 120600 h 3949920"/>
              <a:gd name="textAreaBottom" fmla="*/ 3829320 h 3949920"/>
            </a:gdLst>
            <a:ahLst/>
            <a:rect l="textAreaLeft" t="textAreaTop" r="textAreaRight" b="textAreaBottom"/>
            <a:pathLst>
              <a:path w="21600" h="34515">
                <a:moveTo>
                  <a:pt x="3600" y="0"/>
                </a:moveTo>
                <a:arcTo wR="3600" hR="3600" stAng="16200000" swAng="-5400000"/>
                <a:lnTo>
                  <a:pt x="0" y="30915"/>
                </a:lnTo>
                <a:arcTo wR="3600" hR="3600" stAng="10800000" swAng="-5400000"/>
                <a:lnTo>
                  <a:pt x="18000" y="34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18383"/>
              </a:gs>
              <a:gs pos="50000">
                <a:srgbClr val="ffadad"/>
              </a:gs>
              <a:gs pos="100000">
                <a:srgbClr val="c1838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ubtit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6" descr="shadow"/>
          <p:cNvPicPr/>
          <p:nvPr/>
        </p:nvPicPr>
        <p:blipFill>
          <a:blip r:embed="rId1"/>
          <a:stretch/>
        </p:blipFill>
        <p:spPr>
          <a:xfrm>
            <a:off x="0" y="5913360"/>
            <a:ext cx="2879640" cy="2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Related Docum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2449440" y="2303640"/>
            <a:ext cx="6191280" cy="7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9898"/>
              </a:gs>
              <a:gs pos="50000">
                <a:srgbClr val="ffadad"/>
              </a:gs>
              <a:gs pos="100000">
                <a:srgbClr val="e098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468360" y="2303640"/>
            <a:ext cx="2197080" cy="7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d1d1"/>
              </a:gs>
              <a:gs pos="50000">
                <a:srgbClr val="ffffff"/>
              </a:gs>
              <a:gs pos="100000">
                <a:srgbClr val="d1d1d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449440" y="3873600"/>
            <a:ext cx="6191280" cy="7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9898"/>
              </a:gs>
              <a:gs pos="50000">
                <a:srgbClr val="ffadad"/>
              </a:gs>
              <a:gs pos="100000">
                <a:srgbClr val="e098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468360" y="3873600"/>
            <a:ext cx="2197080" cy="7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d1d1"/>
              </a:gs>
              <a:gs pos="50000">
                <a:srgbClr val="ffffff"/>
              </a:gs>
              <a:gs pos="100000">
                <a:srgbClr val="d1d1d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449440" y="3087720"/>
            <a:ext cx="6191280" cy="7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caae0"/>
              </a:gs>
              <a:gs pos="50000">
                <a:srgbClr val="69c2ff"/>
              </a:gs>
              <a:gs pos="100000">
                <a:srgbClr val="5caa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468360" y="3087720"/>
            <a:ext cx="2197080" cy="7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d1d1"/>
              </a:gs>
              <a:gs pos="50000">
                <a:srgbClr val="ffffff"/>
              </a:gs>
              <a:gs pos="100000">
                <a:srgbClr val="d1d1d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449440" y="1519200"/>
            <a:ext cx="6191280" cy="7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caae0"/>
              </a:gs>
              <a:gs pos="50000">
                <a:srgbClr val="69c2ff"/>
              </a:gs>
              <a:gs pos="100000">
                <a:srgbClr val="5caa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468360" y="1519200"/>
            <a:ext cx="2197080" cy="7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d1d1"/>
              </a:gs>
              <a:gs pos="50000">
                <a:srgbClr val="ffffff"/>
              </a:gs>
              <a:gs pos="100000">
                <a:srgbClr val="d1d1d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2449440" y="5443560"/>
            <a:ext cx="6191280" cy="7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9898"/>
              </a:gs>
              <a:gs pos="50000">
                <a:srgbClr val="ffadad"/>
              </a:gs>
              <a:gs pos="100000">
                <a:srgbClr val="e098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468360" y="5443560"/>
            <a:ext cx="2197080" cy="7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d1d1"/>
              </a:gs>
              <a:gs pos="50000">
                <a:srgbClr val="ffffff"/>
              </a:gs>
              <a:gs pos="100000">
                <a:srgbClr val="d1d1d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2449440" y="4657680"/>
            <a:ext cx="6191280" cy="7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caae0"/>
              </a:gs>
              <a:gs pos="50000">
                <a:srgbClr val="69c2ff"/>
              </a:gs>
              <a:gs pos="100000">
                <a:srgbClr val="5caa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468360" y="4657680"/>
            <a:ext cx="2197080" cy="7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d1d1"/>
              </a:gs>
              <a:gs pos="50000">
                <a:srgbClr val="ffffff"/>
              </a:gs>
              <a:gs pos="100000">
                <a:srgbClr val="d1d1d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33280" y="61992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9c2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 u="sng">
                <a:solidFill>
                  <a:srgbClr val="69c2ff"/>
                </a:solidFill>
                <a:uFillTx/>
                <a:latin typeface="Arial"/>
                <a:ea typeface="宋体"/>
                <a:hlinkClick r:id="rId2"/>
              </a:rPr>
              <a:t>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lated Docum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Object 3"/>
          <p:cNvGraphicFramePr/>
          <p:nvPr/>
        </p:nvGraphicFramePr>
        <p:xfrm>
          <a:off x="1008000" y="1469880"/>
          <a:ext cx="712800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469880"/>
                    <a:ext cx="712800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/>
  <dc:description/>
  <cp:keywords/>
  <dc:language>en-US</dc:language>
  <cp:lastModifiedBy>yu wang</cp:lastModifiedBy>
  <cp:lastPrinted>1899-12-30T00:00:00Z</cp:lastPrinted>
  <dcterms:modified xsi:type="dcterms:W3CDTF">2015-08-12T14:53:06Z</dcterms:modified>
  <cp:revision>39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