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3479-81F6-4C6F-A857-4A2EF543E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8DBF-B72E-44E4-9F67-152D90C8B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2713-346B-49FD-A143-3CA8B52BE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BF65-4C38-4934-8460-14099C847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2A1AB-46C1-44A4-8067-D1E5F1F73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07430-FBE2-43A3-A30A-12C4739B0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70CE7-8624-464D-9155-A6A8B38E1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6D31F-79E9-42FA-85E5-2797CCB05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A1FB9-8B85-416D-96FD-37E7D337A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B488B-39EB-4BFE-AA68-FB15C489B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68E50-5B7B-4557-80FF-0CE53BF0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8BE4-D138-4061-A1A3-0D41923B6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ACABD-C805-405E-84CE-215CAB0E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1746F-2FCA-4F54-B0F5-698F467A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ED8DB-B908-473B-8587-856E14A4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CB813-3B83-4B3E-8E3B-8BBB78ED5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D62C3-918D-41D4-A300-6733F705A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DA6E-C06C-4578-88AA-AD7D2E26C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56DE-0EFF-4E59-B036-EA7D57D23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C8C7-3B5A-4FFA-AC96-47B3E0A88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A0FA-98FC-42F6-A1D7-24ACC3EC3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ACCF-43F6-46D9-AB92-B2048B14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868D-3A54-4CF8-B050-FD16E43C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CCCC-9E46-477E-9432-503F04E9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entury Gothic"/>
                <a:ea typeface="方正稚艺简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entury Gothic"/>
                <a:ea typeface="方正稚艺简体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entury Gothic"/>
                <a:ea typeface="方正稚艺简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24C9BD2-F7FA-419A-9B6E-9F1015189B9B}" type="slidenum">
              <a:rPr b="0" lang="en-US" sz="1200" spc="-1" strike="noStrike">
                <a:solidFill>
                  <a:srgbClr val="8b8b8b"/>
                </a:solidFill>
                <a:latin typeface="Century Gothic"/>
                <a:ea typeface="方正稚艺简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方正稚艺简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ffffff"/>
                </a:solidFill>
                <a:latin typeface="Century Gothic"/>
                <a:ea typeface="方正稚艺简体"/>
              </a:rPr>
              <a:t>单击此处编辑母版文本样式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ffffff"/>
                </a:solidFill>
                <a:latin typeface="Century Gothic"/>
                <a:ea typeface="方正稚艺简体"/>
              </a:rPr>
              <a:t>第二级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ffffff"/>
                </a:solidFill>
                <a:latin typeface="Century Gothic"/>
                <a:ea typeface="方正稚艺简体"/>
              </a:rPr>
              <a:t>第三级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ffffff"/>
                </a:solidFill>
                <a:latin typeface="Century Gothic"/>
                <a:ea typeface="方正稚艺简体"/>
              </a:rPr>
              <a:t>第四级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ffffff"/>
                </a:solidFill>
                <a:latin typeface="Century Gothic"/>
                <a:ea typeface="方正稚艺简体"/>
              </a:rPr>
              <a:t>第五级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entury Gothic"/>
                <a:ea typeface="方正稚艺简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entury Gothic"/>
                <a:ea typeface="方正稚艺简体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entury Gothic"/>
                <a:ea typeface="方正稚艺简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15A4837-A40A-4369-A4D2-14C559999FA9}" type="slidenum">
              <a:rPr b="0" lang="en-US" sz="1200" spc="-1" strike="noStrike">
                <a:solidFill>
                  <a:srgbClr val="8b8b8b"/>
                </a:solidFill>
                <a:latin typeface="Century Gothic"/>
                <a:ea typeface="方正稚艺简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2178000" y="2969640"/>
            <a:ext cx="5013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简洁线条设计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3" name="直接连接符 3"/>
          <p:cNvCxnSpPr/>
          <p:nvPr/>
        </p:nvCxnSpPr>
        <p:spPr>
          <a:xfrm>
            <a:off x="3032280" y="2705040"/>
            <a:ext cx="3079440" cy="19440"/>
          </a:xfrm>
          <a:prstGeom prst="straightConnector1">
            <a:avLst/>
          </a:prstGeom>
          <a:ln w="38100">
            <a:solidFill>
              <a:srgbClr val="ffffff"/>
            </a:solidFill>
            <a:round/>
            <a:headEnd len="med" type="oval" w="med"/>
            <a:tailEnd len="med" type="oval" w="med"/>
          </a:ln>
        </p:spPr>
      </p:cxnSp>
      <p:cxnSp>
        <p:nvCxnSpPr>
          <p:cNvPr id="84" name="直接连接符 4"/>
          <p:cNvCxnSpPr/>
          <p:nvPr/>
        </p:nvCxnSpPr>
        <p:spPr>
          <a:xfrm>
            <a:off x="3032280" y="4133520"/>
            <a:ext cx="3079440" cy="19440"/>
          </a:xfrm>
          <a:prstGeom prst="straightConnector1">
            <a:avLst/>
          </a:prstGeom>
          <a:ln w="38100">
            <a:solidFill>
              <a:srgbClr val="ffffff"/>
            </a:solidFill>
            <a:round/>
            <a:headEnd len="med" type="oval" w="med"/>
            <a:tailEnd len="med" type="oval" w="med"/>
          </a:ln>
        </p:spPr>
      </p:cxnSp>
      <p:sp>
        <p:nvSpPr>
          <p:cNvPr id="8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方正稚艺简体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entury Gothic"/>
                <a:ea typeface="方正稚艺简体"/>
              </a:rPr>
              <a:t>站点介绍：</a:t>
            </a:r>
            <a:endParaRPr b="0" lang="en-US" sz="105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entury Gothic"/>
                <a:ea typeface="方正稚艺简体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entury Gothic"/>
                <a:ea typeface="方正稚艺简体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entury Gothic"/>
                <a:ea typeface="方正稚艺简体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entury Gothic"/>
                <a:ea typeface="方正稚艺简体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entury Gothic"/>
                <a:ea typeface="方正稚艺简体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entury Gothic"/>
                <a:ea typeface="方正稚艺简体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entury Gothic"/>
                <a:ea typeface="方正稚艺简体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entury Gothic"/>
                <a:ea typeface="方正稚艺简体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entury Gothic"/>
                <a:ea typeface="方正稚艺简体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entury Gothic"/>
                <a:ea typeface="方正稚艺简体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entury Gothic"/>
                <a:ea typeface="方正稚艺简体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entury Gothic"/>
                <a:ea typeface="方正稚艺简体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entury Gothic"/>
                <a:ea typeface="方正稚艺简体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entury Gothic"/>
                <a:ea typeface="方正稚艺简体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entury Gothic"/>
                <a:ea typeface="方正稚艺简体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entury Gothic"/>
                <a:ea typeface="方正稚艺简体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entury Gothic"/>
                <a:ea typeface="方正稚艺简体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entury Gothic"/>
                <a:ea typeface="方正稚艺简体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entury Gothic"/>
                <a:ea typeface="方正稚艺简体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entury Gothic"/>
                <a:ea typeface="方正稚艺简体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entury Gothic"/>
                <a:ea typeface="方正稚艺简体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entury Gothic"/>
                <a:ea typeface="方正稚艺简体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entury Gothic"/>
                <a:ea typeface="方正稚艺简体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entury Gothic"/>
                <a:ea typeface="方正稚艺简体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entury Gothic"/>
                <a:ea typeface="方正稚艺简体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entury Gothic"/>
                <a:ea typeface="方正稚艺简体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entury Gothic"/>
                <a:ea typeface="方正稚艺简体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entury Gothic"/>
                <a:ea typeface="方正稚艺简体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entury Gothic"/>
                <a:ea typeface="方正稚艺简体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entury Gothic"/>
                <a:ea typeface="方正稚艺简体"/>
              </a:rPr>
              <a:t> </a:t>
            </a:r>
            <a:endParaRPr b="0" lang="en-US" sz="105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entury Gothic"/>
                <a:ea typeface="方正稚艺简体"/>
              </a:rPr>
              <a:t>特别说明：</a:t>
            </a:r>
            <a:endParaRPr b="0" lang="en-US" sz="105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entury Gothic"/>
                <a:ea typeface="方正稚艺简体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entury Gothic"/>
                <a:ea typeface="方正稚艺简体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entury Gothic"/>
                <a:ea typeface="方正稚艺简体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entury Gothic"/>
                <a:ea typeface="方正稚艺简体"/>
              </a:rPr>
              <a:t>栏目推荐：</a:t>
            </a:r>
            <a:endParaRPr b="0" lang="en-US" sz="105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entury Gothic"/>
                <a:ea typeface="方正稚艺简体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Century Gothic"/>
                <a:ea typeface="方正稚艺简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entury Gothic"/>
                <a:ea typeface="方正稚艺简体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Century Gothic"/>
                <a:ea typeface="方正稚艺简体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Century Gothic"/>
                <a:ea typeface="方正稚艺简体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entury Gothic"/>
                <a:ea typeface="方正稚艺简体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Century Gothic"/>
                <a:ea typeface="方正稚艺简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entury Gothic"/>
                <a:ea typeface="方正稚艺简体"/>
              </a:rPr>
              <a:t>http://www.eeppt.com/dongtai/</a:t>
            </a:r>
            <a:endParaRPr b="0" lang="en-US" sz="9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entury Gothic"/>
                <a:ea typeface="方正稚艺简体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Century Gothic"/>
                <a:ea typeface="方正稚艺简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entury Gothic"/>
                <a:ea typeface="方正稚艺简体"/>
              </a:rPr>
              <a:t>http://www.eeppt.com/moban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entury Gothic"/>
                <a:ea typeface="方正稚艺简体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Century Gothic"/>
                <a:ea typeface="方正稚艺简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entury Gothic"/>
                <a:ea typeface="方正稚艺简体"/>
              </a:rPr>
              <a:t>http://www.eeppt.com/moban/chuangyi/</a:t>
            </a:r>
            <a:endParaRPr b="0" lang="en-US" sz="9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entury Gothic"/>
                <a:ea typeface="方正稚艺简体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Century Gothic"/>
                <a:ea typeface="方正稚艺简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entury Gothic"/>
                <a:ea typeface="方正稚艺简体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entury Gothic"/>
                <a:ea typeface="方正稚艺简体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Century Gothic"/>
                <a:ea typeface="方正稚艺简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entury Gothic"/>
                <a:ea typeface="方正稚艺简体"/>
              </a:rPr>
              <a:t>http://www.eeppt.com/moban/gongzuo/</a:t>
            </a:r>
            <a:endParaRPr b="0" lang="en-US" sz="9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entury Gothic"/>
                <a:ea typeface="方正稚艺简体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Century Gothic"/>
                <a:ea typeface="方正稚艺简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entury Gothic"/>
                <a:ea typeface="方正稚艺简体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entury Gothic"/>
                <a:ea typeface="方正稚艺简体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Century Gothic"/>
                <a:ea typeface="方正稚艺简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entury Gothic"/>
                <a:ea typeface="方正稚艺简体"/>
              </a:rPr>
              <a:t>http://www.eeppt.com/moban/kejian/</a:t>
            </a:r>
            <a:endParaRPr b="0" lang="en-US" sz="9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entury Gothic"/>
                <a:ea typeface="方正稚艺简体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Century Gothic"/>
                <a:ea typeface="方正稚艺简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entury Gothic"/>
                <a:ea typeface="方正稚艺简体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entury Gothic"/>
                <a:ea typeface="方正稚艺简体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Century Gothic"/>
                <a:ea typeface="方正稚艺简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entury Gothic"/>
                <a:ea typeface="方正稚艺简体"/>
              </a:rPr>
              <a:t>http://www.eeppt.com/moban/shangwu/</a:t>
            </a:r>
            <a:endParaRPr b="0" lang="en-US" sz="9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entury Gothic"/>
                <a:ea typeface="方正稚艺简体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Century Gothic"/>
                <a:ea typeface="方正稚艺简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entury Gothic"/>
                <a:ea typeface="方正稚艺简体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entury Gothic"/>
                <a:ea typeface="方正稚艺简体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Century Gothic"/>
                <a:ea typeface="方正稚艺简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entury Gothic"/>
                <a:ea typeface="方正稚艺简体"/>
              </a:rPr>
              <a:t>http://www.eeppt.com/sucai/</a:t>
            </a:r>
            <a:endParaRPr b="0" lang="en-US" sz="9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entury Gothic"/>
                <a:ea typeface="方正稚艺简体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Century Gothic"/>
                <a:ea typeface="方正稚艺简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entury Gothic"/>
                <a:ea typeface="方正稚艺简体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entury Gothic"/>
                <a:ea typeface="方正稚艺简体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Century Gothic"/>
                <a:ea typeface="方正稚艺简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entury Gothic"/>
                <a:ea typeface="方正稚艺简体"/>
              </a:rPr>
              <a:t>http://www.eeppt.com/moban/fengjing/</a:t>
            </a:r>
            <a:endParaRPr b="0" lang="en-US" sz="9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entury Gothic"/>
                <a:ea typeface="方正稚艺简体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Century Gothic"/>
                <a:ea typeface="方正稚艺简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entury Gothic"/>
                <a:ea typeface="方正稚艺简体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entury Gothic"/>
                <a:ea typeface="方正稚艺简体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Century Gothic"/>
                <a:ea typeface="方正稚艺简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entury Gothic"/>
                <a:ea typeface="方正稚艺简体"/>
              </a:rPr>
              <a:t>http://www.eeppt.com/moban/jianjie/</a:t>
            </a:r>
            <a:endParaRPr b="0" lang="en-US" sz="9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entury Gothic"/>
                <a:ea typeface="方正稚艺简体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Century Gothic"/>
                <a:ea typeface="方正稚艺简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entury Gothic"/>
                <a:ea typeface="方正稚艺简体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entury Gothic"/>
                <a:ea typeface="方正稚艺简体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Century Gothic"/>
                <a:ea typeface="方正稚艺简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entury Gothic"/>
                <a:ea typeface="方正稚艺简体"/>
              </a:rPr>
              <a:t>http://www.eeppt.com/moban/jiaoyu/</a:t>
            </a:r>
            <a:endParaRPr b="0" lang="en-US" sz="9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entury Gothic"/>
                <a:ea typeface="方正稚艺简体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Century Gothic"/>
                <a:ea typeface="方正稚艺简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entury Gothic"/>
                <a:ea typeface="方正稚艺简体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entury Gothic"/>
                <a:ea typeface="方正稚艺简体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Century Gothic"/>
                <a:ea typeface="方正稚艺简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entury Gothic"/>
                <a:ea typeface="方正稚艺简体"/>
              </a:rPr>
              <a:t>http://www.eeppt.com/moban/lunwen/</a:t>
            </a:r>
            <a:endParaRPr b="0" lang="en-US" sz="9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entury Gothic"/>
                <a:ea typeface="方正稚艺简体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Century Gothic"/>
                <a:ea typeface="方正稚艺简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entury Gothic"/>
                <a:ea typeface="方正稚艺简体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entury Gothic"/>
                <a:ea typeface="方正稚艺简体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Century Gothic"/>
                <a:ea typeface="方正稚艺简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entury Gothic"/>
                <a:ea typeface="方正稚艺简体"/>
              </a:rPr>
              <a:t>http://www.eeppt.com/moban/yiliao/</a:t>
            </a:r>
            <a:endParaRPr b="0" lang="en-US" sz="9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组合 1"/>
          <p:cNvGrpSpPr/>
          <p:nvPr/>
        </p:nvGrpSpPr>
        <p:grpSpPr>
          <a:xfrm>
            <a:off x="1332000" y="2560680"/>
            <a:ext cx="1726920" cy="1726920"/>
            <a:chOff x="1332000" y="2560680"/>
            <a:chExt cx="1726920" cy="1726920"/>
          </a:xfrm>
        </p:grpSpPr>
        <p:sp>
          <p:nvSpPr>
            <p:cNvPr id="87" name="椭圆 14"/>
            <p:cNvSpPr/>
            <p:nvPr/>
          </p:nvSpPr>
          <p:spPr>
            <a:xfrm>
              <a:off x="1332000" y="2560680"/>
              <a:ext cx="1726920" cy="1726920"/>
            </a:xfrm>
            <a:prstGeom prst="ellipse">
              <a:avLst/>
            </a:prstGeom>
            <a:solidFill>
              <a:srgbClr val="003873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40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88" name="TextBox 15"/>
            <p:cNvSpPr/>
            <p:nvPr/>
          </p:nvSpPr>
          <p:spPr>
            <a:xfrm>
              <a:off x="1604880" y="3508920"/>
              <a:ext cx="11808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erson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矩形 16"/>
            <p:cNvSpPr/>
            <p:nvPr/>
          </p:nvSpPr>
          <p:spPr>
            <a:xfrm>
              <a:off x="1800000" y="2944440"/>
              <a:ext cx="79056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个人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0" name="直接箭头连接符 334"/>
          <p:cNvCxnSpPr/>
          <p:nvPr/>
        </p:nvCxnSpPr>
        <p:spPr>
          <a:xfrm>
            <a:off x="3419280" y="3423960"/>
            <a:ext cx="2376720" cy="360"/>
          </a:xfrm>
          <a:prstGeom prst="straightConnector1">
            <a:avLst/>
          </a:prstGeom>
          <a:ln w="28575">
            <a:solidFill>
              <a:srgbClr val="ffffff"/>
            </a:solidFill>
            <a:round/>
            <a:tailEnd len="med" type="arrow" w="med"/>
          </a:ln>
        </p:spPr>
      </p:cxnSp>
      <p:grpSp>
        <p:nvGrpSpPr>
          <p:cNvPr id="91" name="组合 343"/>
          <p:cNvGrpSpPr/>
          <p:nvPr/>
        </p:nvGrpSpPr>
        <p:grpSpPr>
          <a:xfrm>
            <a:off x="3980880" y="2690640"/>
            <a:ext cx="1281240" cy="1163520"/>
            <a:chOff x="3980880" y="2690640"/>
            <a:chExt cx="1281240" cy="1163520"/>
          </a:xfrm>
        </p:grpSpPr>
        <p:sp>
          <p:nvSpPr>
            <p:cNvPr id="92" name="TextBox 337"/>
            <p:cNvSpPr/>
            <p:nvPr/>
          </p:nvSpPr>
          <p:spPr>
            <a:xfrm>
              <a:off x="4205520" y="2690640"/>
              <a:ext cx="79056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定位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矩形 340"/>
            <p:cNvSpPr/>
            <p:nvPr/>
          </p:nvSpPr>
          <p:spPr>
            <a:xfrm>
              <a:off x="3980880" y="3490200"/>
              <a:ext cx="12812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argetin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" name="组合 345"/>
          <p:cNvGrpSpPr/>
          <p:nvPr/>
        </p:nvGrpSpPr>
        <p:grpSpPr>
          <a:xfrm>
            <a:off x="6156360" y="2631960"/>
            <a:ext cx="1728360" cy="1726920"/>
            <a:chOff x="6156360" y="2631960"/>
            <a:chExt cx="1728360" cy="1726920"/>
          </a:xfrm>
        </p:grpSpPr>
        <p:sp>
          <p:nvSpPr>
            <p:cNvPr id="95" name="椭圆 336"/>
            <p:cNvSpPr/>
            <p:nvPr/>
          </p:nvSpPr>
          <p:spPr>
            <a:xfrm>
              <a:off x="6156360" y="2631960"/>
              <a:ext cx="1728360" cy="1726920"/>
            </a:xfrm>
            <a:prstGeom prst="ellipse">
              <a:avLst/>
            </a:prstGeom>
            <a:solidFill>
              <a:srgbClr val="003873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40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96" name="TextBox 341"/>
            <p:cNvSpPr/>
            <p:nvPr/>
          </p:nvSpPr>
          <p:spPr>
            <a:xfrm>
              <a:off x="6281280" y="3519360"/>
              <a:ext cx="14781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ssoci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矩形 342"/>
            <p:cNvSpPr/>
            <p:nvPr/>
          </p:nvSpPr>
          <p:spPr>
            <a:xfrm>
              <a:off x="6625440" y="2978280"/>
              <a:ext cx="79056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企业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3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3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3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3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3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3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3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3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3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4.44444E-006 L 0.28438 0.00463 E">
                                      <p:cBhvr>
                                        <p:cTn id="3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98" name="直接连接符 5"/>
          <p:cNvCxnSpPr/>
          <p:nvPr/>
        </p:nvCxnSpPr>
        <p:spPr>
          <a:xfrm>
            <a:off x="0" y="742680"/>
            <a:ext cx="9144360" cy="360"/>
          </a:xfrm>
          <a:prstGeom prst="straightConnector1">
            <a:avLst/>
          </a:prstGeom>
          <a:ln w="28575">
            <a:solidFill>
              <a:srgbClr val="ffffff"/>
            </a:solidFill>
            <a:round/>
          </a:ln>
        </p:spPr>
      </p:cxnSp>
      <p:cxnSp>
        <p:nvCxnSpPr>
          <p:cNvPr id="99" name="直接连接符 6"/>
          <p:cNvCxnSpPr/>
          <p:nvPr/>
        </p:nvCxnSpPr>
        <p:spPr>
          <a:xfrm>
            <a:off x="0" y="5524200"/>
            <a:ext cx="9144360" cy="360"/>
          </a:xfrm>
          <a:prstGeom prst="straightConnector1">
            <a:avLst/>
          </a:prstGeom>
          <a:ln w="28575">
            <a:solidFill>
              <a:srgbClr val="ffffff"/>
            </a:solidFill>
            <a:round/>
          </a:ln>
        </p:spPr>
      </p:cxnSp>
      <p:sp>
        <p:nvSpPr>
          <p:cNvPr id="100" name="TextBox 7"/>
          <p:cNvSpPr/>
          <p:nvPr/>
        </p:nvSpPr>
        <p:spPr>
          <a:xfrm>
            <a:off x="1946160" y="1924200"/>
            <a:ext cx="31986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心设计，诚信笃实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Box 8"/>
          <p:cNvSpPr/>
          <p:nvPr/>
        </p:nvSpPr>
        <p:spPr>
          <a:xfrm>
            <a:off x="4194000" y="3753000"/>
            <a:ext cx="31986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精心选择，创意营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02" name="直接连接符 43"/>
          <p:cNvCxnSpPr/>
          <p:nvPr/>
        </p:nvCxnSpPr>
        <p:spPr>
          <a:xfrm>
            <a:off x="4572000" y="0"/>
            <a:ext cx="360" cy="6858360"/>
          </a:xfrm>
          <a:prstGeom prst="straightConnector1">
            <a:avLst/>
          </a:prstGeom>
          <a:ln>
            <a:solidFill>
              <a:srgbClr val="ffffff"/>
            </a:solidFill>
            <a:round/>
          </a:ln>
        </p:spPr>
      </p:cxnSp>
      <p:grpSp>
        <p:nvGrpSpPr>
          <p:cNvPr id="103" name="组合 4"/>
          <p:cNvGrpSpPr/>
          <p:nvPr/>
        </p:nvGrpSpPr>
        <p:grpSpPr>
          <a:xfrm>
            <a:off x="3722760" y="2708280"/>
            <a:ext cx="1726920" cy="1726920"/>
            <a:chOff x="3722760" y="2708280"/>
            <a:chExt cx="1726920" cy="1726920"/>
          </a:xfrm>
        </p:grpSpPr>
        <p:sp>
          <p:nvSpPr>
            <p:cNvPr id="104" name="椭圆 1"/>
            <p:cNvSpPr/>
            <p:nvPr/>
          </p:nvSpPr>
          <p:spPr>
            <a:xfrm>
              <a:off x="3722760" y="2708280"/>
              <a:ext cx="1726920" cy="1726920"/>
            </a:xfrm>
            <a:prstGeom prst="ellipse">
              <a:avLst/>
            </a:prstGeom>
            <a:solidFill>
              <a:srgbClr val="003873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40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05" name="矩形 3"/>
            <p:cNvSpPr/>
            <p:nvPr/>
          </p:nvSpPr>
          <p:spPr>
            <a:xfrm>
              <a:off x="4209840" y="3206880"/>
              <a:ext cx="79056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企业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" name="组合 10"/>
          <p:cNvGrpSpPr/>
          <p:nvPr/>
        </p:nvGrpSpPr>
        <p:grpSpPr>
          <a:xfrm>
            <a:off x="5742000" y="1305000"/>
            <a:ext cx="1209240" cy="1209240"/>
            <a:chOff x="5742000" y="1305000"/>
            <a:chExt cx="1209240" cy="1209240"/>
          </a:xfrm>
        </p:grpSpPr>
        <p:sp>
          <p:nvSpPr>
            <p:cNvPr id="107" name="椭圆 5"/>
            <p:cNvSpPr/>
            <p:nvPr/>
          </p:nvSpPr>
          <p:spPr>
            <a:xfrm>
              <a:off x="5742000" y="1305000"/>
              <a:ext cx="1209240" cy="1209240"/>
            </a:xfrm>
            <a:prstGeom prst="ellipse">
              <a:avLst/>
            </a:prstGeom>
            <a:solidFill>
              <a:srgbClr val="003873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40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08" name="矩形 6"/>
            <p:cNvSpPr/>
            <p:nvPr/>
          </p:nvSpPr>
          <p:spPr>
            <a:xfrm>
              <a:off x="6041520" y="1636920"/>
              <a:ext cx="60768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主动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9" name="组合 9"/>
          <p:cNvGrpSpPr/>
          <p:nvPr/>
        </p:nvGrpSpPr>
        <p:grpSpPr>
          <a:xfrm>
            <a:off x="6365880" y="2962440"/>
            <a:ext cx="1209240" cy="1211040"/>
            <a:chOff x="6365880" y="2962440"/>
            <a:chExt cx="1209240" cy="1211040"/>
          </a:xfrm>
        </p:grpSpPr>
        <p:sp>
          <p:nvSpPr>
            <p:cNvPr id="110" name="椭圆 7"/>
            <p:cNvSpPr/>
            <p:nvPr/>
          </p:nvSpPr>
          <p:spPr>
            <a:xfrm>
              <a:off x="6365880" y="2962440"/>
              <a:ext cx="1209240" cy="1211040"/>
            </a:xfrm>
            <a:prstGeom prst="ellipse">
              <a:avLst/>
            </a:prstGeom>
            <a:solidFill>
              <a:srgbClr val="003873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40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11" name="矩形 8"/>
            <p:cNvSpPr/>
            <p:nvPr/>
          </p:nvSpPr>
          <p:spPr>
            <a:xfrm>
              <a:off x="6665400" y="3294720"/>
              <a:ext cx="60768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诚信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" name="组合 11"/>
          <p:cNvGrpSpPr/>
          <p:nvPr/>
        </p:nvGrpSpPr>
        <p:grpSpPr>
          <a:xfrm>
            <a:off x="5845320" y="4635360"/>
            <a:ext cx="1209240" cy="1209240"/>
            <a:chOff x="5845320" y="4635360"/>
            <a:chExt cx="1209240" cy="1209240"/>
          </a:xfrm>
        </p:grpSpPr>
        <p:sp>
          <p:nvSpPr>
            <p:cNvPr id="113" name="椭圆 12"/>
            <p:cNvSpPr/>
            <p:nvPr/>
          </p:nvSpPr>
          <p:spPr>
            <a:xfrm>
              <a:off x="5845320" y="4635360"/>
              <a:ext cx="1209240" cy="1209240"/>
            </a:xfrm>
            <a:prstGeom prst="ellipse">
              <a:avLst/>
            </a:prstGeom>
            <a:solidFill>
              <a:srgbClr val="003873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40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14" name="矩形 13"/>
            <p:cNvSpPr/>
            <p:nvPr/>
          </p:nvSpPr>
          <p:spPr>
            <a:xfrm>
              <a:off x="6144840" y="4967640"/>
              <a:ext cx="60768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创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" name="组合 14"/>
          <p:cNvGrpSpPr/>
          <p:nvPr/>
        </p:nvGrpSpPr>
        <p:grpSpPr>
          <a:xfrm>
            <a:off x="2128680" y="1308240"/>
            <a:ext cx="1211040" cy="1211040"/>
            <a:chOff x="2128680" y="1308240"/>
            <a:chExt cx="1211040" cy="1211040"/>
          </a:xfrm>
        </p:grpSpPr>
        <p:sp>
          <p:nvSpPr>
            <p:cNvPr id="116" name="椭圆 15"/>
            <p:cNvSpPr/>
            <p:nvPr/>
          </p:nvSpPr>
          <p:spPr>
            <a:xfrm>
              <a:off x="2128680" y="1308240"/>
              <a:ext cx="1211040" cy="1211040"/>
            </a:xfrm>
            <a:prstGeom prst="ellipse">
              <a:avLst/>
            </a:prstGeom>
            <a:solidFill>
              <a:srgbClr val="003873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40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17" name="矩形 16"/>
            <p:cNvSpPr/>
            <p:nvPr/>
          </p:nvSpPr>
          <p:spPr>
            <a:xfrm>
              <a:off x="2429280" y="1640520"/>
              <a:ext cx="60768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财务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" name="组合 17"/>
          <p:cNvGrpSpPr/>
          <p:nvPr/>
        </p:nvGrpSpPr>
        <p:grpSpPr>
          <a:xfrm>
            <a:off x="1407960" y="2967120"/>
            <a:ext cx="1209240" cy="1211040"/>
            <a:chOff x="1407960" y="2967120"/>
            <a:chExt cx="1209240" cy="1211040"/>
          </a:xfrm>
        </p:grpSpPr>
        <p:sp>
          <p:nvSpPr>
            <p:cNvPr id="119" name="椭圆 18"/>
            <p:cNvSpPr/>
            <p:nvPr/>
          </p:nvSpPr>
          <p:spPr>
            <a:xfrm>
              <a:off x="1407960" y="2967120"/>
              <a:ext cx="1209240" cy="1211040"/>
            </a:xfrm>
            <a:prstGeom prst="ellipse">
              <a:avLst/>
            </a:prstGeom>
            <a:solidFill>
              <a:srgbClr val="003873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40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20" name="矩形 19"/>
            <p:cNvSpPr/>
            <p:nvPr/>
          </p:nvSpPr>
          <p:spPr>
            <a:xfrm>
              <a:off x="1707840" y="3299400"/>
              <a:ext cx="60768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时间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1" name="组合 20"/>
          <p:cNvGrpSpPr/>
          <p:nvPr/>
        </p:nvGrpSpPr>
        <p:grpSpPr>
          <a:xfrm>
            <a:off x="2205000" y="4572000"/>
            <a:ext cx="1211040" cy="1209240"/>
            <a:chOff x="2205000" y="4572000"/>
            <a:chExt cx="1211040" cy="1209240"/>
          </a:xfrm>
        </p:grpSpPr>
        <p:sp>
          <p:nvSpPr>
            <p:cNvPr id="122" name="椭圆 21"/>
            <p:cNvSpPr/>
            <p:nvPr/>
          </p:nvSpPr>
          <p:spPr>
            <a:xfrm>
              <a:off x="2205000" y="4572000"/>
              <a:ext cx="1211040" cy="1209240"/>
            </a:xfrm>
            <a:prstGeom prst="ellipse">
              <a:avLst/>
            </a:prstGeom>
            <a:solidFill>
              <a:srgbClr val="003873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40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23" name="矩形 22"/>
            <p:cNvSpPr/>
            <p:nvPr/>
          </p:nvSpPr>
          <p:spPr>
            <a:xfrm>
              <a:off x="2505600" y="4903920"/>
              <a:ext cx="60768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项目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24" name="直接连接符 23"/>
          <p:cNvCxnSpPr>
            <a:stCxn id="107" idx="3"/>
            <a:endCxn id="104" idx="7"/>
          </p:cNvCxnSpPr>
          <p:nvPr/>
        </p:nvCxnSpPr>
        <p:spPr>
          <a:xfrm flipH="1">
            <a:off x="5197320" y="2336760"/>
            <a:ext cx="722520" cy="624240"/>
          </a:xfrm>
          <a:prstGeom prst="straightConnector1">
            <a:avLst/>
          </a:prstGeom>
          <a:ln w="28575">
            <a:solidFill>
              <a:srgbClr val="ffffff"/>
            </a:solidFill>
            <a:round/>
          </a:ln>
        </p:spPr>
      </p:cxnSp>
      <p:cxnSp>
        <p:nvCxnSpPr>
          <p:cNvPr id="125" name="直接连接符 26"/>
          <p:cNvCxnSpPr>
            <a:stCxn id="110" idx="2"/>
            <a:endCxn id="104" idx="6"/>
          </p:cNvCxnSpPr>
          <p:nvPr/>
        </p:nvCxnSpPr>
        <p:spPr>
          <a:xfrm flipH="1">
            <a:off x="5449680" y="3568680"/>
            <a:ext cx="916200" cy="3240"/>
          </a:xfrm>
          <a:prstGeom prst="straightConnector1">
            <a:avLst/>
          </a:prstGeom>
          <a:ln w="28575">
            <a:solidFill>
              <a:srgbClr val="ffffff"/>
            </a:solidFill>
            <a:round/>
          </a:ln>
        </p:spPr>
      </p:cxnSp>
      <p:cxnSp>
        <p:nvCxnSpPr>
          <p:cNvPr id="126" name="直接连接符 29"/>
          <p:cNvCxnSpPr>
            <a:stCxn id="113" idx="1"/>
            <a:endCxn id="104" idx="5"/>
          </p:cNvCxnSpPr>
          <p:nvPr/>
        </p:nvCxnSpPr>
        <p:spPr>
          <a:xfrm flipH="1" flipV="1">
            <a:off x="5197320" y="4182840"/>
            <a:ext cx="825840" cy="628920"/>
          </a:xfrm>
          <a:prstGeom prst="straightConnector1">
            <a:avLst/>
          </a:prstGeom>
          <a:ln w="28575">
            <a:solidFill>
              <a:srgbClr val="ffffff"/>
            </a:solidFill>
            <a:round/>
          </a:ln>
        </p:spPr>
      </p:cxnSp>
      <p:cxnSp>
        <p:nvCxnSpPr>
          <p:cNvPr id="127" name="直接连接符 33"/>
          <p:cNvCxnSpPr>
            <a:stCxn id="104" idx="1"/>
            <a:endCxn id="116" idx="5"/>
          </p:cNvCxnSpPr>
          <p:nvPr/>
        </p:nvCxnSpPr>
        <p:spPr>
          <a:xfrm flipH="1" flipV="1">
            <a:off x="3162240" y="2341440"/>
            <a:ext cx="812880" cy="619560"/>
          </a:xfrm>
          <a:prstGeom prst="straightConnector1">
            <a:avLst/>
          </a:prstGeom>
          <a:ln w="28575">
            <a:solidFill>
              <a:srgbClr val="ffffff"/>
            </a:solidFill>
            <a:round/>
          </a:ln>
        </p:spPr>
      </p:cxnSp>
      <p:cxnSp>
        <p:nvCxnSpPr>
          <p:cNvPr id="128" name="直接连接符 36"/>
          <p:cNvCxnSpPr>
            <a:stCxn id="104" idx="2"/>
            <a:endCxn id="119" idx="6"/>
          </p:cNvCxnSpPr>
          <p:nvPr/>
        </p:nvCxnSpPr>
        <p:spPr>
          <a:xfrm flipH="1">
            <a:off x="2617560" y="3571560"/>
            <a:ext cx="1105200" cy="360"/>
          </a:xfrm>
          <a:prstGeom prst="straightConnector1">
            <a:avLst/>
          </a:prstGeom>
          <a:ln w="28575">
            <a:solidFill>
              <a:srgbClr val="ffffff"/>
            </a:solidFill>
            <a:round/>
          </a:ln>
        </p:spPr>
      </p:cxnSp>
      <p:cxnSp>
        <p:nvCxnSpPr>
          <p:cNvPr id="129" name="直接连接符 39"/>
          <p:cNvCxnSpPr>
            <a:stCxn id="104" idx="3"/>
            <a:endCxn id="122" idx="7"/>
          </p:cNvCxnSpPr>
          <p:nvPr/>
        </p:nvCxnSpPr>
        <p:spPr>
          <a:xfrm flipH="1">
            <a:off x="3238200" y="4182840"/>
            <a:ext cx="736920" cy="567000"/>
          </a:xfrm>
          <a:prstGeom prst="straightConnector1">
            <a:avLst/>
          </a:prstGeom>
          <a:ln w="28575">
            <a:solidFill>
              <a:srgbClr val="ffffff"/>
            </a:solidFill>
            <a:round/>
          </a:ln>
        </p:spPr>
      </p:cxnSp>
      <p:sp>
        <p:nvSpPr>
          <p:cNvPr id="130" name="TextBox 47"/>
          <p:cNvSpPr/>
          <p:nvPr/>
        </p:nvSpPr>
        <p:spPr>
          <a:xfrm>
            <a:off x="8043840" y="255600"/>
            <a:ext cx="607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对外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Box 48"/>
          <p:cNvSpPr/>
          <p:nvPr/>
        </p:nvSpPr>
        <p:spPr>
          <a:xfrm>
            <a:off x="571320" y="246240"/>
            <a:ext cx="607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对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3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3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4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" dur="3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5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3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3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5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3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3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3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3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3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3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3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3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3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3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" dur="3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3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" dur="3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3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3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8" dur="3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3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32" name="直接连接符 4"/>
          <p:cNvCxnSpPr/>
          <p:nvPr/>
        </p:nvCxnSpPr>
        <p:spPr>
          <a:xfrm>
            <a:off x="1161720" y="0"/>
            <a:ext cx="360" cy="3009960"/>
          </a:xfrm>
          <a:prstGeom prst="straightConnector1">
            <a:avLst/>
          </a:prstGeom>
          <a:ln w="57150">
            <a:solidFill>
              <a:srgbClr val="ffffff"/>
            </a:solidFill>
            <a:round/>
          </a:ln>
        </p:spPr>
      </p:cxnSp>
      <p:cxnSp>
        <p:nvCxnSpPr>
          <p:cNvPr id="133" name="直接连接符 5"/>
          <p:cNvCxnSpPr/>
          <p:nvPr/>
        </p:nvCxnSpPr>
        <p:spPr>
          <a:xfrm>
            <a:off x="1771560" y="0"/>
            <a:ext cx="360" cy="2476800"/>
          </a:xfrm>
          <a:prstGeom prst="straightConnector1">
            <a:avLst/>
          </a:prstGeom>
          <a:ln w="38100">
            <a:solidFill>
              <a:srgbClr val="ffffff"/>
            </a:solidFill>
            <a:round/>
          </a:ln>
        </p:spPr>
      </p:cxnSp>
      <p:cxnSp>
        <p:nvCxnSpPr>
          <p:cNvPr id="134" name="直接连接符 6"/>
          <p:cNvCxnSpPr/>
          <p:nvPr/>
        </p:nvCxnSpPr>
        <p:spPr>
          <a:xfrm>
            <a:off x="2057400" y="0"/>
            <a:ext cx="360" cy="914760"/>
          </a:xfrm>
          <a:prstGeom prst="straightConnector1">
            <a:avLst/>
          </a:prstGeom>
          <a:ln w="28575">
            <a:solidFill>
              <a:srgbClr val="ffffff"/>
            </a:solidFill>
            <a:round/>
          </a:ln>
        </p:spPr>
      </p:cxnSp>
      <p:cxnSp>
        <p:nvCxnSpPr>
          <p:cNvPr id="135" name="直接连接符 10"/>
          <p:cNvCxnSpPr/>
          <p:nvPr/>
        </p:nvCxnSpPr>
        <p:spPr>
          <a:xfrm>
            <a:off x="6953040" y="5657760"/>
            <a:ext cx="360" cy="1200600"/>
          </a:xfrm>
          <a:prstGeom prst="straightConnector1">
            <a:avLst/>
          </a:prstGeom>
          <a:ln w="38100">
            <a:solidFill>
              <a:srgbClr val="ffffff"/>
            </a:solidFill>
            <a:round/>
          </a:ln>
        </p:spPr>
      </p:cxnSp>
      <p:sp>
        <p:nvSpPr>
          <p:cNvPr id="136" name="椭圆 11"/>
          <p:cNvSpPr/>
          <p:nvPr/>
        </p:nvSpPr>
        <p:spPr>
          <a:xfrm>
            <a:off x="5200560" y="2152800"/>
            <a:ext cx="3504960" cy="3504960"/>
          </a:xfrm>
          <a:prstGeom prst="ellipse">
            <a:avLst/>
          </a:prstGeom>
          <a:noFill/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5400" spc="-1" strike="noStrike">
                <a:solidFill>
                  <a:schemeClr val="lt1"/>
                </a:solidFill>
                <a:latin typeface="微软雅黑"/>
                <a:ea typeface="微软雅黑"/>
              </a:rPr>
              <a:t>企业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椭圆 12"/>
          <p:cNvSpPr/>
          <p:nvPr/>
        </p:nvSpPr>
        <p:spPr>
          <a:xfrm>
            <a:off x="2876400" y="3905280"/>
            <a:ext cx="2057040" cy="2057040"/>
          </a:xfrm>
          <a:prstGeom prst="ellipse">
            <a:avLst/>
          </a:prstGeom>
          <a:noFill/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4000" spc="-1" strike="noStrike">
                <a:solidFill>
                  <a:schemeClr val="lt1"/>
                </a:solidFill>
                <a:latin typeface="微软雅黑"/>
                <a:ea typeface="微软雅黑"/>
              </a:rPr>
              <a:t>个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8" name="直接连接符 13"/>
          <p:cNvCxnSpPr>
            <a:stCxn id="137" idx="4"/>
          </p:cNvCxnSpPr>
          <p:nvPr/>
        </p:nvCxnSpPr>
        <p:spPr>
          <a:xfrm>
            <a:off x="3904920" y="5962320"/>
            <a:ext cx="360" cy="896040"/>
          </a:xfrm>
          <a:prstGeom prst="straightConnector1">
            <a:avLst/>
          </a:prstGeom>
          <a:ln w="38100">
            <a:solidFill>
              <a:srgbClr val="ffffff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1"/>
          <p:cNvSpPr/>
          <p:nvPr/>
        </p:nvSpPr>
        <p:spPr>
          <a:xfrm>
            <a:off x="1619280" y="1428840"/>
            <a:ext cx="3657240" cy="1695240"/>
          </a:xfrm>
          <a:prstGeom prst="rect">
            <a:avLst/>
          </a:prstGeom>
          <a:noFill/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命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矩形 2"/>
          <p:cNvSpPr/>
          <p:nvPr/>
        </p:nvSpPr>
        <p:spPr>
          <a:xfrm>
            <a:off x="5486400" y="1428840"/>
            <a:ext cx="1961640" cy="1695240"/>
          </a:xfrm>
          <a:prstGeom prst="rect">
            <a:avLst/>
          </a:prstGeom>
          <a:noFill/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命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矩形 5"/>
          <p:cNvSpPr/>
          <p:nvPr/>
        </p:nvSpPr>
        <p:spPr>
          <a:xfrm>
            <a:off x="1619280" y="3619440"/>
            <a:ext cx="2800080" cy="1695240"/>
          </a:xfrm>
          <a:prstGeom prst="rect">
            <a:avLst/>
          </a:prstGeom>
          <a:noFill/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命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矩形 6"/>
          <p:cNvSpPr/>
          <p:nvPr/>
        </p:nvSpPr>
        <p:spPr>
          <a:xfrm>
            <a:off x="4648320" y="3619440"/>
            <a:ext cx="2800080" cy="1695240"/>
          </a:xfrm>
          <a:prstGeom prst="rect">
            <a:avLst/>
          </a:prstGeom>
          <a:noFill/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命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椭圆 38"/>
          <p:cNvSpPr/>
          <p:nvPr/>
        </p:nvSpPr>
        <p:spPr>
          <a:xfrm rot="10800000">
            <a:off x="310680" y="3240"/>
            <a:ext cx="8394480" cy="4196880"/>
          </a:xfrm>
          <a:custGeom>
            <a:avLst/>
            <a:gdLst>
              <a:gd name="textAreaLeft" fmla="*/ 0 w 8394480"/>
              <a:gd name="textAreaRight" fmla="*/ 8394840 w 8394480"/>
              <a:gd name="textAreaTop" fmla="*/ 0 h 4196880"/>
              <a:gd name="textAreaBottom" fmla="*/ 4197240 h 4196880"/>
            </a:gdLst>
            <a:ahLst/>
            <a:rect l="textAreaLeft" t="textAreaTop" r="textAreaRight" b="textAreaBottom"/>
            <a:pathLst>
              <a:path w="3538462" h="1769231">
                <a:moveTo>
                  <a:pt x="0" y="1769231"/>
                </a:moveTo>
                <a:cubicBezTo>
                  <a:pt x="0" y="792112"/>
                  <a:pt x="792112" y="0"/>
                  <a:pt x="1769231" y="0"/>
                </a:cubicBezTo>
                <a:cubicBezTo>
                  <a:pt x="2746350" y="0"/>
                  <a:pt x="3538462" y="792112"/>
                  <a:pt x="3538462" y="1769231"/>
                </a:cubicBezTo>
              </a:path>
            </a:pathLst>
          </a:custGeom>
          <a:solidFill>
            <a:srgbClr val="003873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40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44" name="椭圆 38"/>
          <p:cNvSpPr/>
          <p:nvPr/>
        </p:nvSpPr>
        <p:spPr>
          <a:xfrm rot="10800000">
            <a:off x="1560960" y="3240"/>
            <a:ext cx="5959080" cy="2979360"/>
          </a:xfrm>
          <a:custGeom>
            <a:avLst/>
            <a:gdLst>
              <a:gd name="textAreaLeft" fmla="*/ 0 w 5959080"/>
              <a:gd name="textAreaRight" fmla="*/ 5959440 w 5959080"/>
              <a:gd name="textAreaTop" fmla="*/ 0 h 2979360"/>
              <a:gd name="textAreaBottom" fmla="*/ 2979720 h 2979360"/>
            </a:gdLst>
            <a:ahLst/>
            <a:rect l="textAreaLeft" t="textAreaTop" r="textAreaRight" b="textAreaBottom"/>
            <a:pathLst>
              <a:path w="3538462" h="1769231">
                <a:moveTo>
                  <a:pt x="0" y="1769231"/>
                </a:moveTo>
                <a:cubicBezTo>
                  <a:pt x="0" y="792112"/>
                  <a:pt x="792112" y="0"/>
                  <a:pt x="1769231" y="0"/>
                </a:cubicBezTo>
                <a:cubicBezTo>
                  <a:pt x="2746350" y="0"/>
                  <a:pt x="3538462" y="792112"/>
                  <a:pt x="3538462" y="1769231"/>
                </a:cubicBezTo>
              </a:path>
            </a:pathLst>
          </a:custGeom>
          <a:solidFill>
            <a:srgbClr val="003873"/>
          </a:solidFill>
          <a:ln>
            <a:solidFill>
              <a:srgbClr val="ffffff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40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45" name="TextBox 48"/>
          <p:cNvSpPr/>
          <p:nvPr/>
        </p:nvSpPr>
        <p:spPr>
          <a:xfrm>
            <a:off x="6405120" y="645480"/>
            <a:ext cx="3945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椭圆 38"/>
          <p:cNvSpPr/>
          <p:nvPr/>
        </p:nvSpPr>
        <p:spPr>
          <a:xfrm rot="10800000">
            <a:off x="2739600" y="3240"/>
            <a:ext cx="3536640" cy="1767960"/>
          </a:xfrm>
          <a:custGeom>
            <a:avLst/>
            <a:gdLst>
              <a:gd name="textAreaLeft" fmla="*/ 0 w 3536640"/>
              <a:gd name="textAreaRight" fmla="*/ 3537000 w 3536640"/>
              <a:gd name="textAreaTop" fmla="*/ 0 h 1767960"/>
              <a:gd name="textAreaBottom" fmla="*/ 1768320 h 1767960"/>
            </a:gdLst>
            <a:ahLst/>
            <a:rect l="textAreaLeft" t="textAreaTop" r="textAreaRight" b="textAreaBottom"/>
            <a:pathLst>
              <a:path w="3538462" h="1769231">
                <a:moveTo>
                  <a:pt x="0" y="1769231"/>
                </a:moveTo>
                <a:cubicBezTo>
                  <a:pt x="0" y="792112"/>
                  <a:pt x="792112" y="0"/>
                  <a:pt x="1769231" y="0"/>
                </a:cubicBezTo>
                <a:cubicBezTo>
                  <a:pt x="2746350" y="0"/>
                  <a:pt x="3538462" y="792112"/>
                  <a:pt x="3538462" y="1769231"/>
                </a:cubicBezTo>
              </a:path>
            </a:pathLst>
          </a:custGeom>
          <a:solidFill>
            <a:srgbClr val="003873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40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47" name="矩形 3"/>
          <p:cNvSpPr/>
          <p:nvPr/>
        </p:nvSpPr>
        <p:spPr>
          <a:xfrm>
            <a:off x="3304800" y="261360"/>
            <a:ext cx="24058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赢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Box 44"/>
          <p:cNvSpPr/>
          <p:nvPr/>
        </p:nvSpPr>
        <p:spPr>
          <a:xfrm>
            <a:off x="5612760" y="1622520"/>
            <a:ext cx="3945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Box 45"/>
          <p:cNvSpPr/>
          <p:nvPr/>
        </p:nvSpPr>
        <p:spPr>
          <a:xfrm>
            <a:off x="2080800" y="625320"/>
            <a:ext cx="3945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46"/>
          <p:cNvSpPr/>
          <p:nvPr/>
        </p:nvSpPr>
        <p:spPr>
          <a:xfrm>
            <a:off x="2843640" y="1644480"/>
            <a:ext cx="3945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Box 49"/>
          <p:cNvSpPr/>
          <p:nvPr/>
        </p:nvSpPr>
        <p:spPr>
          <a:xfrm>
            <a:off x="7540200" y="67500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危机意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Box 50"/>
          <p:cNvSpPr/>
          <p:nvPr/>
        </p:nvSpPr>
        <p:spPr>
          <a:xfrm>
            <a:off x="6810120" y="209484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交际能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Box 51"/>
          <p:cNvSpPr/>
          <p:nvPr/>
        </p:nvSpPr>
        <p:spPr>
          <a:xfrm>
            <a:off x="3918600" y="3400560"/>
            <a:ext cx="1034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间观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Box 14"/>
          <p:cNvSpPr/>
          <p:nvPr/>
        </p:nvSpPr>
        <p:spPr>
          <a:xfrm>
            <a:off x="1453680" y="214632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合理理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Box 15"/>
          <p:cNvSpPr/>
          <p:nvPr/>
        </p:nvSpPr>
        <p:spPr>
          <a:xfrm>
            <a:off x="4246200" y="2063880"/>
            <a:ext cx="3945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Box 17"/>
          <p:cNvSpPr/>
          <p:nvPr/>
        </p:nvSpPr>
        <p:spPr>
          <a:xfrm>
            <a:off x="641520" y="472320"/>
            <a:ext cx="7297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平常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局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-188280" y="6523200"/>
            <a:ext cx="5854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ppt模板下载 免费完整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58" name="直接连接符 2"/>
          <p:cNvCxnSpPr/>
          <p:nvPr/>
        </p:nvCxnSpPr>
        <p:spPr>
          <a:xfrm flipH="1">
            <a:off x="0" y="0"/>
            <a:ext cx="2667240" cy="2800440"/>
          </a:xfrm>
          <a:prstGeom prst="straightConnector1">
            <a:avLst/>
          </a:prstGeom>
          <a:ln w="28575">
            <a:solidFill>
              <a:srgbClr val="ffffff"/>
            </a:solidFill>
            <a:round/>
          </a:ln>
        </p:spPr>
      </p:cxnSp>
      <p:cxnSp>
        <p:nvCxnSpPr>
          <p:cNvPr id="159" name="直接连接符 3"/>
          <p:cNvCxnSpPr/>
          <p:nvPr/>
        </p:nvCxnSpPr>
        <p:spPr>
          <a:xfrm flipH="1">
            <a:off x="0" y="0"/>
            <a:ext cx="2171880" cy="2286360"/>
          </a:xfrm>
          <a:prstGeom prst="straightConnector1">
            <a:avLst/>
          </a:prstGeom>
          <a:ln w="28575">
            <a:solidFill>
              <a:srgbClr val="ffffff"/>
            </a:solidFill>
            <a:round/>
          </a:ln>
        </p:spPr>
      </p:cxnSp>
      <p:cxnSp>
        <p:nvCxnSpPr>
          <p:cNvPr id="160" name="直接连接符 6"/>
          <p:cNvCxnSpPr/>
          <p:nvPr/>
        </p:nvCxnSpPr>
        <p:spPr>
          <a:xfrm flipH="1">
            <a:off x="4800600" y="2297160"/>
            <a:ext cx="4343760" cy="4561200"/>
          </a:xfrm>
          <a:prstGeom prst="straightConnector1">
            <a:avLst/>
          </a:prstGeom>
          <a:ln w="28575">
            <a:solidFill>
              <a:srgbClr val="ffffff"/>
            </a:solidFill>
            <a:round/>
          </a:ln>
        </p:spPr>
      </p:cxnSp>
      <p:sp>
        <p:nvSpPr>
          <p:cNvPr id="161" name="TextBox 8"/>
          <p:cNvSpPr/>
          <p:nvPr/>
        </p:nvSpPr>
        <p:spPr>
          <a:xfrm rot="18803400">
            <a:off x="4935240" y="3613680"/>
            <a:ext cx="3061440" cy="9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的宝贵财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Box 10"/>
          <p:cNvSpPr/>
          <p:nvPr/>
        </p:nvSpPr>
        <p:spPr>
          <a:xfrm rot="18784800">
            <a:off x="1299600" y="1431720"/>
            <a:ext cx="1004040" cy="9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才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Box 1"/>
          <p:cNvSpPr/>
          <p:nvPr/>
        </p:nvSpPr>
        <p:spPr>
          <a:xfrm>
            <a:off x="1670400" y="2703600"/>
            <a:ext cx="57801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 you!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4" name="直接连接符 2"/>
          <p:cNvCxnSpPr/>
          <p:nvPr/>
        </p:nvCxnSpPr>
        <p:spPr>
          <a:xfrm>
            <a:off x="1312560" y="4020840"/>
            <a:ext cx="6496560" cy="360"/>
          </a:xfrm>
          <a:prstGeom prst="straightConnector1">
            <a:avLst/>
          </a:prstGeom>
          <a:ln>
            <a:solidFill>
              <a:srgbClr val="ffffff"/>
            </a:solidFill>
            <a:round/>
          </a:ln>
        </p:spPr>
      </p:cxnSp>
      <p:cxnSp>
        <p:nvCxnSpPr>
          <p:cNvPr id="165" name="直接连接符 5"/>
          <p:cNvCxnSpPr/>
          <p:nvPr/>
        </p:nvCxnSpPr>
        <p:spPr>
          <a:xfrm>
            <a:off x="1312560" y="2787480"/>
            <a:ext cx="6496560" cy="360"/>
          </a:xfrm>
          <a:prstGeom prst="straightConnector1">
            <a:avLst/>
          </a:prstGeom>
          <a:ln>
            <a:solidFill>
              <a:srgbClr val="ffffff"/>
            </a:solidFill>
            <a:round/>
          </a:ln>
        </p:spPr>
      </p:cxnSp>
      <p:sp>
        <p:nvSpPr>
          <p:cNvPr id="166" name="TextBox 6"/>
          <p:cNvSpPr/>
          <p:nvPr/>
        </p:nvSpPr>
        <p:spPr>
          <a:xfrm>
            <a:off x="1289160" y="2401920"/>
            <a:ext cx="6549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创新的思维管理企业！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矩形 9"/>
          <p:cNvSpPr/>
          <p:nvPr/>
        </p:nvSpPr>
        <p:spPr>
          <a:xfrm>
            <a:off x="1278000" y="4013280"/>
            <a:ext cx="6548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技术宅没心没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商业周刊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003873"/>
      </a:accent1>
      <a:accent2>
        <a:srgbClr val="f70000"/>
      </a:accent2>
      <a:accent3>
        <a:srgbClr val="cedbe7"/>
      </a:accent3>
      <a:accent4>
        <a:srgbClr val="e7eff7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商业周刊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003873"/>
      </a:accent1>
      <a:accent2>
        <a:srgbClr val="f70000"/>
      </a:accent2>
      <a:accent3>
        <a:srgbClr val="cedbe7"/>
      </a:accent3>
      <a:accent4>
        <a:srgbClr val="e7eff7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  <Words>242</Words>
  <Paragraphs>7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3T12:45:26Z</dcterms:created>
  <dc:creator>ppt宝藏</dc:creator>
  <dc:description/>
  <dc:language>en-US</dc:language>
  <cp:lastModifiedBy>yu wang</cp:lastModifiedBy>
  <dcterms:modified xsi:type="dcterms:W3CDTF">2015-08-12T14:50:50Z</dcterms:modified>
  <cp:revision>80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0</vt:r8>
  </property>
</Properties>
</file>