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920-2D3A-40D5-BA23-D05D6723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29E-7D3F-4E05-8AF4-41192FCE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C66C-A89B-4E47-9A27-947DEE85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99AA-3E7E-468A-BA9D-ECD6C9C2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44D1-097D-46C9-9947-D69A374B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93F4-6CAA-4F53-AA84-8DFE286F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B055-4F38-4FB1-9764-05860B51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672A-A62E-432B-9D88-F180F3C8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795D-AA05-495A-8302-E62DC633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D32C-96FB-4581-AF87-E42C182A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41B1-DC7E-411B-AD2B-C044D054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ADC-87FC-4AE6-A295-7F7C3829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00B9-8059-4F8F-B536-C1C8F285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A501-5D50-4C82-9F2F-B73EBE0D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2A54-1736-4D3C-92F0-EB4F351A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2EE5-0AAB-434B-86BB-5D656B41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864B-B085-4E63-BB6B-A988759D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2AF-B14C-4F87-A8C5-81E18BC8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686-4D32-4955-BBB0-E680D62D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4FD8-AF4D-4771-A31F-C83B4E6E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F84-8F3A-40CD-A22B-501483FB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307-9D55-49FA-8FB4-27D7DE7F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4175-F8E8-4F3C-A1FB-3FEC6578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F55-7D12-47D4-AF67-C36F333B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3C4E-7692-47E7-ADD0-1DBE3B0A9152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25AA-6578-4FF5-BC25-31CB41B623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15840" y="-19080"/>
            <a:ext cx="9128160" cy="68785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641560" y="5079960"/>
            <a:ext cx="337716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《礼记》 云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“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礼者所以定亲疏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决嫌疑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别同异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明是非也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又云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“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亲亲之杀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尊贤之等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礼所生也。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20520" y="-19080"/>
            <a:ext cx="9128160" cy="488952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0520" y="-19080"/>
            <a:ext cx="9128160" cy="4734000"/>
          </a:xfrm>
          <a:prstGeom prst="flowChartProcess">
            <a:avLst/>
          </a:prstGeom>
          <a:solidFill>
            <a:srgbClr val="ff9b0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1160640" y="2363760"/>
            <a:ext cx="684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礼仪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是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道德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的规范，完备了礼仪，就纯粹了道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547640" y="1243080"/>
            <a:ext cx="6723360" cy="100800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企业文化礼仪培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15840" y="-19080"/>
            <a:ext cx="9128160" cy="6878520"/>
          </a:xfrm>
          <a:prstGeom prst="flowChartProcess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4140360" y="83664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目    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3924360" y="2055960"/>
            <a:ext cx="4898880" cy="32688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3924360" y="2490840"/>
            <a:ext cx="4898880" cy="3254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3924360" y="3605040"/>
            <a:ext cx="4898880" cy="3272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3922560" y="4032360"/>
            <a:ext cx="4899240" cy="3254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3924360" y="4460760"/>
            <a:ext cx="4898880" cy="3272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140360" y="198900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意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140360" y="351648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功用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4140360" y="240048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类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4140360" y="439092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工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4140360" y="392760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养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4140360" y="2844720"/>
            <a:ext cx="280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交际礼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礼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活礼仪    节庆礼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3638520" y="1773360"/>
            <a:ext cx="55231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6"/>
          <p:cNvSpPr/>
          <p:nvPr/>
        </p:nvSpPr>
        <p:spPr>
          <a:xfrm>
            <a:off x="15840" y="-19080"/>
            <a:ext cx="3622680" cy="6878520"/>
          </a:xfrm>
          <a:prstGeom prst="flowChartProcess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324000" y="1989000"/>
            <a:ext cx="2808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企业礼仪是指企业员工关于企业礼仪的观念及其行为方式的总和，也是日常例行事物的一种固定模式，如处理公共关系的方式、信息沟通关系、仪式和典礼等就是企业礼仪的具体表现。它表征着企业的价值观和道德要求，塑造着企业形象，使员工在礼仪文化的氛围中受到熏陶，自觉的调整个人行为，增强为企业目标献身的群体意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8" descr="63fa6322_16c0_4026_b6a1_06cd7c323ddd"/>
          <p:cNvPicPr/>
          <p:nvPr/>
        </p:nvPicPr>
        <p:blipFill>
          <a:blip r:embed="rId1"/>
          <a:stretch/>
        </p:blipFill>
        <p:spPr>
          <a:xfrm>
            <a:off x="411120" y="206064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1111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3203640" y="2492280"/>
            <a:ext cx="3095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企业礼仪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222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739800" y="577800"/>
            <a:ext cx="31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礼仪的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69800" y="1557360"/>
            <a:ext cx="8064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企业礼仪是企业的精神风貌。它包括企业的待客礼仪、经营作风、员工风度、环境布置风格以及内部的信息沟通方式等内容。企业礼仪往往形成传统与习俗，体现企业的经营理念。它赋予企业浓厚的人情味，对培育企业精神和塑造企业形象起着潜移默化的作用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　　当通过养成而成为一种约定俗成时，企业礼仪就成为了企业习俗。企业习俗是指企业员工在长期的共同劳动中形成的习惯做法。这种做法沿袭日久，是全体员工默认的、心里的、自觉遵守的规范，而不是强迫的、书面制度式的规定；是一种“软约束”。摩托罗拉公司有着非常好的员工交流沟通习俗，如总经理座谈会、恳谈会、对话会和业绩报告会，员工可以和公司决策层、经理层等进行直接沟通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111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3203640" y="2492280"/>
            <a:ext cx="309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企业礼仪的类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468360" y="6523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222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741240" y="692280"/>
            <a:ext cx="7793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交际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　　企业是一个从事经济活动的主体，作为社会组织，其内部人员之间和与外部群体或个体之间都有着大量的人际交往。因此，交际礼仪就成为传播企业文化、体现企业素质的重要形式。人际交往的礼仪很多，也很繁琐，主要包括介绍和被介绍，称呼与被称呼、交谈用语、座位安排、说话时的姿态、肢体语言、禁忌用语、服饰、互换名片、站姿坐姿、握手与挥手、节日问候等等。就会面来说，就有微笑礼、握手礼、拱手礼、鞠躬礼、颌首礼、招手礼、合掌礼、拥抱礼、注目礼等等的分别。大凡优异的企业在这些基本交际礼仪上都表现得非常出色，体现了公司的文明程度和文化素养，也体现了企业文化的基本型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41240" y="2852640"/>
            <a:ext cx="779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工作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发生在企业日常经营管理活动，以及商务活动中的常规性的仪式是工作礼仪，如展会、岗前小会、店会、表彰会、职代会、培训会、新闻发布会以及技术、生产、销售合作签约仪式，合资项目签字仪式等。松下幸之助就在日本松下电器株式会社，建立了一种朝会和夕会的企业仪式，即利用每天上下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分钟的时间，各部门、各单位的员工聚在一起进行宣誓、总结。朝会时，要唱社歌：“为建设新日本同心协力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不断地努力生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我们为世人提供的商品，犹如涌泉一般。振兴产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振兴产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!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还要全体朗诵公司精神：“产业报国、光明正大、亲爱精诚、奋斗向上、遵守礼节、顺应同化、感恩图报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63fa6322_16c0_4026_b6a1_06cd7c323ddd"/>
          <p:cNvPicPr/>
          <p:nvPr/>
        </p:nvPicPr>
        <p:blipFill>
          <a:blip r:embed="rId3"/>
          <a:stretch/>
        </p:blipFill>
        <p:spPr>
          <a:xfrm>
            <a:off x="485640" y="292428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22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757080" y="692280"/>
            <a:ext cx="8062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生活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　　在工作之余，企业开展的与员工生活直接相关的各种活动就是生活礼仪。包括企业的文体活动、联欢会、讲演会、茶话会等，通过这些活动可以密切员工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可的关系，有利于共同价值观的形成和传播。如在美国玛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凯化妆品公司，每逢圣诞节、公司纪念日，总经理都给全体员工寄发贺卡；员工过生日时，总经理寄去贺信，并亲笔写下贺词，然后郑重签名。员工进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周年时，总经理奉送比较贵重的首饰，当员工工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周年时，将得到一件镶有钻石的昂贵首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757080" y="2852640"/>
            <a:ext cx="8062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节庆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　　节庆礼仪指那些对企业具有重要意义的纪念活动仪式，主要包括公司的节日庆典和公共节日庆典。比如：公司成立的周年庆典，公司成功开发出重要技术或产品的庆典，公司分公司或子公司成立的庆典，公司重要活动目标达成庆典，新车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司、新生产线投产成功庆典，等等就属于前者。后者主要包括三八妇女节、五一劳动节，国庆节庆典，行业性的节日庆典等等。这些庆典活动，是连接企业与员工，集团与分属企业，企业与社会的重要纽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63fa6322_16c0_4026_b6a1_06cd7c323ddd"/>
          <p:cNvPicPr/>
          <p:nvPr/>
        </p:nvPicPr>
        <p:blipFill>
          <a:blip r:embed="rId3"/>
          <a:stretch/>
        </p:blipFill>
        <p:spPr>
          <a:xfrm>
            <a:off x="485640" y="292428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15840" y="-19080"/>
            <a:ext cx="9128160" cy="68785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20520" y="-19080"/>
            <a:ext cx="9128160" cy="488952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0520" y="-19080"/>
            <a:ext cx="9128160" cy="4734000"/>
          </a:xfrm>
          <a:prstGeom prst="flowChartProcess">
            <a:avLst/>
          </a:prstGeom>
          <a:solidFill>
            <a:srgbClr val="ff9b0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917800" y="1758960"/>
            <a:ext cx="3525840" cy="82512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746120" y="5014800"/>
            <a:ext cx="1001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  <a:ea typeface="宋体"/>
              </a:rPr>
              <a:t>子曰：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  <a:ea typeface="宋体"/>
              </a:rPr>
              <a:t>"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  <a:ea typeface="宋体"/>
              </a:rPr>
              <a:t>不知命，无以为君子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  <a:ea typeface="宋体"/>
              </a:rPr>
              <a:t>不知礼，无以立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  <a:ea typeface="宋体"/>
              </a:rPr>
              <a:t>不知言，无以知人也。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  <a:ea typeface="宋体"/>
              </a:rPr>
              <a:t>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yu wang</cp:lastModifiedBy>
  <dcterms:modified xsi:type="dcterms:W3CDTF">2015-08-14T12:49:20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