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hdphoto1.wdp" ContentType="image/vnd.ms-photo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1DE-A93A-4555-8744-257A60C9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9A0-16C1-403B-9472-C763BCB2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3C0-63C8-4DBB-9408-22870072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7CD-42A9-4B59-B206-278FBE83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19E-F057-434D-8D05-78C78C3C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4C9-324C-4F28-A2EC-8E5D1155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D24-C97A-4CE7-A457-5C31F053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4F0-C852-4918-8731-CC1D1257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07F-429C-4F73-92DD-06BCF1DD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FB9-B0E3-4408-A252-1F2A3007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4DE-79B3-4B64-A65D-CB9AEBCE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E30-7B25-4C63-9BF8-EDD2BEBE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A40F68B-E62B-4A91-A601-DB134317F539}" type="slidenum"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microsoft.com/office/2007/relationships/hdphoto" Target="../media/hdphoto1.wdp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9355680" y="0"/>
            <a:ext cx="3047760" cy="6857640"/>
          </a:xfrm>
          <a:prstGeom prst="rect">
            <a:avLst/>
          </a:prstGeom>
          <a:solidFill>
            <a:srgbClr val="51453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80" name="组合 14"/>
          <p:cNvGrpSpPr/>
          <p:nvPr/>
        </p:nvGrpSpPr>
        <p:grpSpPr>
          <a:xfrm>
            <a:off x="9710640" y="2244240"/>
            <a:ext cx="2752200" cy="1405080"/>
            <a:chOff x="9710640" y="2244240"/>
            <a:chExt cx="2752200" cy="1405080"/>
          </a:xfrm>
        </p:grpSpPr>
        <p:sp>
          <p:nvSpPr>
            <p:cNvPr id="81" name="文本框 7"/>
            <p:cNvSpPr/>
            <p:nvPr/>
          </p:nvSpPr>
          <p:spPr>
            <a:xfrm>
              <a:off x="9715320" y="224424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10"/>
            <p:cNvSpPr/>
            <p:nvPr/>
          </p:nvSpPr>
          <p:spPr>
            <a:xfrm>
              <a:off x="9710640" y="3157200"/>
              <a:ext cx="2237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2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83" name="直接连接符 12"/>
            <p:cNvCxnSpPr/>
            <p:nvPr/>
          </p:nvCxnSpPr>
          <p:spPr>
            <a:xfrm>
              <a:off x="9860400" y="300852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</p:grpSp>
      <p:pic>
        <p:nvPicPr>
          <p:cNvPr id="84" name="图片 16" descr=""/>
          <p:cNvPicPr/>
          <p:nvPr/>
        </p:nvPicPr>
        <p:blipFill>
          <a:blip r:embed="rId1"/>
          <a:srcRect l="9143" t="0" r="0" b="0"/>
          <a:stretch/>
        </p:blipFill>
        <p:spPr>
          <a:xfrm>
            <a:off x="0" y="0"/>
            <a:ext cx="9355320" cy="685764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773080" y="414360"/>
            <a:ext cx="5586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块魔术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配色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1"/>
          <a:srcRect l="7615" t="331" r="1529" b="22923"/>
          <a:stretch/>
        </p:blipFill>
        <p:spPr>
          <a:xfrm>
            <a:off x="2659680" y="631440"/>
            <a:ext cx="6342480" cy="3572280"/>
          </a:xfrm>
          <a:prstGeom prst="rect">
            <a:avLst/>
          </a:prstGeom>
          <a:ln w="0">
            <a:noFill/>
          </a:ln>
        </p:spPr>
      </p:pic>
      <p:grpSp>
        <p:nvGrpSpPr>
          <p:cNvPr id="159" name="组合 9"/>
          <p:cNvGrpSpPr/>
          <p:nvPr/>
        </p:nvGrpSpPr>
        <p:grpSpPr>
          <a:xfrm>
            <a:off x="1064520" y="4681080"/>
            <a:ext cx="9531360" cy="1501200"/>
            <a:chOff x="1064520" y="4681080"/>
            <a:chExt cx="9531360" cy="1501200"/>
          </a:xfrm>
        </p:grpSpPr>
        <p:sp>
          <p:nvSpPr>
            <p:cNvPr id="160" name="矩形 2"/>
            <p:cNvSpPr/>
            <p:nvPr/>
          </p:nvSpPr>
          <p:spPr>
            <a:xfrm>
              <a:off x="2659680" y="5037840"/>
              <a:ext cx="6342480" cy="1144440"/>
            </a:xfrm>
            <a:prstGeom prst="rect">
              <a:avLst/>
            </a:prstGeom>
            <a:solidFill>
              <a:schemeClr val="accent3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1" name="任意多边形 5"/>
            <p:cNvSpPr/>
            <p:nvPr/>
          </p:nvSpPr>
          <p:spPr>
            <a:xfrm>
              <a:off x="1064520" y="4681080"/>
              <a:ext cx="1594800" cy="1144440"/>
            </a:xfrm>
            <a:custGeom>
              <a:avLst/>
              <a:gdLst>
                <a:gd name="textAreaLeft" fmla="*/ 0 w 1594800"/>
                <a:gd name="textAreaRight" fmla="*/ 1595160 w 159480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1760562" h="832513">
                  <a:moveTo>
                    <a:pt x="0" y="0"/>
                  </a:moveTo>
                  <a:lnTo>
                    <a:pt x="1760562" y="0"/>
                  </a:lnTo>
                  <a:lnTo>
                    <a:pt x="1760562" y="832513"/>
                  </a:lnTo>
                  <a:lnTo>
                    <a:pt x="0" y="832513"/>
                  </a:lnTo>
                  <a:lnTo>
                    <a:pt x="0" y="829770"/>
                  </a:lnTo>
                  <a:lnTo>
                    <a:pt x="381904" y="416257"/>
                  </a:lnTo>
                  <a:lnTo>
                    <a:pt x="0" y="2744"/>
                  </a:lnTo>
                  <a:close/>
                </a:path>
              </a:pathLst>
            </a:cu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2" name="任意多边形 6"/>
            <p:cNvSpPr/>
            <p:nvPr/>
          </p:nvSpPr>
          <p:spPr>
            <a:xfrm flipH="1">
              <a:off x="9001800" y="4681080"/>
              <a:ext cx="1593720" cy="1144440"/>
            </a:xfrm>
            <a:custGeom>
              <a:avLst/>
              <a:gdLst>
                <a:gd name="textAreaLeft" fmla="*/ -360 w 1593720"/>
                <a:gd name="textAreaRight" fmla="*/ 1593720 w 159372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1760562" h="832513">
                  <a:moveTo>
                    <a:pt x="0" y="0"/>
                  </a:moveTo>
                  <a:lnTo>
                    <a:pt x="1760562" y="0"/>
                  </a:lnTo>
                  <a:lnTo>
                    <a:pt x="1760562" y="832513"/>
                  </a:lnTo>
                  <a:lnTo>
                    <a:pt x="0" y="832513"/>
                  </a:lnTo>
                  <a:lnTo>
                    <a:pt x="0" y="829770"/>
                  </a:lnTo>
                  <a:lnTo>
                    <a:pt x="381904" y="416257"/>
                  </a:lnTo>
                  <a:lnTo>
                    <a:pt x="0" y="2744"/>
                  </a:lnTo>
                  <a:close/>
                </a:path>
              </a:pathLst>
            </a:cu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3" name="直角三角形 7"/>
            <p:cNvSpPr/>
            <p:nvPr/>
          </p:nvSpPr>
          <p:spPr>
            <a:xfrm>
              <a:off x="2659680" y="4681080"/>
              <a:ext cx="487440" cy="351360"/>
            </a:xfrm>
            <a:prstGeom prst="rtTriangle">
              <a:avLst/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4" name="直角三角形 8"/>
            <p:cNvSpPr/>
            <p:nvPr/>
          </p:nvSpPr>
          <p:spPr>
            <a:xfrm flipV="1" rot="10800000">
              <a:off x="8515080" y="4686480"/>
              <a:ext cx="487440" cy="351360"/>
            </a:xfrm>
            <a:prstGeom prst="rtTriangle">
              <a:avLst/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65" name="文本框 14"/>
          <p:cNvSpPr/>
          <p:nvPr/>
        </p:nvSpPr>
        <p:spPr>
          <a:xfrm>
            <a:off x="2659680" y="817560"/>
            <a:ext cx="2963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玖 月 刀 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7615" t="331" r="1529" b="22927"/>
          <a:stretch/>
        </p:blipFill>
        <p:spPr>
          <a:xfrm>
            <a:off x="0" y="0"/>
            <a:ext cx="1219176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椭圆 2"/>
          <p:cNvSpPr/>
          <p:nvPr/>
        </p:nvSpPr>
        <p:spPr>
          <a:xfrm>
            <a:off x="2948040" y="2846880"/>
            <a:ext cx="1596600" cy="15966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ctr" blurRad="203040" rotWithShape="0" sx="103000" sy="10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5"/>
          <p:cNvSpPr/>
          <p:nvPr/>
        </p:nvSpPr>
        <p:spPr>
          <a:xfrm>
            <a:off x="5376600" y="2846880"/>
            <a:ext cx="1596600" cy="15966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ctr" blurRad="203040" rotWithShape="0" sx="103000" sy="10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6"/>
          <p:cNvSpPr/>
          <p:nvPr/>
        </p:nvSpPr>
        <p:spPr>
          <a:xfrm>
            <a:off x="7805520" y="2846880"/>
            <a:ext cx="1596600" cy="15966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ctr" blurRad="203040" rotWithShape="0" sx="103000" sy="10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女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9"/>
          <p:cNvGrpSpPr/>
          <p:nvPr/>
        </p:nvGrpSpPr>
        <p:grpSpPr>
          <a:xfrm>
            <a:off x="7902000" y="0"/>
            <a:ext cx="3206880" cy="982440"/>
            <a:chOff x="7902000" y="0"/>
            <a:chExt cx="3206880" cy="982440"/>
          </a:xfrm>
        </p:grpSpPr>
        <p:sp>
          <p:nvSpPr>
            <p:cNvPr id="171" name="矩形 8"/>
            <p:cNvSpPr/>
            <p:nvPr/>
          </p:nvSpPr>
          <p:spPr>
            <a:xfrm>
              <a:off x="7902000" y="0"/>
              <a:ext cx="3206880" cy="982440"/>
            </a:xfrm>
            <a:prstGeom prst="rect">
              <a:avLst/>
            </a:prstGeom>
            <a:solidFill>
              <a:srgbClr val="a6a6a6">
                <a:alpha val="5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2" name="矩形 7"/>
            <p:cNvSpPr/>
            <p:nvPr/>
          </p:nvSpPr>
          <p:spPr>
            <a:xfrm>
              <a:off x="9413280" y="199080"/>
              <a:ext cx="184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椭圆 6"/>
          <p:cNvSpPr/>
          <p:nvPr/>
        </p:nvSpPr>
        <p:spPr>
          <a:xfrm>
            <a:off x="1835640" y="1869840"/>
            <a:ext cx="3398040" cy="3398040"/>
          </a:xfrm>
          <a:prstGeom prst="ellipse">
            <a:avLst/>
          </a:prstGeom>
          <a:noFill/>
          <a:ln>
            <a:solidFill>
              <a:srgbClr val="a5a5a5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4" name="椭圆 1"/>
          <p:cNvSpPr/>
          <p:nvPr/>
        </p:nvSpPr>
        <p:spPr>
          <a:xfrm>
            <a:off x="2770560" y="1405800"/>
            <a:ext cx="1528200" cy="1528200"/>
          </a:xfrm>
          <a:prstGeom prst="ellipse">
            <a:avLst/>
          </a:prstGeom>
          <a:solidFill>
            <a:srgbClr val="7764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5" name="椭圆 4"/>
          <p:cNvSpPr/>
          <p:nvPr/>
        </p:nvSpPr>
        <p:spPr>
          <a:xfrm>
            <a:off x="1242000" y="3739320"/>
            <a:ext cx="1528200" cy="15282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6" name="椭圆 5"/>
          <p:cNvSpPr/>
          <p:nvPr/>
        </p:nvSpPr>
        <p:spPr>
          <a:xfrm>
            <a:off x="4278600" y="3739320"/>
            <a:ext cx="1528200" cy="1528200"/>
          </a:xfrm>
          <a:prstGeom prst="ellipse">
            <a:avLst/>
          </a:prstGeom>
          <a:solidFill>
            <a:schemeClr val="accent3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3000960" y="1939320"/>
            <a:ext cx="11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1417680" y="4272840"/>
            <a:ext cx="11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9"/>
          <p:cNvSpPr/>
          <p:nvPr/>
        </p:nvSpPr>
        <p:spPr>
          <a:xfrm>
            <a:off x="4474800" y="4274280"/>
            <a:ext cx="11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爱女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7322040" y="0"/>
            <a:ext cx="4876560" cy="6857640"/>
          </a:xfrm>
          <a:prstGeom prst="rect">
            <a:avLst/>
          </a:prstGeom>
          <a:solidFill>
            <a:srgbClr val="7764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81" name="组合 17"/>
          <p:cNvGrpSpPr/>
          <p:nvPr/>
        </p:nvGrpSpPr>
        <p:grpSpPr>
          <a:xfrm>
            <a:off x="7635960" y="2621880"/>
            <a:ext cx="3029400" cy="2043360"/>
            <a:chOff x="7635960" y="2621880"/>
            <a:chExt cx="3029400" cy="2043360"/>
          </a:xfrm>
        </p:grpSpPr>
        <p:sp>
          <p:nvSpPr>
            <p:cNvPr id="182" name="文本框 11"/>
            <p:cNvSpPr/>
            <p:nvPr/>
          </p:nvSpPr>
          <p:spPr>
            <a:xfrm>
              <a:off x="7635960" y="2621880"/>
              <a:ext cx="2511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色块魔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直接连接符 13"/>
            <p:cNvCxnSpPr/>
            <p:nvPr/>
          </p:nvCxnSpPr>
          <p:spPr>
            <a:xfrm>
              <a:off x="7767720" y="3478320"/>
              <a:ext cx="2866320" cy="360"/>
            </a:xfrm>
            <a:prstGeom prst="straightConnector1">
              <a:avLst/>
            </a:prstGeom>
            <a:ln w="28575">
              <a:solidFill>
                <a:srgbClr val="ffffff">
                  <a:lumMod val="95000"/>
                </a:srgbClr>
              </a:solidFill>
            </a:ln>
          </p:spPr>
        </p:cxnSp>
        <p:sp>
          <p:nvSpPr>
            <p:cNvPr id="184" name="文本框 14"/>
            <p:cNvSpPr/>
            <p:nvPr/>
          </p:nvSpPr>
          <p:spPr>
            <a:xfrm>
              <a:off x="7635960" y="3478320"/>
              <a:ext cx="8186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15"/>
            <p:cNvSpPr/>
            <p:nvPr/>
          </p:nvSpPr>
          <p:spPr>
            <a:xfrm>
              <a:off x="8331840" y="3650400"/>
              <a:ext cx="23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色之徒修炼记之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16"/>
            <p:cNvSpPr/>
            <p:nvPr/>
          </p:nvSpPr>
          <p:spPr>
            <a:xfrm>
              <a:off x="8304840" y="3989880"/>
              <a:ext cx="23335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7615" t="331" r="1529" b="22927"/>
          <a:stretch/>
        </p:blipFill>
        <p:spPr>
          <a:xfrm>
            <a:off x="0" y="-9720"/>
            <a:ext cx="12191760" cy="6867360"/>
          </a:xfrm>
          <a:prstGeom prst="rect">
            <a:avLst/>
          </a:prstGeom>
          <a:ln w="0">
            <a:noFill/>
          </a:ln>
        </p:spPr>
      </p:pic>
      <p:sp>
        <p:nvSpPr>
          <p:cNvPr id="189" name="矩形 11"/>
          <p:cNvSpPr/>
          <p:nvPr/>
        </p:nvSpPr>
        <p:spPr>
          <a:xfrm>
            <a:off x="1137240" y="1774080"/>
            <a:ext cx="3802680" cy="5083560"/>
          </a:xfrm>
          <a:prstGeom prst="rect">
            <a:avLst/>
          </a:prstGeom>
          <a:solidFill>
            <a:srgbClr val="564935">
              <a:alpha val="62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90" name="组合 12"/>
          <p:cNvGrpSpPr/>
          <p:nvPr/>
        </p:nvGrpSpPr>
        <p:grpSpPr>
          <a:xfrm>
            <a:off x="1492200" y="2858760"/>
            <a:ext cx="3698640" cy="2727360"/>
            <a:chOff x="1492200" y="2858760"/>
            <a:chExt cx="3698640" cy="2727360"/>
          </a:xfrm>
        </p:grpSpPr>
        <p:sp>
          <p:nvSpPr>
            <p:cNvPr id="191" name="文本框 2"/>
            <p:cNvSpPr/>
            <p:nvPr/>
          </p:nvSpPr>
          <p:spPr>
            <a:xfrm>
              <a:off x="1492200" y="2858760"/>
              <a:ext cx="369828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直接连接符 6"/>
            <p:cNvCxnSpPr/>
            <p:nvPr/>
          </p:nvCxnSpPr>
          <p:spPr>
            <a:xfrm>
              <a:off x="1623960" y="4399200"/>
              <a:ext cx="3567240" cy="360"/>
            </a:xfrm>
            <a:prstGeom prst="straightConnector1">
              <a:avLst/>
            </a:prstGeom>
            <a:ln w="28575">
              <a:solidFill>
                <a:srgbClr val="ffffff">
                  <a:lumMod val="95000"/>
                </a:srgbClr>
              </a:solidFill>
            </a:ln>
          </p:spPr>
        </p:cxnSp>
        <p:sp>
          <p:nvSpPr>
            <p:cNvPr id="193" name="文本框 7"/>
            <p:cNvSpPr/>
            <p:nvPr/>
          </p:nvSpPr>
          <p:spPr>
            <a:xfrm>
              <a:off x="1492200" y="4399200"/>
              <a:ext cx="8186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8"/>
            <p:cNvSpPr/>
            <p:nvPr/>
          </p:nvSpPr>
          <p:spPr>
            <a:xfrm>
              <a:off x="2188440" y="4570920"/>
              <a:ext cx="23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色之徒修炼记之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9246600" y="0"/>
            <a:ext cx="3047760" cy="6857640"/>
          </a:xfrm>
          <a:prstGeom prst="rect">
            <a:avLst/>
          </a:prstGeom>
          <a:solidFill>
            <a:srgbClr val="9f8d7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88" name="组合 14"/>
          <p:cNvGrpSpPr/>
          <p:nvPr/>
        </p:nvGrpSpPr>
        <p:grpSpPr>
          <a:xfrm>
            <a:off x="9710640" y="2244240"/>
            <a:ext cx="2752200" cy="1405080"/>
            <a:chOff x="9710640" y="2244240"/>
            <a:chExt cx="2752200" cy="1405080"/>
          </a:xfrm>
        </p:grpSpPr>
        <p:sp>
          <p:nvSpPr>
            <p:cNvPr id="89" name="文本框 7"/>
            <p:cNvSpPr/>
            <p:nvPr/>
          </p:nvSpPr>
          <p:spPr>
            <a:xfrm>
              <a:off x="9715320" y="224424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d0d0d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10"/>
            <p:cNvSpPr/>
            <p:nvPr/>
          </p:nvSpPr>
          <p:spPr>
            <a:xfrm>
              <a:off x="9710640" y="3157200"/>
              <a:ext cx="2237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2600" spc="-1" strike="noStrike">
                <a:solidFill>
                  <a:srgbClr val="0d0d0d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91" name="直接连接符 12"/>
            <p:cNvCxnSpPr/>
            <p:nvPr/>
          </p:nvCxnSpPr>
          <p:spPr>
            <a:xfrm>
              <a:off x="9860400" y="300852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</a:ln>
          </p:spPr>
        </p:cxnSp>
      </p:grpSp>
      <p:pic>
        <p:nvPicPr>
          <p:cNvPr id="92" name="图片 16" descr=""/>
          <p:cNvPicPr/>
          <p:nvPr/>
        </p:nvPicPr>
        <p:blipFill>
          <a:blip r:embed="rId1"/>
          <a:srcRect l="9143" t="0" r="0" b="0"/>
          <a:stretch/>
        </p:blipFill>
        <p:spPr>
          <a:xfrm>
            <a:off x="0" y="0"/>
            <a:ext cx="9355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6" descr=""/>
          <p:cNvPicPr/>
          <p:nvPr/>
        </p:nvPicPr>
        <p:blipFill>
          <a:blip r:embed="rId1"/>
          <a:srcRect l="9143" t="0" r="0" b="0"/>
          <a:stretch/>
        </p:blipFill>
        <p:spPr>
          <a:xfrm>
            <a:off x="0" y="0"/>
            <a:ext cx="9355320" cy="6857640"/>
          </a:xfrm>
          <a:prstGeom prst="rect">
            <a:avLst/>
          </a:prstGeom>
          <a:ln w="0">
            <a:noFill/>
          </a:ln>
        </p:spPr>
      </p:pic>
      <p:sp>
        <p:nvSpPr>
          <p:cNvPr id="94" name="矩形 6"/>
          <p:cNvSpPr/>
          <p:nvPr/>
        </p:nvSpPr>
        <p:spPr>
          <a:xfrm>
            <a:off x="7300080" y="0"/>
            <a:ext cx="4891320" cy="6857640"/>
          </a:xfrm>
          <a:prstGeom prst="rect">
            <a:avLst/>
          </a:prstGeom>
          <a:gradFill rotWithShape="0">
            <a:gsLst>
              <a:gs pos="62000">
                <a:srgbClr val="9f8d75"/>
              </a:gs>
              <a:gs pos="100000">
                <a:srgbClr val="9f8d75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95" name="组合 14"/>
          <p:cNvGrpSpPr/>
          <p:nvPr/>
        </p:nvGrpSpPr>
        <p:grpSpPr>
          <a:xfrm>
            <a:off x="9360000" y="2525760"/>
            <a:ext cx="2747520" cy="1004040"/>
            <a:chOff x="9360000" y="2525760"/>
            <a:chExt cx="2747520" cy="1004040"/>
          </a:xfrm>
        </p:grpSpPr>
        <p:sp>
          <p:nvSpPr>
            <p:cNvPr id="96" name="文本框 7"/>
            <p:cNvSpPr/>
            <p:nvPr/>
          </p:nvSpPr>
          <p:spPr>
            <a:xfrm>
              <a:off x="9360000" y="252576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直接连接符 12"/>
            <p:cNvCxnSpPr/>
            <p:nvPr/>
          </p:nvCxnSpPr>
          <p:spPr>
            <a:xfrm>
              <a:off x="9505440" y="328968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"/>
          <p:cNvGrpSpPr/>
          <p:nvPr/>
        </p:nvGrpSpPr>
        <p:grpSpPr>
          <a:xfrm>
            <a:off x="1203120" y="2635920"/>
            <a:ext cx="9810360" cy="4221720"/>
            <a:chOff x="1203120" y="2635920"/>
            <a:chExt cx="9810360" cy="4221720"/>
          </a:xfrm>
        </p:grpSpPr>
        <p:sp>
          <p:nvSpPr>
            <p:cNvPr id="99" name="图片 12"/>
            <p:cNvSpPr/>
            <p:nvPr/>
          </p:nvSpPr>
          <p:spPr>
            <a:xfrm>
              <a:off x="6791760" y="2635920"/>
              <a:ext cx="4221720" cy="4221720"/>
            </a:xfrm>
            <a:custGeom>
              <a:avLst/>
              <a:gdLst>
                <a:gd name="textAreaLeft" fmla="*/ 0 w 4221720"/>
                <a:gd name="textAreaRight" fmla="*/ 4222080 w 4221720"/>
                <a:gd name="textAreaTop" fmla="*/ 0 h 4221720"/>
                <a:gd name="textAreaBottom" fmla="*/ 4222080 h 4221720"/>
              </a:gdLst>
              <a:ahLst/>
              <a:rect l="textAreaLeft" t="textAreaTop" r="textAreaRight" b="textAreaBottom"/>
              <a:pathLst>
                <a:path w="1760562" h="1760562">
                  <a:moveTo>
                    <a:pt x="0" y="0"/>
                  </a:moveTo>
                  <a:lnTo>
                    <a:pt x="1760562" y="0"/>
                  </a:lnTo>
                  <a:lnTo>
                    <a:pt x="1760562" y="1760562"/>
                  </a:lnTo>
                  <a:lnTo>
                    <a:pt x="0" y="176056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图片 11"/>
            <p:cNvSpPr/>
            <p:nvPr/>
          </p:nvSpPr>
          <p:spPr>
            <a:xfrm>
              <a:off x="2391480" y="2635920"/>
              <a:ext cx="2016000" cy="201600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016000"/>
                <a:gd name="textAreaBottom" fmla="*/ 2016360 h 2016000"/>
              </a:gdLst>
              <a:ahLst/>
              <a:rect l="textAreaLeft" t="textAreaTop" r="textAreaRight" b="textAreaBottom"/>
              <a:pathLst>
                <a:path w="832513" h="832513">
                  <a:moveTo>
                    <a:pt x="0" y="0"/>
                  </a:moveTo>
                  <a:lnTo>
                    <a:pt x="832513" y="0"/>
                  </a:lnTo>
                  <a:lnTo>
                    <a:pt x="832513" y="832513"/>
                  </a:lnTo>
                  <a:lnTo>
                    <a:pt x="0" y="8325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图片 10"/>
            <p:cNvSpPr/>
            <p:nvPr/>
          </p:nvSpPr>
          <p:spPr>
            <a:xfrm>
              <a:off x="4591800" y="4841640"/>
              <a:ext cx="2016000" cy="201600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016000"/>
                <a:gd name="textAreaBottom" fmla="*/ 2016360 h 2016000"/>
              </a:gdLst>
              <a:ahLst/>
              <a:rect l="textAreaLeft" t="textAreaTop" r="textAreaRight" b="textAreaBottom"/>
              <a:pathLst>
                <a:path w="832513" h="832513">
                  <a:moveTo>
                    <a:pt x="0" y="0"/>
                  </a:moveTo>
                  <a:lnTo>
                    <a:pt x="832513" y="0"/>
                  </a:lnTo>
                  <a:lnTo>
                    <a:pt x="832513" y="832513"/>
                  </a:lnTo>
                  <a:lnTo>
                    <a:pt x="0" y="8325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图片 13"/>
            <p:cNvSpPr/>
            <p:nvPr/>
          </p:nvSpPr>
          <p:spPr>
            <a:xfrm>
              <a:off x="1203120" y="2635920"/>
              <a:ext cx="1004400" cy="422172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4221720"/>
                <a:gd name="textAreaBottom" fmla="*/ 4222080 h 4221720"/>
              </a:gdLst>
              <a:ahLst/>
              <a:rect l="textAreaLeft" t="textAreaTop" r="textAreaRight" b="textAreaBottom"/>
              <a:pathLst>
                <a:path w="832513" h="2606723">
                  <a:moveTo>
                    <a:pt x="0" y="0"/>
                  </a:moveTo>
                  <a:lnTo>
                    <a:pt x="832513" y="0"/>
                  </a:lnTo>
                  <a:lnTo>
                    <a:pt x="832513" y="2606723"/>
                  </a:lnTo>
                  <a:lnTo>
                    <a:pt x="0" y="2606723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4591800" y="2635920"/>
              <a:ext cx="2016000" cy="2016000"/>
            </a:xfrm>
            <a:prstGeom prst="rect">
              <a:avLst/>
            </a:prstGeom>
            <a:solidFill>
              <a:srgbClr val="2b340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2391480" y="4841640"/>
              <a:ext cx="2016000" cy="2016000"/>
            </a:xfrm>
            <a:prstGeom prst="rect">
              <a:avLst/>
            </a:prstGeom>
            <a:solidFill>
              <a:srgbClr val="9f8d7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5" name="矩形 7"/>
            <p:cNvSpPr/>
            <p:nvPr/>
          </p:nvSpPr>
          <p:spPr>
            <a:xfrm>
              <a:off x="5204160" y="2845800"/>
              <a:ext cx="79056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方正苏新诗柳楷简体-yolan"/>
                  <a:ea typeface="方正苏新诗柳楷简体-yolan"/>
                </a:rPr>
                <a:t>唯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方正苏新诗柳楷简体-yolan"/>
                  <a:ea typeface="方正苏新诗柳楷简体-yolan"/>
                </a:rPr>
                <a:t>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1"/>
          <p:cNvSpPr/>
          <p:nvPr/>
        </p:nvSpPr>
        <p:spPr>
          <a:xfrm>
            <a:off x="510480" y="0"/>
            <a:ext cx="2368800" cy="982440"/>
          </a:xfrm>
          <a:prstGeom prst="rect">
            <a:avLst/>
          </a:prstGeom>
          <a:solidFill>
            <a:srgbClr val="2b34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造字工房朗倩（非商用）常规体"/>
                <a:ea typeface="造字工房朗倩（非商用）常规体"/>
              </a:rPr>
              <a:t>色块魔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6" descr=""/>
          <p:cNvPicPr/>
          <p:nvPr/>
        </p:nvPicPr>
        <p:blipFill>
          <a:blip r:embed="rId1"/>
          <a:srcRect l="7615" t="331" r="1529" b="22923"/>
          <a:stretch/>
        </p:blipFill>
        <p:spPr>
          <a:xfrm>
            <a:off x="0" y="0"/>
            <a:ext cx="12191760" cy="68673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7615" t="331" r="67461" b="22927"/>
          <a:stretch/>
        </p:blipFill>
        <p:spPr>
          <a:xfrm>
            <a:off x="0" y="0"/>
            <a:ext cx="3343320" cy="685764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7"/>
          <p:cNvSpPr/>
          <p:nvPr/>
        </p:nvSpPr>
        <p:spPr>
          <a:xfrm>
            <a:off x="398880" y="2473200"/>
            <a:ext cx="2747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苏新诗柳楷简体-yolan"/>
                <a:ea typeface="方正苏新诗柳楷简体-yolan"/>
              </a:rPr>
              <a:t>唯美女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直接连接符 12"/>
          <p:cNvCxnSpPr/>
          <p:nvPr/>
        </p:nvCxnSpPr>
        <p:spPr>
          <a:xfrm>
            <a:off x="544320" y="3237120"/>
            <a:ext cx="193860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</a:ln>
        </p:spPr>
      </p:cxnSp>
      <p:sp>
        <p:nvSpPr>
          <p:cNvPr id="112" name="图片 19"/>
          <p:cNvSpPr/>
          <p:nvPr/>
        </p:nvSpPr>
        <p:spPr>
          <a:xfrm>
            <a:off x="539280" y="2607840"/>
            <a:ext cx="1920240" cy="464760"/>
          </a:xfrm>
          <a:custGeom>
            <a:avLst/>
            <a:gdLst>
              <a:gd name="textAreaLeft" fmla="*/ 0 w 1920240"/>
              <a:gd name="textAreaRight" fmla="*/ 1920600 w 1920240"/>
              <a:gd name="textAreaTop" fmla="*/ 0 h 464760"/>
              <a:gd name="textAreaBottom" fmla="*/ 465120 h 464760"/>
            </a:gdLst>
            <a:ahLst/>
            <a:rect l="textAreaLeft" t="textAreaTop" r="textAreaRight" b="textAreaBottom"/>
            <a:pathLst>
              <a:path w="1920702" h="465074">
                <a:moveTo>
                  <a:pt x="742448" y="344784"/>
                </a:moveTo>
                <a:cubicBezTo>
                  <a:pt x="746392" y="344784"/>
                  <a:pt x="751322" y="345441"/>
                  <a:pt x="757238" y="346756"/>
                </a:cubicBezTo>
                <a:cubicBezTo>
                  <a:pt x="765126" y="346756"/>
                  <a:pt x="778930" y="353987"/>
                  <a:pt x="798649" y="368448"/>
                </a:cubicBezTo>
                <a:cubicBezTo>
                  <a:pt x="814425" y="381594"/>
                  <a:pt x="822970" y="393426"/>
                  <a:pt x="824285" y="403944"/>
                </a:cubicBezTo>
                <a:cubicBezTo>
                  <a:pt x="828229" y="411831"/>
                  <a:pt x="828229" y="421691"/>
                  <a:pt x="824285" y="433523"/>
                </a:cubicBezTo>
                <a:cubicBezTo>
                  <a:pt x="821656" y="445355"/>
                  <a:pt x="818369" y="450613"/>
                  <a:pt x="814425" y="449299"/>
                </a:cubicBezTo>
                <a:cubicBezTo>
                  <a:pt x="809166" y="449299"/>
                  <a:pt x="802593" y="442725"/>
                  <a:pt x="794705" y="429579"/>
                </a:cubicBezTo>
                <a:cubicBezTo>
                  <a:pt x="790761" y="425635"/>
                  <a:pt x="785503" y="419062"/>
                  <a:pt x="778930" y="409859"/>
                </a:cubicBezTo>
                <a:cubicBezTo>
                  <a:pt x="771042" y="400657"/>
                  <a:pt x="764469" y="392769"/>
                  <a:pt x="759210" y="386196"/>
                </a:cubicBezTo>
                <a:cubicBezTo>
                  <a:pt x="755266" y="380937"/>
                  <a:pt x="750007" y="374364"/>
                  <a:pt x="743434" y="366476"/>
                </a:cubicBezTo>
                <a:cubicBezTo>
                  <a:pt x="740805" y="361217"/>
                  <a:pt x="737518" y="356616"/>
                  <a:pt x="733574" y="352672"/>
                </a:cubicBezTo>
                <a:lnTo>
                  <a:pt x="731602" y="348728"/>
                </a:lnTo>
                <a:cubicBezTo>
                  <a:pt x="731602" y="347413"/>
                  <a:pt x="732259" y="346756"/>
                  <a:pt x="733574" y="346756"/>
                </a:cubicBezTo>
                <a:cubicBezTo>
                  <a:pt x="735546" y="345441"/>
                  <a:pt x="738504" y="344784"/>
                  <a:pt x="742448" y="344784"/>
                </a:cubicBezTo>
                <a:close/>
                <a:moveTo>
                  <a:pt x="697955" y="257401"/>
                </a:moveTo>
                <a:cubicBezTo>
                  <a:pt x="703625" y="258141"/>
                  <a:pt x="708925" y="262947"/>
                  <a:pt x="713855" y="271821"/>
                </a:cubicBezTo>
                <a:cubicBezTo>
                  <a:pt x="721742" y="279709"/>
                  <a:pt x="725686" y="288254"/>
                  <a:pt x="725686" y="297457"/>
                </a:cubicBezTo>
                <a:cubicBezTo>
                  <a:pt x="728316" y="297457"/>
                  <a:pt x="732259" y="296800"/>
                  <a:pt x="737518" y="295485"/>
                </a:cubicBezTo>
                <a:cubicBezTo>
                  <a:pt x="751979" y="292856"/>
                  <a:pt x="767755" y="290226"/>
                  <a:pt x="784846" y="287597"/>
                </a:cubicBezTo>
                <a:cubicBezTo>
                  <a:pt x="828229" y="279709"/>
                  <a:pt x="851235" y="273793"/>
                  <a:pt x="853865" y="269849"/>
                </a:cubicBezTo>
                <a:cubicBezTo>
                  <a:pt x="853865" y="264591"/>
                  <a:pt x="862410" y="268535"/>
                  <a:pt x="879500" y="281681"/>
                </a:cubicBezTo>
                <a:cubicBezTo>
                  <a:pt x="893961" y="294828"/>
                  <a:pt x="900535" y="304687"/>
                  <a:pt x="899220" y="311261"/>
                </a:cubicBezTo>
                <a:lnTo>
                  <a:pt x="897248" y="315205"/>
                </a:lnTo>
                <a:cubicBezTo>
                  <a:pt x="894619" y="323092"/>
                  <a:pt x="891332" y="326379"/>
                  <a:pt x="887388" y="325064"/>
                </a:cubicBezTo>
                <a:cubicBezTo>
                  <a:pt x="884759" y="322435"/>
                  <a:pt x="872270" y="318491"/>
                  <a:pt x="849921" y="313233"/>
                </a:cubicBezTo>
                <a:cubicBezTo>
                  <a:pt x="828886" y="306659"/>
                  <a:pt x="796020" y="306659"/>
                  <a:pt x="751322" y="313233"/>
                </a:cubicBezTo>
                <a:cubicBezTo>
                  <a:pt x="747378" y="313233"/>
                  <a:pt x="742119" y="313890"/>
                  <a:pt x="735546" y="315205"/>
                </a:cubicBezTo>
                <a:cubicBezTo>
                  <a:pt x="727658" y="315205"/>
                  <a:pt x="721742" y="315862"/>
                  <a:pt x="717798" y="317177"/>
                </a:cubicBezTo>
                <a:cubicBezTo>
                  <a:pt x="716484" y="321120"/>
                  <a:pt x="713197" y="327694"/>
                  <a:pt x="707939" y="336896"/>
                </a:cubicBezTo>
                <a:cubicBezTo>
                  <a:pt x="706624" y="340840"/>
                  <a:pt x="705309" y="344127"/>
                  <a:pt x="703995" y="346756"/>
                </a:cubicBezTo>
                <a:cubicBezTo>
                  <a:pt x="689533" y="370420"/>
                  <a:pt x="670471" y="392769"/>
                  <a:pt x="646807" y="413803"/>
                </a:cubicBezTo>
                <a:cubicBezTo>
                  <a:pt x="644178" y="415118"/>
                  <a:pt x="639577" y="417747"/>
                  <a:pt x="633004" y="421691"/>
                </a:cubicBezTo>
                <a:cubicBezTo>
                  <a:pt x="614598" y="437467"/>
                  <a:pt x="602109" y="445355"/>
                  <a:pt x="595536" y="445355"/>
                </a:cubicBezTo>
                <a:cubicBezTo>
                  <a:pt x="591592" y="446669"/>
                  <a:pt x="588963" y="447327"/>
                  <a:pt x="587648" y="447327"/>
                </a:cubicBezTo>
                <a:cubicBezTo>
                  <a:pt x="586334" y="446012"/>
                  <a:pt x="586991" y="444040"/>
                  <a:pt x="589620" y="441411"/>
                </a:cubicBezTo>
                <a:cubicBezTo>
                  <a:pt x="592250" y="438782"/>
                  <a:pt x="598823" y="431551"/>
                  <a:pt x="609340" y="419719"/>
                </a:cubicBezTo>
                <a:cubicBezTo>
                  <a:pt x="614598" y="414461"/>
                  <a:pt x="619200" y="409859"/>
                  <a:pt x="623144" y="405915"/>
                </a:cubicBezTo>
                <a:cubicBezTo>
                  <a:pt x="640234" y="387510"/>
                  <a:pt x="655353" y="367133"/>
                  <a:pt x="668499" y="344784"/>
                </a:cubicBezTo>
                <a:cubicBezTo>
                  <a:pt x="672443" y="336896"/>
                  <a:pt x="676387" y="330323"/>
                  <a:pt x="680331" y="325064"/>
                </a:cubicBezTo>
                <a:cubicBezTo>
                  <a:pt x="668499" y="326379"/>
                  <a:pt x="653381" y="329008"/>
                  <a:pt x="634976" y="332952"/>
                </a:cubicBezTo>
                <a:cubicBezTo>
                  <a:pt x="636290" y="332952"/>
                  <a:pt x="633661" y="333610"/>
                  <a:pt x="627088" y="334924"/>
                </a:cubicBezTo>
                <a:cubicBezTo>
                  <a:pt x="590278" y="344127"/>
                  <a:pt x="562670" y="352015"/>
                  <a:pt x="544265" y="358588"/>
                </a:cubicBezTo>
                <a:cubicBezTo>
                  <a:pt x="527174" y="363847"/>
                  <a:pt x="516657" y="368448"/>
                  <a:pt x="512713" y="372392"/>
                </a:cubicBezTo>
                <a:cubicBezTo>
                  <a:pt x="508769" y="375021"/>
                  <a:pt x="504168" y="370420"/>
                  <a:pt x="498909" y="358588"/>
                </a:cubicBezTo>
                <a:cubicBezTo>
                  <a:pt x="494966" y="350700"/>
                  <a:pt x="492994" y="345441"/>
                  <a:pt x="492994" y="342812"/>
                </a:cubicBezTo>
                <a:cubicBezTo>
                  <a:pt x="492994" y="340183"/>
                  <a:pt x="493651" y="338868"/>
                  <a:pt x="494966" y="338868"/>
                </a:cubicBezTo>
                <a:cubicBezTo>
                  <a:pt x="496280" y="338868"/>
                  <a:pt x="509427" y="336239"/>
                  <a:pt x="534405" y="330980"/>
                </a:cubicBezTo>
                <a:cubicBezTo>
                  <a:pt x="563327" y="325722"/>
                  <a:pt x="588306" y="321120"/>
                  <a:pt x="609340" y="317177"/>
                </a:cubicBezTo>
                <a:cubicBezTo>
                  <a:pt x="619857" y="315862"/>
                  <a:pt x="634318" y="313233"/>
                  <a:pt x="652723" y="309289"/>
                </a:cubicBezTo>
                <a:cubicBezTo>
                  <a:pt x="668499" y="306659"/>
                  <a:pt x="680331" y="304687"/>
                  <a:pt x="688219" y="303373"/>
                </a:cubicBezTo>
                <a:cubicBezTo>
                  <a:pt x="688219" y="300744"/>
                  <a:pt x="688219" y="298114"/>
                  <a:pt x="688219" y="295485"/>
                </a:cubicBezTo>
                <a:cubicBezTo>
                  <a:pt x="688219" y="284968"/>
                  <a:pt x="686247" y="277080"/>
                  <a:pt x="682303" y="271821"/>
                </a:cubicBezTo>
                <a:cubicBezTo>
                  <a:pt x="678359" y="263933"/>
                  <a:pt x="677702" y="259989"/>
                  <a:pt x="680331" y="259989"/>
                </a:cubicBezTo>
                <a:cubicBezTo>
                  <a:pt x="682960" y="258675"/>
                  <a:pt x="686904" y="258017"/>
                  <a:pt x="692163" y="258017"/>
                </a:cubicBezTo>
                <a:cubicBezTo>
                  <a:pt x="694135" y="257360"/>
                  <a:pt x="696066" y="257155"/>
                  <a:pt x="697955" y="257401"/>
                </a:cubicBezTo>
                <a:close/>
                <a:moveTo>
                  <a:pt x="1254175" y="210690"/>
                </a:moveTo>
                <a:cubicBezTo>
                  <a:pt x="1229197" y="212005"/>
                  <a:pt x="1206848" y="213977"/>
                  <a:pt x="1187128" y="216606"/>
                </a:cubicBezTo>
                <a:cubicBezTo>
                  <a:pt x="1175296" y="244214"/>
                  <a:pt x="1165436" y="263933"/>
                  <a:pt x="1157548" y="275765"/>
                </a:cubicBezTo>
                <a:cubicBezTo>
                  <a:pt x="1162807" y="277080"/>
                  <a:pt x="1170695" y="279052"/>
                  <a:pt x="1181212" y="281681"/>
                </a:cubicBezTo>
                <a:cubicBezTo>
                  <a:pt x="1191729" y="285625"/>
                  <a:pt x="1199617" y="288254"/>
                  <a:pt x="1204876" y="289569"/>
                </a:cubicBezTo>
                <a:cubicBezTo>
                  <a:pt x="1225910" y="264591"/>
                  <a:pt x="1242343" y="238298"/>
                  <a:pt x="1254175" y="210690"/>
                </a:cubicBezTo>
                <a:close/>
                <a:moveTo>
                  <a:pt x="1778720" y="208718"/>
                </a:moveTo>
                <a:lnTo>
                  <a:pt x="1741252" y="214634"/>
                </a:lnTo>
                <a:cubicBezTo>
                  <a:pt x="1747826" y="235668"/>
                  <a:pt x="1749797" y="253416"/>
                  <a:pt x="1747168" y="267877"/>
                </a:cubicBezTo>
                <a:lnTo>
                  <a:pt x="1778720" y="261961"/>
                </a:lnTo>
                <a:close/>
                <a:moveTo>
                  <a:pt x="270161" y="151531"/>
                </a:moveTo>
                <a:cubicBezTo>
                  <a:pt x="255699" y="155475"/>
                  <a:pt x="238609" y="159419"/>
                  <a:pt x="218889" y="163363"/>
                </a:cubicBezTo>
                <a:cubicBezTo>
                  <a:pt x="217575" y="175195"/>
                  <a:pt x="215603" y="192285"/>
                  <a:pt x="212973" y="214634"/>
                </a:cubicBezTo>
                <a:cubicBezTo>
                  <a:pt x="209029" y="250129"/>
                  <a:pt x="206400" y="292856"/>
                  <a:pt x="205086" y="342812"/>
                </a:cubicBezTo>
                <a:cubicBezTo>
                  <a:pt x="205086" y="344127"/>
                  <a:pt x="205086" y="345441"/>
                  <a:pt x="205086" y="346756"/>
                </a:cubicBezTo>
                <a:cubicBezTo>
                  <a:pt x="230064" y="340183"/>
                  <a:pt x="252413" y="336239"/>
                  <a:pt x="272133" y="334924"/>
                </a:cubicBezTo>
                <a:cubicBezTo>
                  <a:pt x="268189" y="327036"/>
                  <a:pt x="266217" y="321120"/>
                  <a:pt x="266217" y="317177"/>
                </a:cubicBezTo>
                <a:lnTo>
                  <a:pt x="266217" y="313233"/>
                </a:lnTo>
                <a:cubicBezTo>
                  <a:pt x="267531" y="304030"/>
                  <a:pt x="268189" y="294170"/>
                  <a:pt x="268189" y="283653"/>
                </a:cubicBezTo>
                <a:lnTo>
                  <a:pt x="266217" y="283653"/>
                </a:lnTo>
                <a:cubicBezTo>
                  <a:pt x="260958" y="284968"/>
                  <a:pt x="255042" y="286940"/>
                  <a:pt x="248469" y="289569"/>
                </a:cubicBezTo>
                <a:cubicBezTo>
                  <a:pt x="243210" y="290884"/>
                  <a:pt x="239924" y="291541"/>
                  <a:pt x="238609" y="291541"/>
                </a:cubicBezTo>
                <a:cubicBezTo>
                  <a:pt x="235980" y="292856"/>
                  <a:pt x="232693" y="289569"/>
                  <a:pt x="228749" y="281681"/>
                </a:cubicBezTo>
                <a:cubicBezTo>
                  <a:pt x="224805" y="273793"/>
                  <a:pt x="224148" y="270507"/>
                  <a:pt x="226777" y="271821"/>
                </a:cubicBezTo>
                <a:cubicBezTo>
                  <a:pt x="230721" y="271821"/>
                  <a:pt x="241238" y="269192"/>
                  <a:pt x="258329" y="263933"/>
                </a:cubicBezTo>
                <a:cubicBezTo>
                  <a:pt x="259643" y="263933"/>
                  <a:pt x="261615" y="263276"/>
                  <a:pt x="264245" y="261961"/>
                </a:cubicBezTo>
                <a:cubicBezTo>
                  <a:pt x="266874" y="261961"/>
                  <a:pt x="268846" y="261961"/>
                  <a:pt x="270161" y="261961"/>
                </a:cubicBezTo>
                <a:cubicBezTo>
                  <a:pt x="270161" y="247500"/>
                  <a:pt x="270818" y="233696"/>
                  <a:pt x="272133" y="220550"/>
                </a:cubicBezTo>
                <a:cubicBezTo>
                  <a:pt x="268189" y="220550"/>
                  <a:pt x="264245" y="221207"/>
                  <a:pt x="260301" y="222522"/>
                </a:cubicBezTo>
                <a:cubicBezTo>
                  <a:pt x="253727" y="223836"/>
                  <a:pt x="246497" y="225151"/>
                  <a:pt x="238609" y="226466"/>
                </a:cubicBezTo>
                <a:lnTo>
                  <a:pt x="232693" y="226466"/>
                </a:lnTo>
                <a:cubicBezTo>
                  <a:pt x="228749" y="225151"/>
                  <a:pt x="226120" y="221864"/>
                  <a:pt x="224805" y="216606"/>
                </a:cubicBezTo>
                <a:cubicBezTo>
                  <a:pt x="222176" y="211347"/>
                  <a:pt x="222833" y="208718"/>
                  <a:pt x="226777" y="208718"/>
                </a:cubicBezTo>
                <a:cubicBezTo>
                  <a:pt x="229406" y="208718"/>
                  <a:pt x="239266" y="206746"/>
                  <a:pt x="256357" y="202802"/>
                </a:cubicBezTo>
                <a:cubicBezTo>
                  <a:pt x="258986" y="201487"/>
                  <a:pt x="261615" y="200830"/>
                  <a:pt x="264245" y="200830"/>
                </a:cubicBezTo>
                <a:cubicBezTo>
                  <a:pt x="268189" y="199516"/>
                  <a:pt x="270818" y="198858"/>
                  <a:pt x="272133" y="198858"/>
                </a:cubicBezTo>
                <a:cubicBezTo>
                  <a:pt x="272133" y="175195"/>
                  <a:pt x="271475" y="159419"/>
                  <a:pt x="270161" y="151531"/>
                </a:cubicBezTo>
                <a:close/>
                <a:moveTo>
                  <a:pt x="695614" y="137234"/>
                </a:moveTo>
                <a:cubicBezTo>
                  <a:pt x="699229" y="137563"/>
                  <a:pt x="703337" y="139042"/>
                  <a:pt x="707939" y="141671"/>
                </a:cubicBezTo>
                <a:cubicBezTo>
                  <a:pt x="715826" y="145615"/>
                  <a:pt x="721085" y="153503"/>
                  <a:pt x="723714" y="165335"/>
                </a:cubicBezTo>
                <a:cubicBezTo>
                  <a:pt x="725029" y="165335"/>
                  <a:pt x="727001" y="164677"/>
                  <a:pt x="729630" y="163363"/>
                </a:cubicBezTo>
                <a:cubicBezTo>
                  <a:pt x="736203" y="160734"/>
                  <a:pt x="740147" y="158762"/>
                  <a:pt x="741462" y="157447"/>
                </a:cubicBezTo>
                <a:cubicBezTo>
                  <a:pt x="744091" y="154818"/>
                  <a:pt x="748035" y="156790"/>
                  <a:pt x="753294" y="163363"/>
                </a:cubicBezTo>
                <a:cubicBezTo>
                  <a:pt x="759867" y="167307"/>
                  <a:pt x="762496" y="171251"/>
                  <a:pt x="761182" y="175195"/>
                </a:cubicBezTo>
                <a:cubicBezTo>
                  <a:pt x="759867" y="179138"/>
                  <a:pt x="757238" y="181110"/>
                  <a:pt x="753294" y="181110"/>
                </a:cubicBezTo>
                <a:cubicBezTo>
                  <a:pt x="749350" y="181110"/>
                  <a:pt x="739490" y="183740"/>
                  <a:pt x="723714" y="188998"/>
                </a:cubicBezTo>
                <a:cubicBezTo>
                  <a:pt x="725029" y="202145"/>
                  <a:pt x="723714" y="215291"/>
                  <a:pt x="719770" y="228438"/>
                </a:cubicBezTo>
                <a:cubicBezTo>
                  <a:pt x="722400" y="227123"/>
                  <a:pt x="725686" y="225808"/>
                  <a:pt x="729630" y="224494"/>
                </a:cubicBezTo>
                <a:cubicBezTo>
                  <a:pt x="749350" y="216606"/>
                  <a:pt x="759210" y="212005"/>
                  <a:pt x="759210" y="210690"/>
                </a:cubicBezTo>
                <a:cubicBezTo>
                  <a:pt x="759210" y="208061"/>
                  <a:pt x="765126" y="211347"/>
                  <a:pt x="776958" y="220550"/>
                </a:cubicBezTo>
                <a:cubicBezTo>
                  <a:pt x="787475" y="228438"/>
                  <a:pt x="790761" y="234354"/>
                  <a:pt x="786817" y="238298"/>
                </a:cubicBezTo>
                <a:cubicBezTo>
                  <a:pt x="782873" y="240927"/>
                  <a:pt x="776958" y="242242"/>
                  <a:pt x="769070" y="242242"/>
                </a:cubicBezTo>
                <a:cubicBezTo>
                  <a:pt x="765126" y="240927"/>
                  <a:pt x="756581" y="241584"/>
                  <a:pt x="743434" y="244214"/>
                </a:cubicBezTo>
                <a:cubicBezTo>
                  <a:pt x="752637" y="241584"/>
                  <a:pt x="750665" y="241584"/>
                  <a:pt x="737518" y="244214"/>
                </a:cubicBezTo>
                <a:cubicBezTo>
                  <a:pt x="725686" y="245528"/>
                  <a:pt x="705309" y="250129"/>
                  <a:pt x="676387" y="258017"/>
                </a:cubicBezTo>
                <a:cubicBezTo>
                  <a:pt x="648779" y="265905"/>
                  <a:pt x="631689" y="271164"/>
                  <a:pt x="625116" y="273793"/>
                </a:cubicBezTo>
                <a:cubicBezTo>
                  <a:pt x="618542" y="275108"/>
                  <a:pt x="613284" y="277080"/>
                  <a:pt x="609340" y="279709"/>
                </a:cubicBezTo>
                <a:cubicBezTo>
                  <a:pt x="606711" y="281024"/>
                  <a:pt x="603424" y="279052"/>
                  <a:pt x="599480" y="273793"/>
                </a:cubicBezTo>
                <a:cubicBezTo>
                  <a:pt x="595536" y="268535"/>
                  <a:pt x="592907" y="263933"/>
                  <a:pt x="591592" y="259989"/>
                </a:cubicBezTo>
                <a:cubicBezTo>
                  <a:pt x="590278" y="257360"/>
                  <a:pt x="590278" y="256045"/>
                  <a:pt x="591592" y="256045"/>
                </a:cubicBezTo>
                <a:cubicBezTo>
                  <a:pt x="591592" y="254731"/>
                  <a:pt x="592907" y="254073"/>
                  <a:pt x="595536" y="254073"/>
                </a:cubicBezTo>
                <a:cubicBezTo>
                  <a:pt x="598165" y="252759"/>
                  <a:pt x="608025" y="250787"/>
                  <a:pt x="625116" y="248157"/>
                </a:cubicBezTo>
                <a:cubicBezTo>
                  <a:pt x="630374" y="246843"/>
                  <a:pt x="634976" y="246185"/>
                  <a:pt x="638920" y="246185"/>
                </a:cubicBezTo>
                <a:cubicBezTo>
                  <a:pt x="645493" y="244871"/>
                  <a:pt x="655353" y="242899"/>
                  <a:pt x="668499" y="240270"/>
                </a:cubicBezTo>
                <a:cubicBezTo>
                  <a:pt x="681646" y="236326"/>
                  <a:pt x="690848" y="233696"/>
                  <a:pt x="696107" y="232382"/>
                </a:cubicBezTo>
                <a:cubicBezTo>
                  <a:pt x="692163" y="227123"/>
                  <a:pt x="690191" y="222522"/>
                  <a:pt x="690191" y="218578"/>
                </a:cubicBezTo>
                <a:cubicBezTo>
                  <a:pt x="690191" y="215949"/>
                  <a:pt x="689533" y="209375"/>
                  <a:pt x="688219" y="198858"/>
                </a:cubicBezTo>
                <a:cubicBezTo>
                  <a:pt x="671128" y="205431"/>
                  <a:pt x="661269" y="208718"/>
                  <a:pt x="658639" y="208718"/>
                </a:cubicBezTo>
                <a:cubicBezTo>
                  <a:pt x="656010" y="208718"/>
                  <a:pt x="653381" y="206089"/>
                  <a:pt x="650751" y="200830"/>
                </a:cubicBezTo>
                <a:cubicBezTo>
                  <a:pt x="653381" y="206089"/>
                  <a:pt x="652723" y="205431"/>
                  <a:pt x="648779" y="198858"/>
                </a:cubicBezTo>
                <a:cubicBezTo>
                  <a:pt x="646150" y="196229"/>
                  <a:pt x="643521" y="192942"/>
                  <a:pt x="640891" y="188998"/>
                </a:cubicBezTo>
                <a:lnTo>
                  <a:pt x="638920" y="185054"/>
                </a:lnTo>
                <a:cubicBezTo>
                  <a:pt x="638920" y="181110"/>
                  <a:pt x="640234" y="179138"/>
                  <a:pt x="642864" y="179138"/>
                </a:cubicBezTo>
                <a:cubicBezTo>
                  <a:pt x="646807" y="179138"/>
                  <a:pt x="651409" y="179138"/>
                  <a:pt x="656667" y="179138"/>
                </a:cubicBezTo>
                <a:cubicBezTo>
                  <a:pt x="663241" y="179138"/>
                  <a:pt x="673100" y="177166"/>
                  <a:pt x="686247" y="173223"/>
                </a:cubicBezTo>
                <a:cubicBezTo>
                  <a:pt x="682303" y="161391"/>
                  <a:pt x="678359" y="154818"/>
                  <a:pt x="674415" y="153503"/>
                </a:cubicBezTo>
                <a:cubicBezTo>
                  <a:pt x="673100" y="150874"/>
                  <a:pt x="673100" y="148902"/>
                  <a:pt x="674415" y="147587"/>
                </a:cubicBezTo>
                <a:cubicBezTo>
                  <a:pt x="677044" y="143643"/>
                  <a:pt x="680988" y="141014"/>
                  <a:pt x="686247" y="139699"/>
                </a:cubicBezTo>
                <a:cubicBezTo>
                  <a:pt x="688876" y="137727"/>
                  <a:pt x="691998" y="136905"/>
                  <a:pt x="695614" y="137234"/>
                </a:cubicBezTo>
                <a:close/>
                <a:moveTo>
                  <a:pt x="1863515" y="131811"/>
                </a:moveTo>
                <a:cubicBezTo>
                  <a:pt x="1854312" y="131811"/>
                  <a:pt x="1836564" y="135755"/>
                  <a:pt x="1810271" y="143643"/>
                </a:cubicBezTo>
                <a:lnTo>
                  <a:pt x="1810271" y="183082"/>
                </a:lnTo>
                <a:cubicBezTo>
                  <a:pt x="1812901" y="183082"/>
                  <a:pt x="1816187" y="182425"/>
                  <a:pt x="1820131" y="181110"/>
                </a:cubicBezTo>
                <a:cubicBezTo>
                  <a:pt x="1829334" y="178481"/>
                  <a:pt x="1835250" y="176509"/>
                  <a:pt x="1837879" y="175195"/>
                </a:cubicBezTo>
                <a:cubicBezTo>
                  <a:pt x="1840508" y="172565"/>
                  <a:pt x="1844452" y="173223"/>
                  <a:pt x="1849711" y="177166"/>
                </a:cubicBezTo>
                <a:cubicBezTo>
                  <a:pt x="1853655" y="182425"/>
                  <a:pt x="1854970" y="187684"/>
                  <a:pt x="1853655" y="192942"/>
                </a:cubicBezTo>
                <a:cubicBezTo>
                  <a:pt x="1852340" y="195572"/>
                  <a:pt x="1850368" y="196886"/>
                  <a:pt x="1847739" y="196886"/>
                </a:cubicBezTo>
                <a:cubicBezTo>
                  <a:pt x="1843795" y="196886"/>
                  <a:pt x="1831306" y="199516"/>
                  <a:pt x="1810271" y="204774"/>
                </a:cubicBezTo>
                <a:lnTo>
                  <a:pt x="1810271" y="256045"/>
                </a:lnTo>
                <a:cubicBezTo>
                  <a:pt x="1822103" y="252101"/>
                  <a:pt x="1829334" y="249472"/>
                  <a:pt x="1831963" y="248157"/>
                </a:cubicBezTo>
                <a:cubicBezTo>
                  <a:pt x="1834592" y="245528"/>
                  <a:pt x="1837879" y="249472"/>
                  <a:pt x="1841823" y="259989"/>
                </a:cubicBezTo>
                <a:cubicBezTo>
                  <a:pt x="1849711" y="241584"/>
                  <a:pt x="1858256" y="217921"/>
                  <a:pt x="1867459" y="188998"/>
                </a:cubicBezTo>
                <a:cubicBezTo>
                  <a:pt x="1875347" y="157447"/>
                  <a:pt x="1878633" y="140356"/>
                  <a:pt x="1877318" y="137727"/>
                </a:cubicBezTo>
                <a:cubicBezTo>
                  <a:pt x="1876004" y="133783"/>
                  <a:pt x="1871403" y="131811"/>
                  <a:pt x="1863515" y="131811"/>
                </a:cubicBezTo>
                <a:close/>
                <a:moveTo>
                  <a:pt x="1639696" y="118993"/>
                </a:moveTo>
                <a:cubicBezTo>
                  <a:pt x="1641668" y="118336"/>
                  <a:pt x="1643968" y="118665"/>
                  <a:pt x="1646598" y="119979"/>
                </a:cubicBezTo>
                <a:cubicBezTo>
                  <a:pt x="1651856" y="119979"/>
                  <a:pt x="1658430" y="124580"/>
                  <a:pt x="1666317" y="133783"/>
                </a:cubicBezTo>
                <a:cubicBezTo>
                  <a:pt x="1675520" y="141671"/>
                  <a:pt x="1676177" y="147587"/>
                  <a:pt x="1668289" y="151531"/>
                </a:cubicBezTo>
                <a:cubicBezTo>
                  <a:pt x="1660401" y="155475"/>
                  <a:pt x="1653171" y="161391"/>
                  <a:pt x="1646598" y="169279"/>
                </a:cubicBezTo>
                <a:cubicBezTo>
                  <a:pt x="1641339" y="173223"/>
                  <a:pt x="1629507" y="187026"/>
                  <a:pt x="1611102" y="210690"/>
                </a:cubicBezTo>
                <a:cubicBezTo>
                  <a:pt x="1616361" y="214634"/>
                  <a:pt x="1618990" y="217263"/>
                  <a:pt x="1618990" y="218578"/>
                </a:cubicBezTo>
                <a:lnTo>
                  <a:pt x="1618990" y="222522"/>
                </a:lnTo>
                <a:cubicBezTo>
                  <a:pt x="1620305" y="226466"/>
                  <a:pt x="1620962" y="229752"/>
                  <a:pt x="1620962" y="232382"/>
                </a:cubicBezTo>
                <a:cubicBezTo>
                  <a:pt x="1643311" y="240270"/>
                  <a:pt x="1657772" y="246185"/>
                  <a:pt x="1664345" y="250129"/>
                </a:cubicBezTo>
                <a:cubicBezTo>
                  <a:pt x="1670919" y="254073"/>
                  <a:pt x="1676177" y="258017"/>
                  <a:pt x="1680121" y="261961"/>
                </a:cubicBezTo>
                <a:cubicBezTo>
                  <a:pt x="1681436" y="263276"/>
                  <a:pt x="1683408" y="267220"/>
                  <a:pt x="1686037" y="273793"/>
                </a:cubicBezTo>
                <a:cubicBezTo>
                  <a:pt x="1686037" y="277737"/>
                  <a:pt x="1686694" y="281024"/>
                  <a:pt x="1688009" y="283653"/>
                </a:cubicBezTo>
                <a:cubicBezTo>
                  <a:pt x="1688009" y="294170"/>
                  <a:pt x="1685380" y="300744"/>
                  <a:pt x="1680121" y="303373"/>
                </a:cubicBezTo>
                <a:cubicBezTo>
                  <a:pt x="1674863" y="303373"/>
                  <a:pt x="1670919" y="300744"/>
                  <a:pt x="1668289" y="295485"/>
                </a:cubicBezTo>
                <a:lnTo>
                  <a:pt x="1664345" y="291541"/>
                </a:lnTo>
                <a:cubicBezTo>
                  <a:pt x="1663031" y="288912"/>
                  <a:pt x="1653828" y="279709"/>
                  <a:pt x="1636738" y="263933"/>
                </a:cubicBezTo>
                <a:cubicBezTo>
                  <a:pt x="1630165" y="258675"/>
                  <a:pt x="1624906" y="254073"/>
                  <a:pt x="1620962" y="250129"/>
                </a:cubicBezTo>
                <a:cubicBezTo>
                  <a:pt x="1619647" y="256703"/>
                  <a:pt x="1618990" y="267220"/>
                  <a:pt x="1618990" y="281681"/>
                </a:cubicBezTo>
                <a:cubicBezTo>
                  <a:pt x="1617675" y="297457"/>
                  <a:pt x="1617018" y="308631"/>
                  <a:pt x="1617018" y="315205"/>
                </a:cubicBezTo>
                <a:cubicBezTo>
                  <a:pt x="1617018" y="341498"/>
                  <a:pt x="1617675" y="364504"/>
                  <a:pt x="1618990" y="384224"/>
                </a:cubicBezTo>
                <a:cubicBezTo>
                  <a:pt x="1618990" y="403944"/>
                  <a:pt x="1617018" y="414461"/>
                  <a:pt x="1613074" y="415775"/>
                </a:cubicBezTo>
                <a:cubicBezTo>
                  <a:pt x="1609130" y="418405"/>
                  <a:pt x="1603214" y="415118"/>
                  <a:pt x="1595326" y="405915"/>
                </a:cubicBezTo>
                <a:cubicBezTo>
                  <a:pt x="1590068" y="395398"/>
                  <a:pt x="1588096" y="387510"/>
                  <a:pt x="1589410" y="382252"/>
                </a:cubicBezTo>
                <a:cubicBezTo>
                  <a:pt x="1592040" y="378308"/>
                  <a:pt x="1593354" y="366476"/>
                  <a:pt x="1593354" y="346756"/>
                </a:cubicBezTo>
                <a:cubicBezTo>
                  <a:pt x="1593354" y="328351"/>
                  <a:pt x="1594012" y="302715"/>
                  <a:pt x="1595326" y="269849"/>
                </a:cubicBezTo>
                <a:cubicBezTo>
                  <a:pt x="1596641" y="251444"/>
                  <a:pt x="1597298" y="237640"/>
                  <a:pt x="1597298" y="228438"/>
                </a:cubicBezTo>
                <a:cubicBezTo>
                  <a:pt x="1573635" y="257360"/>
                  <a:pt x="1555230" y="279052"/>
                  <a:pt x="1542083" y="293513"/>
                </a:cubicBezTo>
                <a:cubicBezTo>
                  <a:pt x="1530251" y="305345"/>
                  <a:pt x="1517762" y="315205"/>
                  <a:pt x="1504616" y="323092"/>
                </a:cubicBezTo>
                <a:cubicBezTo>
                  <a:pt x="1503301" y="323092"/>
                  <a:pt x="1501986" y="323750"/>
                  <a:pt x="1500672" y="325064"/>
                </a:cubicBezTo>
                <a:cubicBezTo>
                  <a:pt x="1496728" y="326379"/>
                  <a:pt x="1494756" y="326379"/>
                  <a:pt x="1494756" y="325064"/>
                </a:cubicBezTo>
                <a:lnTo>
                  <a:pt x="1500672" y="319148"/>
                </a:lnTo>
                <a:cubicBezTo>
                  <a:pt x="1501986" y="317834"/>
                  <a:pt x="1505273" y="313890"/>
                  <a:pt x="1510531" y="307317"/>
                </a:cubicBezTo>
                <a:cubicBezTo>
                  <a:pt x="1523678" y="290226"/>
                  <a:pt x="1535510" y="274451"/>
                  <a:pt x="1546027" y="259989"/>
                </a:cubicBezTo>
                <a:cubicBezTo>
                  <a:pt x="1571005" y="228438"/>
                  <a:pt x="1590068" y="199516"/>
                  <a:pt x="1603214" y="173223"/>
                </a:cubicBezTo>
                <a:cubicBezTo>
                  <a:pt x="1596641" y="177166"/>
                  <a:pt x="1588096" y="182425"/>
                  <a:pt x="1577579" y="188998"/>
                </a:cubicBezTo>
                <a:cubicBezTo>
                  <a:pt x="1565747" y="196886"/>
                  <a:pt x="1557859" y="202145"/>
                  <a:pt x="1553915" y="204774"/>
                </a:cubicBezTo>
                <a:cubicBezTo>
                  <a:pt x="1543398" y="211347"/>
                  <a:pt x="1536167" y="213977"/>
                  <a:pt x="1532223" y="212662"/>
                </a:cubicBezTo>
                <a:cubicBezTo>
                  <a:pt x="1528279" y="210033"/>
                  <a:pt x="1524335" y="204117"/>
                  <a:pt x="1520391" y="194914"/>
                </a:cubicBezTo>
                <a:cubicBezTo>
                  <a:pt x="1515133" y="185712"/>
                  <a:pt x="1514475" y="181110"/>
                  <a:pt x="1518419" y="181110"/>
                </a:cubicBezTo>
                <a:cubicBezTo>
                  <a:pt x="1522363" y="181110"/>
                  <a:pt x="1534852" y="177166"/>
                  <a:pt x="1555887" y="169279"/>
                </a:cubicBezTo>
                <a:cubicBezTo>
                  <a:pt x="1563775" y="165335"/>
                  <a:pt x="1573635" y="161391"/>
                  <a:pt x="1585467" y="157447"/>
                </a:cubicBezTo>
                <a:cubicBezTo>
                  <a:pt x="1595984" y="152188"/>
                  <a:pt x="1603214" y="148902"/>
                  <a:pt x="1607158" y="147587"/>
                </a:cubicBezTo>
                <a:cubicBezTo>
                  <a:pt x="1611102" y="144958"/>
                  <a:pt x="1615703" y="141671"/>
                  <a:pt x="1620962" y="137727"/>
                </a:cubicBezTo>
                <a:cubicBezTo>
                  <a:pt x="1624906" y="135098"/>
                  <a:pt x="1627535" y="133783"/>
                  <a:pt x="1628850" y="133783"/>
                </a:cubicBezTo>
                <a:cubicBezTo>
                  <a:pt x="1631479" y="129839"/>
                  <a:pt x="1633451" y="126552"/>
                  <a:pt x="1634766" y="123923"/>
                </a:cubicBezTo>
                <a:cubicBezTo>
                  <a:pt x="1636080" y="121294"/>
                  <a:pt x="1637724" y="119651"/>
                  <a:pt x="1639696" y="118993"/>
                </a:cubicBezTo>
                <a:close/>
                <a:moveTo>
                  <a:pt x="127069" y="69201"/>
                </a:moveTo>
                <a:cubicBezTo>
                  <a:pt x="130767" y="69201"/>
                  <a:pt x="137052" y="73638"/>
                  <a:pt x="145926" y="82512"/>
                </a:cubicBezTo>
                <a:cubicBezTo>
                  <a:pt x="159073" y="94344"/>
                  <a:pt x="164331" y="101574"/>
                  <a:pt x="161702" y="104203"/>
                </a:cubicBezTo>
                <a:cubicBezTo>
                  <a:pt x="157758" y="108147"/>
                  <a:pt x="150528" y="118665"/>
                  <a:pt x="140010" y="135755"/>
                </a:cubicBezTo>
                <a:cubicBezTo>
                  <a:pt x="136066" y="139699"/>
                  <a:pt x="132780" y="144300"/>
                  <a:pt x="130151" y="149559"/>
                </a:cubicBezTo>
                <a:cubicBezTo>
                  <a:pt x="135409" y="153503"/>
                  <a:pt x="138038" y="157447"/>
                  <a:pt x="138038" y="161391"/>
                </a:cubicBezTo>
                <a:cubicBezTo>
                  <a:pt x="139353" y="166649"/>
                  <a:pt x="138038" y="169279"/>
                  <a:pt x="134095" y="169279"/>
                </a:cubicBezTo>
                <a:cubicBezTo>
                  <a:pt x="130151" y="169279"/>
                  <a:pt x="123577" y="169936"/>
                  <a:pt x="114375" y="171251"/>
                </a:cubicBezTo>
                <a:cubicBezTo>
                  <a:pt x="103858" y="172565"/>
                  <a:pt x="85453" y="178481"/>
                  <a:pt x="59160" y="188998"/>
                </a:cubicBezTo>
                <a:cubicBezTo>
                  <a:pt x="59160" y="192942"/>
                  <a:pt x="59160" y="196229"/>
                  <a:pt x="59160" y="198858"/>
                </a:cubicBezTo>
                <a:cubicBezTo>
                  <a:pt x="63103" y="215949"/>
                  <a:pt x="63103" y="227780"/>
                  <a:pt x="59160" y="234354"/>
                </a:cubicBezTo>
                <a:cubicBezTo>
                  <a:pt x="56530" y="240927"/>
                  <a:pt x="51929" y="240270"/>
                  <a:pt x="45356" y="232382"/>
                </a:cubicBezTo>
                <a:cubicBezTo>
                  <a:pt x="38783" y="224494"/>
                  <a:pt x="36153" y="219235"/>
                  <a:pt x="37468" y="216606"/>
                </a:cubicBezTo>
                <a:cubicBezTo>
                  <a:pt x="38783" y="212662"/>
                  <a:pt x="37468" y="203459"/>
                  <a:pt x="33524" y="188998"/>
                </a:cubicBezTo>
                <a:cubicBezTo>
                  <a:pt x="32209" y="173223"/>
                  <a:pt x="27608" y="155475"/>
                  <a:pt x="19720" y="135755"/>
                </a:cubicBezTo>
                <a:cubicBezTo>
                  <a:pt x="18405" y="133126"/>
                  <a:pt x="17091" y="129182"/>
                  <a:pt x="15776" y="123923"/>
                </a:cubicBezTo>
                <a:cubicBezTo>
                  <a:pt x="11832" y="112091"/>
                  <a:pt x="7888" y="104203"/>
                  <a:pt x="3944" y="100260"/>
                </a:cubicBezTo>
                <a:cubicBezTo>
                  <a:pt x="2630" y="97630"/>
                  <a:pt x="1315" y="95658"/>
                  <a:pt x="0" y="94344"/>
                </a:cubicBezTo>
                <a:cubicBezTo>
                  <a:pt x="0" y="93029"/>
                  <a:pt x="658" y="91714"/>
                  <a:pt x="1972" y="90400"/>
                </a:cubicBezTo>
                <a:cubicBezTo>
                  <a:pt x="3287" y="89085"/>
                  <a:pt x="5916" y="88428"/>
                  <a:pt x="9860" y="88428"/>
                </a:cubicBezTo>
                <a:cubicBezTo>
                  <a:pt x="13804" y="89742"/>
                  <a:pt x="18405" y="91714"/>
                  <a:pt x="23664" y="94344"/>
                </a:cubicBezTo>
                <a:cubicBezTo>
                  <a:pt x="30237" y="98288"/>
                  <a:pt x="34181" y="101574"/>
                  <a:pt x="35496" y="104203"/>
                </a:cubicBezTo>
                <a:cubicBezTo>
                  <a:pt x="35496" y="105518"/>
                  <a:pt x="36811" y="112091"/>
                  <a:pt x="39440" y="123923"/>
                </a:cubicBezTo>
                <a:cubicBezTo>
                  <a:pt x="42069" y="130496"/>
                  <a:pt x="44041" y="136412"/>
                  <a:pt x="45356" y="141671"/>
                </a:cubicBezTo>
                <a:cubicBezTo>
                  <a:pt x="49300" y="150874"/>
                  <a:pt x="51929" y="160734"/>
                  <a:pt x="53244" y="171251"/>
                </a:cubicBezTo>
                <a:cubicBezTo>
                  <a:pt x="74278" y="162048"/>
                  <a:pt x="90711" y="155475"/>
                  <a:pt x="102543" y="151531"/>
                </a:cubicBezTo>
                <a:cubicBezTo>
                  <a:pt x="101228" y="144958"/>
                  <a:pt x="101228" y="140356"/>
                  <a:pt x="102543" y="137727"/>
                </a:cubicBezTo>
                <a:cubicBezTo>
                  <a:pt x="103858" y="136412"/>
                  <a:pt x="105830" y="132468"/>
                  <a:pt x="108459" y="125895"/>
                </a:cubicBezTo>
                <a:cubicBezTo>
                  <a:pt x="105830" y="131154"/>
                  <a:pt x="106487" y="129182"/>
                  <a:pt x="110431" y="119979"/>
                </a:cubicBezTo>
                <a:cubicBezTo>
                  <a:pt x="113060" y="110777"/>
                  <a:pt x="114375" y="104203"/>
                  <a:pt x="114375" y="100260"/>
                </a:cubicBezTo>
                <a:cubicBezTo>
                  <a:pt x="90711" y="105518"/>
                  <a:pt x="76250" y="110119"/>
                  <a:pt x="70991" y="114063"/>
                </a:cubicBezTo>
                <a:cubicBezTo>
                  <a:pt x="65733" y="115378"/>
                  <a:pt x="61789" y="117350"/>
                  <a:pt x="59160" y="119979"/>
                </a:cubicBezTo>
                <a:cubicBezTo>
                  <a:pt x="56530" y="119979"/>
                  <a:pt x="53244" y="116035"/>
                  <a:pt x="49300" y="108147"/>
                </a:cubicBezTo>
                <a:cubicBezTo>
                  <a:pt x="44041" y="98945"/>
                  <a:pt x="43384" y="94344"/>
                  <a:pt x="47328" y="94344"/>
                </a:cubicBezTo>
                <a:cubicBezTo>
                  <a:pt x="48642" y="94344"/>
                  <a:pt x="52586" y="93686"/>
                  <a:pt x="59160" y="92372"/>
                </a:cubicBezTo>
                <a:cubicBezTo>
                  <a:pt x="64418" y="91057"/>
                  <a:pt x="68362" y="90400"/>
                  <a:pt x="70991" y="90400"/>
                </a:cubicBezTo>
                <a:cubicBezTo>
                  <a:pt x="74935" y="89085"/>
                  <a:pt x="80851" y="87113"/>
                  <a:pt x="88739" y="84484"/>
                </a:cubicBezTo>
                <a:cubicBezTo>
                  <a:pt x="95312" y="83169"/>
                  <a:pt x="100571" y="81854"/>
                  <a:pt x="104515" y="80540"/>
                </a:cubicBezTo>
                <a:cubicBezTo>
                  <a:pt x="115032" y="77911"/>
                  <a:pt x="121605" y="74624"/>
                  <a:pt x="124235" y="70680"/>
                </a:cubicBezTo>
                <a:cubicBezTo>
                  <a:pt x="124892" y="69694"/>
                  <a:pt x="125837" y="69201"/>
                  <a:pt x="127069" y="69201"/>
                </a:cubicBezTo>
                <a:close/>
                <a:moveTo>
                  <a:pt x="1176036" y="62423"/>
                </a:moveTo>
                <a:cubicBezTo>
                  <a:pt x="1188361" y="60697"/>
                  <a:pt x="1199946" y="66736"/>
                  <a:pt x="1210792" y="80540"/>
                </a:cubicBezTo>
                <a:cubicBezTo>
                  <a:pt x="1222623" y="93686"/>
                  <a:pt x="1226567" y="104861"/>
                  <a:pt x="1222623" y="114063"/>
                </a:cubicBezTo>
                <a:cubicBezTo>
                  <a:pt x="1219994" y="125895"/>
                  <a:pt x="1210792" y="152188"/>
                  <a:pt x="1195016" y="192942"/>
                </a:cubicBezTo>
                <a:cubicBezTo>
                  <a:pt x="1216050" y="188998"/>
                  <a:pt x="1238399" y="186369"/>
                  <a:pt x="1262063" y="185054"/>
                </a:cubicBezTo>
                <a:cubicBezTo>
                  <a:pt x="1262063" y="179796"/>
                  <a:pt x="1261406" y="175195"/>
                  <a:pt x="1260091" y="171251"/>
                </a:cubicBezTo>
                <a:cubicBezTo>
                  <a:pt x="1258776" y="156790"/>
                  <a:pt x="1256804" y="148902"/>
                  <a:pt x="1254175" y="147587"/>
                </a:cubicBezTo>
                <a:cubicBezTo>
                  <a:pt x="1254175" y="144958"/>
                  <a:pt x="1255490" y="143643"/>
                  <a:pt x="1258119" y="143643"/>
                </a:cubicBezTo>
                <a:cubicBezTo>
                  <a:pt x="1260748" y="143643"/>
                  <a:pt x="1266007" y="144300"/>
                  <a:pt x="1273895" y="145615"/>
                </a:cubicBezTo>
                <a:cubicBezTo>
                  <a:pt x="1280468" y="146930"/>
                  <a:pt x="1287699" y="154160"/>
                  <a:pt x="1295586" y="167307"/>
                </a:cubicBezTo>
                <a:cubicBezTo>
                  <a:pt x="1296901" y="168621"/>
                  <a:pt x="1297558" y="170593"/>
                  <a:pt x="1297558" y="173223"/>
                </a:cubicBezTo>
                <a:cubicBezTo>
                  <a:pt x="1298873" y="175852"/>
                  <a:pt x="1299530" y="177824"/>
                  <a:pt x="1299530" y="179138"/>
                </a:cubicBezTo>
                <a:cubicBezTo>
                  <a:pt x="1358690" y="172565"/>
                  <a:pt x="1388926" y="167307"/>
                  <a:pt x="1390241" y="163363"/>
                </a:cubicBezTo>
                <a:cubicBezTo>
                  <a:pt x="1392870" y="158104"/>
                  <a:pt x="1400758" y="163363"/>
                  <a:pt x="1413905" y="179138"/>
                </a:cubicBezTo>
                <a:cubicBezTo>
                  <a:pt x="1425737" y="192285"/>
                  <a:pt x="1431653" y="202802"/>
                  <a:pt x="1431653" y="210690"/>
                </a:cubicBezTo>
                <a:cubicBezTo>
                  <a:pt x="1431653" y="214634"/>
                  <a:pt x="1430995" y="217263"/>
                  <a:pt x="1429681" y="218578"/>
                </a:cubicBezTo>
                <a:cubicBezTo>
                  <a:pt x="1427051" y="227780"/>
                  <a:pt x="1423765" y="231067"/>
                  <a:pt x="1419821" y="228438"/>
                </a:cubicBezTo>
                <a:cubicBezTo>
                  <a:pt x="1417191" y="225808"/>
                  <a:pt x="1406017" y="221207"/>
                  <a:pt x="1386297" y="214634"/>
                </a:cubicBezTo>
                <a:cubicBezTo>
                  <a:pt x="1369207" y="206746"/>
                  <a:pt x="1339627" y="204117"/>
                  <a:pt x="1297558" y="206746"/>
                </a:cubicBezTo>
                <a:cubicBezTo>
                  <a:pt x="1293614" y="218578"/>
                  <a:pt x="1282440" y="236983"/>
                  <a:pt x="1264035" y="261961"/>
                </a:cubicBezTo>
                <a:cubicBezTo>
                  <a:pt x="1254832" y="275108"/>
                  <a:pt x="1244972" y="287597"/>
                  <a:pt x="1234455" y="299429"/>
                </a:cubicBezTo>
                <a:cubicBezTo>
                  <a:pt x="1284412" y="315205"/>
                  <a:pt x="1313334" y="325064"/>
                  <a:pt x="1321222" y="329008"/>
                </a:cubicBezTo>
                <a:cubicBezTo>
                  <a:pt x="1333054" y="334267"/>
                  <a:pt x="1342914" y="347413"/>
                  <a:pt x="1350802" y="368448"/>
                </a:cubicBezTo>
                <a:cubicBezTo>
                  <a:pt x="1360004" y="390797"/>
                  <a:pt x="1360662" y="405258"/>
                  <a:pt x="1352774" y="411831"/>
                </a:cubicBezTo>
                <a:cubicBezTo>
                  <a:pt x="1346200" y="415775"/>
                  <a:pt x="1339627" y="416433"/>
                  <a:pt x="1333054" y="413803"/>
                </a:cubicBezTo>
                <a:cubicBezTo>
                  <a:pt x="1331739" y="412489"/>
                  <a:pt x="1330425" y="411174"/>
                  <a:pt x="1329110" y="409859"/>
                </a:cubicBezTo>
                <a:cubicBezTo>
                  <a:pt x="1327795" y="407230"/>
                  <a:pt x="1320565" y="400000"/>
                  <a:pt x="1307418" y="388168"/>
                </a:cubicBezTo>
                <a:cubicBezTo>
                  <a:pt x="1295586" y="373706"/>
                  <a:pt x="1277839" y="359903"/>
                  <a:pt x="1254175" y="346756"/>
                </a:cubicBezTo>
                <a:cubicBezTo>
                  <a:pt x="1239714" y="336239"/>
                  <a:pt x="1225253" y="328351"/>
                  <a:pt x="1210792" y="323092"/>
                </a:cubicBezTo>
                <a:cubicBezTo>
                  <a:pt x="1206848" y="325722"/>
                  <a:pt x="1203561" y="329008"/>
                  <a:pt x="1200932" y="332952"/>
                </a:cubicBezTo>
                <a:cubicBezTo>
                  <a:pt x="1177268" y="351357"/>
                  <a:pt x="1150318" y="368448"/>
                  <a:pt x="1120081" y="384224"/>
                </a:cubicBezTo>
                <a:cubicBezTo>
                  <a:pt x="1091158" y="398685"/>
                  <a:pt x="1070781" y="405915"/>
                  <a:pt x="1058950" y="405915"/>
                </a:cubicBezTo>
                <a:cubicBezTo>
                  <a:pt x="1053691" y="405915"/>
                  <a:pt x="1051719" y="405258"/>
                  <a:pt x="1053034" y="403944"/>
                </a:cubicBezTo>
                <a:cubicBezTo>
                  <a:pt x="1053034" y="401314"/>
                  <a:pt x="1056320" y="398685"/>
                  <a:pt x="1062894" y="396056"/>
                </a:cubicBezTo>
                <a:cubicBezTo>
                  <a:pt x="1074725" y="389482"/>
                  <a:pt x="1093788" y="378308"/>
                  <a:pt x="1120081" y="362532"/>
                </a:cubicBezTo>
                <a:cubicBezTo>
                  <a:pt x="1142430" y="346756"/>
                  <a:pt x="1163464" y="329666"/>
                  <a:pt x="1183184" y="311261"/>
                </a:cubicBezTo>
                <a:cubicBezTo>
                  <a:pt x="1158206" y="302058"/>
                  <a:pt x="1142430" y="300086"/>
                  <a:pt x="1135857" y="305345"/>
                </a:cubicBezTo>
                <a:cubicBezTo>
                  <a:pt x="1129283" y="309289"/>
                  <a:pt x="1124682" y="305345"/>
                  <a:pt x="1122053" y="293513"/>
                </a:cubicBezTo>
                <a:cubicBezTo>
                  <a:pt x="1118109" y="280367"/>
                  <a:pt x="1117452" y="273793"/>
                  <a:pt x="1120081" y="273793"/>
                </a:cubicBezTo>
                <a:cubicBezTo>
                  <a:pt x="1121395" y="272479"/>
                  <a:pt x="1123368" y="271821"/>
                  <a:pt x="1125997" y="271821"/>
                </a:cubicBezTo>
                <a:cubicBezTo>
                  <a:pt x="1128626" y="270507"/>
                  <a:pt x="1130598" y="269849"/>
                  <a:pt x="1131913" y="269849"/>
                </a:cubicBezTo>
                <a:cubicBezTo>
                  <a:pt x="1134542" y="272479"/>
                  <a:pt x="1141115" y="256703"/>
                  <a:pt x="1151632" y="222522"/>
                </a:cubicBezTo>
                <a:cubicBezTo>
                  <a:pt x="1143745" y="222522"/>
                  <a:pt x="1135199" y="223836"/>
                  <a:pt x="1125997" y="226466"/>
                </a:cubicBezTo>
                <a:cubicBezTo>
                  <a:pt x="1103648" y="230410"/>
                  <a:pt x="1078012" y="235668"/>
                  <a:pt x="1049090" y="242242"/>
                </a:cubicBezTo>
                <a:cubicBezTo>
                  <a:pt x="1046460" y="243556"/>
                  <a:pt x="1044489" y="244214"/>
                  <a:pt x="1043174" y="244214"/>
                </a:cubicBezTo>
                <a:cubicBezTo>
                  <a:pt x="1024769" y="250787"/>
                  <a:pt x="1013594" y="255388"/>
                  <a:pt x="1009650" y="258017"/>
                </a:cubicBezTo>
                <a:cubicBezTo>
                  <a:pt x="1005706" y="261961"/>
                  <a:pt x="1001105" y="256703"/>
                  <a:pt x="995847" y="242242"/>
                </a:cubicBezTo>
                <a:cubicBezTo>
                  <a:pt x="991903" y="231724"/>
                  <a:pt x="989931" y="225808"/>
                  <a:pt x="989931" y="224494"/>
                </a:cubicBezTo>
                <a:cubicBezTo>
                  <a:pt x="989931" y="220550"/>
                  <a:pt x="991245" y="219235"/>
                  <a:pt x="993875" y="220550"/>
                </a:cubicBezTo>
                <a:cubicBezTo>
                  <a:pt x="995189" y="219235"/>
                  <a:pt x="1015566" y="215949"/>
                  <a:pt x="1055006" y="210690"/>
                </a:cubicBezTo>
                <a:cubicBezTo>
                  <a:pt x="1069467" y="209375"/>
                  <a:pt x="1080641" y="208061"/>
                  <a:pt x="1088529" y="206746"/>
                </a:cubicBezTo>
                <a:cubicBezTo>
                  <a:pt x="1100361" y="205431"/>
                  <a:pt x="1120081" y="202802"/>
                  <a:pt x="1147688" y="198858"/>
                </a:cubicBezTo>
                <a:cubicBezTo>
                  <a:pt x="1152947" y="197544"/>
                  <a:pt x="1156891" y="196886"/>
                  <a:pt x="1159520" y="196886"/>
                </a:cubicBezTo>
                <a:cubicBezTo>
                  <a:pt x="1162150" y="185054"/>
                  <a:pt x="1165436" y="168621"/>
                  <a:pt x="1169380" y="147587"/>
                </a:cubicBezTo>
                <a:cubicBezTo>
                  <a:pt x="1170695" y="139699"/>
                  <a:pt x="1172009" y="133783"/>
                  <a:pt x="1173324" y="129839"/>
                </a:cubicBezTo>
                <a:cubicBezTo>
                  <a:pt x="1174639" y="104861"/>
                  <a:pt x="1173324" y="89742"/>
                  <a:pt x="1169380" y="84484"/>
                </a:cubicBezTo>
                <a:cubicBezTo>
                  <a:pt x="1166751" y="76596"/>
                  <a:pt x="1163464" y="71995"/>
                  <a:pt x="1159520" y="70680"/>
                </a:cubicBezTo>
                <a:cubicBezTo>
                  <a:pt x="1158206" y="68051"/>
                  <a:pt x="1159520" y="66736"/>
                  <a:pt x="1163464" y="66736"/>
                </a:cubicBezTo>
                <a:cubicBezTo>
                  <a:pt x="1167737" y="64435"/>
                  <a:pt x="1171927" y="62997"/>
                  <a:pt x="1176036" y="62423"/>
                </a:cubicBezTo>
                <a:close/>
                <a:moveTo>
                  <a:pt x="1605186" y="29269"/>
                </a:moveTo>
                <a:cubicBezTo>
                  <a:pt x="1614389" y="29269"/>
                  <a:pt x="1623591" y="31898"/>
                  <a:pt x="1632794" y="37157"/>
                </a:cubicBezTo>
                <a:cubicBezTo>
                  <a:pt x="1635423" y="38471"/>
                  <a:pt x="1639367" y="41101"/>
                  <a:pt x="1644626" y="45044"/>
                </a:cubicBezTo>
                <a:cubicBezTo>
                  <a:pt x="1648570" y="48988"/>
                  <a:pt x="1651856" y="52275"/>
                  <a:pt x="1654486" y="54904"/>
                </a:cubicBezTo>
                <a:cubicBezTo>
                  <a:pt x="1659744" y="60163"/>
                  <a:pt x="1662373" y="68708"/>
                  <a:pt x="1662373" y="80540"/>
                </a:cubicBezTo>
                <a:cubicBezTo>
                  <a:pt x="1659744" y="92372"/>
                  <a:pt x="1656458" y="98945"/>
                  <a:pt x="1652514" y="100260"/>
                </a:cubicBezTo>
                <a:cubicBezTo>
                  <a:pt x="1648570" y="101574"/>
                  <a:pt x="1642654" y="98288"/>
                  <a:pt x="1634766" y="90400"/>
                </a:cubicBezTo>
                <a:cubicBezTo>
                  <a:pt x="1626878" y="82512"/>
                  <a:pt x="1618333" y="73309"/>
                  <a:pt x="1609130" y="62792"/>
                </a:cubicBezTo>
                <a:cubicBezTo>
                  <a:pt x="1606501" y="60163"/>
                  <a:pt x="1603214" y="56876"/>
                  <a:pt x="1599270" y="52932"/>
                </a:cubicBezTo>
                <a:cubicBezTo>
                  <a:pt x="1596641" y="48988"/>
                  <a:pt x="1592697" y="45044"/>
                  <a:pt x="1587438" y="41101"/>
                </a:cubicBezTo>
                <a:cubicBezTo>
                  <a:pt x="1583495" y="35842"/>
                  <a:pt x="1582837" y="33213"/>
                  <a:pt x="1585467" y="33213"/>
                </a:cubicBezTo>
                <a:cubicBezTo>
                  <a:pt x="1586781" y="31898"/>
                  <a:pt x="1590068" y="31241"/>
                  <a:pt x="1595326" y="31241"/>
                </a:cubicBezTo>
                <a:cubicBezTo>
                  <a:pt x="1599270" y="29926"/>
                  <a:pt x="1602557" y="29269"/>
                  <a:pt x="1605186" y="29269"/>
                </a:cubicBezTo>
                <a:close/>
                <a:moveTo>
                  <a:pt x="1776994" y="23599"/>
                </a:moveTo>
                <a:cubicBezTo>
                  <a:pt x="1781431" y="23106"/>
                  <a:pt x="1786608" y="26311"/>
                  <a:pt x="1792524" y="33213"/>
                </a:cubicBezTo>
                <a:lnTo>
                  <a:pt x="1794496" y="35185"/>
                </a:lnTo>
                <a:cubicBezTo>
                  <a:pt x="1803698" y="44387"/>
                  <a:pt x="1808957" y="52932"/>
                  <a:pt x="1810271" y="60820"/>
                </a:cubicBezTo>
                <a:cubicBezTo>
                  <a:pt x="1810271" y="68708"/>
                  <a:pt x="1810271" y="89085"/>
                  <a:pt x="1810271" y="121951"/>
                </a:cubicBezTo>
                <a:cubicBezTo>
                  <a:pt x="1848396" y="118007"/>
                  <a:pt x="1872717" y="114063"/>
                  <a:pt x="1883234" y="110119"/>
                </a:cubicBezTo>
                <a:cubicBezTo>
                  <a:pt x="1885864" y="104861"/>
                  <a:pt x="1893094" y="109462"/>
                  <a:pt x="1904926" y="123923"/>
                </a:cubicBezTo>
                <a:cubicBezTo>
                  <a:pt x="1915443" y="135755"/>
                  <a:pt x="1920702" y="143643"/>
                  <a:pt x="1920702" y="147587"/>
                </a:cubicBezTo>
                <a:cubicBezTo>
                  <a:pt x="1920702" y="150216"/>
                  <a:pt x="1920045" y="151531"/>
                  <a:pt x="1918730" y="151531"/>
                </a:cubicBezTo>
                <a:cubicBezTo>
                  <a:pt x="1914786" y="155475"/>
                  <a:pt x="1904269" y="181110"/>
                  <a:pt x="1887178" y="228438"/>
                </a:cubicBezTo>
                <a:cubicBezTo>
                  <a:pt x="1870088" y="273136"/>
                  <a:pt x="1858256" y="294828"/>
                  <a:pt x="1851683" y="293513"/>
                </a:cubicBezTo>
                <a:cubicBezTo>
                  <a:pt x="1846424" y="290884"/>
                  <a:pt x="1841823" y="283653"/>
                  <a:pt x="1837879" y="271821"/>
                </a:cubicBezTo>
                <a:cubicBezTo>
                  <a:pt x="1833935" y="271821"/>
                  <a:pt x="1824732" y="273793"/>
                  <a:pt x="1810271" y="277737"/>
                </a:cubicBezTo>
                <a:cubicBezTo>
                  <a:pt x="1810271" y="331638"/>
                  <a:pt x="1809614" y="372392"/>
                  <a:pt x="1808299" y="400000"/>
                </a:cubicBezTo>
                <a:cubicBezTo>
                  <a:pt x="1808299" y="426293"/>
                  <a:pt x="1805013" y="443383"/>
                  <a:pt x="1798440" y="451271"/>
                </a:cubicBezTo>
                <a:cubicBezTo>
                  <a:pt x="1795810" y="456529"/>
                  <a:pt x="1793181" y="459159"/>
                  <a:pt x="1790552" y="459159"/>
                </a:cubicBezTo>
                <a:cubicBezTo>
                  <a:pt x="1789237" y="459159"/>
                  <a:pt x="1788580" y="458501"/>
                  <a:pt x="1788580" y="457187"/>
                </a:cubicBezTo>
                <a:lnTo>
                  <a:pt x="1786608" y="455215"/>
                </a:lnTo>
                <a:lnTo>
                  <a:pt x="1786608" y="453243"/>
                </a:lnTo>
                <a:cubicBezTo>
                  <a:pt x="1782664" y="444040"/>
                  <a:pt x="1780692" y="434838"/>
                  <a:pt x="1780692" y="425635"/>
                </a:cubicBezTo>
                <a:cubicBezTo>
                  <a:pt x="1779377" y="420377"/>
                  <a:pt x="1778720" y="408545"/>
                  <a:pt x="1778720" y="390139"/>
                </a:cubicBezTo>
                <a:cubicBezTo>
                  <a:pt x="1778720" y="374364"/>
                  <a:pt x="1778720" y="338211"/>
                  <a:pt x="1778720" y="281681"/>
                </a:cubicBezTo>
                <a:cubicBezTo>
                  <a:pt x="1773461" y="282996"/>
                  <a:pt x="1765573" y="284968"/>
                  <a:pt x="1755056" y="287597"/>
                </a:cubicBezTo>
                <a:cubicBezTo>
                  <a:pt x="1752427" y="288912"/>
                  <a:pt x="1749797" y="290226"/>
                  <a:pt x="1747168" y="291541"/>
                </a:cubicBezTo>
                <a:cubicBezTo>
                  <a:pt x="1735336" y="292856"/>
                  <a:pt x="1726791" y="296142"/>
                  <a:pt x="1721533" y="301401"/>
                </a:cubicBezTo>
                <a:cubicBezTo>
                  <a:pt x="1716274" y="304030"/>
                  <a:pt x="1712330" y="302715"/>
                  <a:pt x="1709701" y="297457"/>
                </a:cubicBezTo>
                <a:cubicBezTo>
                  <a:pt x="1708386" y="290884"/>
                  <a:pt x="1705757" y="284968"/>
                  <a:pt x="1701813" y="279709"/>
                </a:cubicBezTo>
                <a:cubicBezTo>
                  <a:pt x="1700498" y="274451"/>
                  <a:pt x="1701813" y="271821"/>
                  <a:pt x="1705757" y="271821"/>
                </a:cubicBezTo>
                <a:cubicBezTo>
                  <a:pt x="1711016" y="271821"/>
                  <a:pt x="1719561" y="271821"/>
                  <a:pt x="1731392" y="271821"/>
                </a:cubicBezTo>
                <a:cubicBezTo>
                  <a:pt x="1727449" y="259989"/>
                  <a:pt x="1723505" y="246185"/>
                  <a:pt x="1719561" y="230410"/>
                </a:cubicBezTo>
                <a:cubicBezTo>
                  <a:pt x="1715617" y="213319"/>
                  <a:pt x="1709701" y="198858"/>
                  <a:pt x="1701813" y="187026"/>
                </a:cubicBezTo>
                <a:cubicBezTo>
                  <a:pt x="1696554" y="175195"/>
                  <a:pt x="1692610" y="167307"/>
                  <a:pt x="1689981" y="163363"/>
                </a:cubicBezTo>
                <a:cubicBezTo>
                  <a:pt x="1688666" y="158104"/>
                  <a:pt x="1688666" y="150874"/>
                  <a:pt x="1689981" y="141671"/>
                </a:cubicBezTo>
                <a:cubicBezTo>
                  <a:pt x="1692610" y="131154"/>
                  <a:pt x="1699841" y="133126"/>
                  <a:pt x="1711673" y="147587"/>
                </a:cubicBezTo>
                <a:cubicBezTo>
                  <a:pt x="1723505" y="160734"/>
                  <a:pt x="1731392" y="176509"/>
                  <a:pt x="1735336" y="194914"/>
                </a:cubicBezTo>
                <a:lnTo>
                  <a:pt x="1778720" y="187026"/>
                </a:lnTo>
                <a:lnTo>
                  <a:pt x="1778720" y="151531"/>
                </a:lnTo>
                <a:cubicBezTo>
                  <a:pt x="1773461" y="152846"/>
                  <a:pt x="1767545" y="154818"/>
                  <a:pt x="1760972" y="157447"/>
                </a:cubicBezTo>
                <a:cubicBezTo>
                  <a:pt x="1757028" y="157447"/>
                  <a:pt x="1753084" y="158104"/>
                  <a:pt x="1749140" y="159419"/>
                </a:cubicBezTo>
                <a:cubicBezTo>
                  <a:pt x="1745196" y="159419"/>
                  <a:pt x="1742567" y="156790"/>
                  <a:pt x="1741252" y="151531"/>
                </a:cubicBezTo>
                <a:cubicBezTo>
                  <a:pt x="1737308" y="143643"/>
                  <a:pt x="1735336" y="138385"/>
                  <a:pt x="1735336" y="135755"/>
                </a:cubicBezTo>
                <a:cubicBezTo>
                  <a:pt x="1735336" y="131811"/>
                  <a:pt x="1738623" y="129839"/>
                  <a:pt x="1745196" y="129839"/>
                </a:cubicBezTo>
                <a:cubicBezTo>
                  <a:pt x="1746511" y="129839"/>
                  <a:pt x="1753741" y="129182"/>
                  <a:pt x="1766888" y="127867"/>
                </a:cubicBezTo>
                <a:cubicBezTo>
                  <a:pt x="1762944" y="127867"/>
                  <a:pt x="1766888" y="127210"/>
                  <a:pt x="1778720" y="125895"/>
                </a:cubicBezTo>
                <a:cubicBezTo>
                  <a:pt x="1778720" y="98288"/>
                  <a:pt x="1778063" y="79225"/>
                  <a:pt x="1776748" y="68708"/>
                </a:cubicBezTo>
                <a:cubicBezTo>
                  <a:pt x="1774119" y="56876"/>
                  <a:pt x="1770832" y="48988"/>
                  <a:pt x="1766888" y="45044"/>
                </a:cubicBezTo>
                <a:cubicBezTo>
                  <a:pt x="1760315" y="41101"/>
                  <a:pt x="1759000" y="37157"/>
                  <a:pt x="1762944" y="33213"/>
                </a:cubicBezTo>
                <a:cubicBezTo>
                  <a:pt x="1765573" y="30583"/>
                  <a:pt x="1768860" y="27954"/>
                  <a:pt x="1772804" y="25325"/>
                </a:cubicBezTo>
                <a:cubicBezTo>
                  <a:pt x="1774119" y="24339"/>
                  <a:pt x="1775515" y="23764"/>
                  <a:pt x="1776994" y="23599"/>
                </a:cubicBezTo>
                <a:close/>
                <a:moveTo>
                  <a:pt x="635962" y="22860"/>
                </a:moveTo>
                <a:cubicBezTo>
                  <a:pt x="639248" y="23846"/>
                  <a:pt x="643521" y="25982"/>
                  <a:pt x="648779" y="29269"/>
                </a:cubicBezTo>
                <a:cubicBezTo>
                  <a:pt x="660611" y="33213"/>
                  <a:pt x="671128" y="41758"/>
                  <a:pt x="680331" y="54904"/>
                </a:cubicBezTo>
                <a:cubicBezTo>
                  <a:pt x="688219" y="68051"/>
                  <a:pt x="692163" y="77253"/>
                  <a:pt x="692163" y="82512"/>
                </a:cubicBezTo>
                <a:cubicBezTo>
                  <a:pt x="692163" y="86456"/>
                  <a:pt x="690848" y="91714"/>
                  <a:pt x="688219" y="98288"/>
                </a:cubicBezTo>
                <a:cubicBezTo>
                  <a:pt x="684275" y="106175"/>
                  <a:pt x="679674" y="110119"/>
                  <a:pt x="674415" y="110119"/>
                </a:cubicBezTo>
                <a:cubicBezTo>
                  <a:pt x="669157" y="110119"/>
                  <a:pt x="664555" y="108805"/>
                  <a:pt x="660611" y="106175"/>
                </a:cubicBezTo>
                <a:cubicBezTo>
                  <a:pt x="656667" y="102231"/>
                  <a:pt x="653381" y="95658"/>
                  <a:pt x="650751" y="86456"/>
                </a:cubicBezTo>
                <a:cubicBezTo>
                  <a:pt x="649437" y="77253"/>
                  <a:pt x="645493" y="66736"/>
                  <a:pt x="638920" y="54904"/>
                </a:cubicBezTo>
                <a:cubicBezTo>
                  <a:pt x="632346" y="43073"/>
                  <a:pt x="629060" y="34527"/>
                  <a:pt x="629060" y="29269"/>
                </a:cubicBezTo>
                <a:cubicBezTo>
                  <a:pt x="627745" y="25325"/>
                  <a:pt x="627745" y="23353"/>
                  <a:pt x="629060" y="23353"/>
                </a:cubicBezTo>
                <a:cubicBezTo>
                  <a:pt x="630374" y="22038"/>
                  <a:pt x="632675" y="21874"/>
                  <a:pt x="635962" y="22860"/>
                </a:cubicBezTo>
                <a:close/>
                <a:moveTo>
                  <a:pt x="246497" y="5605"/>
                </a:moveTo>
                <a:lnTo>
                  <a:pt x="250441" y="5605"/>
                </a:lnTo>
                <a:cubicBezTo>
                  <a:pt x="257014" y="5605"/>
                  <a:pt x="261615" y="6262"/>
                  <a:pt x="264245" y="7577"/>
                </a:cubicBezTo>
                <a:lnTo>
                  <a:pt x="266217" y="9549"/>
                </a:lnTo>
                <a:cubicBezTo>
                  <a:pt x="267531" y="12178"/>
                  <a:pt x="269503" y="18094"/>
                  <a:pt x="272133" y="27297"/>
                </a:cubicBezTo>
                <a:cubicBezTo>
                  <a:pt x="276077" y="35185"/>
                  <a:pt x="277391" y="41101"/>
                  <a:pt x="276077" y="45044"/>
                </a:cubicBezTo>
                <a:lnTo>
                  <a:pt x="272133" y="50960"/>
                </a:lnTo>
                <a:cubicBezTo>
                  <a:pt x="260301" y="65421"/>
                  <a:pt x="248469" y="79882"/>
                  <a:pt x="236637" y="94344"/>
                </a:cubicBezTo>
                <a:cubicBezTo>
                  <a:pt x="227435" y="106175"/>
                  <a:pt x="217575" y="118007"/>
                  <a:pt x="207057" y="129839"/>
                </a:cubicBezTo>
                <a:cubicBezTo>
                  <a:pt x="211001" y="132468"/>
                  <a:pt x="214288" y="133783"/>
                  <a:pt x="216917" y="133783"/>
                </a:cubicBezTo>
                <a:lnTo>
                  <a:pt x="216917" y="135755"/>
                </a:lnTo>
                <a:cubicBezTo>
                  <a:pt x="218232" y="138385"/>
                  <a:pt x="218889" y="141014"/>
                  <a:pt x="218889" y="143643"/>
                </a:cubicBezTo>
                <a:cubicBezTo>
                  <a:pt x="238609" y="138385"/>
                  <a:pt x="255699" y="133783"/>
                  <a:pt x="270161" y="129839"/>
                </a:cubicBezTo>
                <a:cubicBezTo>
                  <a:pt x="267531" y="125895"/>
                  <a:pt x="268189" y="122609"/>
                  <a:pt x="272133" y="119979"/>
                </a:cubicBezTo>
                <a:cubicBezTo>
                  <a:pt x="274762" y="117350"/>
                  <a:pt x="279363" y="108805"/>
                  <a:pt x="285936" y="94344"/>
                </a:cubicBezTo>
                <a:cubicBezTo>
                  <a:pt x="285936" y="91714"/>
                  <a:pt x="284622" y="89742"/>
                  <a:pt x="281992" y="88428"/>
                </a:cubicBezTo>
                <a:cubicBezTo>
                  <a:pt x="278049" y="85798"/>
                  <a:pt x="275419" y="83826"/>
                  <a:pt x="274105" y="82512"/>
                </a:cubicBezTo>
                <a:cubicBezTo>
                  <a:pt x="270161" y="79882"/>
                  <a:pt x="267531" y="76596"/>
                  <a:pt x="266217" y="72652"/>
                </a:cubicBezTo>
                <a:cubicBezTo>
                  <a:pt x="264902" y="68708"/>
                  <a:pt x="264902" y="66736"/>
                  <a:pt x="266217" y="66736"/>
                </a:cubicBezTo>
                <a:cubicBezTo>
                  <a:pt x="268846" y="65421"/>
                  <a:pt x="274762" y="64764"/>
                  <a:pt x="283964" y="64764"/>
                </a:cubicBezTo>
                <a:cubicBezTo>
                  <a:pt x="286594" y="64764"/>
                  <a:pt x="289880" y="64107"/>
                  <a:pt x="293824" y="62792"/>
                </a:cubicBezTo>
                <a:cubicBezTo>
                  <a:pt x="297768" y="62792"/>
                  <a:pt x="300397" y="62135"/>
                  <a:pt x="301712" y="60820"/>
                </a:cubicBezTo>
                <a:cubicBezTo>
                  <a:pt x="305656" y="56876"/>
                  <a:pt x="311572" y="60163"/>
                  <a:pt x="319460" y="70680"/>
                </a:cubicBezTo>
                <a:cubicBezTo>
                  <a:pt x="328662" y="81197"/>
                  <a:pt x="331292" y="88428"/>
                  <a:pt x="327348" y="92372"/>
                </a:cubicBezTo>
                <a:lnTo>
                  <a:pt x="325376" y="94344"/>
                </a:lnTo>
                <a:cubicBezTo>
                  <a:pt x="324061" y="99602"/>
                  <a:pt x="321432" y="102231"/>
                  <a:pt x="317488" y="102231"/>
                </a:cubicBezTo>
                <a:cubicBezTo>
                  <a:pt x="316173" y="102231"/>
                  <a:pt x="310257" y="106833"/>
                  <a:pt x="299740" y="116035"/>
                </a:cubicBezTo>
                <a:cubicBezTo>
                  <a:pt x="298426" y="117350"/>
                  <a:pt x="297111" y="118665"/>
                  <a:pt x="295796" y="119979"/>
                </a:cubicBezTo>
                <a:cubicBezTo>
                  <a:pt x="295796" y="121294"/>
                  <a:pt x="293824" y="123266"/>
                  <a:pt x="289880" y="125895"/>
                </a:cubicBezTo>
                <a:cubicBezTo>
                  <a:pt x="291195" y="125895"/>
                  <a:pt x="293167" y="125238"/>
                  <a:pt x="295796" y="123923"/>
                </a:cubicBezTo>
                <a:cubicBezTo>
                  <a:pt x="303684" y="122609"/>
                  <a:pt x="311572" y="121951"/>
                  <a:pt x="319460" y="121951"/>
                </a:cubicBezTo>
                <a:cubicBezTo>
                  <a:pt x="343124" y="118007"/>
                  <a:pt x="356270" y="116035"/>
                  <a:pt x="358899" y="116035"/>
                </a:cubicBezTo>
                <a:cubicBezTo>
                  <a:pt x="361529" y="113406"/>
                  <a:pt x="365473" y="116035"/>
                  <a:pt x="370731" y="123923"/>
                </a:cubicBezTo>
                <a:cubicBezTo>
                  <a:pt x="374675" y="131811"/>
                  <a:pt x="375990" y="137727"/>
                  <a:pt x="374675" y="141671"/>
                </a:cubicBezTo>
                <a:cubicBezTo>
                  <a:pt x="373360" y="144300"/>
                  <a:pt x="370731" y="145615"/>
                  <a:pt x="366787" y="145615"/>
                </a:cubicBezTo>
                <a:cubicBezTo>
                  <a:pt x="364158" y="144300"/>
                  <a:pt x="359557" y="143643"/>
                  <a:pt x="352983" y="143643"/>
                </a:cubicBezTo>
                <a:cubicBezTo>
                  <a:pt x="347725" y="143643"/>
                  <a:pt x="335236" y="144300"/>
                  <a:pt x="315516" y="145615"/>
                </a:cubicBezTo>
                <a:cubicBezTo>
                  <a:pt x="308943" y="145615"/>
                  <a:pt x="301712" y="146272"/>
                  <a:pt x="293824" y="147587"/>
                </a:cubicBezTo>
                <a:cubicBezTo>
                  <a:pt x="295139" y="148902"/>
                  <a:pt x="296454" y="150216"/>
                  <a:pt x="297768" y="151531"/>
                </a:cubicBezTo>
                <a:cubicBezTo>
                  <a:pt x="300397" y="155475"/>
                  <a:pt x="301712" y="160076"/>
                  <a:pt x="301712" y="165335"/>
                </a:cubicBezTo>
                <a:cubicBezTo>
                  <a:pt x="301712" y="167964"/>
                  <a:pt x="301055" y="177166"/>
                  <a:pt x="299740" y="192942"/>
                </a:cubicBezTo>
                <a:cubicBezTo>
                  <a:pt x="302369" y="192942"/>
                  <a:pt x="304999" y="192942"/>
                  <a:pt x="307628" y="192942"/>
                </a:cubicBezTo>
                <a:cubicBezTo>
                  <a:pt x="308943" y="192942"/>
                  <a:pt x="310915" y="192285"/>
                  <a:pt x="313544" y="190970"/>
                </a:cubicBezTo>
                <a:cubicBezTo>
                  <a:pt x="324061" y="188341"/>
                  <a:pt x="329977" y="186369"/>
                  <a:pt x="331292" y="185054"/>
                </a:cubicBezTo>
                <a:cubicBezTo>
                  <a:pt x="333921" y="183740"/>
                  <a:pt x="337865" y="185054"/>
                  <a:pt x="343124" y="188998"/>
                </a:cubicBezTo>
                <a:cubicBezTo>
                  <a:pt x="349697" y="191628"/>
                  <a:pt x="352983" y="194914"/>
                  <a:pt x="352983" y="198858"/>
                </a:cubicBezTo>
                <a:cubicBezTo>
                  <a:pt x="352983" y="200173"/>
                  <a:pt x="351669" y="202145"/>
                  <a:pt x="349040" y="204774"/>
                </a:cubicBezTo>
                <a:cubicBezTo>
                  <a:pt x="346410" y="204774"/>
                  <a:pt x="335236" y="206746"/>
                  <a:pt x="315516" y="210690"/>
                </a:cubicBezTo>
                <a:cubicBezTo>
                  <a:pt x="311572" y="213319"/>
                  <a:pt x="305656" y="214634"/>
                  <a:pt x="297768" y="214634"/>
                </a:cubicBezTo>
                <a:cubicBezTo>
                  <a:pt x="297768" y="227780"/>
                  <a:pt x="297768" y="241584"/>
                  <a:pt x="297768" y="256045"/>
                </a:cubicBezTo>
                <a:cubicBezTo>
                  <a:pt x="299083" y="256045"/>
                  <a:pt x="301055" y="255388"/>
                  <a:pt x="303684" y="254073"/>
                </a:cubicBezTo>
                <a:cubicBezTo>
                  <a:pt x="306313" y="254073"/>
                  <a:pt x="308285" y="254073"/>
                  <a:pt x="309600" y="254073"/>
                </a:cubicBezTo>
                <a:cubicBezTo>
                  <a:pt x="312229" y="254073"/>
                  <a:pt x="315516" y="253416"/>
                  <a:pt x="319460" y="252101"/>
                </a:cubicBezTo>
                <a:cubicBezTo>
                  <a:pt x="328662" y="249472"/>
                  <a:pt x="334578" y="247500"/>
                  <a:pt x="337208" y="246185"/>
                </a:cubicBezTo>
                <a:cubicBezTo>
                  <a:pt x="339837" y="244871"/>
                  <a:pt x="344438" y="246185"/>
                  <a:pt x="351011" y="250129"/>
                </a:cubicBezTo>
                <a:cubicBezTo>
                  <a:pt x="357585" y="254073"/>
                  <a:pt x="359557" y="258017"/>
                  <a:pt x="356927" y="261961"/>
                </a:cubicBezTo>
                <a:cubicBezTo>
                  <a:pt x="356927" y="265905"/>
                  <a:pt x="354955" y="267877"/>
                  <a:pt x="351011" y="267877"/>
                </a:cubicBezTo>
                <a:lnTo>
                  <a:pt x="343124" y="267877"/>
                </a:lnTo>
                <a:cubicBezTo>
                  <a:pt x="333921" y="269192"/>
                  <a:pt x="326033" y="270507"/>
                  <a:pt x="319460" y="271821"/>
                </a:cubicBezTo>
                <a:cubicBezTo>
                  <a:pt x="318145" y="271821"/>
                  <a:pt x="316173" y="272479"/>
                  <a:pt x="313544" y="273793"/>
                </a:cubicBezTo>
                <a:cubicBezTo>
                  <a:pt x="306971" y="273793"/>
                  <a:pt x="301712" y="275108"/>
                  <a:pt x="297768" y="277737"/>
                </a:cubicBezTo>
                <a:cubicBezTo>
                  <a:pt x="297768" y="282996"/>
                  <a:pt x="297768" y="288912"/>
                  <a:pt x="297768" y="295485"/>
                </a:cubicBezTo>
                <a:cubicBezTo>
                  <a:pt x="297768" y="308631"/>
                  <a:pt x="297111" y="320463"/>
                  <a:pt x="295796" y="330980"/>
                </a:cubicBezTo>
                <a:cubicBezTo>
                  <a:pt x="311572" y="327036"/>
                  <a:pt x="324719" y="325064"/>
                  <a:pt x="335236" y="325064"/>
                </a:cubicBezTo>
                <a:cubicBezTo>
                  <a:pt x="337865" y="325064"/>
                  <a:pt x="341152" y="324407"/>
                  <a:pt x="345096" y="323092"/>
                </a:cubicBezTo>
                <a:cubicBezTo>
                  <a:pt x="366130" y="320463"/>
                  <a:pt x="377962" y="318491"/>
                  <a:pt x="380591" y="317177"/>
                </a:cubicBezTo>
                <a:cubicBezTo>
                  <a:pt x="381906" y="315862"/>
                  <a:pt x="386507" y="321120"/>
                  <a:pt x="394395" y="332952"/>
                </a:cubicBezTo>
                <a:cubicBezTo>
                  <a:pt x="398339" y="339526"/>
                  <a:pt x="400311" y="344784"/>
                  <a:pt x="400311" y="348728"/>
                </a:cubicBezTo>
                <a:cubicBezTo>
                  <a:pt x="400311" y="350043"/>
                  <a:pt x="399653" y="352015"/>
                  <a:pt x="398339" y="354644"/>
                </a:cubicBezTo>
                <a:cubicBezTo>
                  <a:pt x="394395" y="355959"/>
                  <a:pt x="391766" y="356616"/>
                  <a:pt x="390451" y="356616"/>
                </a:cubicBezTo>
                <a:cubicBezTo>
                  <a:pt x="386507" y="353987"/>
                  <a:pt x="380591" y="352015"/>
                  <a:pt x="372703" y="350700"/>
                </a:cubicBezTo>
                <a:cubicBezTo>
                  <a:pt x="363501" y="348071"/>
                  <a:pt x="347068" y="347413"/>
                  <a:pt x="323404" y="348728"/>
                </a:cubicBezTo>
                <a:cubicBezTo>
                  <a:pt x="302369" y="348728"/>
                  <a:pt x="262930" y="355301"/>
                  <a:pt x="205086" y="368448"/>
                </a:cubicBezTo>
                <a:cubicBezTo>
                  <a:pt x="205086" y="402629"/>
                  <a:pt x="206400" y="424978"/>
                  <a:pt x="209029" y="435495"/>
                </a:cubicBezTo>
                <a:cubicBezTo>
                  <a:pt x="211659" y="451271"/>
                  <a:pt x="211001" y="460473"/>
                  <a:pt x="207057" y="463102"/>
                </a:cubicBezTo>
                <a:lnTo>
                  <a:pt x="205086" y="465074"/>
                </a:lnTo>
                <a:cubicBezTo>
                  <a:pt x="203771" y="465074"/>
                  <a:pt x="202456" y="465074"/>
                  <a:pt x="201142" y="465074"/>
                </a:cubicBezTo>
                <a:cubicBezTo>
                  <a:pt x="197198" y="465074"/>
                  <a:pt x="192596" y="461788"/>
                  <a:pt x="187338" y="455215"/>
                </a:cubicBezTo>
                <a:cubicBezTo>
                  <a:pt x="186023" y="452585"/>
                  <a:pt x="184051" y="449956"/>
                  <a:pt x="181422" y="447327"/>
                </a:cubicBezTo>
                <a:cubicBezTo>
                  <a:pt x="177478" y="440753"/>
                  <a:pt x="175506" y="436152"/>
                  <a:pt x="175506" y="433523"/>
                </a:cubicBezTo>
                <a:cubicBezTo>
                  <a:pt x="175506" y="426950"/>
                  <a:pt x="175506" y="420377"/>
                  <a:pt x="175506" y="413803"/>
                </a:cubicBezTo>
                <a:cubicBezTo>
                  <a:pt x="175506" y="409859"/>
                  <a:pt x="176163" y="400000"/>
                  <a:pt x="177478" y="384224"/>
                </a:cubicBezTo>
                <a:cubicBezTo>
                  <a:pt x="178793" y="363189"/>
                  <a:pt x="179450" y="345441"/>
                  <a:pt x="179450" y="330980"/>
                </a:cubicBezTo>
                <a:cubicBezTo>
                  <a:pt x="180764" y="312575"/>
                  <a:pt x="182079" y="286282"/>
                  <a:pt x="183394" y="252101"/>
                </a:cubicBezTo>
                <a:cubicBezTo>
                  <a:pt x="186023" y="231067"/>
                  <a:pt x="187338" y="215949"/>
                  <a:pt x="187338" y="206746"/>
                </a:cubicBezTo>
                <a:cubicBezTo>
                  <a:pt x="187338" y="197544"/>
                  <a:pt x="187995" y="186369"/>
                  <a:pt x="189310" y="173223"/>
                </a:cubicBezTo>
                <a:cubicBezTo>
                  <a:pt x="190624" y="162706"/>
                  <a:pt x="191282" y="153503"/>
                  <a:pt x="191282" y="145615"/>
                </a:cubicBezTo>
                <a:cubicBezTo>
                  <a:pt x="187338" y="149559"/>
                  <a:pt x="182736" y="154818"/>
                  <a:pt x="177478" y="161391"/>
                </a:cubicBezTo>
                <a:cubicBezTo>
                  <a:pt x="172219" y="166649"/>
                  <a:pt x="168275" y="170593"/>
                  <a:pt x="165646" y="173223"/>
                </a:cubicBezTo>
                <a:cubicBezTo>
                  <a:pt x="161702" y="177166"/>
                  <a:pt x="155786" y="183082"/>
                  <a:pt x="147898" y="190970"/>
                </a:cubicBezTo>
                <a:cubicBezTo>
                  <a:pt x="136066" y="201487"/>
                  <a:pt x="123577" y="212005"/>
                  <a:pt x="110431" y="222522"/>
                </a:cubicBezTo>
                <a:cubicBezTo>
                  <a:pt x="109116" y="223836"/>
                  <a:pt x="107144" y="225151"/>
                  <a:pt x="104515" y="226466"/>
                </a:cubicBezTo>
                <a:cubicBezTo>
                  <a:pt x="95312" y="234354"/>
                  <a:pt x="89396" y="238298"/>
                  <a:pt x="86767" y="238298"/>
                </a:cubicBezTo>
                <a:cubicBezTo>
                  <a:pt x="82823" y="239612"/>
                  <a:pt x="84138" y="236983"/>
                  <a:pt x="90711" y="230410"/>
                </a:cubicBezTo>
                <a:cubicBezTo>
                  <a:pt x="93340" y="227780"/>
                  <a:pt x="100571" y="219893"/>
                  <a:pt x="112403" y="206746"/>
                </a:cubicBezTo>
                <a:cubicBezTo>
                  <a:pt x="122920" y="193600"/>
                  <a:pt x="131465" y="183082"/>
                  <a:pt x="138038" y="175195"/>
                </a:cubicBezTo>
                <a:cubicBezTo>
                  <a:pt x="163017" y="143643"/>
                  <a:pt x="185366" y="112091"/>
                  <a:pt x="205086" y="80540"/>
                </a:cubicBezTo>
                <a:cubicBezTo>
                  <a:pt x="226120" y="46359"/>
                  <a:pt x="236637" y="26639"/>
                  <a:pt x="236637" y="21381"/>
                </a:cubicBezTo>
                <a:cubicBezTo>
                  <a:pt x="236637" y="18752"/>
                  <a:pt x="235980" y="15465"/>
                  <a:pt x="234665" y="11521"/>
                </a:cubicBezTo>
                <a:lnTo>
                  <a:pt x="234665" y="7577"/>
                </a:lnTo>
                <a:cubicBezTo>
                  <a:pt x="233350" y="6262"/>
                  <a:pt x="237294" y="5605"/>
                  <a:pt x="246497" y="5605"/>
                </a:cubicBezTo>
                <a:close/>
                <a:moveTo>
                  <a:pt x="757608" y="59"/>
                </a:moveTo>
                <a:cubicBezTo>
                  <a:pt x="769193" y="798"/>
                  <a:pt x="778930" y="8563"/>
                  <a:pt x="786817" y="23353"/>
                </a:cubicBezTo>
                <a:cubicBezTo>
                  <a:pt x="794705" y="35185"/>
                  <a:pt x="797335" y="44387"/>
                  <a:pt x="794705" y="50960"/>
                </a:cubicBezTo>
                <a:cubicBezTo>
                  <a:pt x="790761" y="57533"/>
                  <a:pt x="775643" y="73967"/>
                  <a:pt x="749350" y="100260"/>
                </a:cubicBezTo>
                <a:cubicBezTo>
                  <a:pt x="780902" y="92372"/>
                  <a:pt x="797335" y="87770"/>
                  <a:pt x="798649" y="86456"/>
                </a:cubicBezTo>
                <a:cubicBezTo>
                  <a:pt x="801279" y="85141"/>
                  <a:pt x="807194" y="88428"/>
                  <a:pt x="816397" y="96316"/>
                </a:cubicBezTo>
                <a:cubicBezTo>
                  <a:pt x="826914" y="104203"/>
                  <a:pt x="830201" y="110119"/>
                  <a:pt x="826257" y="114063"/>
                </a:cubicBezTo>
                <a:cubicBezTo>
                  <a:pt x="822313" y="118007"/>
                  <a:pt x="818369" y="119322"/>
                  <a:pt x="814425" y="118007"/>
                </a:cubicBezTo>
                <a:cubicBezTo>
                  <a:pt x="810481" y="118007"/>
                  <a:pt x="796677" y="118007"/>
                  <a:pt x="773014" y="118007"/>
                </a:cubicBezTo>
                <a:cubicBezTo>
                  <a:pt x="749350" y="119322"/>
                  <a:pt x="720428" y="123923"/>
                  <a:pt x="686247" y="131811"/>
                </a:cubicBezTo>
                <a:cubicBezTo>
                  <a:pt x="653381" y="138385"/>
                  <a:pt x="629717" y="144958"/>
                  <a:pt x="615256" y="151531"/>
                </a:cubicBezTo>
                <a:cubicBezTo>
                  <a:pt x="608683" y="152846"/>
                  <a:pt x="602109" y="154818"/>
                  <a:pt x="595536" y="157447"/>
                </a:cubicBezTo>
                <a:cubicBezTo>
                  <a:pt x="592907" y="158762"/>
                  <a:pt x="590935" y="159419"/>
                  <a:pt x="589620" y="159419"/>
                </a:cubicBezTo>
                <a:cubicBezTo>
                  <a:pt x="586991" y="160734"/>
                  <a:pt x="583704" y="156132"/>
                  <a:pt x="579760" y="145615"/>
                </a:cubicBezTo>
                <a:cubicBezTo>
                  <a:pt x="575816" y="133783"/>
                  <a:pt x="575816" y="128524"/>
                  <a:pt x="579760" y="129839"/>
                </a:cubicBezTo>
                <a:cubicBezTo>
                  <a:pt x="581075" y="129839"/>
                  <a:pt x="585676" y="129182"/>
                  <a:pt x="593564" y="127867"/>
                </a:cubicBezTo>
                <a:cubicBezTo>
                  <a:pt x="609340" y="125238"/>
                  <a:pt x="623144" y="123266"/>
                  <a:pt x="634976" y="121951"/>
                </a:cubicBezTo>
                <a:cubicBezTo>
                  <a:pt x="641549" y="120637"/>
                  <a:pt x="650751" y="119322"/>
                  <a:pt x="662583" y="118007"/>
                </a:cubicBezTo>
                <a:cubicBezTo>
                  <a:pt x="677044" y="115378"/>
                  <a:pt x="696764" y="111434"/>
                  <a:pt x="721742" y="106175"/>
                </a:cubicBezTo>
                <a:cubicBezTo>
                  <a:pt x="720428" y="102231"/>
                  <a:pt x="721085" y="96973"/>
                  <a:pt x="723714" y="90400"/>
                </a:cubicBezTo>
                <a:cubicBezTo>
                  <a:pt x="725029" y="87770"/>
                  <a:pt x="728316" y="82512"/>
                  <a:pt x="733574" y="74624"/>
                </a:cubicBezTo>
                <a:cubicBezTo>
                  <a:pt x="736203" y="68051"/>
                  <a:pt x="738833" y="62792"/>
                  <a:pt x="741462" y="58848"/>
                </a:cubicBezTo>
                <a:cubicBezTo>
                  <a:pt x="750665" y="43073"/>
                  <a:pt x="753294" y="31898"/>
                  <a:pt x="749350" y="25325"/>
                </a:cubicBezTo>
                <a:cubicBezTo>
                  <a:pt x="748035" y="17437"/>
                  <a:pt x="746063" y="11521"/>
                  <a:pt x="743434" y="7577"/>
                </a:cubicBezTo>
                <a:cubicBezTo>
                  <a:pt x="740805" y="4948"/>
                  <a:pt x="740147" y="3633"/>
                  <a:pt x="741462" y="3633"/>
                </a:cubicBezTo>
                <a:cubicBezTo>
                  <a:pt x="741462" y="2318"/>
                  <a:pt x="742777" y="1661"/>
                  <a:pt x="745406" y="1661"/>
                </a:cubicBezTo>
                <a:cubicBezTo>
                  <a:pt x="749679" y="346"/>
                  <a:pt x="753746" y="-188"/>
                  <a:pt x="757608" y="59"/>
                </a:cubicBezTo>
                <a:close/>
              </a:path>
            </a:pathLst>
          </a:custGeom>
          <a:blipFill rotWithShape="0">
            <a:blip r:embed="rId4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artisticBlur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图片 16"/>
          <p:cNvSpPr/>
          <p:nvPr/>
        </p:nvSpPr>
        <p:spPr>
          <a:xfrm>
            <a:off x="1513440" y="0"/>
            <a:ext cx="9871560" cy="685764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平行四边形 1"/>
          <p:cNvSpPr/>
          <p:nvPr/>
        </p:nvSpPr>
        <p:spPr>
          <a:xfrm rot="163200">
            <a:off x="1340640" y="-45360"/>
            <a:ext cx="1757520" cy="69598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6959880"/>
              <a:gd name="textAreaBottom" fmla="*/ 6960240 h 6959880"/>
            </a:gdLst>
            <a:ahLst/>
            <a:rect l="textAreaLeft" t="textAreaTop" r="textAreaRight" b="textAreaBottom"/>
            <a:pathLst>
              <a:path w="1757935" h="7084383">
                <a:moveTo>
                  <a:pt x="0" y="7084383"/>
                </a:moveTo>
                <a:lnTo>
                  <a:pt x="1399381" y="14930"/>
                </a:lnTo>
                <a:lnTo>
                  <a:pt x="1757935" y="0"/>
                </a:lnTo>
                <a:lnTo>
                  <a:pt x="344922" y="7069847"/>
                </a:lnTo>
                <a:lnTo>
                  <a:pt x="0" y="7084383"/>
                </a:lnTo>
                <a:close/>
              </a:path>
            </a:pathLst>
          </a:custGeom>
          <a:solidFill>
            <a:srgbClr val="d7d0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5" name="平行四边形 9"/>
          <p:cNvSpPr/>
          <p:nvPr/>
        </p:nvSpPr>
        <p:spPr>
          <a:xfrm rot="163200">
            <a:off x="9789120" y="-48240"/>
            <a:ext cx="2505960" cy="7063200"/>
          </a:xfrm>
          <a:custGeom>
            <a:avLst/>
            <a:gdLst>
              <a:gd name="textAreaLeft" fmla="*/ 0 w 2505960"/>
              <a:gd name="textAreaRight" fmla="*/ 2506320 w 2505960"/>
              <a:gd name="textAreaTop" fmla="*/ 0 h 7063200"/>
              <a:gd name="textAreaBottom" fmla="*/ 7063560 h 7063200"/>
            </a:gdLst>
            <a:ahLst/>
            <a:rect l="textAreaLeft" t="textAreaTop" r="textAreaRight" b="textAreaBottom"/>
            <a:pathLst>
              <a:path w="2410725" h="7063520">
                <a:moveTo>
                  <a:pt x="0" y="7063520"/>
                </a:moveTo>
                <a:lnTo>
                  <a:pt x="1382258" y="35694"/>
                </a:lnTo>
                <a:lnTo>
                  <a:pt x="2173073" y="0"/>
                </a:lnTo>
                <a:lnTo>
                  <a:pt x="2410725" y="4621124"/>
                </a:lnTo>
                <a:lnTo>
                  <a:pt x="2026922" y="6887009"/>
                </a:lnTo>
                <a:lnTo>
                  <a:pt x="0" y="7063520"/>
                </a:lnTo>
                <a:close/>
              </a:path>
            </a:pathLst>
          </a:custGeom>
          <a:solidFill>
            <a:srgbClr val="9f8d7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6" name="直角三角形 2"/>
          <p:cNvSpPr/>
          <p:nvPr/>
        </p:nvSpPr>
        <p:spPr>
          <a:xfrm flipV="1">
            <a:off x="0" y="-13680"/>
            <a:ext cx="572760" cy="2306160"/>
          </a:xfrm>
          <a:custGeom>
            <a:avLst/>
            <a:gdLst>
              <a:gd name="textAreaLeft" fmla="*/ 0 w 572760"/>
              <a:gd name="textAreaRight" fmla="*/ 573120 w 572760"/>
              <a:gd name="textAreaTop" fmla="*/ 360 h 2306160"/>
              <a:gd name="textAreaBottom" fmla="*/ 2306880 h 2306160"/>
            </a:gdLst>
            <a:ahLst/>
            <a:rect l="textAreaLeft" t="textAreaTop" r="textAreaRight" b="textAreaBottom"/>
            <a:pathLst>
              <a:path w="573208" h="2306472">
                <a:moveTo>
                  <a:pt x="1" y="2292824"/>
                </a:moveTo>
                <a:cubicBezTo>
                  <a:pt x="1" y="1528549"/>
                  <a:pt x="0" y="764275"/>
                  <a:pt x="0" y="0"/>
                </a:cubicBezTo>
                <a:lnTo>
                  <a:pt x="573208" y="2306472"/>
                </a:lnTo>
                <a:lnTo>
                  <a:pt x="1" y="2292824"/>
                </a:lnTo>
                <a:close/>
              </a:path>
            </a:pathLst>
          </a:custGeom>
          <a:solidFill>
            <a:srgbClr val="56493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7" name="直角三角形 2"/>
          <p:cNvSpPr/>
          <p:nvPr/>
        </p:nvSpPr>
        <p:spPr>
          <a:xfrm flipV="1" rot="10800000">
            <a:off x="11715480" y="4565520"/>
            <a:ext cx="545400" cy="2306160"/>
          </a:xfrm>
          <a:custGeom>
            <a:avLst/>
            <a:gdLst>
              <a:gd name="textAreaLeft" fmla="*/ 0 w 545400"/>
              <a:gd name="textAreaRight" fmla="*/ 545760 w 545400"/>
              <a:gd name="textAreaTop" fmla="*/ 360 h 2306160"/>
              <a:gd name="textAreaBottom" fmla="*/ 2306880 h 2306160"/>
            </a:gdLst>
            <a:ahLst/>
            <a:rect l="textAreaLeft" t="textAreaTop" r="textAreaRight" b="textAreaBottom"/>
            <a:pathLst>
              <a:path w="545912" h="2306471">
                <a:moveTo>
                  <a:pt x="27296" y="2292824"/>
                </a:moveTo>
                <a:lnTo>
                  <a:pt x="0" y="0"/>
                </a:lnTo>
                <a:lnTo>
                  <a:pt x="545912" y="2306471"/>
                </a:lnTo>
                <a:lnTo>
                  <a:pt x="27296" y="2292824"/>
                </a:lnTo>
                <a:close/>
              </a:path>
            </a:pathLst>
          </a:custGeom>
          <a:solidFill>
            <a:srgbClr val="56493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8" name="任意多边形 15"/>
          <p:cNvSpPr/>
          <p:nvPr/>
        </p:nvSpPr>
        <p:spPr>
          <a:xfrm rot="163200">
            <a:off x="-11880" y="-7560"/>
            <a:ext cx="826560" cy="3738240"/>
          </a:xfrm>
          <a:custGeom>
            <a:avLst/>
            <a:gdLst>
              <a:gd name="textAreaLeft" fmla="*/ 0 w 826560"/>
              <a:gd name="textAreaRight" fmla="*/ 826920 w 826560"/>
              <a:gd name="textAreaTop" fmla="*/ 0 h 3738240"/>
              <a:gd name="textAreaBottom" fmla="*/ 3738600 h 3738240"/>
            </a:gdLst>
            <a:ahLst/>
            <a:rect l="textAreaLeft" t="textAreaTop" r="textAreaRight" b="textAreaBottom"/>
            <a:pathLst>
              <a:path w="827070" h="3738745">
                <a:moveTo>
                  <a:pt x="495132" y="0"/>
                </a:moveTo>
                <a:lnTo>
                  <a:pt x="827070" y="0"/>
                </a:lnTo>
                <a:lnTo>
                  <a:pt x="81785" y="3737696"/>
                </a:lnTo>
                <a:lnTo>
                  <a:pt x="59747" y="3738745"/>
                </a:lnTo>
                <a:lnTo>
                  <a:pt x="0" y="2483146"/>
                </a:lnTo>
                <a:close/>
              </a:path>
            </a:pathLst>
          </a:custGeom>
          <a:solidFill>
            <a:srgbClr val="9f8d7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19" name="组合 17"/>
          <p:cNvGrpSpPr/>
          <p:nvPr/>
        </p:nvGrpSpPr>
        <p:grpSpPr>
          <a:xfrm>
            <a:off x="141840" y="2023920"/>
            <a:ext cx="2747520" cy="1004040"/>
            <a:chOff x="141840" y="2023920"/>
            <a:chExt cx="2747520" cy="1004040"/>
          </a:xfrm>
        </p:grpSpPr>
        <p:sp>
          <p:nvSpPr>
            <p:cNvPr id="120" name="文本框 18"/>
            <p:cNvSpPr/>
            <p:nvPr/>
          </p:nvSpPr>
          <p:spPr>
            <a:xfrm>
              <a:off x="141840" y="202392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262626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直接连接符 21"/>
            <p:cNvCxnSpPr/>
            <p:nvPr/>
          </p:nvCxnSpPr>
          <p:spPr>
            <a:xfrm>
              <a:off x="287280" y="278784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平行四边形 3"/>
          <p:cNvSpPr/>
          <p:nvPr/>
        </p:nvSpPr>
        <p:spPr>
          <a:xfrm rot="19582200">
            <a:off x="2124720" y="-1526760"/>
            <a:ext cx="4349880" cy="9999360"/>
          </a:xfrm>
          <a:custGeom>
            <a:avLst/>
            <a:gdLst>
              <a:gd name="textAreaLeft" fmla="*/ 0 w 4349880"/>
              <a:gd name="textAreaRight" fmla="*/ 4350240 w 4349880"/>
              <a:gd name="textAreaTop" fmla="*/ 0 h 9999360"/>
              <a:gd name="textAreaBottom" fmla="*/ 9999720 h 9999360"/>
            </a:gdLst>
            <a:ahLst/>
            <a:rect l="textAreaLeft" t="textAreaTop" r="textAreaRight" b="textAreaBottom"/>
            <a:pathLst>
              <a:path w="4570949" h="10875306">
                <a:moveTo>
                  <a:pt x="0" y="8289566"/>
                </a:moveTo>
                <a:lnTo>
                  <a:pt x="1020848" y="0"/>
                </a:lnTo>
                <a:lnTo>
                  <a:pt x="4570949" y="2464546"/>
                </a:lnTo>
                <a:lnTo>
                  <a:pt x="3737738" y="10875306"/>
                </a:lnTo>
                <a:lnTo>
                  <a:pt x="0" y="8289566"/>
                </a:lnTo>
                <a:close/>
              </a:path>
            </a:pathLst>
          </a:custGeom>
          <a:solidFill>
            <a:srgbClr val="d7d0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3" name="平行四边形 1"/>
          <p:cNvSpPr/>
          <p:nvPr/>
        </p:nvSpPr>
        <p:spPr>
          <a:xfrm rot="19983600">
            <a:off x="-758880" y="2868480"/>
            <a:ext cx="14052240" cy="1881720"/>
          </a:xfrm>
          <a:custGeom>
            <a:avLst/>
            <a:gdLst>
              <a:gd name="textAreaLeft" fmla="*/ 0 w 14052240"/>
              <a:gd name="textAreaRight" fmla="*/ 14052600 w 14052240"/>
              <a:gd name="textAreaTop" fmla="*/ 0 h 1881720"/>
              <a:gd name="textAreaBottom" fmla="*/ 1882080 h 1881720"/>
            </a:gdLst>
            <a:ahLst/>
            <a:rect l="textAreaLeft" t="textAreaTop" r="textAreaRight" b="textAreaBottom"/>
            <a:pathLst>
              <a:path w="13969027" h="1901196">
                <a:moveTo>
                  <a:pt x="2041724" y="1877367"/>
                </a:moveTo>
                <a:lnTo>
                  <a:pt x="0" y="856845"/>
                </a:lnTo>
                <a:lnTo>
                  <a:pt x="440747" y="0"/>
                </a:lnTo>
                <a:lnTo>
                  <a:pt x="13497766" y="0"/>
                </a:lnTo>
                <a:lnTo>
                  <a:pt x="13969027" y="239465"/>
                </a:lnTo>
                <a:lnTo>
                  <a:pt x="13127127" y="1901196"/>
                </a:lnTo>
                <a:lnTo>
                  <a:pt x="2041724" y="1877367"/>
                </a:lnTo>
                <a:close/>
              </a:path>
            </a:pathLst>
          </a:custGeom>
          <a:solidFill>
            <a:srgbClr val="5649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24" name="组合 14"/>
          <p:cNvGrpSpPr/>
          <p:nvPr/>
        </p:nvGrpSpPr>
        <p:grpSpPr>
          <a:xfrm>
            <a:off x="2230200" y="700200"/>
            <a:ext cx="2900160" cy="2519280"/>
            <a:chOff x="2230200" y="700200"/>
            <a:chExt cx="2900160" cy="2519280"/>
          </a:xfrm>
        </p:grpSpPr>
        <p:sp>
          <p:nvSpPr>
            <p:cNvPr id="125" name="文本框 7"/>
            <p:cNvSpPr/>
            <p:nvPr/>
          </p:nvSpPr>
          <p:spPr>
            <a:xfrm rot="19945800">
              <a:off x="2306520" y="127872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d0d0d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10"/>
            <p:cNvSpPr/>
            <p:nvPr/>
          </p:nvSpPr>
          <p:spPr>
            <a:xfrm rot="19945800">
              <a:off x="2635560" y="2237040"/>
              <a:ext cx="2237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2600" spc="-1" strike="noStrike">
                <a:solidFill>
                  <a:srgbClr val="0d0d0d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27" name="直接连接符 12"/>
            <p:cNvCxnSpPr/>
            <p:nvPr/>
          </p:nvCxnSpPr>
          <p:spPr>
            <a:xfrm flipV="1">
              <a:off x="2712960" y="1684800"/>
              <a:ext cx="1718280" cy="89748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128" name="图片 6" descr=""/>
          <p:cNvPicPr/>
          <p:nvPr/>
        </p:nvPicPr>
        <p:blipFill>
          <a:blip r:embed="rId1"/>
          <a:srcRect l="7615" t="331" r="1529" b="22923"/>
          <a:stretch/>
        </p:blipFill>
        <p:spPr>
          <a:xfrm rot="19966800">
            <a:off x="3016080" y="3600720"/>
            <a:ext cx="3713400" cy="1857240"/>
          </a:xfrm>
          <a:prstGeom prst="rect">
            <a:avLst/>
          </a:prstGeom>
          <a:ln w="0">
            <a:noFill/>
          </a:ln>
        </p:spPr>
      </p:pic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rcRect l="7615" t="331" r="1529" b="22923"/>
          <a:stretch/>
        </p:blipFill>
        <p:spPr>
          <a:xfrm>
            <a:off x="0" y="0"/>
            <a:ext cx="12191760" cy="6867360"/>
          </a:xfrm>
          <a:prstGeom prst="rect">
            <a:avLst/>
          </a:prstGeom>
          <a:ln w="0">
            <a:noFill/>
          </a:ln>
        </p:spPr>
      </p:pic>
      <p:sp>
        <p:nvSpPr>
          <p:cNvPr id="131" name="直角三角形 8"/>
          <p:cNvSpPr/>
          <p:nvPr/>
        </p:nvSpPr>
        <p:spPr>
          <a:xfrm rot="16200000">
            <a:off x="0" y="1393920"/>
            <a:ext cx="695520" cy="695520"/>
          </a:xfrm>
          <a:prstGeom prst="rtTriangle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2" name="直角三角形 20"/>
          <p:cNvSpPr/>
          <p:nvPr/>
        </p:nvSpPr>
        <p:spPr>
          <a:xfrm rot="16200000">
            <a:off x="10103760" y="6162480"/>
            <a:ext cx="695520" cy="695520"/>
          </a:xfrm>
          <a:prstGeom prst="rtTriangle">
            <a:avLst/>
          </a:prstGeom>
          <a:solidFill>
            <a:srgbClr val="fffd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3" name="直角三角形 21"/>
          <p:cNvSpPr/>
          <p:nvPr/>
        </p:nvSpPr>
        <p:spPr>
          <a:xfrm rot="16200000">
            <a:off x="10800000" y="5466600"/>
            <a:ext cx="695520" cy="695520"/>
          </a:xfrm>
          <a:prstGeom prst="rtTriangle">
            <a:avLst/>
          </a:prstGeom>
          <a:solidFill>
            <a:srgbClr val="d7d0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4" name="直角三角形 22"/>
          <p:cNvSpPr/>
          <p:nvPr/>
        </p:nvSpPr>
        <p:spPr>
          <a:xfrm rot="16200000">
            <a:off x="11509560" y="4768920"/>
            <a:ext cx="695520" cy="695520"/>
          </a:xfrm>
          <a:prstGeom prst="rtTriangl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5" name="直角三角形 23"/>
          <p:cNvSpPr/>
          <p:nvPr/>
        </p:nvSpPr>
        <p:spPr>
          <a:xfrm rot="16200000">
            <a:off x="11495880" y="6162480"/>
            <a:ext cx="695520" cy="695520"/>
          </a:xfrm>
          <a:prstGeom prst="rtTriangle">
            <a:avLst/>
          </a:prstGeom>
          <a:solidFill>
            <a:srgbClr val="5649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6" name="直角三角形 25"/>
          <p:cNvSpPr/>
          <p:nvPr/>
        </p:nvSpPr>
        <p:spPr>
          <a:xfrm rot="5400000">
            <a:off x="0" y="-2880"/>
            <a:ext cx="695520" cy="695520"/>
          </a:xfrm>
          <a:prstGeom prst="rtTriangle">
            <a:avLst/>
          </a:prstGeom>
          <a:solidFill>
            <a:schemeClr val="accent3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7" name="直角三角形 26"/>
          <p:cNvSpPr/>
          <p:nvPr/>
        </p:nvSpPr>
        <p:spPr>
          <a:xfrm rot="16200000">
            <a:off x="695880" y="699120"/>
            <a:ext cx="695520" cy="695520"/>
          </a:xfrm>
          <a:prstGeom prst="rtTriangle">
            <a:avLst/>
          </a:prstGeom>
          <a:solidFill>
            <a:schemeClr val="accent3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8" name="直角三角形 27"/>
          <p:cNvSpPr/>
          <p:nvPr/>
        </p:nvSpPr>
        <p:spPr>
          <a:xfrm rot="16200000">
            <a:off x="1392120" y="-7560"/>
            <a:ext cx="695520" cy="695520"/>
          </a:xfrm>
          <a:prstGeom prst="rtTriangle">
            <a:avLst/>
          </a:prstGeom>
          <a:solidFill>
            <a:schemeClr val="accent3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9" name="直角三角形 28"/>
          <p:cNvSpPr/>
          <p:nvPr/>
        </p:nvSpPr>
        <p:spPr>
          <a:xfrm>
            <a:off x="0" y="698760"/>
            <a:ext cx="695520" cy="695520"/>
          </a:xfrm>
          <a:prstGeom prst="rtTriangle">
            <a:avLst/>
          </a:prstGeom>
          <a:solidFill>
            <a:schemeClr val="accent3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0" name="直角三角形 29"/>
          <p:cNvSpPr/>
          <p:nvPr/>
        </p:nvSpPr>
        <p:spPr>
          <a:xfrm>
            <a:off x="695880" y="-8280"/>
            <a:ext cx="695520" cy="695520"/>
          </a:xfrm>
          <a:prstGeom prst="rtTriangle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1" name="矩形 34"/>
          <p:cNvSpPr/>
          <p:nvPr/>
        </p:nvSpPr>
        <p:spPr>
          <a:xfrm>
            <a:off x="812160" y="2924640"/>
            <a:ext cx="2551680" cy="1592640"/>
          </a:xfrm>
          <a:prstGeom prst="rect">
            <a:avLst/>
          </a:prstGeom>
          <a:solidFill>
            <a:srgbClr val="d9d9d9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42" name="组合 30"/>
          <p:cNvGrpSpPr/>
          <p:nvPr/>
        </p:nvGrpSpPr>
        <p:grpSpPr>
          <a:xfrm>
            <a:off x="941760" y="2958480"/>
            <a:ext cx="2751840" cy="1404720"/>
            <a:chOff x="941760" y="2958480"/>
            <a:chExt cx="2751840" cy="1404720"/>
          </a:xfrm>
        </p:grpSpPr>
        <p:sp>
          <p:nvSpPr>
            <p:cNvPr id="143" name="文本框 31"/>
            <p:cNvSpPr/>
            <p:nvPr/>
          </p:nvSpPr>
          <p:spPr>
            <a:xfrm>
              <a:off x="946080" y="295848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32"/>
            <p:cNvSpPr/>
            <p:nvPr/>
          </p:nvSpPr>
          <p:spPr>
            <a:xfrm>
              <a:off x="941760" y="3871080"/>
              <a:ext cx="2237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45" name="直接连接符 33"/>
            <p:cNvCxnSpPr/>
            <p:nvPr/>
          </p:nvCxnSpPr>
          <p:spPr>
            <a:xfrm>
              <a:off x="1091520" y="372240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图片 4"/>
          <p:cNvSpPr/>
          <p:nvPr/>
        </p:nvSpPr>
        <p:spPr>
          <a:xfrm>
            <a:off x="826920" y="3002400"/>
            <a:ext cx="3698280" cy="3698280"/>
          </a:xfrm>
          <a:custGeom>
            <a:avLst/>
            <a:gdLst>
              <a:gd name="textAreaLeft" fmla="*/ 0 w 3698280"/>
              <a:gd name="textAreaRight" fmla="*/ 3698640 w 3698280"/>
              <a:gd name="textAreaTop" fmla="*/ 0 h 3698280"/>
              <a:gd name="textAreaBottom" fmla="*/ 3698640 h 3698280"/>
            </a:gdLst>
            <a:ahLst/>
            <a:rect l="textAreaLeft" t="textAreaTop" r="textAreaRight" b="textAreaBottom"/>
            <a:pathLst>
              <a:path w="3289112" h="3289112">
                <a:moveTo>
                  <a:pt x="1644556" y="0"/>
                </a:moveTo>
                <a:cubicBezTo>
                  <a:pt x="2552819" y="0"/>
                  <a:pt x="3289112" y="736293"/>
                  <a:pt x="3289112" y="1644556"/>
                </a:cubicBezTo>
                <a:cubicBezTo>
                  <a:pt x="3289112" y="2552819"/>
                  <a:pt x="2552819" y="3289112"/>
                  <a:pt x="1644556" y="3289112"/>
                </a:cubicBezTo>
                <a:cubicBezTo>
                  <a:pt x="736293" y="3289112"/>
                  <a:pt x="0" y="2552819"/>
                  <a:pt x="0" y="1644556"/>
                </a:cubicBezTo>
                <a:cubicBezTo>
                  <a:pt x="0" y="736293"/>
                  <a:pt x="736293" y="0"/>
                  <a:pt x="1644556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9036000" y="-47880"/>
            <a:ext cx="859320" cy="859320"/>
          </a:xfrm>
          <a:prstGeom prst="ellipse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8" name="椭圆 9"/>
          <p:cNvSpPr/>
          <p:nvPr/>
        </p:nvSpPr>
        <p:spPr>
          <a:xfrm>
            <a:off x="11332080" y="0"/>
            <a:ext cx="859320" cy="85932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9" name="椭圆 10"/>
          <p:cNvSpPr/>
          <p:nvPr/>
        </p:nvSpPr>
        <p:spPr>
          <a:xfrm>
            <a:off x="10593720" y="1487520"/>
            <a:ext cx="859320" cy="859320"/>
          </a:xfrm>
          <a:prstGeom prst="ellipse">
            <a:avLst/>
          </a:prstGeom>
          <a:solidFill>
            <a:schemeClr val="accent3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0" name="椭圆 11"/>
          <p:cNvSpPr/>
          <p:nvPr/>
        </p:nvSpPr>
        <p:spPr>
          <a:xfrm>
            <a:off x="11332080" y="2122200"/>
            <a:ext cx="859320" cy="85932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1" name="椭圆 12"/>
          <p:cNvSpPr/>
          <p:nvPr/>
        </p:nvSpPr>
        <p:spPr>
          <a:xfrm>
            <a:off x="9855360" y="627840"/>
            <a:ext cx="859320" cy="859320"/>
          </a:xfrm>
          <a:prstGeom prst="ellipse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2" name="椭圆 13"/>
          <p:cNvSpPr/>
          <p:nvPr/>
        </p:nvSpPr>
        <p:spPr>
          <a:xfrm>
            <a:off x="110160" y="198000"/>
            <a:ext cx="859320" cy="859320"/>
          </a:xfrm>
          <a:prstGeom prst="ellipse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3" name="椭圆 14"/>
          <p:cNvSpPr/>
          <p:nvPr/>
        </p:nvSpPr>
        <p:spPr>
          <a:xfrm>
            <a:off x="10098720" y="4851720"/>
            <a:ext cx="2466360" cy="2466360"/>
          </a:xfrm>
          <a:prstGeom prst="ellipse">
            <a:avLst/>
          </a:prstGeom>
          <a:solidFill>
            <a:schemeClr val="accent3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54" name="组合 15"/>
          <p:cNvGrpSpPr/>
          <p:nvPr/>
        </p:nvGrpSpPr>
        <p:grpSpPr>
          <a:xfrm>
            <a:off x="5036040" y="2347560"/>
            <a:ext cx="3643560" cy="1754280"/>
            <a:chOff x="5036040" y="2347560"/>
            <a:chExt cx="3643560" cy="1754280"/>
          </a:xfrm>
        </p:grpSpPr>
        <p:sp>
          <p:nvSpPr>
            <p:cNvPr id="155" name="文本框 16"/>
            <p:cNvSpPr/>
            <p:nvPr/>
          </p:nvSpPr>
          <p:spPr>
            <a:xfrm>
              <a:off x="5042160" y="2347560"/>
              <a:ext cx="3637440" cy="12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000000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7"/>
            <p:cNvSpPr/>
            <p:nvPr/>
          </p:nvSpPr>
          <p:spPr>
            <a:xfrm>
              <a:off x="5036040" y="3456000"/>
              <a:ext cx="29631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57" name="直接连接符 18"/>
            <p:cNvCxnSpPr/>
            <p:nvPr/>
          </p:nvCxnSpPr>
          <p:spPr>
            <a:xfrm>
              <a:off x="5234760" y="3275280"/>
              <a:ext cx="25660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  <Words>239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4:21:43Z</dcterms:created>
  <dc:creator>Forrest</dc:creator>
  <dc:description/>
  <dc:language>en-US</dc:language>
  <cp:lastModifiedBy>yu wang</cp:lastModifiedBy>
  <dcterms:modified xsi:type="dcterms:W3CDTF">2015-08-14T12:53:55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4</vt:r8>
  </property>
</Properties>
</file>