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795-3B2C-4E98-AE7E-C4ED96A5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180-1FAE-42F2-A450-4C5C2FC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414-FAB8-4C53-AE55-64DC0554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C87-7E89-4581-B288-9A3A375A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8BC0-5EF7-45B2-B1A7-785EABAA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36C2-59BA-4C53-9344-133EC8EF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1A5-94A6-4394-8628-16F3A321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A97-5E97-4EB2-AA32-091D6C8B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11C0-C257-479A-88DA-9C452CD1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CEB7-848A-4000-8290-EB665DE4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009-931F-4ABC-8670-FA3B9C3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894-ADB8-425A-ACB0-4E2AC35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764-69D9-4BA4-B42D-134F7CF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A02-619D-4005-9367-7CEA35C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B59F-91B5-4671-837A-164AB509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BC7-D8B2-4D91-A789-D656717D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43C-1C62-4349-A7D4-66AA6161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175B-0938-45F6-B43A-E0794CFB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897D-4260-4EBC-9140-A90055E5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DF40-1D03-4FCE-B588-A766CC9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9B0D-F269-4E3A-8348-46F962E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B131-6DDA-4697-AA31-3D9A609D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599-DB13-4C63-80ED-915FBB6E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7EE4-D01E-48B1-B68D-B3FBA049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54D4-5DF7-4B6A-8876-BCC3BC2D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6208-6FFA-4FC3-8C7F-68A10E3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0BDF-FB0B-4C23-BEBF-DED65B8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8C5F-7C6A-406C-A35C-257C8286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B0C4-2E53-4E51-96E1-5082174A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5228-0878-4901-A6D3-38C89F24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6A73-F5AF-456B-82D7-EDEE5318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929BA-D01B-4D06-916F-E70B4C8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A454-C19D-431A-8F7A-60E7DBFD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13D-FAF5-458C-9B9C-63C6D7BD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411E-4600-457C-A2B7-206BC3F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BDD2-2D33-423B-B385-FF178D08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7286-F7FC-48AC-A5B2-B40E6114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26DA-8B35-4295-A098-556AEBD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A1D7-B0E8-4499-A13C-DFBD0EDE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EA689-A5BC-455C-95B5-A8FE179C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C222-11C7-47F5-B1CC-A0932E4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B37E-228B-428E-A231-FFB90E8C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BE51-3E60-4830-B00D-CB6A6B3C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767C-7A2F-4B75-8300-CAFCA3FF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9B9-459D-4EB3-8A7E-4D4F14E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EE82-5DC7-43C4-9A29-F1E8DAA6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DA0EA-84EB-47A2-B591-A0A58584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452B-37C6-4DC1-A609-2CDAF332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EAB15-B2C4-47A9-BDB5-AFC109F2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1668-62D8-4189-B116-4D1FFB5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4AEB-1195-4895-BED8-F0E86CE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E194-4DFC-4203-B15B-5B2D2EFD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C0CE0-2E04-4B6D-8992-E77612A9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04CB3-06F1-48C1-82B9-22276D15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CF55-A528-4B6D-B62D-54DE5A9F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58A-EB77-4167-92DB-E9EAABE7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33346-7433-4472-9141-1934FA27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8B7-6C7A-49DA-86FE-9EA87DC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0B0-939B-419A-942E-1C3F7519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309-2BB7-4AC1-BF4A-982C081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9E96F2C-DEE4-4B54-8059-31F7A4BC39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6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81000" y="2211840"/>
            <a:ext cx="431136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点击此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6660360" y="3075840"/>
            <a:ext cx="2367000" cy="3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点击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68B23E1-43BC-4669-8EB4-F8BD849757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-36360" y="-1800"/>
            <a:ext cx="9180000" cy="516528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6"/>
          <p:cNvGrpSpPr/>
          <p:nvPr/>
        </p:nvGrpSpPr>
        <p:grpSpPr>
          <a:xfrm>
            <a:off x="2225520" y="720360"/>
            <a:ext cx="770760" cy="810360"/>
            <a:chOff x="2225520" y="720360"/>
            <a:chExt cx="770760" cy="810360"/>
          </a:xfrm>
        </p:grpSpPr>
        <p:pic>
          <p:nvPicPr>
            <p:cNvPr id="50" name="图片 8" descr=""/>
            <p:cNvPicPr/>
            <p:nvPr/>
          </p:nvPicPr>
          <p:blipFill>
            <a:blip r:embed="rId3"/>
            <a:stretch/>
          </p:blipFill>
          <p:spPr>
            <a:xfrm rot="15614400">
              <a:off x="2256480" y="795240"/>
              <a:ext cx="70884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12"/>
            <p:cNvSpPr/>
            <p:nvPr/>
          </p:nvSpPr>
          <p:spPr>
            <a:xfrm>
              <a:off x="2414160" y="933120"/>
              <a:ext cx="409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叶根友毛笔行书2.0版"/>
                  <a:ea typeface="叶根友毛笔行书2.0版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2996640" y="882360"/>
            <a:ext cx="329472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点击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18"/>
          <p:cNvGrpSpPr/>
          <p:nvPr/>
        </p:nvGrpSpPr>
        <p:grpSpPr>
          <a:xfrm>
            <a:off x="2233800" y="1441440"/>
            <a:ext cx="770760" cy="810360"/>
            <a:chOff x="2233800" y="1441440"/>
            <a:chExt cx="770760" cy="810360"/>
          </a:xfrm>
        </p:grpSpPr>
        <p:pic>
          <p:nvPicPr>
            <p:cNvPr id="54" name="图片 19" descr=""/>
            <p:cNvPicPr/>
            <p:nvPr/>
          </p:nvPicPr>
          <p:blipFill>
            <a:blip r:embed="rId4"/>
            <a:stretch/>
          </p:blipFill>
          <p:spPr>
            <a:xfrm rot="15614400">
              <a:off x="2264760" y="1516320"/>
              <a:ext cx="70884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20"/>
            <p:cNvSpPr/>
            <p:nvPr/>
          </p:nvSpPr>
          <p:spPr>
            <a:xfrm>
              <a:off x="2468520" y="1653840"/>
              <a:ext cx="31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叶根友毛笔行书2.0版"/>
                  <a:ea typeface="叶根友毛笔行书2.0版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7"/>
          <p:cNvSpPr>
            <a:spLocks noGrp="1"/>
          </p:cNvSpPr>
          <p:nvPr>
            <p:ph type="body"/>
          </p:nvPr>
        </p:nvSpPr>
        <p:spPr>
          <a:xfrm>
            <a:off x="3005280" y="1603440"/>
            <a:ext cx="329472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点击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组合 22"/>
          <p:cNvGrpSpPr/>
          <p:nvPr/>
        </p:nvGrpSpPr>
        <p:grpSpPr>
          <a:xfrm>
            <a:off x="2233800" y="2161440"/>
            <a:ext cx="770760" cy="810360"/>
            <a:chOff x="2233800" y="2161440"/>
            <a:chExt cx="770760" cy="810360"/>
          </a:xfrm>
        </p:grpSpPr>
        <p:pic>
          <p:nvPicPr>
            <p:cNvPr id="58" name="图片 23" descr=""/>
            <p:cNvPicPr/>
            <p:nvPr/>
          </p:nvPicPr>
          <p:blipFill>
            <a:blip r:embed="rId5"/>
            <a:stretch/>
          </p:blipFill>
          <p:spPr>
            <a:xfrm rot="15614400">
              <a:off x="2264760" y="2236320"/>
              <a:ext cx="70884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24"/>
            <p:cNvSpPr/>
            <p:nvPr/>
          </p:nvSpPr>
          <p:spPr>
            <a:xfrm>
              <a:off x="2466360" y="2373840"/>
              <a:ext cx="31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叶根友毛笔行书2.0版"/>
                  <a:ea typeface="叶根友毛笔行书2.0版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8"/>
          <p:cNvSpPr>
            <a:spLocks noGrp="1"/>
          </p:cNvSpPr>
          <p:nvPr>
            <p:ph type="body"/>
          </p:nvPr>
        </p:nvSpPr>
        <p:spPr>
          <a:xfrm>
            <a:off x="3005280" y="2323440"/>
            <a:ext cx="329472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点击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26"/>
          <p:cNvGrpSpPr/>
          <p:nvPr/>
        </p:nvGrpSpPr>
        <p:grpSpPr>
          <a:xfrm>
            <a:off x="2242440" y="2881440"/>
            <a:ext cx="770760" cy="810360"/>
            <a:chOff x="2242440" y="2881440"/>
            <a:chExt cx="770760" cy="810360"/>
          </a:xfrm>
        </p:grpSpPr>
        <p:pic>
          <p:nvPicPr>
            <p:cNvPr id="62" name="图片 27" descr=""/>
            <p:cNvPicPr/>
            <p:nvPr/>
          </p:nvPicPr>
          <p:blipFill>
            <a:blip r:embed="rId6"/>
            <a:stretch/>
          </p:blipFill>
          <p:spPr>
            <a:xfrm rot="15614400">
              <a:off x="2273400" y="2956320"/>
              <a:ext cx="70884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28"/>
            <p:cNvSpPr/>
            <p:nvPr/>
          </p:nvSpPr>
          <p:spPr>
            <a:xfrm>
              <a:off x="2476800" y="3094200"/>
              <a:ext cx="31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叶根友毛笔行书2.0版"/>
                  <a:ea typeface="叶根友毛笔行书2.0版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9"/>
          <p:cNvSpPr>
            <a:spLocks noGrp="1"/>
          </p:cNvSpPr>
          <p:nvPr>
            <p:ph type="body"/>
          </p:nvPr>
        </p:nvSpPr>
        <p:spPr>
          <a:xfrm>
            <a:off x="3013560" y="3043440"/>
            <a:ext cx="329472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点击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0"/>
          <p:cNvSpPr>
            <a:spLocks noGrp="1"/>
          </p:cNvSpPr>
          <p:nvPr>
            <p:ph type="body"/>
          </p:nvPr>
        </p:nvSpPr>
        <p:spPr>
          <a:xfrm>
            <a:off x="12600" y="388440"/>
            <a:ext cx="2212560" cy="3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5B7B81A-4BA6-4D6E-9BBA-457A897574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-36360" y="-22320"/>
            <a:ext cx="9180000" cy="5165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7" descr=""/>
          <p:cNvPicPr/>
          <p:nvPr/>
        </p:nvPicPr>
        <p:blipFill>
          <a:blip r:embed="rId3"/>
          <a:stretch/>
        </p:blipFill>
        <p:spPr>
          <a:xfrm rot="15614400">
            <a:off x="-24120" y="291960"/>
            <a:ext cx="708840" cy="660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6"/>
          <p:cNvSpPr>
            <a:spLocks noGrp="1"/>
          </p:cNvSpPr>
          <p:nvPr>
            <p:ph type="body"/>
          </p:nvPr>
        </p:nvSpPr>
        <p:spPr>
          <a:xfrm>
            <a:off x="611640" y="379080"/>
            <a:ext cx="308736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点击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 type="body"/>
          </p:nvPr>
        </p:nvSpPr>
        <p:spPr>
          <a:xfrm>
            <a:off x="114120" y="421200"/>
            <a:ext cx="431640" cy="3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8"/>
          <p:cNvSpPr>
            <a:spLocks noGrp="1"/>
          </p:cNvSpPr>
          <p:nvPr>
            <p:ph type="body"/>
          </p:nvPr>
        </p:nvSpPr>
        <p:spPr>
          <a:xfrm>
            <a:off x="1259640" y="1228320"/>
            <a:ext cx="7416360" cy="28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E20D0F7-FCA6-44AF-AFB2-8F61ABF1E9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图片 6" descr=""/>
          <p:cNvPicPr/>
          <p:nvPr/>
        </p:nvPicPr>
        <p:blipFill>
          <a:blip r:embed="rId2"/>
          <a:stretch/>
        </p:blipFill>
        <p:spPr>
          <a:xfrm>
            <a:off x="-36360" y="-22320"/>
            <a:ext cx="9180000" cy="5165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328920" y="1635480"/>
            <a:ext cx="2863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谢谢聆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C4FD7D3-0F3C-463F-BF9E-B4CE9CC8C4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15640" y="699480"/>
            <a:ext cx="763236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水墨报告中国风</a:t>
            </a:r>
            <a:r>
              <a:rPr b="0" lang="en-US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60360" y="3075840"/>
            <a:ext cx="2367000" cy="3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叶根友毛笔行书2.0版"/>
              <a:ea typeface="叶根友毛笔行书2.0版"/>
            </a:endParaRPr>
          </a:p>
        </p:txBody>
      </p:sp>
      <p:sp>
        <p:nvSpPr>
          <p:cNvPr id="234" name="矩形 12"/>
          <p:cNvSpPr/>
          <p:nvPr/>
        </p:nvSpPr>
        <p:spPr>
          <a:xfrm>
            <a:off x="209160" y="47973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996640" y="882360"/>
            <a:ext cx="366336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工作室</a:t>
            </a:r>
            <a:r>
              <a:rPr b="0" lang="en-US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的由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60000" y="1563480"/>
            <a:ext cx="336672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工作室</a:t>
            </a:r>
            <a:r>
              <a:rPr b="0" lang="en-US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的现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988000" y="2283840"/>
            <a:ext cx="365472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工作室</a:t>
            </a:r>
            <a:r>
              <a:rPr b="0" lang="en-US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的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988000" y="3003840"/>
            <a:ext cx="371844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工作室</a:t>
            </a:r>
            <a:r>
              <a:rPr b="0" lang="en-US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的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600" y="388440"/>
            <a:ext cx="2212560" cy="3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640" y="379080"/>
            <a:ext cx="3672000" cy="4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的的由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120" y="421200"/>
            <a:ext cx="431640" cy="3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99640" y="1131480"/>
            <a:ext cx="7488360" cy="28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叶根友毛笔行书2.0版"/>
              <a:ea typeface="叶根友毛笔行书2.0版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  <Words>179</Words>
  <Paragraphs>3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05:35Z</dcterms:created>
  <dc:creator>海泉</dc:creator>
  <dc:description/>
  <dc:language>en-US</dc:language>
  <cp:lastModifiedBy>yu wang</cp:lastModifiedBy>
  <dcterms:modified xsi:type="dcterms:W3CDTF">2015-08-14T12:51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5</vt:r8>
  </property>
</Properties>
</file>