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4FA-27AA-46EC-B2BA-C67AF0F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277-6202-4578-966C-28F3F05E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777-2AFE-4346-9FF0-ED0AA270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DE9-2BEC-4671-8C6E-B97038DA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BE5-6127-49CB-8486-1FAB5EE1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3A9E-EC50-4258-BE92-9ADF6E8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449-5690-4941-B730-586BFB85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0314-C488-4D92-9E06-42A3B0BD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8C8-1F4D-4FA6-A48D-8024BCE3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F9D-E165-45EB-9ECB-FA3320C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56D-3695-4401-AF6A-E8F1F308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41C-A084-4340-91AE-4058FBD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75EA-92B4-420C-8293-1973B993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BDAD-B84D-4DFF-87A4-414C5B8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A2A-C9EA-429B-B1D4-C0AEEC6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99E-9597-48DE-8A61-C49375CD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AFA7-BBCC-41EF-A85D-58135073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266-6024-4690-BEFE-859C71D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BE1-F513-4A3E-BD02-B34B74CF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499-43C7-483B-93E9-68211E9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832-2483-4FD9-B6D6-F432FFF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17F-59EF-46FE-B4B4-015E2F5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F99-66B1-4258-A249-BC11D3F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7A3-9060-48CD-91B1-F63FC2E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583D-7DF6-4AFA-AB93-CF369B0BD88F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F01D-E5AE-48E4-90FE-9D57B9CF7D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AE06-7719-47A8-B993-35FA4C0D2CEF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D8A8-3A55-45A4-8BC9-B81C8009A6A1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205000"/>
            <a:ext cx="6337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水墨笔砚中国风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3933720"/>
            <a:ext cx="6338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5B06-0C58-4104-B6C9-AD88AB4A230D}" type="datetime">
              <a:rPr b="0" lang="zh-TW" sz="1400" spc="-1" strike="noStrike">
                <a:solidFill>
                  <a:srgbClr val="ffffff"/>
                </a:solidFill>
                <a:latin typeface="Arial"/>
                <a:ea typeface="PMingLiU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0944-ACC6-4084-A6A7-C319AEA32C4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130400" y="4537080"/>
            <a:ext cx="7276680" cy="337680"/>
            <a:chOff x="1130400" y="4537080"/>
            <a:chExt cx="7276680" cy="337680"/>
          </a:xfrm>
        </p:grpSpPr>
        <p:sp>
          <p:nvSpPr>
            <p:cNvPr id="90" name="Text Box 3"/>
            <p:cNvSpPr/>
            <p:nvPr/>
          </p:nvSpPr>
          <p:spPr>
            <a:xfrm>
              <a:off x="1240920" y="4605840"/>
              <a:ext cx="701028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"/>
            <p:cNvSpPr/>
            <p:nvPr/>
          </p:nvSpPr>
          <p:spPr>
            <a:xfrm>
              <a:off x="1130400" y="45370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000" y="999720"/>
            <a:ext cx="615600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10800"/>
            <a:ext cx="669600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c3300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8880" y="1108080"/>
            <a:ext cx="10411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yu wang</cp:lastModifiedBy>
  <cp:lastPrinted>1899-12-30T00:00:00Z</cp:lastPrinted>
  <dcterms:modified xsi:type="dcterms:W3CDTF">2015-08-14T12:51:54Z</dcterms:modified>
  <cp:revision>30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