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9605-28B3-44B0-B64F-9EF125F7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44E-F3EF-4567-9CE7-9AC19348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E417-3AE7-454F-ADA9-DE31452F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DFB-C90A-4D8A-953A-30273F35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D6CB-DEAA-49CD-8C9B-134B5768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C9A4-FDD5-42B6-8B3D-ACEA5D62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5684-C5DB-4422-8938-E61104F7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944E-F80A-49C2-89A5-A4E7E25A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350D-1E2A-4192-8694-0187B695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E1E0-A239-4DDA-96F8-B9A29BA5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E625-E221-4A17-A055-5277A7EF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B81-FA40-4A62-B7B3-7CD6C8CF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FE51-0D9D-4D79-ADED-7A68AEDE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76A0-479E-4FCF-90A7-6F72D872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F7E4-A74E-4F5A-B2B6-29670A84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0615-9C47-42C4-AAEE-0B9F63A3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3DCC-DC26-4797-9EE8-02AA1A4E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A092-6E1C-4C8D-8FAC-3120D19B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D8D3-66B2-4772-8DE0-8D78FCE6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968D-ED6B-40B7-BE49-088EF40E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0B9D-AC4B-4F7D-BD41-7138BD8E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1552-39DC-4AF0-A2DE-16324265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017-87C0-4B96-ADDA-3F951819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BB03-46CA-40E5-B858-77BD03E9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F5718A-4D94-4C76-976D-8A81C57B593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C4141D-B6B0-4E6D-B2AB-4B541D32B6D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3" descr=""/>
          <p:cNvPicPr/>
          <p:nvPr/>
        </p:nvPicPr>
        <p:blipFill>
          <a:blip r:embed="rId2"/>
          <a:stretch/>
        </p:blipFill>
        <p:spPr>
          <a:xfrm>
            <a:off x="5065200" y="3684600"/>
            <a:ext cx="1003320" cy="6854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4" descr=""/>
          <p:cNvPicPr/>
          <p:nvPr/>
        </p:nvPicPr>
        <p:blipFill>
          <a:blip r:embed="rId3"/>
          <a:stretch/>
        </p:blipFill>
        <p:spPr>
          <a:xfrm>
            <a:off x="4356000" y="4466160"/>
            <a:ext cx="1015560" cy="11689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5" descr=""/>
          <p:cNvPicPr/>
          <p:nvPr/>
        </p:nvPicPr>
        <p:blipFill>
          <a:blip r:embed="rId4"/>
          <a:stretch/>
        </p:blipFill>
        <p:spPr>
          <a:xfrm flipH="1">
            <a:off x="972000" y="5911200"/>
            <a:ext cx="1366200" cy="5418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9" descr=""/>
          <p:cNvPicPr/>
          <p:nvPr/>
        </p:nvPicPr>
        <p:blipFill>
          <a:blip r:embed="rId5"/>
          <a:stretch/>
        </p:blipFill>
        <p:spPr>
          <a:xfrm>
            <a:off x="-396720" y="1628640"/>
            <a:ext cx="4437000" cy="47966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7" descr=""/>
          <p:cNvPicPr/>
          <p:nvPr/>
        </p:nvPicPr>
        <p:blipFill>
          <a:blip r:embed="rId6"/>
          <a:stretch/>
        </p:blipFill>
        <p:spPr>
          <a:xfrm>
            <a:off x="7236360" y="4725000"/>
            <a:ext cx="1367640" cy="11214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8" descr=""/>
          <p:cNvPicPr/>
          <p:nvPr/>
        </p:nvPicPr>
        <p:blipFill>
          <a:blip r:embed="rId7"/>
          <a:stretch/>
        </p:blipFill>
        <p:spPr>
          <a:xfrm>
            <a:off x="5783040" y="3429000"/>
            <a:ext cx="1452600" cy="32432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6" descr=""/>
          <p:cNvPicPr/>
          <p:nvPr/>
        </p:nvPicPr>
        <p:blipFill>
          <a:blip r:embed="rId8"/>
          <a:stretch/>
        </p:blipFill>
        <p:spPr>
          <a:xfrm>
            <a:off x="0" y="4725000"/>
            <a:ext cx="9143640" cy="21326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6" descr=""/>
          <p:cNvPicPr/>
          <p:nvPr/>
        </p:nvPicPr>
        <p:blipFill>
          <a:blip r:embed="rId9"/>
          <a:stretch/>
        </p:blipFill>
        <p:spPr>
          <a:xfrm>
            <a:off x="6672960" y="18000"/>
            <a:ext cx="2138040" cy="2199600"/>
          </a:xfrm>
          <a:prstGeom prst="rect">
            <a:avLst/>
          </a:prstGeom>
          <a:ln w="0">
            <a:noFill/>
          </a:ln>
        </p:spPr>
      </p:pic>
      <p:sp>
        <p:nvSpPr>
          <p:cNvPr id="91" name="矩形 1"/>
          <p:cNvSpPr/>
          <p:nvPr/>
        </p:nvSpPr>
        <p:spPr>
          <a:xfrm>
            <a:off x="1692720" y="660240"/>
            <a:ext cx="4546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水墨鱼燕戏荷中国风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0" p14:dur="4000">
        <p14:vortex/>
      </p:transition>
    </mc:Choice>
    <mc:Fallback>
      <p:transition spd="slow" advTm="0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0.12847 L -0.04549 0.16852 C -0.06407 0.17755 -0.09202 0.18241 -0.12084 0.18241 C -0.15382 0.18241 -0.18021 0.17755 -0.19879 0.16852 L -0.28733 0.12847 E">
                                      <p:cBhvr>
                                        <p:cTn id="2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6 L 0.43246 -0.00556 E">
                                      <p:cBhvr>
                                        <p:cTn id="34" dur="8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 0.24699 L 0.15 0.12315 C 0.15 0.06782 0.10833 1.11111E-006 0.075 1.11111E-006 L 1.66667E-006 1.11111E-006 E">
                                      <p:cBhvr>
                                        <p:cTn id="3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29 0.32569 L 0.08664 0.22384 C 0.09306 0.20254 0.09323 0.17268 0.08803 0.14421 C 0.08195 0.11157 0.07136 0.0875 0.05816 0.07268 L -0.00017 -0.00023 E">
                                      <p:cBhvr>
                                        <p:cTn id="44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5" descr=""/>
          <p:cNvPicPr/>
          <p:nvPr/>
        </p:nvPicPr>
        <p:blipFill>
          <a:blip r:embed="rId2"/>
          <a:stretch/>
        </p:blipFill>
        <p:spPr>
          <a:xfrm flipH="1">
            <a:off x="972000" y="5911200"/>
            <a:ext cx="1366200" cy="5418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29" descr=""/>
          <p:cNvPicPr/>
          <p:nvPr/>
        </p:nvPicPr>
        <p:blipFill>
          <a:blip r:embed="rId3"/>
          <a:stretch/>
        </p:blipFill>
        <p:spPr>
          <a:xfrm>
            <a:off x="-396720" y="1628640"/>
            <a:ext cx="4437000" cy="47966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8" descr=""/>
          <p:cNvPicPr/>
          <p:nvPr/>
        </p:nvPicPr>
        <p:blipFill>
          <a:blip r:embed="rId4"/>
          <a:stretch/>
        </p:blipFill>
        <p:spPr>
          <a:xfrm>
            <a:off x="5783040" y="3429000"/>
            <a:ext cx="1452600" cy="32432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6" descr=""/>
          <p:cNvPicPr/>
          <p:nvPr/>
        </p:nvPicPr>
        <p:blipFill>
          <a:blip r:embed="rId5"/>
          <a:stretch/>
        </p:blipFill>
        <p:spPr>
          <a:xfrm>
            <a:off x="0" y="4725000"/>
            <a:ext cx="9143640" cy="21326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5" descr=""/>
          <p:cNvPicPr/>
          <p:nvPr/>
        </p:nvPicPr>
        <p:blipFill>
          <a:blip r:embed="rId6"/>
          <a:stretch/>
        </p:blipFill>
        <p:spPr>
          <a:xfrm>
            <a:off x="5508000" y="1350360"/>
            <a:ext cx="2188080" cy="22572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6" descr=""/>
          <p:cNvPicPr/>
          <p:nvPr/>
        </p:nvPicPr>
        <p:blipFill>
          <a:blip r:embed="rId7"/>
          <a:stretch/>
        </p:blipFill>
        <p:spPr>
          <a:xfrm>
            <a:off x="5531040" y="1364760"/>
            <a:ext cx="2174400" cy="22428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7" descr=""/>
          <p:cNvPicPr/>
          <p:nvPr/>
        </p:nvPicPr>
        <p:blipFill>
          <a:blip r:embed="rId8"/>
          <a:stretch/>
        </p:blipFill>
        <p:spPr>
          <a:xfrm>
            <a:off x="5410440" y="1098720"/>
            <a:ext cx="2553480" cy="25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0" p14:dur="3900">
        <p14:glitter dir="l" pattern="hexagon"/>
      </p:transition>
    </mc:Choice>
    <mc:Fallback>
      <p:transition spd="slow" advTm="0">
        <p:fade/>
      </p:transition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1111E-006 L 0.38993 -0.00232 E">
                                      <p:cBhvr>
                                        <p:cTn id="68" dur="8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  <Words>158</Words>
  <Paragraphs>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5:20:11Z</dcterms:created>
  <dc:creator>walkinnet</dc:creator>
  <dc:description/>
  <dc:language>en-US</dc:language>
  <cp:lastModifiedBy>yu wang</cp:lastModifiedBy>
  <dcterms:modified xsi:type="dcterms:W3CDTF">2015-08-14T12:52:07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