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4C20-98A8-47F4-A5B2-D409DBD38E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17E-E2F8-434A-AF92-D7BEA41E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3FB-6A87-4590-8D7D-C6F1305A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C53-EDDB-4562-91E1-1BE5A709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BFC-AA50-4155-BA4A-18E75870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227-B1E9-44CD-83BD-9D766541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CCB-5E25-4237-9A55-F516E9C4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10E-CF2A-4E23-9FB8-361BAB30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1FC-74FD-4F6F-AD58-EEDCFA00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E55-9E4A-49B2-8B3E-574A2E4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177-DDE3-4188-B705-0D9C68F3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1B3-9050-4F8D-A202-52E90B94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A3F-BFC7-4D6F-955E-4BD21C39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4F5F-B2D5-41B1-9B1D-022ED9C10B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hyperlink" Target="http://www.eeppt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5040360" y="620640"/>
            <a:ext cx="114120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431640" y="260280"/>
            <a:ext cx="1652760" cy="14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sp>
        <p:nvSpPr>
          <p:cNvPr id="92" name="矩形 1"/>
          <p:cNvSpPr/>
          <p:nvPr/>
        </p:nvSpPr>
        <p:spPr>
          <a:xfrm>
            <a:off x="2823120" y="4076640"/>
            <a:ext cx="53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水墨中国风格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08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2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6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19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3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06280" y="64562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1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65440" y="558720"/>
            <a:ext cx="72705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5760" y="1515960"/>
            <a:ext cx="790884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805880" y="685800"/>
            <a:ext cx="1230120" cy="30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dc:language>en-US</dc:language>
  <cp:lastModifiedBy>yu wang</cp:lastModifiedBy>
  <dcterms:modified xsi:type="dcterms:W3CDTF">2015-08-14T12:51:43Z</dcterms:modified>
  <cp:revision>11</cp:revision>
  <dc:subject>心静，则自由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