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8B9-1B78-419F-8B4F-2D5942B1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D20-E34A-47A3-9508-27267BAD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7CA-9082-41A0-9577-87646093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493-75E0-48ED-9B31-FF4BB129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8F30-7813-486A-8DCF-A14CCF5F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8DF-3AF4-493D-8D89-B1F61BFD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5F3-823A-42AE-9CF0-63D579F0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66F-72F7-4817-AD02-C0C45F82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39D-EDC4-4B93-87EE-F53C8D2C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144-9DC5-4D9B-9846-E97A64EE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85C-B286-4C33-A16D-99E987A3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6FC-A8A0-4CE9-A8CB-D9A9148D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CD06-EF77-4EF7-93FE-49941A25DB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1605600" y="2205000"/>
            <a:ext cx="56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46464"/>
                </a:solidFill>
                <a:latin typeface="汉仪小隶书简"/>
                <a:ea typeface="汉仪小隶书简"/>
              </a:rPr>
              <a:t>水墨中国风完整版</a:t>
            </a:r>
            <a:r>
              <a:rPr b="0" lang="en-US" sz="4000" spc="-1" strike="noStrike">
                <a:solidFill>
                  <a:srgbClr val="646464"/>
                </a:solidFill>
                <a:latin typeface="汉仪小隶书简"/>
                <a:ea typeface="汉仪小隶书简"/>
              </a:rPr>
              <a:t>PPT</a:t>
            </a:r>
            <a:r>
              <a:rPr b="0" lang="zh-CN" sz="4000" spc="-1" strike="noStrike">
                <a:solidFill>
                  <a:srgbClr val="646464"/>
                </a:solidFill>
                <a:latin typeface="汉仪小隶书简"/>
                <a:ea typeface="汉仪小隶书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1067760" y="-2700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46464"/>
                </a:solidFill>
                <a:latin typeface="汉仪小隶书简"/>
                <a:ea typeface="汉仪小隶书简"/>
              </a:rPr>
              <a:t>中国风幻灯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d26900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d26900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08:18:33Z</dcterms:created>
  <dc:creator>LiaXiao</dc:creator>
  <dc:description/>
  <dc:language>en-US</dc:language>
  <cp:lastModifiedBy>yu wang</cp:lastModifiedBy>
  <dcterms:modified xsi:type="dcterms:W3CDTF">2015-08-14T12:51:41Z</dcterms:modified>
  <cp:revision>32</cp:revision>
  <dc:subject/>
  <dc:title>PowerPoint 演示文稿</dc:title>
</cp:coreProperties>
</file>