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click.wav" ContentType="audio/x-wav"/>
  <Override PartName="/ppt/media/image14.jpeg" ContentType="image/jpeg"/>
  <Override PartName="/ppt/media/image8.png" ContentType="image/png"/>
  <Override PartName="/ppt/media/image25.png" ContentType="image/png"/>
  <Override PartName="/ppt/media/image4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png" ContentType="image/png"/>
  <Override PartName="/ppt/media/image26.png" ContentType="image/png"/>
  <Override PartName="/ppt/media/image3.gif" ContentType="image/gif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592-7C6D-4274-B724-60DE3C83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E97-A720-4525-AA40-CA97A5B5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706-874B-4F70-AB44-E3F9A4D0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794-6FE0-4B63-AA9A-275C647D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884-A2DC-48FD-8CC0-9F5A93AE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98E-0DDF-4D8B-9184-CEDA8FC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53A-E79A-4F1A-A3DF-B139AE4A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050-BE00-4553-8403-1186B211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836-09B0-41BD-8AFC-2D726C4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C1C-CFA0-4819-A7FA-C318A68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F84-1205-4065-B604-3DB8364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835-6B6D-4FF3-B87F-86069E0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DDC-D7C4-4C50-A1F8-A32049A62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" Target="slide7.xml"/><Relationship Id="rId4" Type="http://schemas.openxmlformats.org/officeDocument/2006/relationships/image" Target="../media/image11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1066680" y="8380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物医药毕业论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14479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239280" y="3276720"/>
            <a:ext cx="4905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胚胎干细胞（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embryonic stem cell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，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ES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052800" y="19051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885400" y="571500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007080" y="49528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6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2" descr="2007050715231573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80880" y="638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7200" y="41148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4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6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>
              <a:gd name="textAreaLeft" fmla="*/ 365040 w 8077320"/>
              <a:gd name="textAreaRight" fmla="*/ 7711920 w 8077320"/>
              <a:gd name="textAreaTop" fmla="*/ 196200 h 5181480"/>
              <a:gd name="textAreaBottom" fmla="*/ 3941280 h 5181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黑体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黑体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  <a:ea typeface="黑体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>
              <a:gd name="textAreaLeft" fmla="*/ 0 w 609480"/>
              <a:gd name="textAreaRight" fmla="*/ 522360 w 60948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>
              <a:gd name="textAreaLeft" fmla="*/ 0 w 609480"/>
              <a:gd name="textAreaRight" fmla="*/ 522360 w 60948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46" name="AutoShape 5"/>
            <p:cNvSpPr/>
            <p:nvPr/>
          </p:nvSpPr>
          <p:spPr>
            <a:xfrm>
              <a:off x="457200" y="3266280"/>
              <a:ext cx="2638080" cy="343908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080"/>
                <a:gd name="textAreaBottom" fmla="*/ 3304080 h 3439080"/>
              </a:gdLst>
              <a:ahLst/>
              <a:rect l="textAreaLeft" t="textAreaTop" r="textAreaRight" b="textAreaBottom"/>
              <a:pathLst>
                <a:path w="21600" h="28158">
                  <a:moveTo>
                    <a:pt x="3782" y="0"/>
                  </a:moveTo>
                  <a:arcTo wR="3782" hR="3782" stAng="16200000" swAng="-5400000"/>
                  <a:lnTo>
                    <a:pt x="0" y="24376"/>
                  </a:lnTo>
                  <a:arcTo wR="3782" hR="3782" stAng="10800000" swAng="-5400000"/>
                  <a:lnTo>
                    <a:pt x="17818" y="2815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497520" y="3275640"/>
              <a:ext cx="2559240" cy="337464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3374640"/>
                <a:gd name="textAreaBottom" fmla="*/ 3249720 h 3374640"/>
              </a:gdLst>
              <a:ahLst/>
              <a:rect l="textAreaLeft" t="textAreaTop" r="textAreaRight" b="textAreaBottom"/>
              <a:pathLst>
                <a:path w="21600" h="28481">
                  <a:moveTo>
                    <a:pt x="3600" y="0"/>
                  </a:moveTo>
                  <a:arcTo wR="3600" hR="3600" stAng="16200000" swAng="-5400000"/>
                  <a:lnTo>
                    <a:pt x="0" y="24881"/>
                  </a:lnTo>
                  <a:arcTo wR="3600" hR="3600" stAng="10800000" swAng="-5400000"/>
                  <a:lnTo>
                    <a:pt x="18000" y="284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518760" y="576000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518760" y="330264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1382040" y="2905920"/>
                <a:ext cx="740160" cy="730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134892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54972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59" name="AutoShape 18"/>
            <p:cNvSpPr/>
            <p:nvPr/>
          </p:nvSpPr>
          <p:spPr>
            <a:xfrm>
              <a:off x="5791320" y="1365480"/>
              <a:ext cx="2631600" cy="347616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160"/>
                <a:gd name="textAreaBottom" fmla="*/ 3341520 h 3476160"/>
              </a:gdLst>
              <a:ahLst/>
              <a:rect l="textAreaLeft" t="textAreaTop" r="textAreaRight" b="textAreaBottom"/>
              <a:pathLst>
                <a:path w="21600" h="28531">
                  <a:moveTo>
                    <a:pt x="3782" y="0"/>
                  </a:moveTo>
                  <a:arcTo wR="3782" hR="3782" stAng="16200000" swAng="-5400000"/>
                  <a:lnTo>
                    <a:pt x="0" y="24749"/>
                  </a:lnTo>
                  <a:arcTo wR="3782" hR="3782" stAng="10800000" swAng="-5400000"/>
                  <a:lnTo>
                    <a:pt x="17818" y="2853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9"/>
            <p:cNvSpPr/>
            <p:nvPr/>
          </p:nvSpPr>
          <p:spPr>
            <a:xfrm>
              <a:off x="5831280" y="1375200"/>
              <a:ext cx="2552760" cy="3411000"/>
            </a:xfrm>
            <a:custGeom>
              <a:avLst/>
              <a:gdLst>
                <a:gd name="textAreaLeft" fmla="*/ 124560 w 2552760"/>
                <a:gd name="textAreaRight" fmla="*/ 2428200 w 2552760"/>
                <a:gd name="textAreaTop" fmla="*/ 124560 h 3411000"/>
                <a:gd name="textAreaBottom" fmla="*/ 3286440 h 3411000"/>
              </a:gdLst>
              <a:ahLst/>
              <a:rect l="textAreaLeft" t="textAreaTop" r="textAreaRight" b="textAreaBottom"/>
              <a:pathLst>
                <a:path w="21600" h="28861">
                  <a:moveTo>
                    <a:pt x="3600" y="0"/>
                  </a:moveTo>
                  <a:arcTo wR="3600" hR="3600" stAng="16200000" swAng="-5400000"/>
                  <a:lnTo>
                    <a:pt x="0" y="25261"/>
                  </a:lnTo>
                  <a:arcTo wR="3600" hR="3600" stAng="10800000" swAng="-5400000"/>
                  <a:lnTo>
                    <a:pt x="18000" y="28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5852880" y="388620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1"/>
            <p:cNvSpPr/>
            <p:nvPr/>
          </p:nvSpPr>
          <p:spPr>
            <a:xfrm>
              <a:off x="5852880" y="140220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16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714000" y="1001160"/>
                <a:ext cx="738720" cy="73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6722280" y="100836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28"/>
            <p:cNvSpPr/>
            <p:nvPr/>
          </p:nvSpPr>
          <p:spPr>
            <a:xfrm>
              <a:off x="6837120" y="1133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黑体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172" name="AutoShape 31"/>
            <p:cNvSpPr/>
            <p:nvPr/>
          </p:nvSpPr>
          <p:spPr>
            <a:xfrm>
              <a:off x="3124080" y="2348640"/>
              <a:ext cx="2630160" cy="341028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280"/>
                <a:gd name="textAreaBottom" fmla="*/ 3275640 h 3410280"/>
              </a:gdLst>
              <a:ahLst/>
              <a:rect l="textAreaLeft" t="textAreaTop" r="textAreaRight" b="textAreaBottom"/>
              <a:pathLst>
                <a:path w="21600" h="28006">
                  <a:moveTo>
                    <a:pt x="3782" y="0"/>
                  </a:moveTo>
                  <a:arcTo wR="3782" hR="3782" stAng="16200000" swAng="-5400000"/>
                  <a:lnTo>
                    <a:pt x="0" y="24224"/>
                  </a:lnTo>
                  <a:arcTo wR="3782" hR="3782" stAng="10800000" swAng="-5400000"/>
                  <a:lnTo>
                    <a:pt x="17818" y="2800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>
              <a:off x="3164760" y="2358000"/>
              <a:ext cx="2550600" cy="3346200"/>
            </a:xfrm>
            <a:custGeom>
              <a:avLst/>
              <a:gdLst>
                <a:gd name="textAreaLeft" fmla="*/ 124200 w 2550600"/>
                <a:gd name="textAreaRight" fmla="*/ 2426400 w 2550600"/>
                <a:gd name="textAreaTop" fmla="*/ 124200 h 3346200"/>
                <a:gd name="textAreaBottom" fmla="*/ 3222000 h 3346200"/>
              </a:gdLst>
              <a:ahLst/>
              <a:rect l="textAreaLeft" t="textAreaTop" r="textAreaRight" b="textAreaBottom"/>
              <a:pathLst>
                <a:path w="21600" h="28337">
                  <a:moveTo>
                    <a:pt x="3600" y="0"/>
                  </a:moveTo>
                  <a:arcTo wR="3600" hR="3600" stAng="16200000" swAng="-5400000"/>
                  <a:lnTo>
                    <a:pt x="0" y="24737"/>
                  </a:lnTo>
                  <a:arcTo wR="3600" hR="3600" stAng="10800000" swAng="-5400000"/>
                  <a:lnTo>
                    <a:pt x="18000" y="28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185640" y="482148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3185640" y="238464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402876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4036680" y="1986840"/>
              <a:ext cx="756360" cy="742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4046400" y="1990800"/>
              <a:ext cx="739080" cy="72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4054320" y="1998000"/>
              <a:ext cx="70200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4096800" y="2017080"/>
              <a:ext cx="62280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093920" y="2132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  <a:ea typeface="黑体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3216600" y="2890440"/>
              <a:ext cx="250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黑体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2007050715231573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35"/>
          <p:cNvPicPr/>
          <p:nvPr/>
        </p:nvPicPr>
        <p:blipFill>
          <a:blip r:embed="rId3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5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2007060923590813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5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01" name="Group 6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02" name="AutoShape 7"/>
              <p:cNvSpPr/>
              <p:nvPr/>
            </p:nvSpPr>
            <p:spPr>
              <a:xfrm>
                <a:off x="1497600" y="1557720"/>
                <a:ext cx="424368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9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05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12"/>
            <p:cNvGrpSpPr/>
            <p:nvPr/>
          </p:nvGrpSpPr>
          <p:grpSpPr>
            <a:xfrm>
              <a:off x="1733040" y="1820520"/>
              <a:ext cx="3772440" cy="4250160"/>
              <a:chOff x="1733040" y="1820520"/>
              <a:chExt cx="3772440" cy="4250160"/>
            </a:xfrm>
          </p:grpSpPr>
          <p:sp>
            <p:nvSpPr>
              <p:cNvPr id="208" name="Rectangle 13"/>
              <p:cNvSpPr/>
              <p:nvPr/>
            </p:nvSpPr>
            <p:spPr>
              <a:xfrm>
                <a:off x="1820520" y="1820520"/>
                <a:ext cx="359712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1776960" y="1853280"/>
                <a:ext cx="3684240" cy="37908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1733040" y="1895400"/>
                <a:ext cx="3772440" cy="417528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6"/>
            <p:cNvGrpSpPr/>
            <p:nvPr/>
          </p:nvGrpSpPr>
          <p:grpSpPr>
            <a:xfrm>
              <a:off x="2232360" y="1143000"/>
              <a:ext cx="2768040" cy="960120"/>
              <a:chOff x="2232360" y="1143000"/>
              <a:chExt cx="2768040" cy="960120"/>
            </a:xfrm>
          </p:grpSpPr>
          <p:sp>
            <p:nvSpPr>
              <p:cNvPr id="212" name="Freeform 17"/>
              <p:cNvSpPr/>
              <p:nvPr/>
            </p:nvSpPr>
            <p:spPr>
              <a:xfrm>
                <a:off x="2234520" y="1143000"/>
                <a:ext cx="2765880" cy="93924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2232360" y="1164240"/>
                <a:ext cx="276588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3471120" y="1276560"/>
                <a:ext cx="295920" cy="25272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480" y="6370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2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9" descr="20070609235923946"/>
          <p:cNvPicPr/>
          <p:nvPr/>
        </p:nvPicPr>
        <p:blipFill>
          <a:blip r:embed="rId1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1" name="Picture 28" descr="79"/>
          <p:cNvPicPr/>
          <p:nvPr/>
        </p:nvPicPr>
        <p:blipFill>
          <a:blip r:embed="rId2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7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632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9480" y="51055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599840" y="2286000"/>
            <a:ext cx="602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63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990720" y="2209680"/>
            <a:ext cx="7086600" cy="3834000"/>
            <a:chOff x="990720" y="2209680"/>
            <a:chExt cx="7086600" cy="3834000"/>
          </a:xfrm>
        </p:grpSpPr>
        <p:sp>
          <p:nvSpPr>
            <p:cNvPr id="67" name="AutoShape 4"/>
            <p:cNvSpPr/>
            <p:nvPr/>
          </p:nvSpPr>
          <p:spPr>
            <a:xfrm>
              <a:off x="990720" y="2209680"/>
              <a:ext cx="3833640" cy="383400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4000"/>
                <a:gd name="textAreaBottom" fmla="*/ 327204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3700440" y="25401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黑体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4" name="Picture 476" descr="2007050715231573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徐云均 李文聪 刘礼文 钟庆和</dc:creator>
  <dc:description/>
  <dc:language>en-US</dc:language>
  <cp:lastModifiedBy>yu wang</cp:lastModifiedBy>
  <dcterms:modified xsi:type="dcterms:W3CDTF">2015-08-14T12:52:42Z</dcterms:modified>
  <cp:revision>115</cp:revision>
  <dc:subject>医学</dc:subject>
  <dc:title>肝癌VS胚胎干细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