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B2A-FAC7-4D16-AFE0-50FFF81A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45A-85EB-4F67-B3B4-190F5AB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2C1-5BEA-4138-8CF4-7A7131BA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B93-42F1-4D48-90B5-BC799CD2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F04-7A7D-4034-A548-9020EC82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39A-3500-47EC-B704-DE2741EB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3E1A-2979-4801-B791-2826DE7A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C31-D1EE-4ADC-AF46-064FC86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EA66-FDC6-431B-BAE7-E862353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902-98C7-46A2-914B-DB59553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095-C8EC-42C8-BCEC-2569742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6B3-4220-4C54-AFBB-1BB6EBD8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2DB-DE5E-48BF-82D2-1327788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540-EE79-40E5-84CB-42E2C69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F5E-773C-4577-A9E4-F33E16E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AA5F-F918-4014-ACD7-F87B63C8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D2B8-349A-491E-A6E8-13082855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AC9-81CC-4FD9-BDDF-B3C6237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95-B12F-45CB-BCD9-F963FA2B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10C-C1EC-49C1-B034-ECDBDD55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F5D-3738-47C8-B280-84AE99C3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274-1AD7-44F9-8A3B-4B77AF6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11C-8A2F-4888-924B-0BB7FB3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A9A-92B7-452C-8AC1-7DD682C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D3D8BA-787B-4D7A-83F8-9EFFE07F497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A9F53F-E35F-4B3B-9E9D-F20FFC2EF0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23640" y="4725000"/>
            <a:ext cx="9720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绳子上晾晒的五颜六色的衣服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286080" y="55497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72741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52117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3568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1854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001000" y="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5926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29257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0686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72345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354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857160" y="350028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7140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3211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713124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997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140360" y="5715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64976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709164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9292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425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0688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497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713124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67150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068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34257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36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877440" y="1429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4354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49258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"/>
          <p:cNvSpPr/>
          <p:nvPr/>
        </p:nvSpPr>
        <p:spPr>
          <a:xfrm>
            <a:off x="702036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6497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2282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4711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716328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7117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18543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  <Words>288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3:2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