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125-CB20-4D84-ADBA-F8CB0CA3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894-8209-45C8-B28E-DCCD3CD9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080-D4A2-4642-956A-A8D58F9D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847-B833-4A00-8147-0522C18D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FCB-E3BA-4FD8-AEFE-F4E6B14F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CE4-EF9D-461F-A275-DD4EC771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ED4-AA41-432E-933F-A1240B66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404-3327-4B24-A90C-3092E31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AF2-E117-470A-A45D-8700FEB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7ED-C3F4-4417-AF48-A8DD7B1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349-C2CD-4559-B3FD-3AFC399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2C3-25F0-4DD6-B578-05F9202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0C20-F55D-4807-B6D0-5846BA042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9360" y="7920"/>
            <a:ext cx="9144000" cy="661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4"/>
          <a:stretch/>
        </p:blipFill>
        <p:spPr>
          <a:xfrm>
            <a:off x="0" y="4932360"/>
            <a:ext cx="9144000" cy="1928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491508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538360" y="3292560"/>
            <a:ext cx="4067280" cy="3495600"/>
          </a:xfrm>
          <a:prstGeom prst="rect">
            <a:avLst/>
          </a:prstGeom>
          <a:ln w="0">
            <a:noFill/>
          </a:ln>
        </p:spPr>
      </p:pic>
      <p:sp>
        <p:nvSpPr>
          <p:cNvPr id="83" name="矩形 8"/>
          <p:cNvSpPr/>
          <p:nvPr/>
        </p:nvSpPr>
        <p:spPr>
          <a:xfrm>
            <a:off x="1737720" y="1163520"/>
            <a:ext cx="596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团队</a:t>
            </a:r>
            <a:r>
              <a:rPr b="0" lang="en-US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大全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Administrator</dc:creator>
  <dc:description/>
  <dc:language>en-US</dc:language>
  <cp:lastModifiedBy>yu wang</cp:lastModifiedBy>
  <dcterms:modified xsi:type="dcterms:W3CDTF">2015-08-12T14:51:32Z</dcterms:modified>
  <cp:revision>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