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DDBE-3C74-4E26-8B34-683E3D2A5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29B3-AC1C-4999-B445-E9A4EF334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7D55-3BCF-420C-A120-A12E6BC43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E277-35AD-4473-98BB-D0B127E60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3B3C-B3C7-4911-92F4-246AD354C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D09C-C2E0-4ADC-A16B-2B887F28F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2CF0-556B-454E-9EAE-3BFFFBCAF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3CEC-198E-4D32-9581-87F2A2964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8E3F-F623-4E99-B1DB-9E7E88D10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2C0E-456B-4C46-A6C5-5A1A18FFF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9697-1301-4596-A2F0-D087A931E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43B4-CE5C-4160-A9DC-7CF299D0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D1FEB-8179-43AD-8768-5406C19CD62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30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汉仪大宋简"/>
                <a:ea typeface="汉仪大宋简"/>
              </a:rPr>
              <a:t>天空蓝简洁</a:t>
            </a:r>
            <a:r>
              <a:rPr b="0" lang="en-US" sz="4000" spc="-1" strike="noStrike">
                <a:solidFill>
                  <a:srgbClr val="ffffff"/>
                </a:solidFill>
                <a:latin typeface="汉仪大宋简"/>
                <a:ea typeface="汉仪大宋简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汉仪大宋简"/>
                <a:ea typeface="汉仪大宋简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324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000160" y="274320"/>
            <a:ext cx="6686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595959"/>
                </a:solidFill>
                <a:latin typeface="Calibri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000160" y="1600200"/>
            <a:ext cx="668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95959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95959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2680" y="64260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595959"/>
                </a:solidFill>
                <a:latin typeface="Calibri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968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95959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95959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832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  <a:ea typeface="宋体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  <a:ea typeface="宋体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  <a:ea typeface="宋体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  <a:ea typeface="宋体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  <a:ea typeface="宋体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  <a:ea typeface="宋体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  <a:ea typeface="宋体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9T09:02:09Z</dcterms:created>
  <dc:creator>Administrators</dc:creator>
  <dc:description/>
  <dc:language>en-US</dc:language>
  <cp:lastModifiedBy>yu wang</cp:lastModifiedBy>
  <dcterms:modified xsi:type="dcterms:W3CDTF">2015-08-14T12:50:48Z</dcterms:modified>
  <cp:revision>5</cp:revision>
  <dc:subject/>
  <dc:title>PRESENTATION  NAME</dc:title>
</cp:coreProperties>
</file>