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C2B-C67D-4F6A-91C3-66B71A83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297-FF86-46D2-8E36-89DDEFE6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046-D16A-4E37-9DDF-6FB0E15C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CFC-CAB9-49C0-8C83-68C76D70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301-5BCC-47A2-9276-16061AAC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8C3-EED8-4707-B09E-CCA114F9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1E8-BD10-4C60-8EC3-746C90CD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968-84CB-4319-88D2-9F070D2D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FAD-BC10-4F94-AF24-12ECDEDC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6DC-FE0A-4711-981D-349D8C7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DF5-1C89-4123-98AE-C2CECAE7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A91-4BDB-49DA-9531-E1C04598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561B-B344-406F-B911-3D4FACE14D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979640" y="1000080"/>
            <a:ext cx="71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庭院院墙的梅花中国风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43720" y="19065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4929120" y="1855800"/>
            <a:ext cx="3214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426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62125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926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640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3549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426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11280" y="6165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997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854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50:59Z</dcterms:modified>
  <cp:revision>109</cp:revision>
  <dc:subject/>
  <dc:title>幻灯片 1</dc:title>
</cp:coreProperties>
</file>