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086-CD32-42C7-9022-25B2F0DC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792-E902-49D9-8154-FB18F60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EC5-8A3D-41D7-A808-B0454642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9AF-6A98-4AD8-8A52-993053B4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14FC-87E1-4DDA-ADB7-3B6180B5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AC91-55B1-45E8-A7A6-1A9BFD60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681E-5D2F-4008-971E-5AA2B1D7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D124-631A-4410-9364-1EC59C28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656A-9318-4D96-8C4C-CEC312CA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4C7B-3ECE-4105-B1C2-1BB3E19D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62AE-4C73-4AF4-AD12-DD4E404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A12-D5B0-4EFC-8BF6-2DF30BD0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6B6E-E9AC-4091-B20D-A96D3B9B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E031-1138-43A5-8843-4E976AD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2E4A-4A97-4C66-8C38-3B4A0A7F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1A8E-C837-4B26-802A-A22F74D9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B930-A31E-40B1-86D0-4D9C47F3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EE4-0DD2-47DA-8255-F08D4B07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7D7-3D7C-4F40-ACC3-F404FCCC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860-C3D7-4250-BEBB-FB900A72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980-8E1F-4EF4-8CA1-66E92B8A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193-C0F8-42AF-946D-4B917921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2CE-95E8-4A50-9577-593A6F6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521-4F08-4B19-AAF8-35E235C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0A5820-3C25-41D5-84A6-1E3B1FEC601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9C7E09-8D98-4529-A8BA-80FAF7A560F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www.cisco.com/web/services/portfolio/optimization/network-optimization-nos/index.html" TargetMode="External"/><Relationship Id="rId5" Type="http://schemas.openxmlformats.org/officeDocument/2006/relationships/hyperlink" Target="http://www.cisco.com/web/services/portfolio/optimization/network-optimization-nos/index.html" TargetMode="External"/><Relationship Id="rId6" Type="http://schemas.openxmlformats.org/officeDocument/2006/relationships/hyperlink" Target="http://www.cisco.com/web/services/portfolio/optimization/network-optimization-nos/index.html" TargetMode="External"/><Relationship Id="rId7" Type="http://schemas.openxmlformats.org/officeDocument/2006/relationships/hyperlink" Target="http://www.cisco.com/c/en/us/products/security/service-listing.html" TargetMode="External"/><Relationship Id="rId8" Type="http://schemas.openxmlformats.org/officeDocument/2006/relationships/hyperlink" Target="http://www.cisco.com/c/en/us/products/security/service-listing.html" TargetMode="External"/><Relationship Id="rId9" Type="http://schemas.openxmlformats.org/officeDocument/2006/relationships/hyperlink" Target="http://www.cisco.com/c/en/us/products/security/service-listing.html" TargetMode="External"/><Relationship Id="rId10" Type="http://schemas.openxmlformats.org/officeDocument/2006/relationships/hyperlink" Target="http://www.cisco.com/c/en/us/products/security/service-listing.html" TargetMode="External"/><Relationship Id="rId11" Type="http://schemas.openxmlformats.org/officeDocument/2006/relationships/hyperlink" Target="http://www.cisco.com/c/en/us/products/security/service-listing.html" TargetMode="External"/><Relationship Id="rId12" Type="http://schemas.openxmlformats.org/officeDocument/2006/relationships/hyperlink" Target="http://www.cisco.com/c/en/us/products/security/service-listing.html" TargetMode="External"/><Relationship Id="rId1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sco.com/web/offers/lp/2015-annual-security-report/index.html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www.cisco.com/web/services/portfolio/documents/security-optimization-service-aag.pdf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www.cisco.com/web/services/portfolio/documents/managed-threat-defense-service.pdf" TargetMode="External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hyperlink" Target="http://tools.cisco.com/gems/cust/customerSite.do?METHOD=E&amp;LANGUAGE_ID=E&amp;PRIORITY_CODE=000310287&amp;SEMINAR_CODE=S22120" TargetMode="External"/><Relationship Id="rId4" Type="http://schemas.openxmlformats.org/officeDocument/2006/relationships/hyperlink" Target="http://tools.cisco.com/gems/cust/customerSite.do?METHOD=E&amp;LANGUAGE_ID=E&amp;PRIORITY_CODE=000310287&amp;SEMINAR_CODE=S22120" TargetMode="External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8115480" y="304920"/>
            <a:ext cx="748800" cy="43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765760" y="1092240"/>
            <a:ext cx="3377880" cy="405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176840" y="971640"/>
            <a:ext cx="599040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584280"/>
                <a:tab algn="l" pos="86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网络科技安全产品演示说明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22480" y="4764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380880" y="1854360"/>
            <a:ext cx="1802880" cy="1879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2540160" y="1854360"/>
            <a:ext cx="1828440" cy="1879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4749840" y="1854360"/>
            <a:ext cx="1802880" cy="187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934320" y="1854360"/>
            <a:ext cx="1802880" cy="1866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586160" y="482760"/>
            <a:ext cx="5971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does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a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like?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332280" y="3898800"/>
            <a:ext cx="165960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546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1"/>
              </a:lnSpc>
              <a:tabLst>
                <a:tab algn="l" pos="54612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3148560" y="3924360"/>
            <a:ext cx="636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5236200" y="3924360"/>
            <a:ext cx="830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7214040" y="3911760"/>
            <a:ext cx="135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7621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Reco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76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2697120" y="2697120"/>
            <a:ext cx="3737520" cy="88560"/>
          </a:xfrm>
          <a:custGeom>
            <a:avLst/>
            <a:gdLst>
              <a:gd name="textAreaLeft" fmla="*/ 0 w 3737520"/>
              <a:gd name="textAreaRight" fmla="*/ 3737880 w 373752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3737736" h="88900">
                <a:moveTo>
                  <a:pt x="22225" y="22225"/>
                </a:moveTo>
                <a:lnTo>
                  <a:pt x="3715511" y="22225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2701800" y="2806560"/>
            <a:ext cx="88560" cy="606240"/>
          </a:xfrm>
          <a:custGeom>
            <a:avLst/>
            <a:gdLst>
              <a:gd name="textAreaLeft" fmla="*/ 0 w 88560"/>
              <a:gd name="textAreaRight" fmla="*/ 88920 w 8856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88900" h="606425">
                <a:moveTo>
                  <a:pt x="22225" y="22225"/>
                </a:moveTo>
                <a:lnTo>
                  <a:pt x="22225" y="584200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4559400" y="2921040"/>
            <a:ext cx="88560" cy="606240"/>
          </a:xfrm>
          <a:custGeom>
            <a:avLst/>
            <a:gdLst>
              <a:gd name="textAreaLeft" fmla="*/ 0 w 88560"/>
              <a:gd name="textAreaRight" fmla="*/ 88920 w 8856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88900" h="606425">
                <a:moveTo>
                  <a:pt x="22225" y="22225"/>
                </a:moveTo>
                <a:lnTo>
                  <a:pt x="22225" y="584200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6330960" y="2806560"/>
            <a:ext cx="88560" cy="606240"/>
          </a:xfrm>
          <a:custGeom>
            <a:avLst/>
            <a:gdLst>
              <a:gd name="textAreaLeft" fmla="*/ 0 w 88560"/>
              <a:gd name="textAreaRight" fmla="*/ 88920 w 8856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88900" h="606425">
                <a:moveTo>
                  <a:pt x="22225" y="22225"/>
                </a:moveTo>
                <a:lnTo>
                  <a:pt x="22225" y="584200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1333440"/>
            <a:ext cx="9143640" cy="1701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2070000" y="3174840"/>
            <a:ext cx="1320480" cy="1333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3924360" y="3187800"/>
            <a:ext cx="1320480" cy="1320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4"/>
          <a:stretch/>
        </p:blipFill>
        <p:spPr>
          <a:xfrm>
            <a:off x="5702400" y="3174840"/>
            <a:ext cx="1333080" cy="13204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3183480" y="482760"/>
            <a:ext cx="2776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Uncovering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2360160" y="4546440"/>
            <a:ext cx="66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4236840" y="4546440"/>
            <a:ext cx="670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5767920" y="4546440"/>
            <a:ext cx="1278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819520" y="965160"/>
            <a:ext cx="6222600" cy="41778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359000" y="482760"/>
            <a:ext cx="642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Prioritiz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Based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2775600" y="3102840"/>
            <a:ext cx="3682800" cy="871920"/>
          </a:xfrm>
          <a:custGeom>
            <a:avLst/>
            <a:gdLst>
              <a:gd name="textAreaLeft" fmla="*/ 0 w 3682800"/>
              <a:gd name="textAreaRight" fmla="*/ 3683160 w 3682800"/>
              <a:gd name="textAreaTop" fmla="*/ 0 h 871920"/>
              <a:gd name="textAreaBottom" fmla="*/ 872280 h 871920"/>
            </a:gdLst>
            <a:ahLst/>
            <a:rect l="textAreaLeft" t="textAreaTop" r="textAreaRight" b="textAreaBottom"/>
            <a:pathLst>
              <a:path w="3683000" h="872108">
                <a:moveTo>
                  <a:pt x="12700" y="436118"/>
                </a:moveTo>
                <a:cubicBezTo>
                  <a:pt x="12700" y="202311"/>
                  <a:pt x="831469" y="12700"/>
                  <a:pt x="1841500" y="12700"/>
                </a:cubicBezTo>
                <a:cubicBezTo>
                  <a:pt x="2851530" y="12700"/>
                  <a:pt x="3670300" y="202311"/>
                  <a:pt x="3670300" y="436118"/>
                </a:cubicBezTo>
                <a:cubicBezTo>
                  <a:pt x="3670300" y="669924"/>
                  <a:pt x="2851530" y="859408"/>
                  <a:pt x="1841500" y="859408"/>
                </a:cubicBezTo>
                <a:cubicBezTo>
                  <a:pt x="831469" y="859408"/>
                  <a:pt x="12700" y="669924"/>
                  <a:pt x="12700" y="436118"/>
                </a:cubicBezTo>
              </a:path>
            </a:pathLst>
          </a:custGeom>
          <a:noFill/>
          <a:ln>
            <a:solidFill>
              <a:srgbClr val="f26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2819520" y="965160"/>
            <a:ext cx="6222600" cy="4177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2323080" y="482760"/>
            <a:ext cx="4497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Develop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Framework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3640" cy="1434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927000" y="520560"/>
            <a:ext cx="8216640" cy="46224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2375280" y="482760"/>
            <a:ext cx="4393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emediatio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4566600" y="3358800"/>
            <a:ext cx="88560" cy="450360"/>
          </a:xfrm>
          <a:custGeom>
            <a:avLst/>
            <a:gdLst>
              <a:gd name="textAreaLeft" fmla="*/ 0 w 88560"/>
              <a:gd name="textAreaRight" fmla="*/ 88920 w 8856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88900" h="450850">
                <a:moveTo>
                  <a:pt x="22225" y="22225"/>
                </a:moveTo>
                <a:lnTo>
                  <a:pt x="22225" y="428625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6422040" y="3303720"/>
            <a:ext cx="88560" cy="547200"/>
          </a:xfrm>
          <a:custGeom>
            <a:avLst/>
            <a:gdLst>
              <a:gd name="textAreaLeft" fmla="*/ 0 w 88560"/>
              <a:gd name="textAreaRight" fmla="*/ 88920 w 885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88900" h="547497">
                <a:moveTo>
                  <a:pt x="22225" y="22225"/>
                </a:moveTo>
                <a:lnTo>
                  <a:pt x="22225" y="525271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2697840" y="3351240"/>
            <a:ext cx="88560" cy="547200"/>
          </a:xfrm>
          <a:custGeom>
            <a:avLst/>
            <a:gdLst>
              <a:gd name="textAreaLeft" fmla="*/ 0 w 88560"/>
              <a:gd name="textAreaRight" fmla="*/ 88920 w 885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88900" h="547497">
                <a:moveTo>
                  <a:pt x="22225" y="22225"/>
                </a:moveTo>
                <a:lnTo>
                  <a:pt x="22225" y="525271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3640" cy="1434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2209680" y="3936960"/>
            <a:ext cx="990360" cy="83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3581280" y="3860640"/>
            <a:ext cx="2031480" cy="926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943600" y="3860640"/>
            <a:ext cx="1510920" cy="9140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2306520" y="482760"/>
            <a:ext cx="4530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Protectio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b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egmentation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2347560" y="1587600"/>
            <a:ext cx="66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4236840" y="1587600"/>
            <a:ext cx="670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5806080" y="1587600"/>
            <a:ext cx="1278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4566600" y="3358800"/>
            <a:ext cx="88560" cy="450360"/>
          </a:xfrm>
          <a:custGeom>
            <a:avLst/>
            <a:gdLst>
              <a:gd name="textAreaLeft" fmla="*/ 0 w 88560"/>
              <a:gd name="textAreaRight" fmla="*/ 88920 w 8856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88900" h="450850">
                <a:moveTo>
                  <a:pt x="22225" y="22225"/>
                </a:moveTo>
                <a:lnTo>
                  <a:pt x="22225" y="428625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6422040" y="3303720"/>
            <a:ext cx="88560" cy="547200"/>
          </a:xfrm>
          <a:custGeom>
            <a:avLst/>
            <a:gdLst>
              <a:gd name="textAreaLeft" fmla="*/ 0 w 88560"/>
              <a:gd name="textAreaRight" fmla="*/ 88920 w 885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88900" h="547497">
                <a:moveTo>
                  <a:pt x="22225" y="22225"/>
                </a:moveTo>
                <a:lnTo>
                  <a:pt x="22225" y="525271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2697840" y="3351240"/>
            <a:ext cx="88560" cy="547200"/>
          </a:xfrm>
          <a:custGeom>
            <a:avLst/>
            <a:gdLst>
              <a:gd name="textAreaLeft" fmla="*/ 0 w 88560"/>
              <a:gd name="textAreaRight" fmla="*/ 88920 w 885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88900" h="547497">
                <a:moveTo>
                  <a:pt x="22225" y="22225"/>
                </a:moveTo>
                <a:lnTo>
                  <a:pt x="22225" y="525271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3640" cy="143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2209680" y="3720960"/>
            <a:ext cx="1104480" cy="1053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581280" y="3720960"/>
            <a:ext cx="2031480" cy="1066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4"/>
          <a:stretch/>
        </p:blipFill>
        <p:spPr>
          <a:xfrm>
            <a:off x="5943600" y="3708360"/>
            <a:ext cx="1510920" cy="10663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2698560" y="482760"/>
            <a:ext cx="3759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Validat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emoval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2347560" y="1587600"/>
            <a:ext cx="66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4236840" y="1587600"/>
            <a:ext cx="670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5806080" y="1587600"/>
            <a:ext cx="1278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55680" y="1117440"/>
            <a:ext cx="8470440" cy="40255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6827040" y="3403440"/>
            <a:ext cx="886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orit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3908520" y="4813200"/>
            <a:ext cx="9705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di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839880" y="3403440"/>
            <a:ext cx="1570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id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ov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1684080" y="482760"/>
            <a:ext cx="576216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  <a:tabLst>
                <a:tab algn="l" pos="2476440"/>
              </a:tabLst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ecap: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Vulnerabil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Lifecycle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247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dent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704160" y="47156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1117440" y="1943280"/>
            <a:ext cx="1802880" cy="1802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3657600" y="1930320"/>
            <a:ext cx="1802880" cy="1802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6197760" y="1943280"/>
            <a:ext cx="1802880" cy="18028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2622960" y="457200"/>
            <a:ext cx="3872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Cisco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1391040" y="3873600"/>
            <a:ext cx="1231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190440"/>
                <a:tab algn="l" pos="22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4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  <a:tab algn="l" pos="2286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5"/>
              </a:rPr>
              <a:t>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  <a:tab algn="l" pos="22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6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3956400" y="3898800"/>
            <a:ext cx="1231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190440"/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7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  <a:tab algn="l" pos="2160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8"/>
              </a:rPr>
              <a:t>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9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6686280" y="3898800"/>
            <a:ext cx="901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10"/>
              </a:rPr>
              <a:t>Man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11"/>
              </a:rPr>
              <a:t>Thr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12"/>
              </a:rPr>
              <a:t>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6023520" y="1485360"/>
            <a:ext cx="2785680" cy="2226960"/>
          </a:xfrm>
          <a:custGeom>
            <a:avLst/>
            <a:gdLst>
              <a:gd name="textAreaLeft" fmla="*/ 0 w 2785680"/>
              <a:gd name="textAreaRight" fmla="*/ 2786040 w 2785680"/>
              <a:gd name="textAreaTop" fmla="*/ 0 h 2226960"/>
              <a:gd name="textAreaBottom" fmla="*/ 2227320 h 2226960"/>
            </a:gdLst>
            <a:ahLst/>
            <a:rect l="textAreaLeft" t="textAreaTop" r="textAreaRight" b="textAreaBottom"/>
            <a:pathLst>
              <a:path w="2785872" h="2227198">
                <a:moveTo>
                  <a:pt x="38100" y="2189098"/>
                </a:moveTo>
                <a:lnTo>
                  <a:pt x="2747772" y="2189098"/>
                </a:lnTo>
                <a:lnTo>
                  <a:pt x="2747772" y="38100"/>
                </a:lnTo>
                <a:lnTo>
                  <a:pt x="38100" y="38100"/>
                </a:lnTo>
                <a:lnTo>
                  <a:pt x="38100" y="2189098"/>
                </a:lnTo>
              </a:path>
            </a:pathLst>
          </a:custGeom>
          <a:noFill/>
          <a:ln w="76200">
            <a:solidFill>
              <a:srgbClr val="f26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321840" y="1485360"/>
            <a:ext cx="2803680" cy="2241360"/>
          </a:xfrm>
          <a:custGeom>
            <a:avLst/>
            <a:gdLst>
              <a:gd name="textAreaLeft" fmla="*/ 0 w 2803680"/>
              <a:gd name="textAreaRight" fmla="*/ 2804040 w 280368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804032" h="2241550">
                <a:moveTo>
                  <a:pt x="38100" y="2203450"/>
                </a:moveTo>
                <a:lnTo>
                  <a:pt x="2765932" y="2203450"/>
                </a:lnTo>
                <a:lnTo>
                  <a:pt x="2765932" y="38100"/>
                </a:lnTo>
                <a:lnTo>
                  <a:pt x="38100" y="38100"/>
                </a:lnTo>
                <a:lnTo>
                  <a:pt x="38100" y="2203450"/>
                </a:lnTo>
              </a:path>
            </a:pathLst>
          </a:custGeom>
          <a:noFill/>
          <a:ln w="76200">
            <a:solidFill>
              <a:srgbClr val="f26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3181680" y="1485360"/>
            <a:ext cx="2785680" cy="2226960"/>
          </a:xfrm>
          <a:custGeom>
            <a:avLst/>
            <a:gdLst>
              <a:gd name="textAreaLeft" fmla="*/ 0 w 2785680"/>
              <a:gd name="textAreaRight" fmla="*/ 2786040 w 2785680"/>
              <a:gd name="textAreaTop" fmla="*/ 0 h 2226960"/>
              <a:gd name="textAreaBottom" fmla="*/ 2227320 h 2226960"/>
            </a:gdLst>
            <a:ahLst/>
            <a:rect l="textAreaLeft" t="textAreaTop" r="textAreaRight" b="textAreaBottom"/>
            <a:pathLst>
              <a:path w="2785872" h="2227198">
                <a:moveTo>
                  <a:pt x="38100" y="2189098"/>
                </a:moveTo>
                <a:lnTo>
                  <a:pt x="2747772" y="2189098"/>
                </a:lnTo>
                <a:lnTo>
                  <a:pt x="2747772" y="38100"/>
                </a:lnTo>
                <a:lnTo>
                  <a:pt x="38100" y="38100"/>
                </a:lnTo>
                <a:lnTo>
                  <a:pt x="38100" y="2189098"/>
                </a:lnTo>
              </a:path>
            </a:pathLst>
          </a:custGeom>
          <a:noFill/>
          <a:ln w="76200">
            <a:solidFill>
              <a:srgbClr val="f26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160" y="1460520"/>
            <a:ext cx="2933280" cy="2374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51160" y="1549440"/>
            <a:ext cx="2653920" cy="20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56200" y="1460520"/>
            <a:ext cx="2920680" cy="23619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3726720" y="444600"/>
            <a:ext cx="1677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Resources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703080" y="3975120"/>
            <a:ext cx="1971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s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77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3424320" y="3975120"/>
            <a:ext cx="2256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63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63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-A-G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6326640" y="3975120"/>
            <a:ext cx="22309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266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266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e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-A-G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3029040" y="1638360"/>
            <a:ext cx="3085920" cy="308592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085920"/>
              <a:gd name="textAreaBottom" fmla="*/ 3086280 h 3085920"/>
            </a:gdLst>
            <a:ahLst/>
            <a:rect l="textAreaLeft" t="textAreaTop" r="textAreaRight" b="textAreaBottom"/>
            <a:pathLst>
              <a:path w="3086100" h="3086100">
                <a:moveTo>
                  <a:pt x="19050" y="1543050"/>
                </a:moveTo>
                <a:cubicBezTo>
                  <a:pt x="19050" y="701420"/>
                  <a:pt x="701421" y="19050"/>
                  <a:pt x="1543050" y="19050"/>
                </a:cubicBezTo>
                <a:cubicBezTo>
                  <a:pt x="2384678" y="19050"/>
                  <a:pt x="3067050" y="701420"/>
                  <a:pt x="3067050" y="1543050"/>
                </a:cubicBezTo>
                <a:cubicBezTo>
                  <a:pt x="3067050" y="2384729"/>
                  <a:pt x="2384678" y="3067050"/>
                  <a:pt x="1543050" y="3067050"/>
                </a:cubicBezTo>
                <a:cubicBezTo>
                  <a:pt x="701421" y="3067050"/>
                  <a:pt x="19050" y="2384729"/>
                  <a:pt x="19050" y="1543050"/>
                </a:cubicBez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263760" y="1346040"/>
            <a:ext cx="1015560" cy="1002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425680" y="2641680"/>
            <a:ext cx="1015560" cy="100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3263760" y="3936960"/>
            <a:ext cx="1015560" cy="100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4863960" y="1346040"/>
            <a:ext cx="1015560" cy="100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5"/>
          <a:stretch/>
        </p:blipFill>
        <p:spPr>
          <a:xfrm>
            <a:off x="5791320" y="2641680"/>
            <a:ext cx="1002960" cy="100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6"/>
          <a:stretch/>
        </p:blipFill>
        <p:spPr>
          <a:xfrm>
            <a:off x="5016600" y="3936960"/>
            <a:ext cx="1015560" cy="1002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2168280" y="1803240"/>
            <a:ext cx="9842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974560" y="1803240"/>
            <a:ext cx="1372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t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946800" y="3048120"/>
            <a:ext cx="21438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  <a:tabLst>
                <a:tab algn="l" pos="266760"/>
                <a:tab algn="l" pos="838080"/>
                <a:tab algn="l" pos="1181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66760"/>
                <a:tab algn="l" pos="838080"/>
                <a:tab algn="l" pos="1181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266760"/>
                <a:tab algn="l" pos="838080"/>
                <a:tab algn="l" pos="1181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66760"/>
                <a:tab algn="l" pos="838080"/>
                <a:tab algn="l" pos="1181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6178320" y="3048120"/>
            <a:ext cx="2159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  <a:tabLst>
                <a:tab algn="l" pos="177840"/>
                <a:tab algn="l" pos="762120"/>
                <a:tab algn="l" pos="1079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177840"/>
                <a:tab algn="l" pos="762120"/>
                <a:tab algn="l" pos="1079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177840"/>
                <a:tab algn="l" pos="762120"/>
                <a:tab algn="l" pos="1079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177840"/>
                <a:tab algn="l" pos="762120"/>
                <a:tab algn="l" pos="1079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cy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4005720" y="2692440"/>
            <a:ext cx="1195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839400" y="3060720"/>
            <a:ext cx="15282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  <a:tabLst>
                <a:tab algn="l" pos="279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151560" y="177840"/>
            <a:ext cx="807840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  <a:tabLst>
                <a:tab algn="l" pos="749160"/>
                <a:tab algn="l" pos="1612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An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Optimized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Network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i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the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26240"/>
                </a:solidFill>
                <a:latin typeface="微软雅黑"/>
              </a:rPr>
              <a:t>Foundation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for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749160"/>
                <a:tab algn="l" pos="1612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Busines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Innovation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&amp;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Outcomes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49160"/>
                <a:tab algn="l" pos="161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49160"/>
                <a:tab algn="l" pos="161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49160"/>
                <a:tab algn="l" pos="161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749160"/>
                <a:tab algn="l" pos="1612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scoSmart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4272840" y="2759040"/>
            <a:ext cx="4498200" cy="1133640"/>
          </a:xfrm>
          <a:custGeom>
            <a:avLst/>
            <a:gdLst>
              <a:gd name="textAreaLeft" fmla="*/ 0 w 4498200"/>
              <a:gd name="textAreaRight" fmla="*/ 4498560 w 4498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4498594" h="1133868">
                <a:moveTo>
                  <a:pt x="6350" y="193167"/>
                </a:moveTo>
                <a:cubicBezTo>
                  <a:pt x="6350" y="89916"/>
                  <a:pt x="90042" y="6350"/>
                  <a:pt x="193294" y="6350"/>
                </a:cubicBezTo>
                <a:lnTo>
                  <a:pt x="4305300" y="6350"/>
                </a:lnTo>
                <a:cubicBezTo>
                  <a:pt x="4408551" y="6350"/>
                  <a:pt x="4492244" y="89916"/>
                  <a:pt x="4492244" y="193167"/>
                </a:cubicBezTo>
                <a:lnTo>
                  <a:pt x="4492244" y="940689"/>
                </a:lnTo>
                <a:cubicBezTo>
                  <a:pt x="4492244" y="1043813"/>
                  <a:pt x="4408551" y="1127518"/>
                  <a:pt x="4305300" y="1127518"/>
                </a:cubicBezTo>
                <a:lnTo>
                  <a:pt x="193294" y="1127518"/>
                </a:lnTo>
                <a:cubicBezTo>
                  <a:pt x="90042" y="1127518"/>
                  <a:pt x="6350" y="1043813"/>
                  <a:pt x="6350" y="940689"/>
                </a:cubicBezTo>
                <a:lnTo>
                  <a:pt x="6350" y="193167"/>
                </a:lnTo>
              </a:path>
            </a:pathLst>
          </a:custGeom>
          <a:noFill/>
          <a:ln w="12700">
            <a:solidFill>
              <a:srgbClr val="f79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74720" y="1270080"/>
            <a:ext cx="3098520" cy="308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4216320" y="2730600"/>
            <a:ext cx="4609800" cy="12315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2273760" y="190440"/>
            <a:ext cx="613656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201"/>
              </a:lnSpc>
              <a:tabLst>
                <a:tab algn="l" pos="2197080"/>
                <a:tab algn="l" pos="2387520"/>
              </a:tabLst>
            </a:pPr>
            <a:r>
              <a:rPr b="0" lang="en-US" sz="4600" spc="-1" strike="noStrike">
                <a:solidFill>
                  <a:srgbClr val="4fc4d0"/>
                </a:solidFill>
                <a:latin typeface="Times New Roman"/>
              </a:rPr>
              <a:t>Learn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600" spc="-1" strike="noStrike">
                <a:solidFill>
                  <a:srgbClr val="4fc4d0"/>
                </a:solidFill>
                <a:latin typeface="Times New Roman"/>
              </a:rPr>
              <a:t>Mor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600" spc="-1" strike="noStrike">
                <a:solidFill>
                  <a:srgbClr val="4fc4d0"/>
                </a:solidFill>
                <a:latin typeface="Times New Roman"/>
              </a:rPr>
              <a:t>Abou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01"/>
              </a:lnSpc>
              <a:tabLst>
                <a:tab algn="l" pos="2197080"/>
                <a:tab algn="l" pos="2387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2197080"/>
                <a:tab algn="l" pos="2387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"/>
              </a:rPr>
              <a:t>30-M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4"/>
              </a:rPr>
              <a:t>WEBI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320840" y="1028880"/>
            <a:ext cx="3085920" cy="3085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108040" y="2082960"/>
            <a:ext cx="169560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</a:pPr>
            <a:r>
              <a:rPr b="0" lang="en-US" sz="399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3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554400" y="393840"/>
            <a:ext cx="762804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201"/>
              </a:lnSpc>
              <a:tabLst>
                <a:tab algn="l" pos="3327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600" spc="-1" strike="noStrike">
                <a:solidFill>
                  <a:srgbClr val="4fc4d0"/>
                </a:solidFill>
                <a:latin typeface="Times New Roman"/>
              </a:rPr>
              <a:t>Agend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3327480"/>
              </a:tabLst>
            </a:pP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Asses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evolv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ecur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3327480"/>
              </a:tabLst>
            </a:pP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Maintain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ecur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pos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3327480"/>
              </a:tabLst>
            </a:pP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ecur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ervic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hel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prepa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595520" y="2171880"/>
            <a:ext cx="611784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  <a:tabLst>
                <a:tab algn="l" pos="1346040"/>
              </a:tabLst>
            </a:pP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Whe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was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th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last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tim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you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validated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134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your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secur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posture?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3640" cy="1841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689120" y="380880"/>
            <a:ext cx="56638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Do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you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know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what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weak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link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are?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57200" y="44514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55680" y="1117440"/>
            <a:ext cx="8470440" cy="40255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6827040" y="3403440"/>
            <a:ext cx="886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orit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908520" y="4813200"/>
            <a:ext cx="9705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di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839880" y="3403440"/>
            <a:ext cx="1570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id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ov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2307960" y="482760"/>
            <a:ext cx="452772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  <a:tabLst>
                <a:tab algn="l" pos="1778040"/>
              </a:tabLst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Vulnerabil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Lifecycle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778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dent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281680" y="2982240"/>
            <a:ext cx="5126760" cy="88560"/>
          </a:xfrm>
          <a:custGeom>
            <a:avLst/>
            <a:gdLst>
              <a:gd name="textAreaLeft" fmla="*/ 0 w 5126760"/>
              <a:gd name="textAreaRight" fmla="*/ 5127120 w 512676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5127116" h="88900">
                <a:moveTo>
                  <a:pt x="22225" y="22225"/>
                </a:moveTo>
                <a:lnTo>
                  <a:pt x="5104891" y="22225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84280" y="1930320"/>
            <a:ext cx="2082600" cy="206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3225960" y="1562040"/>
            <a:ext cx="2653920" cy="2679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6451560" y="1930320"/>
            <a:ext cx="2069640" cy="20826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1394280" y="482760"/>
            <a:ext cx="6367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Validat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Current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993240" y="4165560"/>
            <a:ext cx="126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6840720" y="4127400"/>
            <a:ext cx="126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Desi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3912480" y="4368960"/>
            <a:ext cx="126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rate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117440" y="1943280"/>
            <a:ext cx="1802880" cy="1802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3657600" y="1930320"/>
            <a:ext cx="1802880" cy="180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3"/>
          <a:stretch/>
        </p:blipFill>
        <p:spPr>
          <a:xfrm>
            <a:off x="6197760" y="1943280"/>
            <a:ext cx="1802880" cy="1802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445400" y="3886200"/>
            <a:ext cx="1135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76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Peri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763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3998160" y="3898800"/>
            <a:ext cx="1135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177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77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6432480" y="3898800"/>
            <a:ext cx="14353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152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De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776600" y="482760"/>
            <a:ext cx="559044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  <a:tabLst>
                <a:tab algn="l" pos="2082960"/>
              </a:tabLst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Assess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Based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Needs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082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082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082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082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2082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ssess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自定义 4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自定义 4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Words>559</Words>
  <Paragraphs>2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12T14:55:1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1</vt:r8>
  </property>
</Properties>
</file>