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161F-75BB-4735-88B0-F428A85B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E49-C3D3-4060-AB7C-0B704877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02C-D2A5-44A7-A330-47ADF25D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5A78-46F6-4471-B7B6-9ED7D9CA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310A-5EC0-4EF3-BC29-2F4E4BE8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A018-F8D5-456F-98D2-CD923593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032D-FB29-4A2D-8668-3ED03195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561F-1EBA-424A-A3CA-3E36D2CF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39DE-56F4-4EB9-8D61-C8271F3E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8DC7-7D2C-4DB7-9589-C6DE5758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B72B-DA56-4A47-B6B3-35CD2906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C4C-0DC1-4D61-8E2E-F411966F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50DD-6BE1-4699-9746-2EC4039E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E1EA-D86A-485F-A435-C04C92B3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B7B4-8200-48C7-94C1-9A7E3D06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EE41-3C81-4052-B69A-E3F23D5A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83F8-BD35-4BF9-8349-FC14E267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EBD6-4E2A-4096-844D-84C0EAA9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F6F-63CF-4DF6-A370-565CD600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52A-20B8-44E7-A1B5-D657C1E3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F5E-495F-4DF6-BFFC-4C89DDE1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3D6-B1A4-41B1-9BE1-2E7C7554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88B-41BA-4B30-8A9C-3FE1CD60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86B-5E9D-4FD6-A746-3C93823A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20091226_ded7f797d7c1f73b7b40Ufsw3Ykaj0qB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627280" y="1969920"/>
            <a:ext cx="6516720" cy="4888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B793-731C-4C76-B47D-C1764C15A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20091120_ee26936737ff5900b03bIADRHHPTXbA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C68D-13D2-4FCE-84F7-448B527FC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23640" y="4292280"/>
            <a:ext cx="730908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汉仪大黑简"/>
                <a:ea typeface="汉仪大黑简"/>
              </a:rPr>
              <a:t>唯美中国风</a:t>
            </a:r>
            <a:r>
              <a:rPr b="0" lang="en-US" sz="4000" spc="-1" strike="noStrike">
                <a:solidFill>
                  <a:srgbClr val="c00000"/>
                </a:solidFill>
                <a:latin typeface="汉仪大黑简"/>
                <a:ea typeface="汉仪大黑简"/>
              </a:rPr>
              <a:t>PPT</a:t>
            </a:r>
            <a:r>
              <a:rPr b="0" lang="zh-CN" sz="4000" spc="-1" strike="noStrike">
                <a:solidFill>
                  <a:srgbClr val="c00000"/>
                </a:solidFill>
                <a:latin typeface="汉仪大黑简"/>
                <a:ea typeface="汉仪大黑简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743200" y="5157360"/>
            <a:ext cx="6400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楷体_GB2312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 rot="20220000">
            <a:off x="3851280" y="4221000"/>
            <a:ext cx="396072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谢谢观赏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4:28:18Z</dcterms:created>
  <dc:creator>user</dc:creator>
  <dc:description/>
  <dc:language>en-US</dc:language>
  <cp:lastModifiedBy>yu wang</cp:lastModifiedBy>
  <dcterms:modified xsi:type="dcterms:W3CDTF">2015-08-14T12:50:20Z</dcterms:modified>
  <cp:revision>11</cp:revision>
  <dc:subject/>
  <dc:title>幻灯片 1</dc:title>
</cp:coreProperties>
</file>