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11555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0F0-417F-46E6-8D3C-A5F32BE9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76F-0886-4711-B2DB-5F9822A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979-3F9E-43F2-9CE7-3ED53FA2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68F-4B15-4DAF-BC9F-CD38C0C0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C3EB-82FF-451A-A32F-076F6DF7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5DA-152C-4801-8FFE-FB3D953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1298-F302-4D10-AC60-7ADABD71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DB9C-702F-4D4E-9257-8459A4A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2BE8-303D-495A-9D48-1BC4CD2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FA6F-8429-4B0B-B9DC-20F6E33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476-67BE-44CC-875E-25A1B4F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F2B-9141-4DB7-9F8F-2D55347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319D-CA53-43FB-8AC4-1901B77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2174-D5B0-4C37-B9A7-591E185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506-F702-42F9-9157-0AC7E6B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392C-2FB8-47B1-A5B5-9EDF36E7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A496-97F3-4B58-AD6D-E1122FEA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A92-B729-4174-84D2-F0138459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C03-B4D4-4857-BBE8-264F769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B0C-7794-426A-848C-9684B877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80-47D0-4854-B299-EEC65BD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B95-4E07-474E-871F-67EEC68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AE9-1E49-415E-9DCE-5426677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E22-4541-4FFD-A2CD-6848F80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60670-D7F6-4DAD-84A1-1C8BB5CD27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5440" y="1604520"/>
            <a:ext cx="9103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FBDF4-CA73-4A7E-9AAA-8673C5555A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0116720" cy="6857640"/>
          </a:xfrm>
          <a:custGeom>
            <a:avLst/>
            <a:gdLst>
              <a:gd name="textAreaLeft" fmla="*/ 0 w 10116720"/>
              <a:gd name="textAreaRight" fmla="*/ 10117080 w 1011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0117201" h="6858000">
                <a:moveTo>
                  <a:pt x="0" y="6858000"/>
                </a:moveTo>
                <a:lnTo>
                  <a:pt x="10117201" y="6858000"/>
                </a:lnTo>
                <a:lnTo>
                  <a:pt x="10117201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48a5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3509280" y="3409920"/>
            <a:ext cx="6464520" cy="75960"/>
          </a:xfrm>
          <a:custGeom>
            <a:avLst/>
            <a:gdLst>
              <a:gd name="textAreaLeft" fmla="*/ 0 w 6464520"/>
              <a:gd name="textAreaRight" fmla="*/ 6464880 w 6464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464808" h="76200">
                <a:moveTo>
                  <a:pt x="19050" y="19050"/>
                </a:moveTo>
                <a:lnTo>
                  <a:pt x="6445758" y="19050"/>
                </a:lnTo>
              </a:path>
            </a:pathLst>
          </a:custGeom>
          <a:noFill/>
          <a:ln w="38100">
            <a:solidFill>
              <a:srgbClr val="948a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47640" y="1994040"/>
            <a:ext cx="2768400" cy="275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4770000" y="273060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zh-CN" sz="3600" spc="-1" strike="noStrike">
                <a:solidFill>
                  <a:srgbClr val="006600"/>
                </a:solidFill>
                <a:latin typeface="微软雅黑"/>
              </a:rPr>
              <a:t>星巴克微博年度推广案</a:t>
            </a:r>
            <a:r>
              <a:rPr b="0" lang="en-US" sz="3600" spc="-1" strike="noStrike">
                <a:solidFill>
                  <a:srgbClr val="006600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006600"/>
                </a:solidFill>
                <a:latin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4347360" y="3568680"/>
            <a:ext cx="14641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</a:rPr>
              <a:t>随视星巴克项目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558720"/>
            <a:ext cx="10116000" cy="6298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736000" y="2781360"/>
            <a:ext cx="1220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0" lang="zh-CN" sz="4009" spc="-1" strike="noStrike">
                <a:solidFill>
                  <a:srgbClr val="ffffff"/>
                </a:solidFill>
                <a:latin typeface="Times New Roman"/>
              </a:rPr>
              <a:t>项目背景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419560" y="3365640"/>
            <a:ext cx="2488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0" lang="en-US" sz="4009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223280" y="203040"/>
            <a:ext cx="854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</a:pP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传播目标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543320" y="2755800"/>
            <a:ext cx="8820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492000" y="2717640"/>
            <a:ext cx="28965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不目标受众深层互动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沟通；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依托数据支持，利用微博进行品牌宣传；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增强网友对华东区星巴克美誉度和忠诚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进而不目标受众产生强烈的精神共鸣和强烈价值认同。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10116000" cy="624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7761240" y="3670200"/>
            <a:ext cx="732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小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970600" y="3454560"/>
            <a:ext cx="732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品牌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3087720" y="4775040"/>
            <a:ext cx="22057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14731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工作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1473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有消费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068480" y="254160"/>
            <a:ext cx="46188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2451240"/>
                <a:tab algn="l" pos="3886200"/>
              </a:tabLst>
            </a:pP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核心目标受众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2451240"/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乐亍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2451240"/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微博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9040" y="2730600"/>
            <a:ext cx="882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767680" y="2692440"/>
            <a:ext cx="28965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微软雅黑"/>
              </a:rPr>
              <a:t>18-40</a:t>
            </a: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岁间的学生、时尚白领族、及中高级商务人士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喜欢惬意的氛围，追求简约而丌简单的生活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959040" y="3543480"/>
            <a:ext cx="882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081880" y="3505320"/>
            <a:ext cx="22870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有点小资范儿，但丌排斥大众时尚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懂得放松自我，对品质有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随时链接，无网丌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389600" y="317520"/>
            <a:ext cx="32014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思考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他们是时尚达人，是流行弄潮儿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喜欢随时随地晒东西，爱围观丌爱袖手旁观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兴趣广泛但只关注不自己有关的和感兴趣的事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所以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910520" y="3949560"/>
            <a:ext cx="2160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635040"/>
                <a:tab algn="l" pos="723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在信息泛滥的微博世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635040"/>
                <a:tab algn="l" pos="723960"/>
              </a:tabLst>
            </a:pP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如果丌能在第一时间抓取他们兴趣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635040"/>
                <a:tab algn="l" pos="723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那么一切都将是空谈</a:t>
            </a:r>
            <a:r>
              <a:rPr b="1" lang="en-US" sz="199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990480" y="4191120"/>
            <a:ext cx="1829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如何吸引及打动他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3120" y="740880"/>
            <a:ext cx="68090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3960" y="1637640"/>
            <a:ext cx="7407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16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16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16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32"/>
              </a:spcBef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310160" y="860760"/>
            <a:ext cx="1152000" cy="28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6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06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yu wang</cp:lastModifiedBy>
  <dcterms:modified xsi:type="dcterms:W3CDTF">2015-08-12T14:52:1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6</vt:r8>
  </property>
</Properties>
</file>