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062-26FB-4C86-B288-88065749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B13-DC12-4C45-83A3-FAD0887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78D-2EC0-49D3-9203-5C652E91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601-F0D3-40EC-8E1F-DEBD7101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4C60-EFE7-4F25-B372-9127E174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14B0-5A2A-494D-BF78-F3090530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0C14-7FB1-4744-BF5D-9ED4227F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5A94-B209-4DD5-8B7A-1A554881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2F3E-F364-4C6A-A95E-18A4842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7D59-7B5F-425E-BF52-3B2353D1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8F98-2AD1-472B-B68D-612575A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E5E-AAB9-48BC-BD8B-C54C59E7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580-F32C-45C3-8CEC-22872DE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BE6-C21C-4275-8D22-DEE77F16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5EAC-1957-4E89-B237-26B56DA4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8D42-05FB-4DE1-85CB-FF5665B4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11E7-B80F-4711-BB4B-8BCE9665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31E-9CFB-4577-B230-4D37C8EC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6D6-6BC7-4002-B52B-A0E0BB7A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2B0-A541-4B4C-B4FB-4516DB5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EB6-118C-4830-8BD0-8C46D040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BFC-E152-45D4-95B6-B548F9B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418-6561-435E-8C44-6C016903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FE7-74AC-4D2B-AC18-3140B296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8C1C1A-2AAB-41F6-B2BF-10F096FC0CC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8B258E-5C1E-4AF3-9B0F-63D2A03846B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907640" y="1147680"/>
            <a:ext cx="78073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小雏菊唯美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357880" y="183528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5"/>
          <p:cNvCxnSpPr/>
          <p:nvPr/>
        </p:nvCxnSpPr>
        <p:spPr>
          <a:xfrm>
            <a:off x="4714560" y="1855440"/>
            <a:ext cx="3215160" cy="21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2115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9976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9975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0684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25686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57117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60688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263988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40687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14036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60688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5686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78280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61405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9160" y="63093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49975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354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285444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4975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2828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271152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54975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5640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  <Words>255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0:55Z</dcterms:modified>
  <cp:revision>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