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A06-A034-48B4-B6E7-023FD18B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483-0566-4981-B658-523A7ED3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F0F-27B8-4DD2-BB57-EE7FB469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62AE-955A-4A22-83FE-2F03EF02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A349-DC06-437F-928D-281964FB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2516-BCC2-47A5-B5D1-3995F29E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AA9F-3E7E-41E0-9534-B52F1A6A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CE31-37D2-489A-90EB-9A36A9DD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F2BE-12AC-477F-BA1A-8BB78092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8B77-7C14-4DF7-9930-8BA8237F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7161-3443-445F-8FB5-D170194A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9EA3-AF40-413B-A0BA-83DF6C34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B1DB-6817-437E-87E1-1D611140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5A59-5BE6-4704-B10B-9C56C2D4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FB23-15A0-4645-8065-F298B5B9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2135-636F-4AC8-B1F2-5C106F53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594D-7FA9-4411-B202-67E9555A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14F-BEFF-4020-87C1-4D790F65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9830-995D-4C6F-B3CE-58D72933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79F-F5F0-4182-921D-FFEC101F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B81-8C9B-43FC-9CAF-078BB0D1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A9B8-180F-4A76-80B0-E6C9DE52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1F2-589E-43CE-AF05-6AEB9A30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90A3-8B6F-4520-965A-AF26F661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7FAA-7897-4F1B-B35A-A9523717D11A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961C-DC67-4DDB-A832-A0ED6B99A808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12" descr=""/>
          <p:cNvPicPr/>
          <p:nvPr/>
        </p:nvPicPr>
        <p:blipFill>
          <a:blip r:embed="rId1"/>
          <a:stretch/>
        </p:blipFill>
        <p:spPr>
          <a:xfrm>
            <a:off x="4608360" y="2146320"/>
            <a:ext cx="4316400" cy="53640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13" descr=""/>
          <p:cNvPicPr/>
          <p:nvPr/>
        </p:nvPicPr>
        <p:blipFill>
          <a:blip r:embed="rId2"/>
          <a:stretch/>
        </p:blipFill>
        <p:spPr>
          <a:xfrm>
            <a:off x="4608360" y="2865600"/>
            <a:ext cx="2395800" cy="218880"/>
          </a:xfrm>
          <a:prstGeom prst="rect">
            <a:avLst/>
          </a:prstGeom>
          <a:ln w="0">
            <a:noFill/>
          </a:ln>
        </p:spPr>
      </p:pic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c0c0c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c0c0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模板的使用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配色方案修改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格式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设计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编辑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的添加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添加修改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直接选择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图片删除或修改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字体格式的设置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括标题和文本格式的设置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www.1ppt.com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5491080" y="2060640"/>
            <a:ext cx="21891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c0c"/>
                </a:solidFill>
                <a:latin typeface="Arial"/>
                <a:ea typeface="Arial"/>
              </a:rPr>
              <a:t>谢谢观赏！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Arial"/>
              </a:rPr>
              <a:t>    </a:t>
            </a: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Arial"/>
              </a:rPr>
              <a:t>Thanks!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7"/>
          <p:cNvSpPr/>
          <p:nvPr/>
        </p:nvSpPr>
        <p:spPr>
          <a:xfrm>
            <a:off x="0" y="2349360"/>
            <a:ext cx="9144000" cy="1785960"/>
          </a:xfrm>
          <a:prstGeom prst="rect">
            <a:avLst/>
          </a:prstGeom>
          <a:gradFill rotWithShape="0">
            <a:gsLst>
              <a:gs pos="0">
                <a:srgbClr val="005414"/>
              </a:gs>
              <a:gs pos="100000">
                <a:srgbClr val="0027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黑体"/>
              </a:rPr>
              <a:t> </a:t>
            </a:r>
            <a:r>
              <a:rPr b="0" lang="zh-CN" sz="1000" spc="-1" strike="noStrike" u="sng">
                <a:solidFill>
                  <a:srgbClr val="009900"/>
                </a:solidFill>
                <a:uFillTx/>
                <a:latin typeface="黑体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00"/>
                </a:solidFill>
                <a:uFillTx/>
                <a:latin typeface="黑体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 </a:t>
            </a: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           </a:t>
            </a: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dongtai/</a:t>
            </a: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chuangyi/</a:t>
            </a: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gongzuo/</a:t>
            </a: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kejian/</a:t>
            </a: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shangwu/</a:t>
            </a: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sucai/</a:t>
            </a: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fengjing/</a:t>
            </a: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jianjie/</a:t>
            </a: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jiaoyu/</a:t>
            </a: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lunwen/</a:t>
            </a: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yiliao/</a:t>
            </a: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北京锐得PPT</dc:creator>
  <dc:description/>
  <dc:language>en-US</dc:language>
  <cp:lastModifiedBy>yu wang</cp:lastModifiedBy>
  <dcterms:modified xsi:type="dcterms:W3CDTF">2015-08-14T12:54:37Z</dcterms:modified>
  <cp:revision>133</cp:revision>
  <dc:subject/>
  <dc:title>锐得PPT模板</dc:title>
</cp:coreProperties>
</file>