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DFB-5E49-4476-9773-3FC2E87D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9400"/>
            <a:ext cx="77724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2C0-C914-410A-95A1-C6E73F79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940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0940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EA7-ACFB-44C2-9C89-1702E86F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940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0940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0940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343-E84D-4043-9174-C3D27B6B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F3A5-6A4E-4A42-9CD8-1D9A955E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3C0F-59CF-4A7D-A3FF-C3897749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068D-743F-489D-B678-A093E9DF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7401-8B11-4ECD-9EDF-E75C3DE7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873D-C97A-4AAE-BB6A-51110873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8E39-DFAC-4BDD-96E0-04956EA6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0940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5458-694D-4273-A6AB-DB6B8A32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6ED-E65F-4697-BDA9-5B92EDF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0940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65B6-F35B-4901-AE5B-AA02D15D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09400"/>
            <a:ext cx="77724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5826-A8D2-4271-B50F-0507E0D4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09400"/>
            <a:ext cx="77724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50EF-38B4-49FD-BFE2-40E301A3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0940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0940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DD89-96BA-499C-A21C-A0DCE55B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0940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0940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09400"/>
            <a:ext cx="2502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BA51-FFF6-461F-A21D-E73ADDD3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B1C-09F4-44FE-96B7-15E550B9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F55-CBE6-429F-8849-46710D9A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935-D7D2-4671-AA26-397DF0E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387-29AC-4F85-8F03-89312A1E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940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7E3-58CC-4999-A33E-8620612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0940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A63-C8D4-44A8-9883-B213B0F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9400"/>
            <a:ext cx="77724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864-3F92-46FC-88D2-6E30E38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D11F-DF58-434D-A0A5-E0D720030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A713-EE6F-45D9-AAF6-EFA4858DA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硬币企业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模板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Your Subtopics Go Here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62120" y="6324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429000"/>
            <a:ext cx="5791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05:48:10Z</dcterms:created>
  <dc:creator>eclipse</dc:creator>
  <dc:description/>
  <dc:language>en-US</dc:language>
  <cp:lastModifiedBy>yu wang</cp:lastModifiedBy>
  <dcterms:modified xsi:type="dcterms:W3CDTF">2015-08-14T12:52:48Z</dcterms:modified>
  <cp:revision>4</cp:revision>
  <dc:subject/>
  <dc:title>My Housekeys</dc:title>
</cp:coreProperties>
</file>