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7DC20-3006-43A7-B110-4CC2C4CEED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343DE-D14F-4D47-8334-67789494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0DCAE-ECDF-4B71-A055-EAA86F63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F8024-548F-446F-887A-72FF93C03F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5D704-805E-4C1F-975A-3DD70C87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B8688-B3E2-4255-A195-D695363A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EAD05-C685-4A3D-BF34-05B869E5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82854-5900-42B4-8D2A-E55B08D5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C0F96-8A7F-4B70-B7C6-6790830E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AE415-55AF-4072-B8E9-7B6715B9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55E81-7B43-413C-AA80-2EA3C532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48AB3-472D-4388-BD5F-0279EBBC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83F0D-7A0F-4C40-9F10-0480F772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E0B1D-BDC9-4D80-9B12-102B1034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68F95-7B1E-411B-AC16-A1E3012E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BFEB6-90AA-4F4F-875A-98D18562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5FDE7-4CC2-4964-B356-F152FD22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F31FC-989F-4F10-B75C-2A1623CA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60F62-3206-4A78-AF70-DF627983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60B24-5347-4CCD-BE71-AEAB4DAE5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7D7C7-055D-4EA9-A385-409A1BEB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0C41B-BFE7-4B89-B6EF-151238FC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23EE3-0757-4817-BDD8-95FCFFBE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E3B74-4CE2-4CDD-AC73-BF1D04E3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2198-8AC0-4E1A-A79D-34F7869263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-1033560" y="1552680"/>
            <a:ext cx="10177200" cy="5305320"/>
            <a:chOff x="-1033560" y="1552680"/>
            <a:chExt cx="10177200" cy="5305320"/>
          </a:xfrm>
        </p:grpSpPr>
        <p:sp>
          <p:nvSpPr>
            <p:cNvPr id="44" name="Freeform 3"/>
            <p:cNvSpPr/>
            <p:nvPr/>
          </p:nvSpPr>
          <p:spPr>
            <a:xfrm>
              <a:off x="3272760" y="2710080"/>
              <a:ext cx="5870880" cy="4147920"/>
            </a:xfrm>
            <a:custGeom>
              <a:avLst/>
              <a:gdLst>
                <a:gd name="textAreaLeft" fmla="*/ 0 w 5870880"/>
                <a:gd name="textAreaRight" fmla="*/ 5871240 w 5870880"/>
                <a:gd name="textAreaTop" fmla="*/ 0 h 4147920"/>
                <a:gd name="textAreaBottom" fmla="*/ 4148280 h 414792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Times New Roman"/>
              </a:endParaRPr>
            </a:p>
          </p:txBody>
        </p:sp>
        <p:sp>
          <p:nvSpPr>
            <p:cNvPr id="45" name="Arc 4"/>
            <p:cNvSpPr/>
            <p:nvPr/>
          </p:nvSpPr>
          <p:spPr>
            <a:xfrm>
              <a:off x="-1033560" y="1552680"/>
              <a:ext cx="6725160" cy="5305320"/>
            </a:xfrm>
            <a:custGeom>
              <a:avLst/>
              <a:gdLst>
                <a:gd name="textAreaLeft" fmla="*/ 0 w 6725160"/>
                <a:gd name="textAreaRight" fmla="*/ 6725520 w 672516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版权所有  中央音乐学院  周海宏 未经作者许可禁止使用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B58E-6C7F-42BC-9B05-5DF0F661578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"/>
          <p:cNvSpPr/>
          <p:nvPr/>
        </p:nvSpPr>
        <p:spPr>
          <a:xfrm>
            <a:off x="1889640" y="1125360"/>
            <a:ext cx="49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音乐学院毕业答辩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PPT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背景下载</a:t>
            </a:r>
            <a:endParaRPr b="0" lang="en-US" sz="40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0000"/>
                </a:solidFill>
                <a:uFillTx/>
                <a:latin typeface="Arial"/>
              </a:rPr>
              <a:t>幻灯片之家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eeppt.com</a:t>
            </a:r>
            <a:endParaRPr b="0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0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kejian/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000000"/>
                </a:solidFill>
                <a:uFillTx/>
                <a:latin typeface="Arial"/>
              </a:rPr>
              <a:t>www.eeppt.com</a:t>
            </a:r>
            <a:endParaRPr b="0" lang="en-US" sz="10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7T13:20:48Z</dcterms:created>
  <dc:creator/>
  <dc:description/>
  <cp:keywords/>
  <dc:language>en-US</dc:language>
  <cp:lastModifiedBy>yu wang</cp:lastModifiedBy>
  <dcterms:modified xsi:type="dcterms:W3CDTF">2015-08-14T12:54:34Z</dcterms:modified>
  <cp:revision>426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55</vt:lpwstr>
  </property>
</Properties>
</file>