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92E1F-21D7-4AC1-8257-BE70407A3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836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ADD29-761A-4E03-9D23-4F6459A8C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36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0C50E-82D7-49B0-A584-CAE634B84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6836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CFC44-EF86-4525-9D96-9673F8F7A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68360" y="124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836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ADB3C-AC32-46DA-84E9-5F44F19BE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36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EFB31-620F-416D-9B99-41B4B86F9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36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342BB-B0DF-4152-A3BE-3C6EBA131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36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8858F-13F5-4893-8EFB-9F49EE7CC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68360" y="124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F8762-464E-41DB-B42D-20E54AFCD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36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E3070-E112-4996-96CA-BD26E567B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836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3DA85-2433-47D5-98AE-D58005CD4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836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36819-F3FA-45F9-AB16-F73FBFD92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LS_yinyueyishu2_035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6836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CB60A-3F63-4A37-8524-FC29CEFF7AE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LT_yinyueyishu2_035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hyperlink" Target="http://www.eeppt.com/moban/huiyi/" TargetMode="External"/><Relationship Id="rId2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PowerPoint Templat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矩形 1"/>
          <p:cNvSpPr/>
          <p:nvPr/>
        </p:nvSpPr>
        <p:spPr>
          <a:xfrm>
            <a:off x="2132640" y="1658880"/>
            <a:ext cx="5677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音乐指挥艺术专业论文答辩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494000" y="998280"/>
            <a:ext cx="61560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24000" y="1809720"/>
            <a:ext cx="6696000" cy="39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说课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kejian/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国外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简洁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公司会议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Rectangle 7"/>
          <p:cNvSpPr/>
          <p:nvPr/>
        </p:nvSpPr>
        <p:spPr>
          <a:xfrm>
            <a:off x="6608880" y="1106640"/>
            <a:ext cx="1041120" cy="263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9T01:23:50Z</dcterms:created>
  <dc:creator/>
  <dc:description/>
  <cp:keywords/>
  <dc:language>en-US</dc:language>
  <cp:lastModifiedBy>yu wang</cp:lastModifiedBy>
  <dcterms:modified xsi:type="dcterms:W3CDTF">2015-08-12T14:56:52Z</dcterms:modified>
  <cp:revision>4</cp:revision>
  <dc:subject/>
  <dc:title>www.glzy8.com提供海量PPT模板免费下载！</dc:title>
</cp:coreProperties>
</file>