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65C9-3B12-4134-89DD-DA71F6D51F62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77A5-F315-4528-88FB-18DD3F0D81A2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A807-3A41-4737-9953-6B89D47CA393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640" y="384012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4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664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28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64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664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28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4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4033800" y="428616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5494320" y="4719600"/>
            <a:ext cx="3220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"/>
          <p:cNvSpPr/>
          <p:nvPr/>
        </p:nvSpPr>
        <p:spPr>
          <a:xfrm>
            <a:off x="2246040" y="357012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医学类毕业设计论文答辩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3320" y="1283760"/>
            <a:ext cx="80643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00:13:00Z</dcterms:created>
  <dc:creator/>
  <dc:description/>
  <cp:keywords/>
  <dc:language>en-US</dc:language>
  <cp:lastModifiedBy>yu wang</cp:lastModifiedBy>
  <cp:lastPrinted>1899-12-30T00:00:00Z</cp:lastPrinted>
  <dcterms:modified xsi:type="dcterms:W3CDTF">2015-08-12T14:51:18Z</dcterms:modified>
  <cp:revision>7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