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405F-0805-4E5D-AB70-B2B8A7A0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D762-8296-4489-8343-E089A66B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53F2-76F4-4D0C-9E11-9BE965B1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9FAC-3172-4544-9CDC-21268F69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C724-E239-45A0-9696-B0B9A941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CC26-7B6A-4A82-ABED-50D4E5BF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F233-724C-411A-B03D-DA0BBC91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DFC-CC8A-4E4D-AC8D-A937DC68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BF2-2F1B-4C78-9146-5F19B48A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0137-91C9-4A39-96F0-3E048F38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605-C215-4F0B-887D-21DF9FCD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50D-02E8-46A4-9459-18AB01F7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505C-1ACE-4FFF-A0B6-72DB5B2877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5" descr=""/>
          <p:cNvPicPr/>
          <p:nvPr/>
        </p:nvPicPr>
        <p:blipFill>
          <a:blip r:embed="rId2"/>
          <a:stretch/>
        </p:blipFill>
        <p:spPr>
          <a:xfrm>
            <a:off x="900000" y="3357720"/>
            <a:ext cx="3060720" cy="95724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1593720" y="1890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雅致花朵毕业论文答辩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79280" y="6308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14T12:54:20Z</dcterms:modified>
  <cp:revision>2</cp:revision>
  <dc:subject/>
  <dc:title>PowerPoint 演示文稿</dc:title>
</cp:coreProperties>
</file>