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AEC-A49E-4E4A-A40F-3EC83279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C07-185B-40AE-9DEC-D6CDE424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045-1BBB-43FB-AF0C-602CDFEC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5EB1-4953-46AE-8B3C-A054A259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578-0620-4E19-95CA-D5C3309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D27-0CBF-41AE-BBFA-DD2D07B0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9D9-5935-4A34-B613-A972FB1E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F346-CF0F-44FC-8FAE-3A262EC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60C-58DA-4F40-A99E-6F15C18A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CB1-00A4-4C62-94FD-A7872E53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22A-F93A-4B86-B7C2-5B0D94AD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E05E-988C-4ECD-9727-0E7F0057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189" b="0"/>
          <a:stretch/>
        </p:blipFill>
        <p:spPr>
          <a:xfrm>
            <a:off x="-3240" y="0"/>
            <a:ext cx="9147240" cy="532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PPT1"/>
          <p:cNvPicPr/>
          <p:nvPr/>
        </p:nvPicPr>
        <p:blipFill>
          <a:blip r:embed="rId3"/>
          <a:stretch/>
        </p:blipFill>
        <p:spPr>
          <a:xfrm>
            <a:off x="539640" y="5445000"/>
            <a:ext cx="2160720" cy="576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PPT首页背景(地图)"/>
          <p:cNvPicPr/>
          <p:nvPr/>
        </p:nvPicPr>
        <p:blipFill>
          <a:blip r:embed="rId4"/>
          <a:srcRect l="0" t="11661" r="0" b="20381"/>
          <a:stretch/>
        </p:blipFill>
        <p:spPr>
          <a:xfrm>
            <a:off x="971640" y="404640"/>
            <a:ext cx="7561080" cy="23749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公司名称(灰底)"/>
          <p:cNvPicPr/>
          <p:nvPr/>
        </p:nvPicPr>
        <p:blipFill>
          <a:blip r:embed="rId5"/>
          <a:stretch/>
        </p:blipFill>
        <p:spPr>
          <a:xfrm>
            <a:off x="5940360" y="333360"/>
            <a:ext cx="2862360" cy="39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ECF5-521C-490C-A372-C210EF9A73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  <p:pic>
        <p:nvPicPr>
          <p:cNvPr id="45" name="Picture 7" descr="3333"/>
          <p:cNvPicPr/>
          <p:nvPr/>
        </p:nvPicPr>
        <p:blipFill>
          <a:blip r:embed="rId2"/>
          <a:srcRect l="0" t="0" r="35270" b="0"/>
          <a:stretch/>
        </p:blipFill>
        <p:spPr>
          <a:xfrm>
            <a:off x="2556000" y="6273720"/>
            <a:ext cx="6264000" cy="395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8029440" y="6423120"/>
            <a:ext cx="432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6072-42EB-4660-B60E-9AD97C188B04}" type="slidenum">
              <a:rPr b="0" lang="en-US" sz="1400" spc="-1" strike="noStrike">
                <a:solidFill>
                  <a:srgbClr val="0064ac"/>
                </a:solidFill>
                <a:latin typeface="Myriad Pro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仿宋_GB2312"/>
            </a:endParaRPr>
          </a:p>
        </p:txBody>
      </p:sp>
      <p:pic>
        <p:nvPicPr>
          <p:cNvPr id="47" name="Picture 9" descr="PPT1"/>
          <p:cNvPicPr/>
          <p:nvPr/>
        </p:nvPicPr>
        <p:blipFill>
          <a:blip r:embed="rId3"/>
          <a:stretch/>
        </p:blipFill>
        <p:spPr>
          <a:xfrm>
            <a:off x="654120" y="6237360"/>
            <a:ext cx="16779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0" y="0"/>
          <a:ext cx="9144000" cy="126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1962720" y="2708280"/>
            <a:ext cx="5605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仿宋_GB2312"/>
              </a:rPr>
              <a:t>中国保险公司官方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仿宋_GB2312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6280" y="6519960"/>
            <a:ext cx="29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000" spc="-1" strike="noStrike">
              <a:solidFill>
                <a:srgbClr val="000000"/>
              </a:solidFill>
              <a:latin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yu wang</cp:lastModifiedBy>
  <dcterms:modified xsi:type="dcterms:W3CDTF">2015-08-12T14:49:41Z</dcterms:modified>
  <cp:revision>1507</cp:revision>
  <dc:subject/>
  <dc:title>www.pptbz.com</dc:title>
</cp:coreProperties>
</file>