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447516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24"/>
          <p:cNvGraphicFramePr/>
          <p:nvPr/>
        </p:nvGraphicFramePr>
        <p:xfrm>
          <a:off x="3548160" y="914400"/>
          <a:ext cx="5595840" cy="553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8160" y="914400"/>
                    <a:ext cx="5595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Line 9"/>
          <p:cNvSpPr/>
          <p:nvPr/>
        </p:nvSpPr>
        <p:spPr>
          <a:xfrm>
            <a:off x="12600" y="6451560"/>
            <a:ext cx="913140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6" name="Object 1025"/>
          <p:cNvGraphicFramePr/>
          <p:nvPr/>
        </p:nvGraphicFramePr>
        <p:xfrm>
          <a:off x="0" y="6467400"/>
          <a:ext cx="914400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467400"/>
                    <a:ext cx="9144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Rectangle 1027"/>
          <p:cNvSpPr/>
          <p:nvPr/>
        </p:nvSpPr>
        <p:spPr>
          <a:xfrm>
            <a:off x="5738760" y="6453360"/>
            <a:ext cx="3405240" cy="404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9" name="Picture 1029" descr="China Telecom Logo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7238880" y="228600"/>
            <a:ext cx="161928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835280" y="2708280"/>
            <a:ext cx="5688000" cy="1152360"/>
          </a:xfrm>
          <a:prstGeom prst="rect">
            <a:avLst/>
          </a:prstGeom>
          <a:gradFill rotWithShape="0">
            <a:gsLst>
              <a:gs pos="0">
                <a:srgbClr val="6699ff">
                  <a:alpha val="65098"/>
                </a:srgbClr>
              </a:gs>
              <a:gs pos="100000">
                <a:srgbClr val="2f477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1835280" y="2852640"/>
            <a:ext cx="5742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中国电信最新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通用模板免费下载</a:t>
            </a:r>
            <a:endParaRPr b="1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867600" y="6165720"/>
            <a:ext cx="19346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幻灯片之家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47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baseline="-25000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3:02:18Z</dcterms:created>
  <dc:creator>ct</dc:creator>
  <dc:description/>
  <dc:language>en-US</dc:language>
  <cp:lastModifiedBy>yu wang</cp:lastModifiedBy>
  <dcterms:modified xsi:type="dcterms:W3CDTF">2015-08-12T14:50:09Z</dcterms:modified>
  <cp:revision>765</cp:revision>
  <dc:subject/>
  <dc:title>幻灯片 1</dc:title>
</cp:coreProperties>
</file>