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9B2-934D-4433-AC02-DADA1F1A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13D-A253-4CE4-BC9D-5D5A5F25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EAF-6795-4F06-840B-43707ABF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15D-7EDE-41FF-BCCB-6DE735F7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11BA-BC97-4EDF-B2E6-FC39C416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2489-0FC1-4DD5-9242-C362E6ED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02EE-B843-4448-B980-2E18DA7B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C9D1-2555-490F-9241-5C610531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C93A-91E9-4183-A2C5-B7D7B2B4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8B3F-FBA3-42C1-868E-7C09CEDD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E3BB-48D2-4BC7-A550-2A531A2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203-CDDA-454B-A9A6-38710F67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FC11-725F-44D7-A5D2-C6BA0C51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A2B4-A2F7-4A9E-A505-62B4E36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B1EC-D1F2-4E6C-BF8A-363D68E1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B17-254D-439F-83CD-FAB1E9CE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DDFE-147B-4D50-AC8E-2E077620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040-6F88-4071-8D0C-57E557F0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BE2-496F-4C8A-AD1F-19FF5726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615-F6BD-4E5E-9705-FC7284D7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772-2D89-4487-A536-CF99EF0F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8FC-975A-4C4A-8D48-752355D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7A2-CAB9-4B9A-9F17-787D1C90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E0C-3AF8-4FC1-B9C1-BAD00C70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63080" cy="98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4CD7-9F47-48A1-A280-21FF9F9838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95400" y="295200"/>
            <a:ext cx="27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××××××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AE1-5BDC-4006-8F05-5FBB9F6F55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16000" y="260280"/>
            <a:ext cx="75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国石油公司工作汇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00400" y="573408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××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395280" y="2997360"/>
            <a:ext cx="849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a50021"/>
                </a:solidFill>
                <a:latin typeface="黑体"/>
              </a:rPr>
              <a:t>×××××××××</a:t>
            </a:r>
            <a:endParaRPr b="1" lang="en-US" sz="4000" spc="1" strike="noStrike">
              <a:ln w="9360">
                <a:solidFill>
                  <a:srgbClr val="ffff99"/>
                </a:solidFill>
                <a:miter/>
              </a:ln>
              <a:solidFill>
                <a:srgbClr val="a50021"/>
              </a:solidFill>
              <a:latin typeface="黑体"/>
              <a:ea typeface="黑体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 flipV="1">
            <a:off x="324000" y="2204640"/>
            <a:ext cx="4019400" cy="439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370" name="Group 4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371" name="AutoShape 5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AutoShape 7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××××××××××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8"/>
          <p:cNvSpPr/>
          <p:nvPr/>
        </p:nvSpPr>
        <p:spPr>
          <a:xfrm>
            <a:off x="468360" y="4460400"/>
            <a:ext cx="36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1332000" y="2852640"/>
            <a:ext cx="2663640" cy="0"/>
          </a:xfrm>
          <a:prstGeom prst="line">
            <a:avLst/>
          </a:prstGeom>
          <a:ln w="6480">
            <a:solidFill>
              <a:srgbClr val="db5414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0"/>
          <p:cNvGrpSpPr/>
          <p:nvPr/>
        </p:nvGrpSpPr>
        <p:grpSpPr>
          <a:xfrm>
            <a:off x="179280" y="2205000"/>
            <a:ext cx="1008000" cy="1008000"/>
            <a:chOff x="179280" y="2205000"/>
            <a:chExt cx="1008000" cy="1008000"/>
          </a:xfrm>
        </p:grpSpPr>
        <p:sp>
          <p:nvSpPr>
            <p:cNvPr id="377" name="Oval 11"/>
            <p:cNvSpPr/>
            <p:nvPr/>
          </p:nvSpPr>
          <p:spPr>
            <a:xfrm flipH="1">
              <a:off x="179280" y="220500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"/>
            <p:cNvSpPr/>
            <p:nvPr/>
          </p:nvSpPr>
          <p:spPr>
            <a:xfrm flipH="1">
              <a:off x="203040" y="2230560"/>
              <a:ext cx="956520" cy="95616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3"/>
            <p:cNvSpPr/>
            <p:nvPr/>
          </p:nvSpPr>
          <p:spPr>
            <a:xfrm flipH="1">
              <a:off x="294480" y="2322000"/>
              <a:ext cx="773640" cy="773640"/>
            </a:xfrm>
            <a:prstGeom prst="ellipse">
              <a:avLst/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4"/>
            <p:cNvSpPr/>
            <p:nvPr/>
          </p:nvSpPr>
          <p:spPr>
            <a:xfrm flipH="1">
              <a:off x="330840" y="2357280"/>
              <a:ext cx="702720" cy="70272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5"/>
            <p:cNvSpPr/>
            <p:nvPr/>
          </p:nvSpPr>
          <p:spPr>
            <a:xfrm flipH="1">
              <a:off x="580320" y="2364840"/>
              <a:ext cx="426600" cy="426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16"/>
          <p:cNvSpPr/>
          <p:nvPr/>
        </p:nvSpPr>
        <p:spPr>
          <a:xfrm>
            <a:off x="2243160" y="234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765320" y="2708280"/>
            <a:ext cx="3814920" cy="3321000"/>
            <a:chOff x="4765320" y="2708280"/>
            <a:chExt cx="3814920" cy="3321000"/>
          </a:xfrm>
        </p:grpSpPr>
        <p:sp>
          <p:nvSpPr>
            <p:cNvPr id="384" name="Oval 18"/>
            <p:cNvSpPr/>
            <p:nvPr/>
          </p:nvSpPr>
          <p:spPr>
            <a:xfrm flipV="1">
              <a:off x="7275240" y="3690360"/>
              <a:ext cx="1009800" cy="14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19"/>
            <p:cNvGrpSpPr/>
            <p:nvPr/>
          </p:nvGrpSpPr>
          <p:grpSpPr>
            <a:xfrm>
              <a:off x="7381800" y="3009960"/>
              <a:ext cx="768240" cy="760320"/>
              <a:chOff x="7381800" y="3009960"/>
              <a:chExt cx="768240" cy="760320"/>
            </a:xfrm>
          </p:grpSpPr>
          <p:sp>
            <p:nvSpPr>
              <p:cNvPr id="386" name="Oval 20"/>
              <p:cNvSpPr/>
              <p:nvPr/>
            </p:nvSpPr>
            <p:spPr>
              <a:xfrm>
                <a:off x="7381800" y="3009960"/>
                <a:ext cx="76824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Group 21"/>
              <p:cNvGrpSpPr/>
              <p:nvPr/>
            </p:nvGrpSpPr>
            <p:grpSpPr>
              <a:xfrm>
                <a:off x="7388640" y="3017880"/>
                <a:ext cx="753120" cy="739080"/>
                <a:chOff x="7388640" y="3017880"/>
                <a:chExt cx="753120" cy="739080"/>
              </a:xfrm>
            </p:grpSpPr>
            <p:sp>
              <p:nvSpPr>
                <p:cNvPr id="388" name="Oval 22"/>
                <p:cNvSpPr/>
                <p:nvPr/>
              </p:nvSpPr>
              <p:spPr>
                <a:xfrm>
                  <a:off x="7388640" y="3017880"/>
                  <a:ext cx="753120" cy="73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未知"/>
                <p:cNvSpPr/>
                <p:nvPr/>
              </p:nvSpPr>
              <p:spPr>
                <a:xfrm>
                  <a:off x="7475760" y="3027960"/>
                  <a:ext cx="577080" cy="276840"/>
                </a:xfrm>
                <a:custGeom>
                  <a:avLst/>
                  <a:gdLst>
                    <a:gd name="textAreaLeft" fmla="*/ 0 w 577080"/>
                    <a:gd name="textAreaRight" fmla="*/ 577440 w 57708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24"/>
                <p:cNvSpPr/>
                <p:nvPr/>
              </p:nvSpPr>
              <p:spPr>
                <a:xfrm rot="16200000">
                  <a:off x="7579800" y="3198960"/>
                  <a:ext cx="369720" cy="744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038" y="803"/>
                        <a:pt x="4476" y="5080"/>
                        <a:pt x="4476" y="10800"/>
                      </a:cubicBezTo>
                      <a:cubicBezTo>
                        <a:pt x="4476" y="16520"/>
                        <a:pt x="13038" y="2079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39393">
                        <a:alpha val="38039"/>
                      </a:srgbClr>
                    </a:gs>
                    <a:gs pos="100000">
                      <a:srgbClr val="b2b2b2">
                        <a:alpha val="17254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1" name="Oval 25"/>
            <p:cNvSpPr/>
            <p:nvPr/>
          </p:nvSpPr>
          <p:spPr>
            <a:xfrm flipV="1">
              <a:off x="4944960" y="3688560"/>
              <a:ext cx="1009800" cy="14436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26"/>
            <p:cNvGrpSpPr/>
            <p:nvPr/>
          </p:nvGrpSpPr>
          <p:grpSpPr>
            <a:xfrm>
              <a:off x="5030640" y="3009960"/>
              <a:ext cx="766800" cy="762120"/>
              <a:chOff x="5030640" y="3009960"/>
              <a:chExt cx="766800" cy="762120"/>
            </a:xfrm>
          </p:grpSpPr>
          <p:sp>
            <p:nvSpPr>
              <p:cNvPr id="393" name="Oval 27"/>
              <p:cNvSpPr/>
              <p:nvPr/>
            </p:nvSpPr>
            <p:spPr>
              <a:xfrm>
                <a:off x="5030640" y="3009960"/>
                <a:ext cx="766800" cy="762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28"/>
              <p:cNvGrpSpPr/>
              <p:nvPr/>
            </p:nvGrpSpPr>
            <p:grpSpPr>
              <a:xfrm>
                <a:off x="5037480" y="3017880"/>
                <a:ext cx="751680" cy="740880"/>
                <a:chOff x="5037480" y="3017880"/>
                <a:chExt cx="751680" cy="740880"/>
              </a:xfrm>
            </p:grpSpPr>
            <p:sp>
              <p:nvSpPr>
                <p:cNvPr id="395" name="Oval 29"/>
                <p:cNvSpPr/>
                <p:nvPr/>
              </p:nvSpPr>
              <p:spPr>
                <a:xfrm>
                  <a:off x="5037480" y="3017880"/>
                  <a:ext cx="751680" cy="7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bbe0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未知"/>
                <p:cNvSpPr/>
                <p:nvPr/>
              </p:nvSpPr>
              <p:spPr>
                <a:xfrm>
                  <a:off x="5124600" y="3027960"/>
                  <a:ext cx="576000" cy="277560"/>
                </a:xfrm>
                <a:custGeom>
                  <a:avLst/>
                  <a:gdLst>
                    <a:gd name="textAreaLeft" fmla="*/ 0 w 576000"/>
                    <a:gd name="textAreaRight" fmla="*/ 576360 w 576000"/>
                    <a:gd name="textAreaTop" fmla="*/ 0 h 277560"/>
                    <a:gd name="textAreaBottom" fmla="*/ 277920 h 2775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bbe0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31"/>
                <p:cNvSpPr/>
                <p:nvPr/>
              </p:nvSpPr>
              <p:spPr>
                <a:xfrm rot="16200000">
                  <a:off x="5227200" y="3201480"/>
                  <a:ext cx="370800" cy="74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038" y="803"/>
                        <a:pt x="4476" y="5080"/>
                        <a:pt x="4476" y="10800"/>
                      </a:cubicBezTo>
                      <a:cubicBezTo>
                        <a:pt x="4476" y="16520"/>
                        <a:pt x="13038" y="2079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f9c0b">
                        <a:alpha val="38039"/>
                      </a:srgbClr>
                    </a:gs>
                    <a:gs pos="100000">
                      <a:srgbClr val="fbbe0d">
                        <a:alpha val="3215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8" name="Group 32"/>
            <p:cNvGrpSpPr/>
            <p:nvPr/>
          </p:nvGrpSpPr>
          <p:grpSpPr>
            <a:xfrm>
              <a:off x="7078680" y="4484160"/>
              <a:ext cx="836640" cy="671760"/>
              <a:chOff x="7078680" y="4484160"/>
              <a:chExt cx="836640" cy="671760"/>
            </a:xfrm>
          </p:grpSpPr>
          <p:sp>
            <p:nvSpPr>
              <p:cNvPr id="399" name="Rectangle 33"/>
              <p:cNvSpPr/>
              <p:nvPr/>
            </p:nvSpPr>
            <p:spPr>
              <a:xfrm flipH="1" rot="2242200">
                <a:off x="6996240" y="4803120"/>
                <a:ext cx="982800" cy="60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34"/>
              <p:cNvSpPr/>
              <p:nvPr/>
            </p:nvSpPr>
            <p:spPr>
              <a:xfrm flipH="1" rot="2242200">
                <a:off x="7005600" y="4772880"/>
                <a:ext cx="982800" cy="918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Oval 35"/>
            <p:cNvSpPr/>
            <p:nvPr/>
          </p:nvSpPr>
          <p:spPr>
            <a:xfrm flipV="1">
              <a:off x="7788240" y="5616720"/>
              <a:ext cx="792000" cy="11592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36"/>
            <p:cNvGrpSpPr/>
            <p:nvPr/>
          </p:nvGrpSpPr>
          <p:grpSpPr>
            <a:xfrm>
              <a:off x="7800840" y="4956120"/>
              <a:ext cx="736560" cy="725400"/>
              <a:chOff x="7800840" y="4956120"/>
              <a:chExt cx="736560" cy="725400"/>
            </a:xfrm>
          </p:grpSpPr>
          <p:sp>
            <p:nvSpPr>
              <p:cNvPr id="403" name="Oval 37"/>
              <p:cNvSpPr/>
              <p:nvPr/>
            </p:nvSpPr>
            <p:spPr>
              <a:xfrm>
                <a:off x="7800840" y="4956120"/>
                <a:ext cx="736560" cy="725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be0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>
                <a:off x="7886160" y="4965840"/>
                <a:ext cx="564480" cy="27180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bbe0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39"/>
              <p:cNvSpPr/>
              <p:nvPr/>
            </p:nvSpPr>
            <p:spPr>
              <a:xfrm rot="16200000">
                <a:off x="7987320" y="5135400"/>
                <a:ext cx="362880" cy="728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f9c0b">
                      <a:alpha val="38039"/>
                    </a:srgbClr>
                  </a:gs>
                  <a:gs pos="100000">
                    <a:srgbClr val="fbbe0d">
                      <a:alpha val="6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40"/>
            <p:cNvGrpSpPr/>
            <p:nvPr/>
          </p:nvGrpSpPr>
          <p:grpSpPr>
            <a:xfrm>
              <a:off x="6701400" y="3501000"/>
              <a:ext cx="835920" cy="660960"/>
              <a:chOff x="6701400" y="3501000"/>
              <a:chExt cx="835920" cy="660960"/>
            </a:xfrm>
          </p:grpSpPr>
          <p:grpSp>
            <p:nvGrpSpPr>
              <p:cNvPr id="407" name="Group 41"/>
              <p:cNvGrpSpPr/>
              <p:nvPr/>
            </p:nvGrpSpPr>
            <p:grpSpPr>
              <a:xfrm>
                <a:off x="6701400" y="3516120"/>
                <a:ext cx="816480" cy="645840"/>
                <a:chOff x="6701400" y="3516120"/>
                <a:chExt cx="816480" cy="645840"/>
              </a:xfrm>
            </p:grpSpPr>
            <p:sp>
              <p:nvSpPr>
                <p:cNvPr id="408" name="Rectangle 42"/>
                <p:cNvSpPr/>
                <p:nvPr/>
              </p:nvSpPr>
              <p:spPr>
                <a:xfrm rot="19357800">
                  <a:off x="6625440" y="3827880"/>
                  <a:ext cx="981000" cy="4032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43"/>
                <p:cNvSpPr/>
                <p:nvPr/>
              </p:nvSpPr>
              <p:spPr>
                <a:xfrm rot="19357800">
                  <a:off x="6618960" y="3807360"/>
                  <a:ext cx="980640" cy="61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PubPieSlice"/>
              <p:cNvSpPr/>
              <p:nvPr/>
            </p:nvSpPr>
            <p:spPr>
              <a:xfrm rot="13906800">
                <a:off x="7462800" y="3513600"/>
                <a:ext cx="62280" cy="60840"/>
              </a:xfrm>
              <a:custGeom>
                <a:avLst/>
                <a:gdLst>
                  <a:gd name="textAreaLeft" fmla="*/ 9360 w 62280"/>
                  <a:gd name="textAreaRight" fmla="*/ 52920 w 62280"/>
                  <a:gd name="textAreaTop" fmla="*/ 8280 h 60840"/>
                  <a:gd name="textAreaBottom" fmla="*/ 52560 h 6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16764"/>
                      <a:pt x="4835" y="21599"/>
                      <a:pt x="10799" y="21600"/>
                    </a:cubicBezTo>
                    <a:cubicBezTo>
                      <a:pt x="16764" y="21600"/>
                      <a:pt x="21600" y="16764"/>
                      <a:pt x="21600" y="10800"/>
                    </a:cubicBezTo>
                    <a:lnTo>
                      <a:pt x="10800" y="108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39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45"/>
            <p:cNvGrpSpPr/>
            <p:nvPr/>
          </p:nvGrpSpPr>
          <p:grpSpPr>
            <a:xfrm>
              <a:off x="5652360" y="3497040"/>
              <a:ext cx="842040" cy="663840"/>
              <a:chOff x="5652360" y="3497040"/>
              <a:chExt cx="842040" cy="663840"/>
            </a:xfrm>
          </p:grpSpPr>
          <p:grpSp>
            <p:nvGrpSpPr>
              <p:cNvPr id="412" name="Group 46"/>
              <p:cNvGrpSpPr/>
              <p:nvPr/>
            </p:nvGrpSpPr>
            <p:grpSpPr>
              <a:xfrm>
                <a:off x="5677200" y="3514680"/>
                <a:ext cx="817200" cy="646200"/>
                <a:chOff x="5677200" y="3514680"/>
                <a:chExt cx="817200" cy="646200"/>
              </a:xfrm>
            </p:grpSpPr>
            <p:sp>
              <p:nvSpPr>
                <p:cNvPr id="413" name="Rectangle 47"/>
                <p:cNvSpPr/>
                <p:nvPr/>
              </p:nvSpPr>
              <p:spPr>
                <a:xfrm flipH="1" rot="2242200">
                  <a:off x="5589000" y="3826800"/>
                  <a:ext cx="982800" cy="39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48"/>
                <p:cNvSpPr/>
                <p:nvPr/>
              </p:nvSpPr>
              <p:spPr>
                <a:xfrm flipH="1" rot="2242200">
                  <a:off x="5594400" y="3806640"/>
                  <a:ext cx="98280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PubPieSlice"/>
              <p:cNvSpPr/>
              <p:nvPr/>
            </p:nvSpPr>
            <p:spPr>
              <a:xfrm rot="7956600">
                <a:off x="5664960" y="3510000"/>
                <a:ext cx="64080" cy="63000"/>
              </a:xfrm>
              <a:custGeom>
                <a:avLst/>
                <a:gdLst>
                  <a:gd name="textAreaLeft" fmla="*/ 9360 w 64080"/>
                  <a:gd name="textAreaRight" fmla="*/ 54720 w 64080"/>
                  <a:gd name="textAreaTop" fmla="*/ 9360 h 63000"/>
                  <a:gd name="textAreaBottom" fmla="*/ 53640 h 6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16764"/>
                      <a:pt x="4835" y="21599"/>
                      <a:pt x="10799" y="21600"/>
                    </a:cubicBezTo>
                    <a:cubicBezTo>
                      <a:pt x="16764" y="21600"/>
                      <a:pt x="21600" y="16764"/>
                      <a:pt x="21600" y="10800"/>
                    </a:cubicBezTo>
                    <a:lnTo>
                      <a:pt x="10800" y="108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63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50"/>
            <p:cNvGrpSpPr/>
            <p:nvPr/>
          </p:nvGrpSpPr>
          <p:grpSpPr>
            <a:xfrm>
              <a:off x="5378400" y="4484160"/>
              <a:ext cx="836280" cy="671400"/>
              <a:chOff x="5378400" y="4484160"/>
              <a:chExt cx="836280" cy="671400"/>
            </a:xfrm>
          </p:grpSpPr>
          <p:sp>
            <p:nvSpPr>
              <p:cNvPr id="417" name="Rectangle 51"/>
              <p:cNvSpPr/>
              <p:nvPr/>
            </p:nvSpPr>
            <p:spPr>
              <a:xfrm rot="19357800">
                <a:off x="5313960" y="4803120"/>
                <a:ext cx="982800" cy="60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52"/>
              <p:cNvSpPr/>
              <p:nvPr/>
            </p:nvSpPr>
            <p:spPr>
              <a:xfrm rot="19357800">
                <a:off x="5305320" y="4772880"/>
                <a:ext cx="982440" cy="918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Oval 53"/>
            <p:cNvSpPr/>
            <p:nvPr/>
          </p:nvSpPr>
          <p:spPr>
            <a:xfrm flipV="1">
              <a:off x="4779720" y="5616720"/>
              <a:ext cx="79380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54"/>
            <p:cNvGrpSpPr/>
            <p:nvPr/>
          </p:nvGrpSpPr>
          <p:grpSpPr>
            <a:xfrm>
              <a:off x="4786200" y="4948200"/>
              <a:ext cx="750960" cy="746280"/>
              <a:chOff x="4786200" y="4948200"/>
              <a:chExt cx="750960" cy="746280"/>
            </a:xfrm>
          </p:grpSpPr>
          <p:sp>
            <p:nvSpPr>
              <p:cNvPr id="421" name="Oval 55"/>
              <p:cNvSpPr/>
              <p:nvPr/>
            </p:nvSpPr>
            <p:spPr>
              <a:xfrm>
                <a:off x="4786200" y="4948200"/>
                <a:ext cx="750960" cy="746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2" name="Group 56"/>
              <p:cNvGrpSpPr/>
              <p:nvPr/>
            </p:nvGrpSpPr>
            <p:grpSpPr>
              <a:xfrm>
                <a:off x="4793040" y="4956120"/>
                <a:ext cx="736200" cy="725400"/>
                <a:chOff x="4793040" y="4956120"/>
                <a:chExt cx="736200" cy="725400"/>
              </a:xfrm>
            </p:grpSpPr>
            <p:sp>
              <p:nvSpPr>
                <p:cNvPr id="423" name="Oval 57"/>
                <p:cNvSpPr/>
                <p:nvPr/>
              </p:nvSpPr>
              <p:spPr>
                <a:xfrm>
                  <a:off x="4793040" y="4956120"/>
                  <a:ext cx="736200" cy="72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未知"/>
                <p:cNvSpPr/>
                <p:nvPr/>
              </p:nvSpPr>
              <p:spPr>
                <a:xfrm>
                  <a:off x="4878360" y="4965840"/>
                  <a:ext cx="564120" cy="271800"/>
                </a:xfrm>
                <a:custGeom>
                  <a:avLst/>
                  <a:gdLst>
                    <a:gd name="textAreaLeft" fmla="*/ 0 w 564120"/>
                    <a:gd name="textAreaRight" fmla="*/ 564480 w 564120"/>
                    <a:gd name="textAreaTop" fmla="*/ 0 h 271800"/>
                    <a:gd name="textAreaBottom" fmla="*/ 272160 h 2718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59"/>
                <p:cNvSpPr/>
                <p:nvPr/>
              </p:nvSpPr>
              <p:spPr>
                <a:xfrm rot="16200000">
                  <a:off x="4979160" y="5135400"/>
                  <a:ext cx="362880" cy="72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038" y="803"/>
                        <a:pt x="4476" y="5080"/>
                        <a:pt x="4476" y="10800"/>
                      </a:cubicBezTo>
                      <a:cubicBezTo>
                        <a:pt x="4476" y="16520"/>
                        <a:pt x="13038" y="2079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39393">
                        <a:alpha val="38039"/>
                      </a:srgbClr>
                    </a:gs>
                    <a:gs pos="100000">
                      <a:srgbClr val="b2b2b2">
                        <a:alpha val="66274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6" name="Oval 60"/>
            <p:cNvSpPr/>
            <p:nvPr/>
          </p:nvSpPr>
          <p:spPr>
            <a:xfrm flipV="1">
              <a:off x="5829120" y="4844160"/>
              <a:ext cx="1565280" cy="24948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61"/>
            <p:cNvSpPr/>
            <p:nvPr/>
          </p:nvSpPr>
          <p:spPr>
            <a:xfrm>
              <a:off x="5941800" y="3660840"/>
              <a:ext cx="1327320" cy="1324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62"/>
            <p:cNvGrpSpPr/>
            <p:nvPr/>
          </p:nvGrpSpPr>
          <p:grpSpPr>
            <a:xfrm>
              <a:off x="5954760" y="3675240"/>
              <a:ext cx="1299960" cy="1285560"/>
              <a:chOff x="5954760" y="3675240"/>
              <a:chExt cx="1299960" cy="1285560"/>
            </a:xfrm>
          </p:grpSpPr>
          <p:sp>
            <p:nvSpPr>
              <p:cNvPr id="429" name="Oval 63"/>
              <p:cNvSpPr/>
              <p:nvPr/>
            </p:nvSpPr>
            <p:spPr>
              <a:xfrm>
                <a:off x="5954760" y="3675240"/>
                <a:ext cx="1299960" cy="128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541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>
                <a:off x="6105240" y="3692880"/>
                <a:ext cx="996480" cy="481320"/>
              </a:xfrm>
              <a:custGeom>
                <a:avLst/>
                <a:gdLst>
                  <a:gd name="textAreaLeft" fmla="*/ 0 w 996480"/>
                  <a:gd name="textAreaRight" fmla="*/ 996840 w 99648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541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65"/>
              <p:cNvSpPr/>
              <p:nvPr/>
            </p:nvSpPr>
            <p:spPr>
              <a:xfrm rot="16200000">
                <a:off x="6282360" y="3995640"/>
                <a:ext cx="643320" cy="1285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db5414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Rectangle 66"/>
            <p:cNvSpPr/>
            <p:nvPr/>
          </p:nvSpPr>
          <p:spPr>
            <a:xfrm>
              <a:off x="6436080" y="411156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7"/>
            <p:cNvSpPr/>
            <p:nvPr/>
          </p:nvSpPr>
          <p:spPr>
            <a:xfrm>
              <a:off x="5028840" y="270828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8"/>
            <p:cNvSpPr/>
            <p:nvPr/>
          </p:nvSpPr>
          <p:spPr>
            <a:xfrm>
              <a:off x="7357680" y="270828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9"/>
            <p:cNvSpPr/>
            <p:nvPr/>
          </p:nvSpPr>
          <p:spPr>
            <a:xfrm>
              <a:off x="4765320" y="566100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70"/>
            <p:cNvSpPr/>
            <p:nvPr/>
          </p:nvSpPr>
          <p:spPr>
            <a:xfrm>
              <a:off x="7789320" y="566100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438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439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××××××××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7"/>
          <p:cNvGrpSpPr/>
          <p:nvPr/>
        </p:nvGrpSpPr>
        <p:grpSpPr>
          <a:xfrm>
            <a:off x="558720" y="2133720"/>
            <a:ext cx="317520" cy="4534920"/>
            <a:chOff x="558720" y="2133720"/>
            <a:chExt cx="317520" cy="4534920"/>
          </a:xfrm>
        </p:grpSpPr>
        <p:grpSp>
          <p:nvGrpSpPr>
            <p:cNvPr id="443" name="Group 8"/>
            <p:cNvGrpSpPr/>
            <p:nvPr/>
          </p:nvGrpSpPr>
          <p:grpSpPr>
            <a:xfrm>
              <a:off x="558720" y="2133720"/>
              <a:ext cx="216000" cy="4534920"/>
              <a:chOff x="558720" y="2133720"/>
              <a:chExt cx="216000" cy="4534920"/>
            </a:xfrm>
          </p:grpSpPr>
          <p:sp>
            <p:nvSpPr>
              <p:cNvPr id="444" name="Rectangle 9"/>
              <p:cNvSpPr/>
              <p:nvPr/>
            </p:nvSpPr>
            <p:spPr>
              <a:xfrm>
                <a:off x="558720" y="2133720"/>
                <a:ext cx="216000" cy="4534920"/>
              </a:xfrm>
              <a:prstGeom prst="rect">
                <a:avLst/>
              </a:prstGeom>
              <a:gradFill rotWithShape="0">
                <a:gsLst>
                  <a:gs pos="0">
                    <a:srgbClr val="fddb7b"/>
                  </a:gs>
                  <a:gs pos="100000">
                    <a:srgbClr val="fbbe0d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0"/>
              <p:cNvSpPr/>
              <p:nvPr/>
            </p:nvSpPr>
            <p:spPr>
              <a:xfrm flipV="1">
                <a:off x="761760" y="2137320"/>
                <a:ext cx="0" cy="4530960"/>
              </a:xfrm>
              <a:prstGeom prst="line">
                <a:avLst/>
              </a:prstGeom>
              <a:ln w="9360">
                <a:solidFill>
                  <a:srgbClr val="fbbe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Line 11"/>
            <p:cNvSpPr/>
            <p:nvPr/>
          </p:nvSpPr>
          <p:spPr>
            <a:xfrm>
              <a:off x="876240" y="2370600"/>
              <a:ext cx="0" cy="4071600"/>
            </a:xfrm>
            <a:prstGeom prst="line">
              <a:avLst/>
            </a:prstGeom>
            <a:ln w="19080">
              <a:solidFill>
                <a:srgbClr val="db5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2"/>
          <p:cNvGrpSpPr/>
          <p:nvPr/>
        </p:nvGrpSpPr>
        <p:grpSpPr>
          <a:xfrm>
            <a:off x="3695760" y="2205000"/>
            <a:ext cx="4763880" cy="4392720"/>
            <a:chOff x="3695760" y="2205000"/>
            <a:chExt cx="4763880" cy="4392720"/>
          </a:xfrm>
        </p:grpSpPr>
        <p:sp>
          <p:nvSpPr>
            <p:cNvPr id="448" name="AutoShape 13"/>
            <p:cNvSpPr/>
            <p:nvPr/>
          </p:nvSpPr>
          <p:spPr>
            <a:xfrm>
              <a:off x="3695760" y="2205000"/>
              <a:ext cx="4763880" cy="4392720"/>
            </a:xfrm>
            <a:prstGeom prst="roundRect">
              <a:avLst>
                <a:gd name="adj" fmla="val 2630"/>
              </a:avLst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4"/>
            <p:cNvSpPr/>
            <p:nvPr/>
          </p:nvSpPr>
          <p:spPr>
            <a:xfrm>
              <a:off x="3722760" y="2224440"/>
              <a:ext cx="4717080" cy="22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5"/>
            <p:cNvSpPr/>
            <p:nvPr/>
          </p:nvSpPr>
          <p:spPr>
            <a:xfrm flipV="1">
              <a:off x="3722760" y="5869080"/>
              <a:ext cx="4717080" cy="720000"/>
            </a:xfrm>
            <a:prstGeom prst="roundRect">
              <a:avLst>
                <a:gd name="adj" fmla="val 1527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16"/>
          <p:cNvSpPr/>
          <p:nvPr/>
        </p:nvSpPr>
        <p:spPr>
          <a:xfrm>
            <a:off x="876240" y="2819520"/>
            <a:ext cx="266724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7"/>
          <p:cNvSpPr/>
          <p:nvPr/>
        </p:nvSpPr>
        <p:spPr>
          <a:xfrm>
            <a:off x="876240" y="4051440"/>
            <a:ext cx="21337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100000">
                <a:srgbClr val="61616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8"/>
          <p:cNvSpPr/>
          <p:nvPr/>
        </p:nvSpPr>
        <p:spPr>
          <a:xfrm>
            <a:off x="876240" y="5132520"/>
            <a:ext cx="21337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100000">
                <a:srgbClr val="61616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3772080" y="2883960"/>
            <a:ext cx="457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5508720" y="479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457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458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7"/>
          <p:cNvSpPr/>
          <p:nvPr/>
        </p:nvSpPr>
        <p:spPr>
          <a:xfrm>
            <a:off x="6443640" y="3716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250920" y="2357280"/>
            <a:ext cx="4537080" cy="4024080"/>
            <a:chOff x="250920" y="2357280"/>
            <a:chExt cx="4537080" cy="4024080"/>
          </a:xfrm>
        </p:grpSpPr>
        <p:sp>
          <p:nvSpPr>
            <p:cNvPr id="463" name="Rectangle 9"/>
            <p:cNvSpPr/>
            <p:nvPr/>
          </p:nvSpPr>
          <p:spPr>
            <a:xfrm>
              <a:off x="250920" y="2357280"/>
              <a:ext cx="4537080" cy="402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301320" y="2458800"/>
              <a:ext cx="4435560" cy="3839400"/>
            </a:xfrm>
            <a:prstGeom prst="rect">
              <a:avLst/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11"/>
          <p:cNvSpPr/>
          <p:nvPr/>
        </p:nvSpPr>
        <p:spPr>
          <a:xfrm>
            <a:off x="322200" y="3141720"/>
            <a:ext cx="4326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2"/>
          <p:cNvSpPr/>
          <p:nvPr/>
        </p:nvSpPr>
        <p:spPr>
          <a:xfrm flipH="1">
            <a:off x="320760" y="2546280"/>
            <a:ext cx="4395600" cy="53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未知"/>
          <p:cNvSpPr/>
          <p:nvPr/>
        </p:nvSpPr>
        <p:spPr>
          <a:xfrm>
            <a:off x="2627280" y="2744640"/>
            <a:ext cx="3959280" cy="1189080"/>
          </a:xfrm>
          <a:custGeom>
            <a:avLst/>
            <a:gdLst>
              <a:gd name="textAreaLeft" fmla="*/ 0 w 3959280"/>
              <a:gd name="textAreaRight" fmla="*/ 3959280 w 39592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636" h="368">
                <a:moveTo>
                  <a:pt x="42" y="0"/>
                </a:moveTo>
                <a:lnTo>
                  <a:pt x="594" y="0"/>
                </a:lnTo>
                <a:lnTo>
                  <a:pt x="510" y="134"/>
                </a:lnTo>
                <a:lnTo>
                  <a:pt x="636" y="144"/>
                </a:lnTo>
                <a:lnTo>
                  <a:pt x="324" y="368"/>
                </a:lnTo>
                <a:lnTo>
                  <a:pt x="0" y="150"/>
                </a:lnTo>
                <a:lnTo>
                  <a:pt x="126" y="134"/>
                </a:lnTo>
                <a:lnTo>
                  <a:pt x="42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bbe0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469" name="Group 4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470" name="AutoShape 5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6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AutoShape 7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8"/>
          <p:cNvGrpSpPr/>
          <p:nvPr/>
        </p:nvGrpSpPr>
        <p:grpSpPr>
          <a:xfrm>
            <a:off x="2800440" y="2276640"/>
            <a:ext cx="3598920" cy="576000"/>
            <a:chOff x="2800440" y="2276640"/>
            <a:chExt cx="3598920" cy="576000"/>
          </a:xfrm>
        </p:grpSpPr>
        <p:sp>
          <p:nvSpPr>
            <p:cNvPr id="474" name="AutoShape 9"/>
            <p:cNvSpPr/>
            <p:nvPr/>
          </p:nvSpPr>
          <p:spPr>
            <a:xfrm>
              <a:off x="2800440" y="2276640"/>
              <a:ext cx="3598920" cy="5760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db5414">
                    <a:alpha val="81176"/>
                  </a:srgbClr>
                </a:gs>
                <a:gs pos="100000">
                  <a:srgbClr val="6527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2814480" y="2293560"/>
              <a:ext cx="3570480" cy="266400"/>
            </a:xfrm>
            <a:prstGeom prst="roundRect">
              <a:avLst>
                <a:gd name="adj" fmla="val 13880"/>
              </a:avLst>
            </a:prstGeom>
            <a:gradFill rotWithShape="0">
              <a:gsLst>
                <a:gs pos="0">
                  <a:srgbClr val="ffffff">
                    <a:alpha val="6705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11"/>
          <p:cNvGrpSpPr/>
          <p:nvPr/>
        </p:nvGrpSpPr>
        <p:grpSpPr>
          <a:xfrm>
            <a:off x="900000" y="3897360"/>
            <a:ext cx="3384720" cy="2700360"/>
            <a:chOff x="900000" y="3897360"/>
            <a:chExt cx="3384720" cy="2700360"/>
          </a:xfrm>
        </p:grpSpPr>
        <p:sp>
          <p:nvSpPr>
            <p:cNvPr id="477" name="AutoShape 12"/>
            <p:cNvSpPr/>
            <p:nvPr/>
          </p:nvSpPr>
          <p:spPr>
            <a:xfrm>
              <a:off x="900000" y="3897360"/>
              <a:ext cx="3384720" cy="27003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1116000" y="5038560"/>
              <a:ext cx="28796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4"/>
          <p:cNvGrpSpPr/>
          <p:nvPr/>
        </p:nvGrpSpPr>
        <p:grpSpPr>
          <a:xfrm>
            <a:off x="4932360" y="3897360"/>
            <a:ext cx="3384720" cy="2700360"/>
            <a:chOff x="4932360" y="3897360"/>
            <a:chExt cx="3384720" cy="2700360"/>
          </a:xfrm>
        </p:grpSpPr>
        <p:sp>
          <p:nvSpPr>
            <p:cNvPr id="480" name="AutoShape 15"/>
            <p:cNvSpPr/>
            <p:nvPr/>
          </p:nvSpPr>
          <p:spPr>
            <a:xfrm>
              <a:off x="4932360" y="3897360"/>
              <a:ext cx="3384720" cy="2700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6"/>
            <p:cNvSpPr/>
            <p:nvPr/>
          </p:nvSpPr>
          <p:spPr>
            <a:xfrm>
              <a:off x="5148360" y="4906800"/>
              <a:ext cx="2879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483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484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7"/>
          <p:cNvGrpSpPr/>
          <p:nvPr/>
        </p:nvGrpSpPr>
        <p:grpSpPr>
          <a:xfrm>
            <a:off x="-208080" y="1946160"/>
            <a:ext cx="5307120" cy="4636800"/>
            <a:chOff x="-208080" y="1946160"/>
            <a:chExt cx="5307120" cy="4636800"/>
          </a:xfrm>
        </p:grpSpPr>
        <p:grpSp>
          <p:nvGrpSpPr>
            <p:cNvPr id="488" name="Group 8"/>
            <p:cNvGrpSpPr/>
            <p:nvPr/>
          </p:nvGrpSpPr>
          <p:grpSpPr>
            <a:xfrm>
              <a:off x="2244600" y="1946160"/>
              <a:ext cx="2854440" cy="3539880"/>
              <a:chOff x="2244600" y="1946160"/>
              <a:chExt cx="2854440" cy="3539880"/>
            </a:xfrm>
          </p:grpSpPr>
          <p:sp>
            <p:nvSpPr>
              <p:cNvPr id="489" name="AutoShape 9"/>
              <p:cNvSpPr/>
              <p:nvPr/>
            </p:nvSpPr>
            <p:spPr>
              <a:xfrm rot="3658800">
                <a:off x="1725120" y="3533760"/>
                <a:ext cx="3241440" cy="720360"/>
              </a:xfrm>
              <a:custGeom>
                <a:avLst/>
                <a:gdLst>
                  <a:gd name="textAreaLeft" fmla="*/ 476280 w 3241440"/>
                  <a:gd name="textAreaRight" fmla="*/ 2765160 w 3241440"/>
                  <a:gd name="textAreaTop" fmla="*/ 106200 h 720360"/>
                  <a:gd name="textAreaBottom" fmla="*/ 614160 h 72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743" y="21600"/>
                    </a:lnTo>
                    <a:lnTo>
                      <a:pt x="188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be0d"/>
                  </a:gs>
                  <a:gs pos="50000">
                    <a:srgbClr val="745806"/>
                  </a:gs>
                  <a:gs pos="100000">
                    <a:srgbClr val="fbbe0d"/>
                  </a:gs>
                </a:gsLst>
                <a:lin ang="2064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10"/>
              <p:cNvSpPr/>
              <p:nvPr/>
            </p:nvSpPr>
            <p:spPr>
              <a:xfrm flipH="1" rot="14451600">
                <a:off x="2374560" y="3176640"/>
                <a:ext cx="3241080" cy="720360"/>
              </a:xfrm>
              <a:custGeom>
                <a:avLst/>
                <a:gdLst>
                  <a:gd name="textAreaLeft" fmla="*/ 782640 w 3241080"/>
                  <a:gd name="textAreaRight" fmla="*/ 2458440 w 3241080"/>
                  <a:gd name="textAreaTop" fmla="*/ 174600 h 720360"/>
                  <a:gd name="textAreaBottom" fmla="*/ 545760 h 72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6844" y="21600"/>
                    </a:lnTo>
                    <a:lnTo>
                      <a:pt x="1475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be0d">
                      <a:alpha val="40000"/>
                    </a:srgbClr>
                  </a:gs>
                  <a:gs pos="100000">
                    <a:srgbClr val="ffffff"/>
                  </a:gs>
                </a:gsLst>
                <a:lin ang="19854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"/>
            <p:cNvGrpSpPr/>
            <p:nvPr/>
          </p:nvGrpSpPr>
          <p:grpSpPr>
            <a:xfrm>
              <a:off x="-208080" y="1946880"/>
              <a:ext cx="2855520" cy="3539160"/>
              <a:chOff x="-208080" y="1946880"/>
              <a:chExt cx="2855520" cy="3539160"/>
            </a:xfrm>
          </p:grpSpPr>
          <p:sp>
            <p:nvSpPr>
              <p:cNvPr id="492" name="AutoShape 12"/>
              <p:cNvSpPr/>
              <p:nvPr/>
            </p:nvSpPr>
            <p:spPr>
              <a:xfrm flipH="1" rot="17941200">
                <a:off x="-74880" y="3533760"/>
                <a:ext cx="3241440" cy="720360"/>
              </a:xfrm>
              <a:custGeom>
                <a:avLst/>
                <a:gdLst>
                  <a:gd name="textAreaLeft" fmla="*/ 476280 w 3241440"/>
                  <a:gd name="textAreaRight" fmla="*/ 2765160 w 3241440"/>
                  <a:gd name="textAreaTop" fmla="*/ 106200 h 720360"/>
                  <a:gd name="textAreaBottom" fmla="*/ 614160 h 72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743" y="21600"/>
                    </a:lnTo>
                    <a:lnTo>
                      <a:pt x="188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5414"/>
                  </a:gs>
                  <a:gs pos="50000">
                    <a:srgbClr val="652709"/>
                  </a:gs>
                  <a:gs pos="100000">
                    <a:srgbClr val="db5414"/>
                  </a:gs>
                </a:gsLst>
                <a:lin ang="2064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3"/>
              <p:cNvSpPr/>
              <p:nvPr/>
            </p:nvSpPr>
            <p:spPr>
              <a:xfrm flipH="1" rot="7155000">
                <a:off x="-722160" y="3176280"/>
                <a:ext cx="3241440" cy="720720"/>
              </a:xfrm>
              <a:custGeom>
                <a:avLst/>
                <a:gdLst>
                  <a:gd name="textAreaLeft" fmla="*/ 782640 w 3241440"/>
                  <a:gd name="textAreaRight" fmla="*/ 2458800 w 3241440"/>
                  <a:gd name="textAreaTop" fmla="*/ 174600 h 720720"/>
                  <a:gd name="textAreaBottom" fmla="*/ 54612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6844" y="21600"/>
                    </a:lnTo>
                    <a:lnTo>
                      <a:pt x="1475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5414">
                      <a:alpha val="40000"/>
                    </a:srgbClr>
                  </a:gs>
                  <a:gs pos="100000">
                    <a:srgbClr val="ffffff"/>
                  </a:gs>
                </a:gsLst>
                <a:lin ang="12558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4"/>
            <p:cNvGrpSpPr/>
            <p:nvPr/>
          </p:nvGrpSpPr>
          <p:grpSpPr>
            <a:xfrm>
              <a:off x="858600" y="5124960"/>
              <a:ext cx="3162600" cy="1458000"/>
              <a:chOff x="858600" y="5124960"/>
              <a:chExt cx="3162600" cy="1458000"/>
            </a:xfrm>
          </p:grpSpPr>
          <p:sp>
            <p:nvSpPr>
              <p:cNvPr id="495" name="AutoShape 15"/>
              <p:cNvSpPr/>
              <p:nvPr/>
            </p:nvSpPr>
            <p:spPr>
              <a:xfrm flipH="1" rot="10802400">
                <a:off x="871200" y="5126040"/>
                <a:ext cx="3149640" cy="720720"/>
              </a:xfrm>
              <a:custGeom>
                <a:avLst/>
                <a:gdLst>
                  <a:gd name="textAreaLeft" fmla="*/ 461880 w 3149640"/>
                  <a:gd name="textAreaRight" fmla="*/ 2687760 w 3149640"/>
                  <a:gd name="textAreaTop" fmla="*/ 106200 h 720720"/>
                  <a:gd name="textAreaBottom" fmla="*/ 61452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743" y="21600"/>
                    </a:lnTo>
                    <a:lnTo>
                      <a:pt x="188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525252"/>
                  </a:gs>
                  <a:gs pos="100000">
                    <a:srgbClr val="b2b2b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16"/>
              <p:cNvSpPr/>
              <p:nvPr/>
            </p:nvSpPr>
            <p:spPr>
              <a:xfrm flipH="1" flipV="1" rot="10797600">
                <a:off x="858600" y="5861160"/>
                <a:ext cx="3149640" cy="720720"/>
              </a:xfrm>
              <a:custGeom>
                <a:avLst/>
                <a:gdLst>
                  <a:gd name="textAreaLeft" fmla="*/ 461880 w 3149640"/>
                  <a:gd name="textAreaRight" fmla="*/ 2687760 w 3149640"/>
                  <a:gd name="textAreaTop" fmla="*/ 106200 h 720720"/>
                  <a:gd name="textAreaBottom" fmla="*/ 61452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743" y="21600"/>
                    </a:lnTo>
                    <a:lnTo>
                      <a:pt x="188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>
                      <a:alpha val="40000"/>
                    </a:srgbClr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Text Box 17"/>
            <p:cNvSpPr/>
            <p:nvPr/>
          </p:nvSpPr>
          <p:spPr>
            <a:xfrm rot="17979000">
              <a:off x="254520" y="3625200"/>
              <a:ext cx="25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8"/>
            <p:cNvSpPr/>
            <p:nvPr/>
          </p:nvSpPr>
          <p:spPr>
            <a:xfrm rot="3607200">
              <a:off x="2154240" y="37324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9"/>
            <p:cNvSpPr/>
            <p:nvPr/>
          </p:nvSpPr>
          <p:spPr>
            <a:xfrm>
              <a:off x="1187640" y="535176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20"/>
            <p:cNvGrpSpPr/>
            <p:nvPr/>
          </p:nvGrpSpPr>
          <p:grpSpPr>
            <a:xfrm>
              <a:off x="1258920" y="2995920"/>
              <a:ext cx="2376360" cy="2158920"/>
              <a:chOff x="1258920" y="2995920"/>
              <a:chExt cx="2376360" cy="2158920"/>
            </a:xfrm>
          </p:grpSpPr>
          <p:sp>
            <p:nvSpPr>
              <p:cNvPr id="501" name="AutoShape 21"/>
              <p:cNvSpPr/>
              <p:nvPr/>
            </p:nvSpPr>
            <p:spPr>
              <a:xfrm>
                <a:off x="1258920" y="2995920"/>
                <a:ext cx="2376360" cy="21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22"/>
              <p:cNvGrpSpPr/>
              <p:nvPr/>
            </p:nvGrpSpPr>
            <p:grpSpPr>
              <a:xfrm>
                <a:off x="1619280" y="3355920"/>
                <a:ext cx="1727280" cy="1584720"/>
                <a:chOff x="1619280" y="3355920"/>
                <a:chExt cx="1727280" cy="1584720"/>
              </a:xfrm>
            </p:grpSpPr>
            <p:sp>
              <p:nvSpPr>
                <p:cNvPr id="503" name="Line 23"/>
                <p:cNvSpPr/>
                <p:nvPr/>
              </p:nvSpPr>
              <p:spPr>
                <a:xfrm flipH="1">
                  <a:off x="1619280" y="3427560"/>
                  <a:ext cx="790560" cy="151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Line 24"/>
                <p:cNvSpPr/>
                <p:nvPr/>
              </p:nvSpPr>
              <p:spPr>
                <a:xfrm>
                  <a:off x="1619280" y="4940640"/>
                  <a:ext cx="17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25"/>
                <p:cNvSpPr/>
                <p:nvPr/>
              </p:nvSpPr>
              <p:spPr>
                <a:xfrm flipH="1" flipV="1">
                  <a:off x="2411280" y="3355920"/>
                  <a:ext cx="935280" cy="15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AutoShape 26"/>
          <p:cNvSpPr/>
          <p:nvPr/>
        </p:nvSpPr>
        <p:spPr>
          <a:xfrm>
            <a:off x="4716360" y="2276640"/>
            <a:ext cx="3888000" cy="647640"/>
          </a:xfrm>
          <a:prstGeom prst="pie">
            <a:avLst/>
          </a:prstGeom>
          <a:gradFill rotWithShape="0">
            <a:gsLst>
              <a:gs pos="0">
                <a:srgbClr val="db5414"/>
              </a:gs>
              <a:gs pos="50000">
                <a:srgbClr val="652709"/>
              </a:gs>
              <a:gs pos="100000">
                <a:srgbClr val="db5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7"/>
          <p:cNvSpPr/>
          <p:nvPr/>
        </p:nvSpPr>
        <p:spPr>
          <a:xfrm flipV="1">
            <a:off x="4643280" y="2923200"/>
            <a:ext cx="4032360" cy="3529080"/>
          </a:xfrm>
          <a:custGeom>
            <a:avLst/>
            <a:gdLst>
              <a:gd name="textAreaLeft" fmla="*/ 335880 w 4032360"/>
              <a:gd name="textAreaRight" fmla="*/ 3696480 w 4032360"/>
              <a:gd name="textAreaTop" fmla="*/ 293760 h 3529080"/>
              <a:gd name="textAreaBottom" fmla="*/ 323496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b5414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8"/>
          <p:cNvSpPr/>
          <p:nvPr/>
        </p:nvSpPr>
        <p:spPr>
          <a:xfrm>
            <a:off x="4859280" y="4277880"/>
            <a:ext cx="352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510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511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7"/>
          <p:cNvGrpSpPr/>
          <p:nvPr/>
        </p:nvGrpSpPr>
        <p:grpSpPr>
          <a:xfrm>
            <a:off x="831960" y="2225520"/>
            <a:ext cx="7576920" cy="1165320"/>
            <a:chOff x="831960" y="2225520"/>
            <a:chExt cx="7576920" cy="1165320"/>
          </a:xfrm>
        </p:grpSpPr>
        <p:sp>
          <p:nvSpPr>
            <p:cNvPr id="515" name="AutoShape 8"/>
            <p:cNvSpPr/>
            <p:nvPr/>
          </p:nvSpPr>
          <p:spPr>
            <a:xfrm>
              <a:off x="941040" y="2225520"/>
              <a:ext cx="657216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9"/>
            <p:cNvGrpSpPr/>
            <p:nvPr/>
          </p:nvGrpSpPr>
          <p:grpSpPr>
            <a:xfrm>
              <a:off x="831960" y="2314440"/>
              <a:ext cx="7576920" cy="1076400"/>
              <a:chOff x="831960" y="2314440"/>
              <a:chExt cx="7576920" cy="1076400"/>
            </a:xfrm>
          </p:grpSpPr>
          <p:sp>
            <p:nvSpPr>
              <p:cNvPr id="517" name="AutoShape 10"/>
              <p:cNvSpPr/>
              <p:nvPr/>
            </p:nvSpPr>
            <p:spPr>
              <a:xfrm>
                <a:off x="831960" y="2314440"/>
                <a:ext cx="7576920" cy="1076400"/>
              </a:xfrm>
              <a:prstGeom prst="roundRect">
                <a:avLst>
                  <a:gd name="adj" fmla="val 16667"/>
                </a:avLst>
              </a:prstGeom>
              <a:solidFill>
                <a:srgbClr val="fddb7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11"/>
              <p:cNvSpPr/>
              <p:nvPr/>
            </p:nvSpPr>
            <p:spPr>
              <a:xfrm>
                <a:off x="971280" y="2565360"/>
                <a:ext cx="734508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12"/>
          <p:cNvGrpSpPr/>
          <p:nvPr/>
        </p:nvGrpSpPr>
        <p:grpSpPr>
          <a:xfrm>
            <a:off x="833400" y="5286240"/>
            <a:ext cx="7626240" cy="1238400"/>
            <a:chOff x="833400" y="5286240"/>
            <a:chExt cx="7626240" cy="1238400"/>
          </a:xfrm>
        </p:grpSpPr>
        <p:sp>
          <p:nvSpPr>
            <p:cNvPr id="520" name="AutoShape 13"/>
            <p:cNvSpPr/>
            <p:nvPr/>
          </p:nvSpPr>
          <p:spPr>
            <a:xfrm>
              <a:off x="971640" y="5286240"/>
              <a:ext cx="657216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4"/>
            <p:cNvSpPr/>
            <p:nvPr/>
          </p:nvSpPr>
          <p:spPr>
            <a:xfrm>
              <a:off x="833400" y="5448240"/>
              <a:ext cx="7626240" cy="1076400"/>
            </a:xfrm>
            <a:prstGeom prst="roundRect">
              <a:avLst>
                <a:gd name="adj" fmla="val 16667"/>
              </a:avLst>
            </a:prstGeom>
            <a:solidFill>
              <a:srgbClr val="fddb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971640" y="5589360"/>
              <a:ext cx="7345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825480" y="3852720"/>
            <a:ext cx="7577280" cy="1076400"/>
            <a:chOff x="825480" y="3852720"/>
            <a:chExt cx="7577280" cy="1076400"/>
          </a:xfrm>
        </p:grpSpPr>
        <p:sp>
          <p:nvSpPr>
            <p:cNvPr id="524" name="AutoShape 17"/>
            <p:cNvSpPr/>
            <p:nvPr/>
          </p:nvSpPr>
          <p:spPr>
            <a:xfrm>
              <a:off x="825480" y="3852720"/>
              <a:ext cx="7577280" cy="1076400"/>
            </a:xfrm>
            <a:prstGeom prst="roundRect">
              <a:avLst>
                <a:gd name="adj" fmla="val 16667"/>
              </a:avLst>
            </a:prstGeom>
            <a:solidFill>
              <a:srgbClr val="fddb7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8"/>
            <p:cNvSpPr/>
            <p:nvPr/>
          </p:nvSpPr>
          <p:spPr>
            <a:xfrm>
              <a:off x="971640" y="4136760"/>
              <a:ext cx="734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9"/>
          <p:cNvGrpSpPr/>
          <p:nvPr/>
        </p:nvGrpSpPr>
        <p:grpSpPr>
          <a:xfrm>
            <a:off x="825480" y="1989000"/>
            <a:ext cx="3319560" cy="503280"/>
            <a:chOff x="825480" y="1989000"/>
            <a:chExt cx="3319560" cy="503280"/>
          </a:xfrm>
        </p:grpSpPr>
        <p:sp>
          <p:nvSpPr>
            <p:cNvPr id="527" name="AutoShape 20"/>
            <p:cNvSpPr/>
            <p:nvPr/>
          </p:nvSpPr>
          <p:spPr>
            <a:xfrm>
              <a:off x="825480" y="1989000"/>
              <a:ext cx="3319560" cy="503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69696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21"/>
            <p:cNvSpPr/>
            <p:nvPr/>
          </p:nvSpPr>
          <p:spPr>
            <a:xfrm>
              <a:off x="833400" y="2349360"/>
              <a:ext cx="3306960" cy="12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af7a">
                    <a:alpha val="0"/>
                  </a:srgbClr>
                </a:gs>
                <a:gs pos="100000">
                  <a:srgbClr val="f0ef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22"/>
            <p:cNvSpPr/>
            <p:nvPr/>
          </p:nvSpPr>
          <p:spPr>
            <a:xfrm>
              <a:off x="833400" y="2004840"/>
              <a:ext cx="3306960" cy="12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eede1"/>
                </a:gs>
                <a:gs pos="100000">
                  <a:srgbClr val="b2af7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2144520" y="201744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825480" y="5084640"/>
            <a:ext cx="3319560" cy="503280"/>
            <a:chOff x="825480" y="5084640"/>
            <a:chExt cx="3319560" cy="503280"/>
          </a:xfrm>
        </p:grpSpPr>
        <p:sp>
          <p:nvSpPr>
            <p:cNvPr id="532" name="AutoShape 25"/>
            <p:cNvSpPr/>
            <p:nvPr/>
          </p:nvSpPr>
          <p:spPr>
            <a:xfrm>
              <a:off x="825480" y="5084640"/>
              <a:ext cx="3319560" cy="503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c174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6"/>
            <p:cNvGrpSpPr/>
            <p:nvPr/>
          </p:nvGrpSpPr>
          <p:grpSpPr>
            <a:xfrm>
              <a:off x="833400" y="5100480"/>
              <a:ext cx="3306960" cy="464760"/>
              <a:chOff x="833400" y="5100480"/>
              <a:chExt cx="3306960" cy="464760"/>
            </a:xfrm>
          </p:grpSpPr>
          <p:sp>
            <p:nvSpPr>
              <p:cNvPr id="534" name="AutoShape 27"/>
              <p:cNvSpPr/>
              <p:nvPr/>
            </p:nvSpPr>
            <p:spPr>
              <a:xfrm>
                <a:off x="833400" y="5445000"/>
                <a:ext cx="3306960" cy="12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f6f6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28"/>
              <p:cNvSpPr/>
              <p:nvPr/>
            </p:nvSpPr>
            <p:spPr>
              <a:xfrm>
                <a:off x="833400" y="5100480"/>
                <a:ext cx="3306960" cy="12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Rectangle 29"/>
            <p:cNvSpPr/>
            <p:nvPr/>
          </p:nvSpPr>
          <p:spPr>
            <a:xfrm>
              <a:off x="2174400" y="514980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30"/>
          <p:cNvGrpSpPr/>
          <p:nvPr/>
        </p:nvGrpSpPr>
        <p:grpSpPr>
          <a:xfrm>
            <a:off x="825480" y="3500280"/>
            <a:ext cx="3319560" cy="503280"/>
            <a:chOff x="825480" y="3500280"/>
            <a:chExt cx="3319560" cy="503280"/>
          </a:xfrm>
        </p:grpSpPr>
        <p:grpSp>
          <p:nvGrpSpPr>
            <p:cNvPr id="538" name="Group 31"/>
            <p:cNvGrpSpPr/>
            <p:nvPr/>
          </p:nvGrpSpPr>
          <p:grpSpPr>
            <a:xfrm>
              <a:off x="825480" y="3500280"/>
              <a:ext cx="3319560" cy="503280"/>
              <a:chOff x="825480" y="3500280"/>
              <a:chExt cx="3319560" cy="503280"/>
            </a:xfrm>
          </p:grpSpPr>
          <p:sp>
            <p:nvSpPr>
              <p:cNvPr id="539" name="AutoShape 32"/>
              <p:cNvSpPr/>
              <p:nvPr/>
            </p:nvSpPr>
            <p:spPr>
              <a:xfrm>
                <a:off x="825480" y="3500280"/>
                <a:ext cx="3319560" cy="5032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db5414"/>
                  </a:gs>
                  <a:gs pos="50000">
                    <a:srgbClr val="ca4d12"/>
                  </a:gs>
                  <a:gs pos="100000">
                    <a:srgbClr val="db54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Group 33"/>
              <p:cNvGrpSpPr/>
              <p:nvPr/>
            </p:nvGrpSpPr>
            <p:grpSpPr>
              <a:xfrm>
                <a:off x="833400" y="3515760"/>
                <a:ext cx="3307320" cy="465120"/>
                <a:chOff x="833400" y="3515760"/>
                <a:chExt cx="3307320" cy="465120"/>
              </a:xfrm>
            </p:grpSpPr>
            <p:sp>
              <p:nvSpPr>
                <p:cNvPr id="541" name="AutoShape 34"/>
                <p:cNvSpPr/>
                <p:nvPr/>
              </p:nvSpPr>
              <p:spPr>
                <a:xfrm>
                  <a:off x="833400" y="3860640"/>
                  <a:ext cx="3307320" cy="12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333399">
                        <a:alpha val="0"/>
                      </a:srgbClr>
                    </a:gs>
                    <a:gs pos="100000">
                      <a:srgbClr val="d8d8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35"/>
                <p:cNvSpPr/>
                <p:nvPr/>
              </p:nvSpPr>
              <p:spPr>
                <a:xfrm>
                  <a:off x="833400" y="3515760"/>
                  <a:ext cx="3307320" cy="12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fdfef"/>
                    </a:gs>
                    <a:gs pos="100000">
                      <a:srgbClr val="3333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Rectangle 36"/>
            <p:cNvSpPr/>
            <p:nvPr/>
          </p:nvSpPr>
          <p:spPr>
            <a:xfrm>
              <a:off x="2147400" y="356076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545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546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7"/>
          <p:cNvGrpSpPr/>
          <p:nvPr/>
        </p:nvGrpSpPr>
        <p:grpSpPr>
          <a:xfrm>
            <a:off x="2627280" y="2347920"/>
            <a:ext cx="3600360" cy="433440"/>
            <a:chOff x="2627280" y="2347920"/>
            <a:chExt cx="3600360" cy="433440"/>
          </a:xfrm>
        </p:grpSpPr>
        <p:sp>
          <p:nvSpPr>
            <p:cNvPr id="550" name="Oval 8"/>
            <p:cNvSpPr/>
            <p:nvPr/>
          </p:nvSpPr>
          <p:spPr>
            <a:xfrm>
              <a:off x="2627280" y="2347920"/>
              <a:ext cx="433440" cy="433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9"/>
            <p:cNvSpPr/>
            <p:nvPr/>
          </p:nvSpPr>
          <p:spPr>
            <a:xfrm>
              <a:off x="5794200" y="2347920"/>
              <a:ext cx="433440" cy="433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2" name="AutoShape 10"/>
            <p:cNvCxnSpPr>
              <a:stCxn id="550" idx="6"/>
              <a:endCxn id="551" idx="2"/>
            </p:cNvCxnSpPr>
            <p:nvPr/>
          </p:nvCxnSpPr>
          <p:spPr>
            <a:xfrm>
              <a:off x="3060360" y="2565000"/>
              <a:ext cx="2734200" cy="1080"/>
            </a:xfrm>
            <a:prstGeom prst="straightConnector1">
              <a:avLst/>
            </a:prstGeom>
            <a:ln w="25560">
              <a:solidFill>
                <a:srgbClr val="db5414"/>
              </a:solidFill>
              <a:miter/>
            </a:ln>
          </p:spPr>
        </p:cxnSp>
      </p:grpSp>
      <p:sp>
        <p:nvSpPr>
          <p:cNvPr id="553" name="Rectangle 11"/>
          <p:cNvSpPr/>
          <p:nvPr/>
        </p:nvSpPr>
        <p:spPr>
          <a:xfrm>
            <a:off x="4022640" y="205956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395280" y="4025160"/>
            <a:ext cx="3541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8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8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6156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179280" y="1119240"/>
            <a:ext cx="6336720" cy="654120"/>
            <a:chOff x="179280" y="1119240"/>
            <a:chExt cx="6336720" cy="654120"/>
          </a:xfrm>
        </p:grpSpPr>
        <p:grpSp>
          <p:nvGrpSpPr>
            <p:cNvPr id="557" name="Group 3"/>
            <p:cNvGrpSpPr/>
            <p:nvPr/>
          </p:nvGrpSpPr>
          <p:grpSpPr>
            <a:xfrm>
              <a:off x="179280" y="1119240"/>
              <a:ext cx="6336720" cy="654120"/>
              <a:chOff x="179280" y="1119240"/>
              <a:chExt cx="6336720" cy="654120"/>
            </a:xfrm>
          </p:grpSpPr>
          <p:sp>
            <p:nvSpPr>
              <p:cNvPr id="558" name="AutoShape 4"/>
              <p:cNvSpPr/>
              <p:nvPr/>
            </p:nvSpPr>
            <p:spPr>
              <a:xfrm>
                <a:off x="230760" y="1119240"/>
                <a:ext cx="628524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5"/>
              <p:cNvSpPr/>
              <p:nvPr/>
            </p:nvSpPr>
            <p:spPr>
              <a:xfrm>
                <a:off x="179280" y="1119240"/>
                <a:ext cx="628524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AutoShape 6"/>
            <p:cNvSpPr/>
            <p:nvPr/>
          </p:nvSpPr>
          <p:spPr>
            <a:xfrm>
              <a:off x="209520" y="1163520"/>
              <a:ext cx="62298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未知"/>
          <p:cNvSpPr/>
          <p:nvPr/>
        </p:nvSpPr>
        <p:spPr>
          <a:xfrm>
            <a:off x="539640" y="3813120"/>
            <a:ext cx="3200400" cy="27115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711520"/>
              <a:gd name="textAreaBottom" fmla="*/ 2711880 h 271152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5414"/>
              </a:gs>
            </a:gsLst>
            <a:lin ang="18900000"/>
          </a:gra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未知"/>
          <p:cNvSpPr/>
          <p:nvPr/>
        </p:nvSpPr>
        <p:spPr>
          <a:xfrm>
            <a:off x="539640" y="4626000"/>
            <a:ext cx="2224080" cy="189864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8900000"/>
          </a:gra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未知"/>
          <p:cNvSpPr/>
          <p:nvPr/>
        </p:nvSpPr>
        <p:spPr>
          <a:xfrm>
            <a:off x="539640" y="5276880"/>
            <a:ext cx="1355760" cy="12477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be0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2576520" y="3789360"/>
            <a:ext cx="1203480" cy="1203480"/>
          </a:xfrm>
          <a:prstGeom prst="ellipse">
            <a:avLst/>
          </a:prstGeom>
          <a:gradFill rotWithShape="0">
            <a:gsLst>
              <a:gs pos="0">
                <a:srgbClr val="fbbe0d"/>
              </a:gs>
              <a:gs pos="100000">
                <a:srgbClr val="3d2e0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1633680" y="4587840"/>
            <a:ext cx="1203120" cy="120348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3737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615960" y="5283360"/>
            <a:ext cx="1203480" cy="1203120"/>
          </a:xfrm>
          <a:prstGeom prst="ellipse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"/>
          <p:cNvSpPr/>
          <p:nvPr/>
        </p:nvSpPr>
        <p:spPr>
          <a:xfrm flipV="1">
            <a:off x="539640" y="22572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539640" y="652464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5"/>
          <p:cNvSpPr/>
          <p:nvPr/>
        </p:nvSpPr>
        <p:spPr>
          <a:xfrm>
            <a:off x="3511440" y="2409840"/>
            <a:ext cx="381240" cy="380880"/>
          </a:xfrm>
          <a:prstGeom prst="ellipse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AutoShape 16"/>
          <p:cNvCxnSpPr>
            <a:stCxn id="566" idx="0"/>
            <a:endCxn id="569" idx="2"/>
          </p:cNvCxnSpPr>
          <p:nvPr/>
        </p:nvCxnSpPr>
        <p:spPr>
          <a:xfrm flipH="1" flipV="1" rot="5400000">
            <a:off x="1022760" y="2794320"/>
            <a:ext cx="2683800" cy="2294640"/>
          </a:xfrm>
          <a:prstGeom prst="bentConnector2">
            <a:avLst/>
          </a:prstGeom>
          <a:ln w="22320">
            <a:solidFill>
              <a:srgbClr val="db5414"/>
            </a:solidFill>
            <a:miter/>
          </a:ln>
        </p:spPr>
      </p:cxnSp>
      <p:sp>
        <p:nvSpPr>
          <p:cNvPr id="571" name="Rectangle 17"/>
          <p:cNvSpPr/>
          <p:nvPr/>
        </p:nvSpPr>
        <p:spPr>
          <a:xfrm>
            <a:off x="3968640" y="2706840"/>
            <a:ext cx="4645080" cy="345888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rmAutofit/>
          </a:bodyPr>
          <a:p>
            <a:pPr marL="539640" indent="-358560">
              <a:lnSpc>
                <a:spcPct val="17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58560">
              <a:lnSpc>
                <a:spcPct val="17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8"/>
          <p:cNvSpPr/>
          <p:nvPr/>
        </p:nvSpPr>
        <p:spPr>
          <a:xfrm>
            <a:off x="3971880" y="2333520"/>
            <a:ext cx="4645080" cy="373320"/>
          </a:xfrm>
          <a:prstGeom prst="rect">
            <a:avLst/>
          </a:prstGeom>
          <a:gradFill rotWithShape="0">
            <a:gsLst>
              <a:gs pos="0">
                <a:srgbClr val="db5414"/>
              </a:gs>
              <a:gs pos="100000">
                <a:srgbClr val="7b2f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574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575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Rectangle 7"/>
          <p:cNvSpPr/>
          <p:nvPr/>
        </p:nvSpPr>
        <p:spPr>
          <a:xfrm>
            <a:off x="324000" y="2756520"/>
            <a:ext cx="856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1906560" y="5229360"/>
            <a:ext cx="936720" cy="503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6156360" y="5375160"/>
            <a:ext cx="936720" cy="50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0"/>
          <p:cNvGrpSpPr/>
          <p:nvPr/>
        </p:nvGrpSpPr>
        <p:grpSpPr>
          <a:xfrm>
            <a:off x="682560" y="4394160"/>
            <a:ext cx="3384720" cy="2175480"/>
            <a:chOff x="682560" y="4394160"/>
            <a:chExt cx="3384720" cy="2175480"/>
          </a:xfrm>
        </p:grpSpPr>
        <p:sp>
          <p:nvSpPr>
            <p:cNvPr id="582" name="Oval 11"/>
            <p:cNvSpPr/>
            <p:nvPr/>
          </p:nvSpPr>
          <p:spPr>
            <a:xfrm>
              <a:off x="682560" y="4652640"/>
              <a:ext cx="1297080" cy="792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2"/>
            <p:cNvSpPr/>
            <p:nvPr/>
          </p:nvSpPr>
          <p:spPr>
            <a:xfrm>
              <a:off x="682560" y="5516280"/>
              <a:ext cx="1297080" cy="792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3"/>
            <p:cNvSpPr/>
            <p:nvPr/>
          </p:nvSpPr>
          <p:spPr>
            <a:xfrm>
              <a:off x="2770200" y="4652640"/>
              <a:ext cx="1297080" cy="792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4"/>
            <p:cNvSpPr/>
            <p:nvPr/>
          </p:nvSpPr>
          <p:spPr>
            <a:xfrm>
              <a:off x="2770200" y="5516280"/>
              <a:ext cx="1297080" cy="792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5"/>
            <p:cNvSpPr/>
            <p:nvPr/>
          </p:nvSpPr>
          <p:spPr>
            <a:xfrm rot="19715400">
              <a:off x="2052720" y="4516200"/>
              <a:ext cx="649080" cy="642600"/>
            </a:xfrm>
            <a:custGeom>
              <a:avLst/>
              <a:gdLst>
                <a:gd name="textAreaLeft" fmla="*/ 95040 w 649080"/>
                <a:gd name="textAreaRight" fmla="*/ 554040 w 649080"/>
                <a:gd name="textAreaTop" fmla="*/ 93600 h 642600"/>
                <a:gd name="textAreaBottom" fmla="*/ 549000 h 64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16"/>
            <p:cNvSpPr/>
            <p:nvPr/>
          </p:nvSpPr>
          <p:spPr>
            <a:xfrm flipH="1" flipV="1" rot="19715400">
              <a:off x="2050560" y="5804640"/>
              <a:ext cx="649440" cy="642240"/>
            </a:xfrm>
            <a:custGeom>
              <a:avLst/>
              <a:gdLst>
                <a:gd name="textAreaLeft" fmla="*/ 95040 w 649440"/>
                <a:gd name="textAreaRight" fmla="*/ 554400 w 649440"/>
                <a:gd name="textAreaTop" fmla="*/ 93600 h 642240"/>
                <a:gd name="textAreaBottom" fmla="*/ 548640 h 64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17"/>
          <p:cNvGrpSpPr/>
          <p:nvPr/>
        </p:nvGrpSpPr>
        <p:grpSpPr>
          <a:xfrm>
            <a:off x="4859280" y="4581360"/>
            <a:ext cx="3529080" cy="1988280"/>
            <a:chOff x="4859280" y="4581360"/>
            <a:chExt cx="3529080" cy="1988280"/>
          </a:xfrm>
        </p:grpSpPr>
        <p:sp>
          <p:nvSpPr>
            <p:cNvPr id="589" name="Oval 18"/>
            <p:cNvSpPr/>
            <p:nvPr/>
          </p:nvSpPr>
          <p:spPr>
            <a:xfrm>
              <a:off x="5983200" y="4581360"/>
              <a:ext cx="1297080" cy="7920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9"/>
            <p:cNvSpPr/>
            <p:nvPr/>
          </p:nvSpPr>
          <p:spPr>
            <a:xfrm>
              <a:off x="4859280" y="5518080"/>
              <a:ext cx="1297080" cy="7920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20"/>
            <p:cNvSpPr/>
            <p:nvPr/>
          </p:nvSpPr>
          <p:spPr>
            <a:xfrm>
              <a:off x="7091280" y="5518080"/>
              <a:ext cx="1297080" cy="7920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21"/>
            <p:cNvSpPr/>
            <p:nvPr/>
          </p:nvSpPr>
          <p:spPr>
            <a:xfrm rot="16898400">
              <a:off x="5358960" y="4941360"/>
              <a:ext cx="649440" cy="642960"/>
            </a:xfrm>
            <a:custGeom>
              <a:avLst/>
              <a:gdLst>
                <a:gd name="textAreaLeft" fmla="*/ 95040 w 649440"/>
                <a:gd name="textAreaRight" fmla="*/ 554400 w 649440"/>
                <a:gd name="textAreaTop" fmla="*/ 93600 h 642960"/>
                <a:gd name="textAreaBottom" fmla="*/ 54936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2"/>
            <p:cNvSpPr/>
            <p:nvPr/>
          </p:nvSpPr>
          <p:spPr>
            <a:xfrm rot="1539000">
              <a:off x="7162560" y="4933800"/>
              <a:ext cx="649080" cy="642960"/>
            </a:xfrm>
            <a:custGeom>
              <a:avLst/>
              <a:gdLst>
                <a:gd name="textAreaLeft" fmla="*/ 95040 w 649080"/>
                <a:gd name="textAreaRight" fmla="*/ 554040 w 649080"/>
                <a:gd name="textAreaTop" fmla="*/ 93600 h 642960"/>
                <a:gd name="textAreaBottom" fmla="*/ 54936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3"/>
            <p:cNvSpPr/>
            <p:nvPr/>
          </p:nvSpPr>
          <p:spPr>
            <a:xfrm flipH="1" flipV="1" rot="19715400">
              <a:off x="6300360" y="5804640"/>
              <a:ext cx="649440" cy="642240"/>
            </a:xfrm>
            <a:custGeom>
              <a:avLst/>
              <a:gdLst>
                <a:gd name="textAreaLeft" fmla="*/ 95040 w 649440"/>
                <a:gd name="textAreaRight" fmla="*/ 554400 w 649440"/>
                <a:gd name="textAreaTop" fmla="*/ 93600 h 642240"/>
                <a:gd name="textAreaBottom" fmla="*/ 548640 h 64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3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3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3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5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5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596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597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7"/>
          <p:cNvGrpSpPr/>
          <p:nvPr/>
        </p:nvGrpSpPr>
        <p:grpSpPr>
          <a:xfrm>
            <a:off x="347400" y="4181760"/>
            <a:ext cx="1738800" cy="2076480"/>
            <a:chOff x="347400" y="4181760"/>
            <a:chExt cx="1738800" cy="2076480"/>
          </a:xfrm>
        </p:grpSpPr>
        <p:grpSp>
          <p:nvGrpSpPr>
            <p:cNvPr id="601" name="Group 8"/>
            <p:cNvGrpSpPr/>
            <p:nvPr/>
          </p:nvGrpSpPr>
          <p:grpSpPr>
            <a:xfrm>
              <a:off x="347400" y="4181760"/>
              <a:ext cx="1738800" cy="2076480"/>
              <a:chOff x="347400" y="4181760"/>
              <a:chExt cx="1738800" cy="2076480"/>
            </a:xfrm>
          </p:grpSpPr>
          <p:sp>
            <p:nvSpPr>
              <p:cNvPr id="602" name="未知"/>
              <p:cNvSpPr/>
              <p:nvPr/>
            </p:nvSpPr>
            <p:spPr>
              <a:xfrm flipH="1" rot="21432600">
                <a:off x="389160" y="4226040"/>
                <a:ext cx="1614240" cy="1776240"/>
              </a:xfrm>
              <a:custGeom>
                <a:avLst/>
                <a:gdLst>
                  <a:gd name="textAreaLeft" fmla="*/ 360 w 1614240"/>
                  <a:gd name="textAreaRight" fmla="*/ 1614960 w 1614240"/>
                  <a:gd name="textAreaTop" fmla="*/ 0 h 1776240"/>
                  <a:gd name="textAreaBottom" fmla="*/ 1776600 h 1776240"/>
                </a:gdLst>
                <a:ahLst/>
                <a:rect l="textAreaLeft" t="textAreaTop" r="textAreaRight" b="textAreaBottom"/>
                <a:pathLst>
                  <a:path w="1089" h="1235">
                    <a:moveTo>
                      <a:pt x="133" y="165"/>
                    </a:moveTo>
                    <a:lnTo>
                      <a:pt x="116" y="183"/>
                    </a:lnTo>
                    <a:lnTo>
                      <a:pt x="0" y="981"/>
                    </a:lnTo>
                    <a:lnTo>
                      <a:pt x="12" y="1002"/>
                    </a:lnTo>
                    <a:cubicBezTo>
                      <a:pt x="135" y="1038"/>
                      <a:pt x="589" y="1160"/>
                      <a:pt x="733" y="1197"/>
                    </a:cubicBezTo>
                    <a:cubicBezTo>
                      <a:pt x="877" y="1235"/>
                      <a:pt x="843" y="1224"/>
                      <a:pt x="876" y="1227"/>
                    </a:cubicBezTo>
                    <a:cubicBezTo>
                      <a:pt x="892" y="1230"/>
                      <a:pt x="910" y="1224"/>
                      <a:pt x="923" y="1215"/>
                    </a:cubicBezTo>
                    <a:cubicBezTo>
                      <a:pt x="937" y="1206"/>
                      <a:pt x="942" y="1200"/>
                      <a:pt x="944" y="1184"/>
                    </a:cubicBezTo>
                    <a:cubicBezTo>
                      <a:pt x="950" y="1145"/>
                      <a:pt x="945" y="1172"/>
                      <a:pt x="969" y="987"/>
                    </a:cubicBezTo>
                    <a:cubicBezTo>
                      <a:pt x="992" y="807"/>
                      <a:pt x="1064" y="262"/>
                      <a:pt x="1081" y="104"/>
                    </a:cubicBezTo>
                    <a:cubicBezTo>
                      <a:pt x="1089" y="69"/>
                      <a:pt x="1080" y="57"/>
                      <a:pt x="1067" y="42"/>
                    </a:cubicBezTo>
                    <a:cubicBezTo>
                      <a:pt x="1055" y="27"/>
                      <a:pt x="1010" y="0"/>
                      <a:pt x="988" y="3"/>
                    </a:cubicBezTo>
                    <a:cubicBezTo>
                      <a:pt x="961" y="7"/>
                      <a:pt x="321" y="138"/>
                      <a:pt x="133" y="16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96969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未知"/>
              <p:cNvSpPr/>
              <p:nvPr/>
            </p:nvSpPr>
            <p:spPr>
              <a:xfrm flipH="1" rot="21432600">
                <a:off x="1036080" y="5995800"/>
                <a:ext cx="407520" cy="207000"/>
              </a:xfrm>
              <a:custGeom>
                <a:avLst/>
                <a:gdLst>
                  <a:gd name="textAreaLeft" fmla="*/ 360 w 407520"/>
                  <a:gd name="textAreaRight" fmla="*/ 408240 w 40752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275" h="144">
                    <a:moveTo>
                      <a:pt x="275" y="51"/>
                    </a:moveTo>
                    <a:lnTo>
                      <a:pt x="156" y="0"/>
                    </a:lnTo>
                    <a:lnTo>
                      <a:pt x="0" y="144"/>
                    </a:lnTo>
                    <a:lnTo>
                      <a:pt x="275" y="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dddd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未知"/>
              <p:cNvSpPr/>
              <p:nvPr/>
            </p:nvSpPr>
            <p:spPr>
              <a:xfrm flipH="1" rot="21432600">
                <a:off x="807120" y="6109200"/>
                <a:ext cx="641520" cy="133200"/>
              </a:xfrm>
              <a:custGeom>
                <a:avLst/>
                <a:gdLst>
                  <a:gd name="textAreaLeft" fmla="*/ 360 w 641520"/>
                  <a:gd name="textAreaRight" fmla="*/ 642240 w 6415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33" h="93">
                    <a:moveTo>
                      <a:pt x="433" y="66"/>
                    </a:moveTo>
                    <a:lnTo>
                      <a:pt x="432" y="42"/>
                    </a:lnTo>
                    <a:lnTo>
                      <a:pt x="257" y="0"/>
                    </a:lnTo>
                    <a:lnTo>
                      <a:pt x="3" y="67"/>
                    </a:lnTo>
                    <a:lnTo>
                      <a:pt x="0" y="93"/>
                    </a:lnTo>
                    <a:lnTo>
                      <a:pt x="433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未知"/>
              <p:cNvSpPr/>
              <p:nvPr/>
            </p:nvSpPr>
            <p:spPr>
              <a:xfrm flipH="1" rot="21432600">
                <a:off x="802080" y="6065280"/>
                <a:ext cx="640080" cy="141840"/>
              </a:xfrm>
              <a:custGeom>
                <a:avLst/>
                <a:gdLst>
                  <a:gd name="textAreaLeft" fmla="*/ 360 w 640080"/>
                  <a:gd name="textAreaRight" fmla="*/ 640800 w 64008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432" h="99">
                    <a:moveTo>
                      <a:pt x="432" y="75"/>
                    </a:moveTo>
                    <a:lnTo>
                      <a:pt x="252" y="0"/>
                    </a:lnTo>
                    <a:lnTo>
                      <a:pt x="0" y="99"/>
                    </a:lnTo>
                    <a:lnTo>
                      <a:pt x="432" y="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未知"/>
              <p:cNvSpPr/>
              <p:nvPr/>
            </p:nvSpPr>
            <p:spPr>
              <a:xfrm flipH="1" rot="21432600">
                <a:off x="1006200" y="5860800"/>
                <a:ext cx="336240" cy="260640"/>
              </a:xfrm>
              <a:custGeom>
                <a:avLst/>
                <a:gdLst>
                  <a:gd name="textAreaLeft" fmla="*/ 360 w 336240"/>
                  <a:gd name="textAreaRight" fmla="*/ 336960 w 33624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227" h="181">
                    <a:moveTo>
                      <a:pt x="0" y="0"/>
                    </a:moveTo>
                    <a:lnTo>
                      <a:pt x="91" y="181"/>
                    </a:lnTo>
                    <a:lnTo>
                      <a:pt x="227" y="181"/>
                    </a:lnTo>
                    <a:lnTo>
                      <a:pt x="22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25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未知"/>
              <p:cNvSpPr/>
              <p:nvPr/>
            </p:nvSpPr>
            <p:spPr>
              <a:xfrm flipH="1" rot="21432600">
                <a:off x="484920" y="4218480"/>
                <a:ext cx="1559160" cy="1764720"/>
              </a:xfrm>
              <a:custGeom>
                <a:avLst/>
                <a:gdLst>
                  <a:gd name="textAreaLeft" fmla="*/ 0 w 1559160"/>
                  <a:gd name="textAreaRight" fmla="*/ 1559160 w 1559160"/>
                  <a:gd name="textAreaTop" fmla="*/ 0 h 1764720"/>
                  <a:gd name="textAreaBottom" fmla="*/ 1765080 h 1764720"/>
                </a:gdLst>
                <a:ahLst/>
                <a:rect l="textAreaLeft" t="textAreaTop" r="textAreaRight" b="textAreaBottom"/>
                <a:pathLst>
                  <a:path w="1052" h="1227">
                    <a:moveTo>
                      <a:pt x="128" y="140"/>
                    </a:moveTo>
                    <a:lnTo>
                      <a:pt x="112" y="158"/>
                    </a:lnTo>
                    <a:lnTo>
                      <a:pt x="0" y="976"/>
                    </a:lnTo>
                    <a:lnTo>
                      <a:pt x="12" y="998"/>
                    </a:lnTo>
                    <a:cubicBezTo>
                      <a:pt x="153" y="1039"/>
                      <a:pt x="702" y="1188"/>
                      <a:pt x="848" y="1224"/>
                    </a:cubicBezTo>
                    <a:cubicBezTo>
                      <a:pt x="864" y="1227"/>
                      <a:pt x="878" y="1225"/>
                      <a:pt x="891" y="1216"/>
                    </a:cubicBezTo>
                    <a:cubicBezTo>
                      <a:pt x="904" y="1207"/>
                      <a:pt x="909" y="1201"/>
                      <a:pt x="911" y="1183"/>
                    </a:cubicBezTo>
                    <a:cubicBezTo>
                      <a:pt x="917" y="1144"/>
                      <a:pt x="912" y="1171"/>
                      <a:pt x="935" y="982"/>
                    </a:cubicBezTo>
                    <a:cubicBezTo>
                      <a:pt x="958" y="793"/>
                      <a:pt x="1030" y="211"/>
                      <a:pt x="1047" y="49"/>
                    </a:cubicBezTo>
                    <a:cubicBezTo>
                      <a:pt x="1052" y="24"/>
                      <a:pt x="1044" y="17"/>
                      <a:pt x="1037" y="10"/>
                    </a:cubicBezTo>
                    <a:cubicBezTo>
                      <a:pt x="1030" y="3"/>
                      <a:pt x="1017" y="0"/>
                      <a:pt x="1002" y="4"/>
                    </a:cubicBezTo>
                    <a:cubicBezTo>
                      <a:pt x="850" y="18"/>
                      <a:pt x="310" y="112"/>
                      <a:pt x="128" y="14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c0c0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未知"/>
              <p:cNvSpPr/>
              <p:nvPr/>
            </p:nvSpPr>
            <p:spPr>
              <a:xfrm flipH="1" rot="21432600">
                <a:off x="665280" y="4351320"/>
                <a:ext cx="1306800" cy="1458000"/>
              </a:xfrm>
              <a:custGeom>
                <a:avLst/>
                <a:gdLst>
                  <a:gd name="textAreaLeft" fmla="*/ 360 w 1306800"/>
                  <a:gd name="textAreaRight" fmla="*/ 1307520 w 1306800"/>
                  <a:gd name="textAreaTop" fmla="*/ 0 h 1458000"/>
                  <a:gd name="textAreaBottom" fmla="*/ 1458360 h 1458000"/>
                </a:gdLst>
                <a:ahLst/>
                <a:rect l="textAreaLeft" t="textAreaTop" r="textAreaRight" b="textAreaBottom"/>
                <a:pathLst>
                  <a:path w="882" h="1014">
                    <a:moveTo>
                      <a:pt x="96" y="96"/>
                    </a:moveTo>
                    <a:lnTo>
                      <a:pt x="0" y="846"/>
                    </a:lnTo>
                    <a:lnTo>
                      <a:pt x="768" y="1014"/>
                    </a:lnTo>
                    <a:lnTo>
                      <a:pt x="882" y="0"/>
                    </a:lnTo>
                    <a:lnTo>
                      <a:pt x="96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9ebb"/>
                  </a:gs>
                  <a:gs pos="100000">
                    <a:srgbClr val="29b7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未知"/>
              <p:cNvSpPr/>
              <p:nvPr/>
            </p:nvSpPr>
            <p:spPr>
              <a:xfrm flipH="1" rot="21432600">
                <a:off x="663840" y="4352400"/>
                <a:ext cx="1306800" cy="1458000"/>
              </a:xfrm>
              <a:custGeom>
                <a:avLst/>
                <a:gdLst>
                  <a:gd name="textAreaLeft" fmla="*/ 360 w 1306800"/>
                  <a:gd name="textAreaRight" fmla="*/ 1307520 w 1306800"/>
                  <a:gd name="textAreaTop" fmla="*/ 0 h 1458000"/>
                  <a:gd name="textAreaBottom" fmla="*/ 1458360 h 1458000"/>
                </a:gdLst>
                <a:ahLst/>
                <a:rect l="textAreaLeft" t="textAreaTop" r="textAreaRight" b="textAreaBottom"/>
                <a:pathLst>
                  <a:path w="882" h="1014">
                    <a:moveTo>
                      <a:pt x="96" y="96"/>
                    </a:moveTo>
                    <a:lnTo>
                      <a:pt x="0" y="846"/>
                    </a:lnTo>
                    <a:lnTo>
                      <a:pt x="768" y="1014"/>
                    </a:lnTo>
                    <a:lnTo>
                      <a:pt x="882" y="0"/>
                    </a:lnTo>
                    <a:lnTo>
                      <a:pt x="96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>
                      <a:alpha val="40000"/>
                    </a:srgbClr>
                  </a:gs>
                  <a:gs pos="100000">
                    <a:srgbClr val="009999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未知"/>
              <p:cNvSpPr/>
              <p:nvPr/>
            </p:nvSpPr>
            <p:spPr>
              <a:xfrm flipH="1" rot="21432600">
                <a:off x="671760" y="4369320"/>
                <a:ext cx="1244880" cy="983880"/>
              </a:xfrm>
              <a:custGeom>
                <a:avLst/>
                <a:gdLst>
                  <a:gd name="textAreaLeft" fmla="*/ 360 w 1244880"/>
                  <a:gd name="textAreaRight" fmla="*/ 1245600 w 1244880"/>
                  <a:gd name="textAreaTop" fmla="*/ 0 h 983880"/>
                  <a:gd name="textAreaBottom" fmla="*/ 984240 h 983880"/>
                </a:gdLst>
                <a:ahLst/>
                <a:rect l="textAreaLeft" t="textAreaTop" r="textAreaRight" b="textAreaBottom"/>
                <a:pathLst>
                  <a:path w="840" h="684">
                    <a:moveTo>
                      <a:pt x="72" y="90"/>
                    </a:moveTo>
                    <a:lnTo>
                      <a:pt x="0" y="630"/>
                    </a:lnTo>
                    <a:lnTo>
                      <a:pt x="762" y="684"/>
                    </a:lnTo>
                    <a:lnTo>
                      <a:pt x="840" y="0"/>
                    </a:lnTo>
                    <a:lnTo>
                      <a:pt x="72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c1dd">
                      <a:alpha val="80000"/>
                    </a:srgbClr>
                  </a:gs>
                  <a:gs pos="100000">
                    <a:srgbClr val="36596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未知"/>
              <p:cNvSpPr/>
              <p:nvPr/>
            </p:nvSpPr>
            <p:spPr>
              <a:xfrm flipH="1" rot="21432600">
                <a:off x="690120" y="4376880"/>
                <a:ext cx="1184400" cy="627120"/>
              </a:xfrm>
              <a:custGeom>
                <a:avLst/>
                <a:gdLst/>
                <a:ahLst/>
                <a:rect l="l" t="t" r="r" b="b"/>
                <a:pathLst>
                  <a:path w="799" h="437">
                    <a:moveTo>
                      <a:pt x="799" y="0"/>
                    </a:moveTo>
                    <a:lnTo>
                      <a:pt x="45" y="88"/>
                    </a:lnTo>
                    <a:cubicBezTo>
                      <a:pt x="30" y="193"/>
                      <a:pt x="7" y="295"/>
                      <a:pt x="0" y="401"/>
                    </a:cubicBezTo>
                    <a:cubicBezTo>
                      <a:pt x="14" y="437"/>
                      <a:pt x="56" y="322"/>
                      <a:pt x="127" y="303"/>
                    </a:cubicBezTo>
                    <a:cubicBezTo>
                      <a:pt x="237" y="277"/>
                      <a:pt x="552" y="279"/>
                      <a:pt x="661" y="241"/>
                    </a:cubicBezTo>
                    <a:cubicBezTo>
                      <a:pt x="720" y="205"/>
                      <a:pt x="763" y="118"/>
                      <a:pt x="781" y="75"/>
                    </a:cubicBezTo>
                    <a:cubicBezTo>
                      <a:pt x="789" y="39"/>
                      <a:pt x="799" y="0"/>
                      <a:pt x="799" y="0"/>
                    </a:cubicBezTo>
                    <a:close/>
                  </a:path>
                </a:pathLst>
              </a:custGeom>
              <a:blipFill rotWithShape="0">
                <a:blip r:embed="rId1">
                  <a:alphaModFix amt="56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未知"/>
              <p:cNvSpPr/>
              <p:nvPr/>
            </p:nvSpPr>
            <p:spPr>
              <a:xfrm flipH="1" rot="21432600">
                <a:off x="766800" y="4869720"/>
                <a:ext cx="1199880" cy="92304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923040"/>
                  <a:gd name="textAreaBottom" fmla="*/ 923400 h 923040"/>
                </a:gdLst>
                <a:ahLst/>
                <a:rect l="textAreaLeft" t="textAreaTop" r="textAreaRight" b="textAreaBottom"/>
                <a:pathLst>
                  <a:path w="810" h="642">
                    <a:moveTo>
                      <a:pt x="54" y="60"/>
                    </a:moveTo>
                    <a:lnTo>
                      <a:pt x="0" y="480"/>
                    </a:lnTo>
                    <a:lnTo>
                      <a:pt x="750" y="642"/>
                    </a:lnTo>
                    <a:lnTo>
                      <a:pt x="810" y="0"/>
                    </a:lnTo>
                    <a:lnTo>
                      <a:pt x="54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b7d9">
                      <a:alpha val="0"/>
                    </a:srgbClr>
                  </a:gs>
                  <a:gs pos="100000">
                    <a:srgbClr val="cc00cc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未知"/>
            <p:cNvSpPr/>
            <p:nvPr/>
          </p:nvSpPr>
          <p:spPr>
            <a:xfrm flipH="1" rot="21432600">
              <a:off x="667800" y="4346280"/>
              <a:ext cx="1306800" cy="1458360"/>
            </a:xfrm>
            <a:custGeom>
              <a:avLst/>
              <a:gdLst>
                <a:gd name="textAreaLeft" fmla="*/ 360 w 1306800"/>
                <a:gd name="textAreaRight" fmla="*/ 1307520 w 1306800"/>
                <a:gd name="textAreaTop" fmla="*/ 0 h 1458360"/>
                <a:gd name="textAreaBottom" fmla="*/ 1458720 h 1458360"/>
              </a:gdLst>
              <a:ahLst/>
              <a:rect l="textAreaLeft" t="textAreaTop" r="textAreaRight" b="textAreaBottom"/>
              <a:pathLst>
                <a:path w="882" h="1014">
                  <a:moveTo>
                    <a:pt x="96" y="96"/>
                  </a:moveTo>
                  <a:lnTo>
                    <a:pt x="0" y="846"/>
                  </a:lnTo>
                  <a:lnTo>
                    <a:pt x="768" y="1014"/>
                  </a:lnTo>
                  <a:lnTo>
                    <a:pt x="882" y="0"/>
                  </a:lnTo>
                  <a:lnTo>
                    <a:pt x="96" y="96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未知"/>
          <p:cNvSpPr/>
          <p:nvPr/>
        </p:nvSpPr>
        <p:spPr>
          <a:xfrm flipH="1">
            <a:off x="631080" y="2062080"/>
            <a:ext cx="6676920" cy="4319640"/>
          </a:xfrm>
          <a:custGeom>
            <a:avLst/>
            <a:gdLst>
              <a:gd name="textAreaLeft" fmla="*/ -360 w 6676920"/>
              <a:gd name="textAreaRight" fmla="*/ 6676920 w 6676920"/>
              <a:gd name="textAreaTop" fmla="*/ 0 h 4319640"/>
              <a:gd name="textAreaBottom" fmla="*/ 4320000 h 4319640"/>
            </a:gdLst>
            <a:ahLst/>
            <a:rect l="textAreaLeft" t="textAreaTop" r="textAreaRight" b="textAreaBottom"/>
            <a:pathLst>
              <a:path w="2664" h="3198">
                <a:moveTo>
                  <a:pt x="2664" y="1728"/>
                </a:moveTo>
                <a:lnTo>
                  <a:pt x="696" y="0"/>
                </a:lnTo>
                <a:cubicBezTo>
                  <a:pt x="304" y="245"/>
                  <a:pt x="0" y="2741"/>
                  <a:pt x="312" y="3198"/>
                </a:cubicBezTo>
                <a:lnTo>
                  <a:pt x="2568" y="2742"/>
                </a:lnTo>
                <a:lnTo>
                  <a:pt x="2664" y="1728"/>
                </a:lnTo>
                <a:close/>
              </a:path>
            </a:pathLst>
          </a:custGeom>
          <a:gradFill rotWithShape="0">
            <a:gsLst>
              <a:gs pos="0">
                <a:srgbClr val="fbbe0d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2"/>
          <p:cNvSpPr/>
          <p:nvPr/>
        </p:nvSpPr>
        <p:spPr>
          <a:xfrm>
            <a:off x="1044000" y="2276640"/>
            <a:ext cx="729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23"/>
          <p:cNvGrpSpPr/>
          <p:nvPr/>
        </p:nvGrpSpPr>
        <p:grpSpPr>
          <a:xfrm>
            <a:off x="2916360" y="1773360"/>
            <a:ext cx="5976000" cy="715320"/>
            <a:chOff x="2916360" y="1773360"/>
            <a:chExt cx="5976000" cy="715320"/>
          </a:xfrm>
        </p:grpSpPr>
        <p:sp>
          <p:nvSpPr>
            <p:cNvPr id="617" name="未知"/>
            <p:cNvSpPr/>
            <p:nvPr/>
          </p:nvSpPr>
          <p:spPr>
            <a:xfrm flipV="1">
              <a:off x="2920680" y="2352240"/>
              <a:ext cx="5628960" cy="13608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360 h 136080"/>
                <a:gd name="textAreaBottom" fmla="*/ 136800 h 13608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2916360" y="1773360"/>
              <a:ext cx="5716080" cy="61416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26"/>
            <p:cNvGrpSpPr/>
            <p:nvPr/>
          </p:nvGrpSpPr>
          <p:grpSpPr>
            <a:xfrm>
              <a:off x="3051000" y="1849320"/>
              <a:ext cx="5841360" cy="480600"/>
              <a:chOff x="3051000" y="1849320"/>
              <a:chExt cx="5841360" cy="480600"/>
            </a:xfrm>
          </p:grpSpPr>
          <p:sp>
            <p:nvSpPr>
              <p:cNvPr id="620" name="未知"/>
              <p:cNvSpPr/>
              <p:nvPr/>
            </p:nvSpPr>
            <p:spPr>
              <a:xfrm>
                <a:off x="3051000" y="1849320"/>
                <a:ext cx="5841360" cy="4806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未知"/>
              <p:cNvSpPr/>
              <p:nvPr/>
            </p:nvSpPr>
            <p:spPr>
              <a:xfrm>
                <a:off x="3104280" y="1858680"/>
                <a:ext cx="5734080" cy="4615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Rectangle 29"/>
            <p:cNvSpPr/>
            <p:nvPr/>
          </p:nvSpPr>
          <p:spPr>
            <a:xfrm>
              <a:off x="3328920" y="19170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0"/>
          <p:cNvGrpSpPr/>
          <p:nvPr/>
        </p:nvGrpSpPr>
        <p:grpSpPr>
          <a:xfrm>
            <a:off x="2916360" y="2470320"/>
            <a:ext cx="5976000" cy="715320"/>
            <a:chOff x="2916360" y="2470320"/>
            <a:chExt cx="5976000" cy="715320"/>
          </a:xfrm>
        </p:grpSpPr>
        <p:sp>
          <p:nvSpPr>
            <p:cNvPr id="624" name="未知"/>
            <p:cNvSpPr/>
            <p:nvPr/>
          </p:nvSpPr>
          <p:spPr>
            <a:xfrm flipV="1">
              <a:off x="2920680" y="3049200"/>
              <a:ext cx="5628960" cy="13608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360 h 136080"/>
                <a:gd name="textAreaBottom" fmla="*/ 136800 h 13608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2916360" y="2470320"/>
              <a:ext cx="5716080" cy="61416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33"/>
            <p:cNvGrpSpPr/>
            <p:nvPr/>
          </p:nvGrpSpPr>
          <p:grpSpPr>
            <a:xfrm>
              <a:off x="3051000" y="2546280"/>
              <a:ext cx="5841360" cy="480600"/>
              <a:chOff x="3051000" y="2546280"/>
              <a:chExt cx="5841360" cy="480600"/>
            </a:xfrm>
          </p:grpSpPr>
          <p:sp>
            <p:nvSpPr>
              <p:cNvPr id="627" name="未知"/>
              <p:cNvSpPr/>
              <p:nvPr/>
            </p:nvSpPr>
            <p:spPr>
              <a:xfrm>
                <a:off x="3051000" y="2546280"/>
                <a:ext cx="5841360" cy="4806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未知"/>
              <p:cNvSpPr/>
              <p:nvPr/>
            </p:nvSpPr>
            <p:spPr>
              <a:xfrm>
                <a:off x="3104280" y="2555640"/>
                <a:ext cx="5734080" cy="4615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Rectangle 36"/>
            <p:cNvSpPr/>
            <p:nvPr/>
          </p:nvSpPr>
          <p:spPr>
            <a:xfrm>
              <a:off x="3328920" y="2636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37"/>
          <p:cNvGrpSpPr/>
          <p:nvPr/>
        </p:nvGrpSpPr>
        <p:grpSpPr>
          <a:xfrm>
            <a:off x="2916360" y="4560840"/>
            <a:ext cx="5976000" cy="715680"/>
            <a:chOff x="2916360" y="4560840"/>
            <a:chExt cx="5976000" cy="715680"/>
          </a:xfrm>
        </p:grpSpPr>
        <p:sp>
          <p:nvSpPr>
            <p:cNvPr id="631" name="未知"/>
            <p:cNvSpPr/>
            <p:nvPr/>
          </p:nvSpPr>
          <p:spPr>
            <a:xfrm flipV="1">
              <a:off x="2920680" y="513936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2916360" y="456084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40"/>
            <p:cNvGrpSpPr/>
            <p:nvPr/>
          </p:nvGrpSpPr>
          <p:grpSpPr>
            <a:xfrm>
              <a:off x="3051000" y="4637160"/>
              <a:ext cx="5841360" cy="480960"/>
              <a:chOff x="3051000" y="4637160"/>
              <a:chExt cx="5841360" cy="480960"/>
            </a:xfrm>
          </p:grpSpPr>
          <p:sp>
            <p:nvSpPr>
              <p:cNvPr id="634" name="未知"/>
              <p:cNvSpPr/>
              <p:nvPr/>
            </p:nvSpPr>
            <p:spPr>
              <a:xfrm>
                <a:off x="3051000" y="463716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未知"/>
              <p:cNvSpPr/>
              <p:nvPr/>
            </p:nvSpPr>
            <p:spPr>
              <a:xfrm>
                <a:off x="3104280" y="464652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Rectangle 43"/>
            <p:cNvSpPr/>
            <p:nvPr/>
          </p:nvSpPr>
          <p:spPr>
            <a:xfrm>
              <a:off x="3328920" y="47257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44"/>
          <p:cNvGrpSpPr/>
          <p:nvPr/>
        </p:nvGrpSpPr>
        <p:grpSpPr>
          <a:xfrm>
            <a:off x="2916360" y="3166920"/>
            <a:ext cx="5976000" cy="715680"/>
            <a:chOff x="2916360" y="3166920"/>
            <a:chExt cx="5976000" cy="715680"/>
          </a:xfrm>
        </p:grpSpPr>
        <p:sp>
          <p:nvSpPr>
            <p:cNvPr id="638" name="未知"/>
            <p:cNvSpPr/>
            <p:nvPr/>
          </p:nvSpPr>
          <p:spPr>
            <a:xfrm flipV="1">
              <a:off x="2920680" y="374544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2916360" y="316692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Group 47"/>
            <p:cNvGrpSpPr/>
            <p:nvPr/>
          </p:nvGrpSpPr>
          <p:grpSpPr>
            <a:xfrm>
              <a:off x="3051000" y="3243240"/>
              <a:ext cx="5841360" cy="480960"/>
              <a:chOff x="3051000" y="3243240"/>
              <a:chExt cx="5841360" cy="480960"/>
            </a:xfrm>
          </p:grpSpPr>
          <p:sp>
            <p:nvSpPr>
              <p:cNvPr id="641" name="未知"/>
              <p:cNvSpPr/>
              <p:nvPr/>
            </p:nvSpPr>
            <p:spPr>
              <a:xfrm>
                <a:off x="3051000" y="324324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>
                <a:off x="3104280" y="325260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Rectangle 50"/>
            <p:cNvSpPr/>
            <p:nvPr/>
          </p:nvSpPr>
          <p:spPr>
            <a:xfrm>
              <a:off x="3328920" y="3371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51"/>
          <p:cNvGrpSpPr/>
          <p:nvPr/>
        </p:nvGrpSpPr>
        <p:grpSpPr>
          <a:xfrm>
            <a:off x="2916360" y="3863880"/>
            <a:ext cx="5976000" cy="715680"/>
            <a:chOff x="2916360" y="3863880"/>
            <a:chExt cx="5976000" cy="715680"/>
          </a:xfrm>
        </p:grpSpPr>
        <p:sp>
          <p:nvSpPr>
            <p:cNvPr id="645" name="未知"/>
            <p:cNvSpPr/>
            <p:nvPr/>
          </p:nvSpPr>
          <p:spPr>
            <a:xfrm flipV="1">
              <a:off x="2920680" y="444240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2916360" y="386388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54"/>
            <p:cNvGrpSpPr/>
            <p:nvPr/>
          </p:nvGrpSpPr>
          <p:grpSpPr>
            <a:xfrm>
              <a:off x="3051000" y="3940200"/>
              <a:ext cx="5841360" cy="480960"/>
              <a:chOff x="3051000" y="3940200"/>
              <a:chExt cx="5841360" cy="480960"/>
            </a:xfrm>
          </p:grpSpPr>
          <p:sp>
            <p:nvSpPr>
              <p:cNvPr id="648" name="未知"/>
              <p:cNvSpPr/>
              <p:nvPr/>
            </p:nvSpPr>
            <p:spPr>
              <a:xfrm>
                <a:off x="3051000" y="394020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未知"/>
              <p:cNvSpPr/>
              <p:nvPr/>
            </p:nvSpPr>
            <p:spPr>
              <a:xfrm>
                <a:off x="3104280" y="394956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Rectangle 57"/>
            <p:cNvSpPr/>
            <p:nvPr/>
          </p:nvSpPr>
          <p:spPr>
            <a:xfrm>
              <a:off x="3328920" y="4019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58"/>
          <p:cNvGrpSpPr/>
          <p:nvPr/>
        </p:nvGrpSpPr>
        <p:grpSpPr>
          <a:xfrm>
            <a:off x="2916360" y="5257800"/>
            <a:ext cx="5976000" cy="715680"/>
            <a:chOff x="2916360" y="5257800"/>
            <a:chExt cx="5976000" cy="715680"/>
          </a:xfrm>
        </p:grpSpPr>
        <p:sp>
          <p:nvSpPr>
            <p:cNvPr id="652" name="未知"/>
            <p:cNvSpPr/>
            <p:nvPr/>
          </p:nvSpPr>
          <p:spPr>
            <a:xfrm flipV="1">
              <a:off x="2920680" y="583632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2916360" y="525780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oup 61"/>
            <p:cNvGrpSpPr/>
            <p:nvPr/>
          </p:nvGrpSpPr>
          <p:grpSpPr>
            <a:xfrm>
              <a:off x="3051000" y="5334120"/>
              <a:ext cx="5841360" cy="480960"/>
              <a:chOff x="3051000" y="5334120"/>
              <a:chExt cx="5841360" cy="480960"/>
            </a:xfrm>
          </p:grpSpPr>
          <p:sp>
            <p:nvSpPr>
              <p:cNvPr id="655" name="未知"/>
              <p:cNvSpPr/>
              <p:nvPr/>
            </p:nvSpPr>
            <p:spPr>
              <a:xfrm>
                <a:off x="3051000" y="533412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>
                <a:off x="3104280" y="534348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Rectangle 64"/>
            <p:cNvSpPr/>
            <p:nvPr/>
          </p:nvSpPr>
          <p:spPr>
            <a:xfrm>
              <a:off x="3328920" y="5387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65"/>
          <p:cNvGrpSpPr/>
          <p:nvPr/>
        </p:nvGrpSpPr>
        <p:grpSpPr>
          <a:xfrm>
            <a:off x="2916360" y="5954760"/>
            <a:ext cx="5976000" cy="715680"/>
            <a:chOff x="2916360" y="5954760"/>
            <a:chExt cx="5976000" cy="715680"/>
          </a:xfrm>
        </p:grpSpPr>
        <p:sp>
          <p:nvSpPr>
            <p:cNvPr id="659" name="未知"/>
            <p:cNvSpPr/>
            <p:nvPr/>
          </p:nvSpPr>
          <p:spPr>
            <a:xfrm flipV="1">
              <a:off x="2920680" y="653364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2916360" y="595476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68"/>
            <p:cNvGrpSpPr/>
            <p:nvPr/>
          </p:nvGrpSpPr>
          <p:grpSpPr>
            <a:xfrm>
              <a:off x="3051000" y="6031080"/>
              <a:ext cx="5841360" cy="480960"/>
              <a:chOff x="3051000" y="6031080"/>
              <a:chExt cx="5841360" cy="480960"/>
            </a:xfrm>
          </p:grpSpPr>
          <p:sp>
            <p:nvSpPr>
              <p:cNvPr id="662" name="未知"/>
              <p:cNvSpPr/>
              <p:nvPr/>
            </p:nvSpPr>
            <p:spPr>
              <a:xfrm>
                <a:off x="3051000" y="603108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未知"/>
              <p:cNvSpPr/>
              <p:nvPr/>
            </p:nvSpPr>
            <p:spPr>
              <a:xfrm>
                <a:off x="3104280" y="604044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Rectangle 71"/>
            <p:cNvSpPr/>
            <p:nvPr/>
          </p:nvSpPr>
          <p:spPr>
            <a:xfrm>
              <a:off x="3328920" y="6108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043080" y="2492280"/>
            <a:ext cx="5129280" cy="758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b2b2"/>
              </a:gs>
              <a:gs pos="100000">
                <a:srgbClr val="e0e0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1116000" y="2646360"/>
            <a:ext cx="2247840" cy="779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b5414"/>
              </a:gs>
              <a:gs pos="100000">
                <a:srgbClr val="68280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043080" y="3816360"/>
            <a:ext cx="5133960" cy="758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bbe0d"/>
              </a:gs>
              <a:gs pos="100000">
                <a:srgbClr val="fde5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116000" y="3970440"/>
            <a:ext cx="2247840" cy="779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b5414"/>
              </a:gs>
              <a:gs pos="100000">
                <a:srgbClr val="68280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043080" y="5170320"/>
            <a:ext cx="5133960" cy="758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bbe0d"/>
              </a:gs>
              <a:gs pos="100000">
                <a:srgbClr val="fde5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116000" y="5324400"/>
            <a:ext cx="2247840" cy="779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b5414"/>
              </a:gs>
              <a:gs pos="100000">
                <a:srgbClr val="68280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348000" y="1353960"/>
            <a:ext cx="2247840" cy="635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b5414"/>
              </a:gs>
              <a:gs pos="100000">
                <a:srgbClr val="6828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666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667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Rectangle 7"/>
          <p:cNvSpPr/>
          <p:nvPr/>
        </p:nvSpPr>
        <p:spPr>
          <a:xfrm>
            <a:off x="468360" y="2216880"/>
            <a:ext cx="813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8"/>
          <p:cNvGrpSpPr/>
          <p:nvPr/>
        </p:nvGrpSpPr>
        <p:grpSpPr>
          <a:xfrm>
            <a:off x="611280" y="2973240"/>
            <a:ext cx="8130600" cy="3755880"/>
            <a:chOff x="611280" y="2973240"/>
            <a:chExt cx="8130600" cy="3755880"/>
          </a:xfrm>
        </p:grpSpPr>
        <p:sp>
          <p:nvSpPr>
            <p:cNvPr id="672" name="Oval 9"/>
            <p:cNvSpPr/>
            <p:nvPr/>
          </p:nvSpPr>
          <p:spPr>
            <a:xfrm>
              <a:off x="1763280" y="3357360"/>
              <a:ext cx="5638680" cy="27432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10"/>
            <p:cNvGrpSpPr/>
            <p:nvPr/>
          </p:nvGrpSpPr>
          <p:grpSpPr>
            <a:xfrm>
              <a:off x="3563640" y="2973240"/>
              <a:ext cx="2188800" cy="1463760"/>
              <a:chOff x="3563640" y="2973240"/>
              <a:chExt cx="2188800" cy="1463760"/>
            </a:xfrm>
          </p:grpSpPr>
          <p:pic>
            <p:nvPicPr>
              <p:cNvPr id="674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563640" y="2973240"/>
                <a:ext cx="2188800" cy="14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5" name="Rectangle 12"/>
              <p:cNvSpPr/>
              <p:nvPr/>
            </p:nvSpPr>
            <p:spPr>
              <a:xfrm>
                <a:off x="4336920" y="308916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13"/>
            <p:cNvGrpSpPr/>
            <p:nvPr/>
          </p:nvGrpSpPr>
          <p:grpSpPr>
            <a:xfrm>
              <a:off x="611280" y="4005000"/>
              <a:ext cx="2514240" cy="1571760"/>
              <a:chOff x="611280" y="4005000"/>
              <a:chExt cx="2514240" cy="1571760"/>
            </a:xfrm>
          </p:grpSpPr>
          <p:pic>
            <p:nvPicPr>
              <p:cNvPr id="677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280" y="4005000"/>
                <a:ext cx="251424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Rectangle 15"/>
              <p:cNvSpPr/>
              <p:nvPr/>
            </p:nvSpPr>
            <p:spPr>
              <a:xfrm>
                <a:off x="1571760" y="418104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16"/>
            <p:cNvGrpSpPr/>
            <p:nvPr/>
          </p:nvGrpSpPr>
          <p:grpSpPr>
            <a:xfrm>
              <a:off x="6227640" y="4005000"/>
              <a:ext cx="2514240" cy="1571760"/>
              <a:chOff x="6227640" y="4005000"/>
              <a:chExt cx="2514240" cy="1571760"/>
            </a:xfrm>
          </p:grpSpPr>
          <p:pic>
            <p:nvPicPr>
              <p:cNvPr id="680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6227640" y="4005000"/>
                <a:ext cx="251424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1" name="Rectangle 18"/>
              <p:cNvSpPr/>
              <p:nvPr/>
            </p:nvSpPr>
            <p:spPr>
              <a:xfrm>
                <a:off x="6676920" y="418104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19"/>
            <p:cNvGrpSpPr/>
            <p:nvPr/>
          </p:nvGrpSpPr>
          <p:grpSpPr>
            <a:xfrm>
              <a:off x="3419280" y="5157720"/>
              <a:ext cx="2514240" cy="1571400"/>
              <a:chOff x="3419280" y="5157720"/>
              <a:chExt cx="2514240" cy="1571400"/>
            </a:xfrm>
          </p:grpSpPr>
          <p:pic>
            <p:nvPicPr>
              <p:cNvPr id="683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3419280" y="5157720"/>
                <a:ext cx="251424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Rectangle 21"/>
              <p:cNvSpPr/>
              <p:nvPr/>
            </p:nvSpPr>
            <p:spPr>
              <a:xfrm>
                <a:off x="3864240" y="53589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22"/>
          <p:cNvGrpSpPr/>
          <p:nvPr/>
        </p:nvGrpSpPr>
        <p:grpSpPr>
          <a:xfrm>
            <a:off x="2771640" y="3573360"/>
            <a:ext cx="3816000" cy="2016000"/>
            <a:chOff x="2771640" y="3573360"/>
            <a:chExt cx="3816000" cy="2016000"/>
          </a:xfrm>
        </p:grpSpPr>
        <p:pic>
          <p:nvPicPr>
            <p:cNvPr id="686" name="Picture 23" descr=""/>
            <p:cNvPicPr/>
            <p:nvPr/>
          </p:nvPicPr>
          <p:blipFill>
            <a:blip r:embed="rId5"/>
            <a:stretch/>
          </p:blipFill>
          <p:spPr>
            <a:xfrm>
              <a:off x="2771640" y="3573360"/>
              <a:ext cx="381600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Rectangle 24"/>
            <p:cNvSpPr/>
            <p:nvPr/>
          </p:nvSpPr>
          <p:spPr>
            <a:xfrm>
              <a:off x="4303800" y="3727800"/>
              <a:ext cx="8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6"/>
          <p:cNvSpPr/>
          <p:nvPr/>
        </p:nvSpPr>
        <p:spPr>
          <a:xfrm>
            <a:off x="611280" y="6475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690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539640" y="4005360"/>
            <a:ext cx="1584360" cy="936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9"/>
          <p:cNvSpPr/>
          <p:nvPr/>
        </p:nvSpPr>
        <p:spPr>
          <a:xfrm flipH="1">
            <a:off x="6947640" y="4005360"/>
            <a:ext cx="1584360" cy="936360"/>
          </a:xfrm>
          <a:custGeom>
            <a:avLst/>
            <a:gdLst>
              <a:gd name="textAreaLeft" fmla="*/ -360 w 1584360"/>
              <a:gd name="textAreaRight" fmla="*/ 1584360 w 15843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0"/>
          <p:cNvGrpSpPr/>
          <p:nvPr/>
        </p:nvGrpSpPr>
        <p:grpSpPr>
          <a:xfrm>
            <a:off x="2184480" y="2297160"/>
            <a:ext cx="4750920" cy="4084560"/>
            <a:chOff x="2184480" y="2297160"/>
            <a:chExt cx="4750920" cy="4084560"/>
          </a:xfrm>
        </p:grpSpPr>
        <p:grpSp>
          <p:nvGrpSpPr>
            <p:cNvPr id="698" name="Group 11"/>
            <p:cNvGrpSpPr/>
            <p:nvPr/>
          </p:nvGrpSpPr>
          <p:grpSpPr>
            <a:xfrm>
              <a:off x="4189320" y="2554200"/>
              <a:ext cx="771840" cy="687240"/>
              <a:chOff x="4189320" y="2554200"/>
              <a:chExt cx="771840" cy="687240"/>
            </a:xfrm>
          </p:grpSpPr>
          <p:sp>
            <p:nvSpPr>
              <p:cNvPr id="699" name="AutoShape 12"/>
              <p:cNvSpPr/>
              <p:nvPr/>
            </p:nvSpPr>
            <p:spPr>
              <a:xfrm>
                <a:off x="4189320" y="267228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13"/>
              <p:cNvSpPr/>
              <p:nvPr/>
            </p:nvSpPr>
            <p:spPr>
              <a:xfrm>
                <a:off x="4189320" y="2615040"/>
                <a:ext cx="77184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4"/>
              <p:cNvSpPr/>
              <p:nvPr/>
            </p:nvSpPr>
            <p:spPr>
              <a:xfrm>
                <a:off x="4189320" y="2554200"/>
                <a:ext cx="77184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15"/>
            <p:cNvGrpSpPr/>
            <p:nvPr/>
          </p:nvGrpSpPr>
          <p:grpSpPr>
            <a:xfrm>
              <a:off x="4549680" y="2303640"/>
              <a:ext cx="2385720" cy="2094840"/>
              <a:chOff x="4549680" y="2303640"/>
              <a:chExt cx="2385720" cy="2094840"/>
            </a:xfrm>
          </p:grpSpPr>
          <p:sp>
            <p:nvSpPr>
              <p:cNvPr id="703" name="AutoShape 16"/>
              <p:cNvSpPr/>
              <p:nvPr/>
            </p:nvSpPr>
            <p:spPr>
              <a:xfrm>
                <a:off x="4549680" y="2646720"/>
                <a:ext cx="2369520" cy="1751760"/>
              </a:xfrm>
              <a:prstGeom prst="diamond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17"/>
              <p:cNvSpPr/>
              <p:nvPr/>
            </p:nvSpPr>
            <p:spPr>
              <a:xfrm>
                <a:off x="4550760" y="2460960"/>
                <a:ext cx="2369880" cy="1751400"/>
              </a:xfrm>
              <a:prstGeom prst="diamond">
                <a:avLst/>
              </a:prstGeom>
              <a:solidFill>
                <a:srgbClr val="fbbe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utoShape 18"/>
              <p:cNvSpPr/>
              <p:nvPr/>
            </p:nvSpPr>
            <p:spPr>
              <a:xfrm>
                <a:off x="4565880" y="230364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91380d"/>
                  </a:gs>
                  <a:gs pos="100000">
                    <a:srgbClr val="db541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9"/>
            <p:cNvGrpSpPr/>
            <p:nvPr/>
          </p:nvGrpSpPr>
          <p:grpSpPr>
            <a:xfrm>
              <a:off x="2185920" y="2297160"/>
              <a:ext cx="2385720" cy="2082600"/>
              <a:chOff x="2185920" y="2297160"/>
              <a:chExt cx="2385720" cy="2082600"/>
            </a:xfrm>
          </p:grpSpPr>
          <p:sp>
            <p:nvSpPr>
              <p:cNvPr id="707" name="AutoShape 20"/>
              <p:cNvSpPr/>
              <p:nvPr/>
            </p:nvSpPr>
            <p:spPr>
              <a:xfrm>
                <a:off x="2185920" y="2627280"/>
                <a:ext cx="2369520" cy="1752480"/>
              </a:xfrm>
              <a:prstGeom prst="diamond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21"/>
              <p:cNvSpPr/>
              <p:nvPr/>
            </p:nvSpPr>
            <p:spPr>
              <a:xfrm>
                <a:off x="2187000" y="2454480"/>
                <a:ext cx="2369880" cy="1752120"/>
              </a:xfrm>
              <a:prstGeom prst="diamond">
                <a:avLst/>
              </a:prstGeom>
              <a:solidFill>
                <a:srgbClr val="fbbe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22"/>
              <p:cNvSpPr/>
              <p:nvPr/>
            </p:nvSpPr>
            <p:spPr>
              <a:xfrm>
                <a:off x="2202120" y="229716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7b2f0b"/>
                  </a:gs>
                  <a:gs pos="100000">
                    <a:srgbClr val="db541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Oval 23"/>
            <p:cNvSpPr/>
            <p:nvPr/>
          </p:nvSpPr>
          <p:spPr>
            <a:xfrm>
              <a:off x="3138480" y="2498760"/>
              <a:ext cx="480960" cy="45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4"/>
            <p:cNvSpPr/>
            <p:nvPr/>
          </p:nvSpPr>
          <p:spPr>
            <a:xfrm>
              <a:off x="5515200" y="2498760"/>
              <a:ext cx="482400" cy="45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25"/>
            <p:cNvGrpSpPr/>
            <p:nvPr/>
          </p:nvGrpSpPr>
          <p:grpSpPr>
            <a:xfrm>
              <a:off x="5796000" y="4035600"/>
              <a:ext cx="771480" cy="688320"/>
              <a:chOff x="5796000" y="4035600"/>
              <a:chExt cx="771480" cy="688320"/>
            </a:xfrm>
          </p:grpSpPr>
          <p:sp>
            <p:nvSpPr>
              <p:cNvPr id="713" name="AutoShape 26"/>
              <p:cNvSpPr/>
              <p:nvPr/>
            </p:nvSpPr>
            <p:spPr>
              <a:xfrm>
                <a:off x="5796000" y="415368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27"/>
              <p:cNvSpPr/>
              <p:nvPr/>
            </p:nvSpPr>
            <p:spPr>
              <a:xfrm>
                <a:off x="5796000" y="409644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utoShape 28"/>
              <p:cNvSpPr/>
              <p:nvPr/>
            </p:nvSpPr>
            <p:spPr>
              <a:xfrm>
                <a:off x="5796000" y="403560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29"/>
            <p:cNvGrpSpPr/>
            <p:nvPr/>
          </p:nvGrpSpPr>
          <p:grpSpPr>
            <a:xfrm>
              <a:off x="4549680" y="4292640"/>
              <a:ext cx="2385720" cy="2089080"/>
              <a:chOff x="4549680" y="4292640"/>
              <a:chExt cx="2385720" cy="2089080"/>
            </a:xfrm>
          </p:grpSpPr>
          <p:sp>
            <p:nvSpPr>
              <p:cNvPr id="717" name="AutoShape 30"/>
              <p:cNvSpPr/>
              <p:nvPr/>
            </p:nvSpPr>
            <p:spPr>
              <a:xfrm>
                <a:off x="4549680" y="4628520"/>
                <a:ext cx="2369520" cy="1753200"/>
              </a:xfrm>
              <a:prstGeom prst="diamond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31"/>
              <p:cNvSpPr/>
              <p:nvPr/>
            </p:nvSpPr>
            <p:spPr>
              <a:xfrm>
                <a:off x="4550760" y="4458960"/>
                <a:ext cx="2369880" cy="1753200"/>
              </a:xfrm>
              <a:prstGeom prst="diamond">
                <a:avLst/>
              </a:prstGeom>
              <a:solidFill>
                <a:srgbClr val="fbbe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32"/>
              <p:cNvSpPr/>
              <p:nvPr/>
            </p:nvSpPr>
            <p:spPr>
              <a:xfrm>
                <a:off x="4565880" y="429264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91380d"/>
                  </a:gs>
                  <a:gs pos="100000">
                    <a:srgbClr val="db541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Oval 33"/>
            <p:cNvSpPr/>
            <p:nvPr/>
          </p:nvSpPr>
          <p:spPr>
            <a:xfrm>
              <a:off x="5502240" y="4554720"/>
              <a:ext cx="480960" cy="458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Group 34"/>
            <p:cNvGrpSpPr/>
            <p:nvPr/>
          </p:nvGrpSpPr>
          <p:grpSpPr>
            <a:xfrm>
              <a:off x="2538360" y="4044960"/>
              <a:ext cx="771480" cy="687240"/>
              <a:chOff x="2538360" y="4044960"/>
              <a:chExt cx="771480" cy="687240"/>
            </a:xfrm>
          </p:grpSpPr>
          <p:sp>
            <p:nvSpPr>
              <p:cNvPr id="722" name="AutoShape 35"/>
              <p:cNvSpPr/>
              <p:nvPr/>
            </p:nvSpPr>
            <p:spPr>
              <a:xfrm>
                <a:off x="2538360" y="416304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AutoShape 36"/>
              <p:cNvSpPr/>
              <p:nvPr/>
            </p:nvSpPr>
            <p:spPr>
              <a:xfrm>
                <a:off x="2538360" y="410580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7"/>
              <p:cNvSpPr/>
              <p:nvPr/>
            </p:nvSpPr>
            <p:spPr>
              <a:xfrm>
                <a:off x="2538360" y="404496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38"/>
            <p:cNvGrpSpPr/>
            <p:nvPr/>
          </p:nvGrpSpPr>
          <p:grpSpPr>
            <a:xfrm>
              <a:off x="2184480" y="4289400"/>
              <a:ext cx="2385720" cy="2080800"/>
              <a:chOff x="2184480" y="4289400"/>
              <a:chExt cx="2385720" cy="2080800"/>
            </a:xfrm>
          </p:grpSpPr>
          <p:sp>
            <p:nvSpPr>
              <p:cNvPr id="726" name="AutoShape 39"/>
              <p:cNvSpPr/>
              <p:nvPr/>
            </p:nvSpPr>
            <p:spPr>
              <a:xfrm>
                <a:off x="2184480" y="4617000"/>
                <a:ext cx="2369520" cy="1753200"/>
              </a:xfrm>
              <a:prstGeom prst="diamond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40"/>
              <p:cNvSpPr/>
              <p:nvPr/>
            </p:nvSpPr>
            <p:spPr>
              <a:xfrm>
                <a:off x="2185560" y="4446720"/>
                <a:ext cx="2369880" cy="1752840"/>
              </a:xfrm>
              <a:prstGeom prst="diamond">
                <a:avLst/>
              </a:prstGeom>
              <a:solidFill>
                <a:srgbClr val="fbbe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41"/>
              <p:cNvSpPr/>
              <p:nvPr/>
            </p:nvSpPr>
            <p:spPr>
              <a:xfrm>
                <a:off x="2200680" y="428940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a7400f"/>
                  </a:gs>
                  <a:gs pos="100000">
                    <a:srgbClr val="db541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Oval 42"/>
            <p:cNvSpPr/>
            <p:nvPr/>
          </p:nvSpPr>
          <p:spPr>
            <a:xfrm>
              <a:off x="3138480" y="4554720"/>
              <a:ext cx="480960" cy="458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43"/>
            <p:cNvGrpSpPr/>
            <p:nvPr/>
          </p:nvGrpSpPr>
          <p:grpSpPr>
            <a:xfrm>
              <a:off x="4143600" y="5397480"/>
              <a:ext cx="771480" cy="689040"/>
              <a:chOff x="4143600" y="5397480"/>
              <a:chExt cx="771480" cy="689040"/>
            </a:xfrm>
          </p:grpSpPr>
          <p:sp>
            <p:nvSpPr>
              <p:cNvPr id="731" name="AutoShape 44"/>
              <p:cNvSpPr/>
              <p:nvPr/>
            </p:nvSpPr>
            <p:spPr>
              <a:xfrm>
                <a:off x="4143600" y="551592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45"/>
              <p:cNvSpPr/>
              <p:nvPr/>
            </p:nvSpPr>
            <p:spPr>
              <a:xfrm>
                <a:off x="4143600" y="545832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46"/>
              <p:cNvSpPr/>
              <p:nvPr/>
            </p:nvSpPr>
            <p:spPr>
              <a:xfrm>
                <a:off x="4143600" y="539748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Rectangle 47"/>
            <p:cNvSpPr/>
            <p:nvPr/>
          </p:nvSpPr>
          <p:spPr>
            <a:xfrm>
              <a:off x="3160800" y="3061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8"/>
            <p:cNvSpPr/>
            <p:nvPr/>
          </p:nvSpPr>
          <p:spPr>
            <a:xfrm>
              <a:off x="5524560" y="3061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9"/>
            <p:cNvSpPr/>
            <p:nvPr/>
          </p:nvSpPr>
          <p:spPr>
            <a:xfrm>
              <a:off x="3147840" y="50126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50"/>
            <p:cNvSpPr/>
            <p:nvPr/>
          </p:nvSpPr>
          <p:spPr>
            <a:xfrm>
              <a:off x="5491080" y="50126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51"/>
            <p:cNvSpPr/>
            <p:nvPr/>
          </p:nvSpPr>
          <p:spPr>
            <a:xfrm>
              <a:off x="3708360" y="4184640"/>
              <a:ext cx="179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740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741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8"/>
          <p:cNvSpPr/>
          <p:nvPr/>
        </p:nvSpPr>
        <p:spPr>
          <a:xfrm>
            <a:off x="324000" y="4005360"/>
            <a:ext cx="1296720" cy="93636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bb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9"/>
          <p:cNvSpPr/>
          <p:nvPr/>
        </p:nvSpPr>
        <p:spPr>
          <a:xfrm flipH="1">
            <a:off x="7450920" y="4005360"/>
            <a:ext cx="1297080" cy="936360"/>
          </a:xfrm>
          <a:custGeom>
            <a:avLst/>
            <a:gdLst>
              <a:gd name="textAreaLeft" fmla="*/ -360 w 1297080"/>
              <a:gd name="textAreaRight" fmla="*/ 1297080 w 12970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bb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10"/>
          <p:cNvGrpSpPr/>
          <p:nvPr/>
        </p:nvGrpSpPr>
        <p:grpSpPr>
          <a:xfrm>
            <a:off x="1760760" y="2565360"/>
            <a:ext cx="5403600" cy="3743280"/>
            <a:chOff x="1760760" y="2565360"/>
            <a:chExt cx="5403600" cy="3743280"/>
          </a:xfrm>
        </p:grpSpPr>
        <p:sp>
          <p:nvSpPr>
            <p:cNvPr id="748" name="未知"/>
            <p:cNvSpPr/>
            <p:nvPr/>
          </p:nvSpPr>
          <p:spPr>
            <a:xfrm flipH="1">
              <a:off x="1760760" y="2565360"/>
              <a:ext cx="259560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535353"/>
                </a:gs>
                <a:gs pos="100000">
                  <a:srgbClr val="777777"/>
                </a:gs>
              </a:gsLst>
              <a:lin ang="189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4568760" y="2565360"/>
              <a:ext cx="259560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af4310"/>
                </a:gs>
                <a:gs pos="100000">
                  <a:srgbClr val="db5414"/>
                </a:gs>
              </a:gsLst>
              <a:lin ang="189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1760760" y="4579920"/>
              <a:ext cx="259560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db5414"/>
                </a:gs>
                <a:gs pos="100000">
                  <a:srgbClr val="a7400f"/>
                </a:gs>
              </a:gsLst>
              <a:lin ang="189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 flipH="1">
              <a:off x="4568760" y="4579920"/>
              <a:ext cx="259560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4f4f4f"/>
                </a:gs>
              </a:gsLst>
              <a:lin ang="189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3416400" y="3465360"/>
              <a:ext cx="2081160" cy="20829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HSE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培训体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6"/>
            <p:cNvSpPr/>
            <p:nvPr/>
          </p:nvSpPr>
          <p:spPr>
            <a:xfrm>
              <a:off x="1833480" y="2923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7"/>
            <p:cNvSpPr/>
            <p:nvPr/>
          </p:nvSpPr>
          <p:spPr>
            <a:xfrm>
              <a:off x="4641840" y="2923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8"/>
            <p:cNvSpPr/>
            <p:nvPr/>
          </p:nvSpPr>
          <p:spPr>
            <a:xfrm>
              <a:off x="1833480" y="5660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9"/>
            <p:cNvSpPr/>
            <p:nvPr/>
          </p:nvSpPr>
          <p:spPr>
            <a:xfrm>
              <a:off x="4641840" y="5660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3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758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759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8"/>
          <p:cNvGrpSpPr/>
          <p:nvPr/>
        </p:nvGrpSpPr>
        <p:grpSpPr>
          <a:xfrm>
            <a:off x="826920" y="2781360"/>
            <a:ext cx="3070080" cy="3600360"/>
            <a:chOff x="826920" y="2781360"/>
            <a:chExt cx="3070080" cy="3600360"/>
          </a:xfrm>
        </p:grpSpPr>
        <p:sp>
          <p:nvSpPr>
            <p:cNvPr id="764" name="未知"/>
            <p:cNvSpPr/>
            <p:nvPr/>
          </p:nvSpPr>
          <p:spPr>
            <a:xfrm>
              <a:off x="826920" y="2781360"/>
              <a:ext cx="3070080" cy="3600360"/>
            </a:xfrm>
            <a:custGeom>
              <a:avLst/>
              <a:gdLst/>
              <a:ahLst/>
              <a:rect l="l" t="t" r="r" b="b"/>
              <a:pathLst>
                <a:path w="2096" h="3402">
                  <a:moveTo>
                    <a:pt x="0" y="3402"/>
                  </a:moveTo>
                  <a:lnTo>
                    <a:pt x="2096" y="3402"/>
                  </a:lnTo>
                  <a:lnTo>
                    <a:pt x="1184" y="0"/>
                  </a:lnTo>
                  <a:lnTo>
                    <a:pt x="9" y="0"/>
                  </a:lnTo>
                  <a:lnTo>
                    <a:pt x="0" y="3402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10"/>
            <p:cNvGrpSpPr/>
            <p:nvPr/>
          </p:nvGrpSpPr>
          <p:grpSpPr>
            <a:xfrm>
              <a:off x="879480" y="2825640"/>
              <a:ext cx="2914560" cy="3511800"/>
              <a:chOff x="879480" y="2825640"/>
              <a:chExt cx="2914560" cy="3511800"/>
            </a:xfrm>
          </p:grpSpPr>
          <p:grpSp>
            <p:nvGrpSpPr>
              <p:cNvPr id="766" name="未知"/>
              <p:cNvGrpSpPr/>
              <p:nvPr/>
            </p:nvGrpSpPr>
            <p:grpSpPr>
              <a:xfrm>
                <a:off x="879480" y="2825640"/>
                <a:ext cx="2914560" cy="3511800"/>
                <a:chOff x="879480" y="2825640"/>
                <a:chExt cx="2914560" cy="3511800"/>
              </a:xfrm>
            </p:grpSpPr>
            <p:pic>
              <p:nvPicPr>
                <p:cNvPr id="767" name="未知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79480" y="2825640"/>
                  <a:ext cx="2914560" cy="3511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8" name=""/>
                <p:cNvSpPr/>
                <p:nvPr/>
              </p:nvSpPr>
              <p:spPr>
                <a:xfrm>
                  <a:off x="887040" y="2828880"/>
                  <a:ext cx="2903400" cy="349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4280" bIns="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Text Box 12"/>
              <p:cNvSpPr/>
              <p:nvPr/>
            </p:nvSpPr>
            <p:spPr>
              <a:xfrm>
                <a:off x="1652040" y="3287520"/>
                <a:ext cx="54612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××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0" name="Group 13"/>
          <p:cNvGrpSpPr/>
          <p:nvPr/>
        </p:nvGrpSpPr>
        <p:grpSpPr>
          <a:xfrm>
            <a:off x="2603520" y="2860560"/>
            <a:ext cx="4649760" cy="528480"/>
            <a:chOff x="2603520" y="2860560"/>
            <a:chExt cx="4649760" cy="528480"/>
          </a:xfrm>
        </p:grpSpPr>
        <p:sp>
          <p:nvSpPr>
            <p:cNvPr id="771" name="未知"/>
            <p:cNvSpPr/>
            <p:nvPr/>
          </p:nvSpPr>
          <p:spPr>
            <a:xfrm>
              <a:off x="2603520" y="2860560"/>
              <a:ext cx="4649760" cy="5284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5"/>
            <p:cNvSpPr/>
            <p:nvPr/>
          </p:nvSpPr>
          <p:spPr>
            <a:xfrm>
              <a:off x="2687760" y="3111480"/>
              <a:ext cx="9954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6"/>
            <p:cNvSpPr/>
            <p:nvPr/>
          </p:nvSpPr>
          <p:spPr>
            <a:xfrm>
              <a:off x="3797280" y="2917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17"/>
          <p:cNvGrpSpPr/>
          <p:nvPr/>
        </p:nvGrpSpPr>
        <p:grpSpPr>
          <a:xfrm>
            <a:off x="2868480" y="3576600"/>
            <a:ext cx="4649760" cy="528480"/>
            <a:chOff x="2868480" y="3576600"/>
            <a:chExt cx="4649760" cy="528480"/>
          </a:xfrm>
        </p:grpSpPr>
        <p:sp>
          <p:nvSpPr>
            <p:cNvPr id="775" name="未知"/>
            <p:cNvSpPr/>
            <p:nvPr/>
          </p:nvSpPr>
          <p:spPr>
            <a:xfrm>
              <a:off x="2868480" y="3576600"/>
              <a:ext cx="4649760" cy="5284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9"/>
            <p:cNvSpPr/>
            <p:nvPr/>
          </p:nvSpPr>
          <p:spPr>
            <a:xfrm>
              <a:off x="2954160" y="3814560"/>
              <a:ext cx="9954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0"/>
            <p:cNvSpPr/>
            <p:nvPr/>
          </p:nvSpPr>
          <p:spPr>
            <a:xfrm>
              <a:off x="4084200" y="36234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21"/>
          <p:cNvGrpSpPr/>
          <p:nvPr/>
        </p:nvGrpSpPr>
        <p:grpSpPr>
          <a:xfrm>
            <a:off x="3133800" y="4292640"/>
            <a:ext cx="4649760" cy="530280"/>
            <a:chOff x="3133800" y="4292640"/>
            <a:chExt cx="4649760" cy="530280"/>
          </a:xfrm>
        </p:grpSpPr>
        <p:sp>
          <p:nvSpPr>
            <p:cNvPr id="779" name="未知"/>
            <p:cNvSpPr/>
            <p:nvPr/>
          </p:nvSpPr>
          <p:spPr>
            <a:xfrm>
              <a:off x="3133800" y="4292640"/>
              <a:ext cx="4649760" cy="5302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3"/>
            <p:cNvSpPr/>
            <p:nvPr/>
          </p:nvSpPr>
          <p:spPr>
            <a:xfrm>
              <a:off x="3218040" y="4519800"/>
              <a:ext cx="996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4"/>
            <p:cNvSpPr/>
            <p:nvPr/>
          </p:nvSpPr>
          <p:spPr>
            <a:xfrm>
              <a:off x="4373640" y="433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25"/>
          <p:cNvGrpSpPr/>
          <p:nvPr/>
        </p:nvGrpSpPr>
        <p:grpSpPr>
          <a:xfrm>
            <a:off x="3373560" y="5010120"/>
            <a:ext cx="4649760" cy="528480"/>
            <a:chOff x="3373560" y="5010120"/>
            <a:chExt cx="4649760" cy="528480"/>
          </a:xfrm>
        </p:grpSpPr>
        <p:sp>
          <p:nvSpPr>
            <p:cNvPr id="783" name="未知"/>
            <p:cNvSpPr/>
            <p:nvPr/>
          </p:nvSpPr>
          <p:spPr>
            <a:xfrm>
              <a:off x="3373560" y="5010120"/>
              <a:ext cx="4649760" cy="5284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7"/>
            <p:cNvSpPr/>
            <p:nvPr/>
          </p:nvSpPr>
          <p:spPr>
            <a:xfrm>
              <a:off x="3483000" y="5224320"/>
              <a:ext cx="997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28"/>
            <p:cNvSpPr/>
            <p:nvPr/>
          </p:nvSpPr>
          <p:spPr>
            <a:xfrm>
              <a:off x="4641840" y="50364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29"/>
          <p:cNvGrpSpPr/>
          <p:nvPr/>
        </p:nvGrpSpPr>
        <p:grpSpPr>
          <a:xfrm>
            <a:off x="3665520" y="5727600"/>
            <a:ext cx="4649760" cy="528480"/>
            <a:chOff x="3665520" y="5727600"/>
            <a:chExt cx="4649760" cy="528480"/>
          </a:xfrm>
        </p:grpSpPr>
        <p:sp>
          <p:nvSpPr>
            <p:cNvPr id="787" name="未知"/>
            <p:cNvSpPr/>
            <p:nvPr/>
          </p:nvSpPr>
          <p:spPr>
            <a:xfrm>
              <a:off x="3665520" y="5727600"/>
              <a:ext cx="4649760" cy="5284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1"/>
            <p:cNvSpPr/>
            <p:nvPr/>
          </p:nvSpPr>
          <p:spPr>
            <a:xfrm>
              <a:off x="3749760" y="5929200"/>
              <a:ext cx="996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32"/>
            <p:cNvSpPr/>
            <p:nvPr/>
          </p:nvSpPr>
          <p:spPr>
            <a:xfrm>
              <a:off x="4905360" y="5742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791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3645000" y="27622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9"/>
          <p:cNvGrpSpPr/>
          <p:nvPr/>
        </p:nvGrpSpPr>
        <p:grpSpPr>
          <a:xfrm>
            <a:off x="828720" y="2886120"/>
            <a:ext cx="3500280" cy="1585800"/>
            <a:chOff x="828720" y="2886120"/>
            <a:chExt cx="3500280" cy="1585800"/>
          </a:xfrm>
        </p:grpSpPr>
        <p:sp>
          <p:nvSpPr>
            <p:cNvPr id="798" name="AutoShape 10"/>
            <p:cNvSpPr/>
            <p:nvPr/>
          </p:nvSpPr>
          <p:spPr>
            <a:xfrm>
              <a:off x="828720" y="2886120"/>
              <a:ext cx="3495600" cy="1585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001847"/>
                </a:gs>
                <a:gs pos="100000">
                  <a:srgbClr val="003399">
                    <a:alpha val="50196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11"/>
            <p:cNvSpPr/>
            <p:nvPr/>
          </p:nvSpPr>
          <p:spPr>
            <a:xfrm>
              <a:off x="833400" y="2886120"/>
              <a:ext cx="3495600" cy="1585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373737"/>
                </a:gs>
                <a:gs pos="100000">
                  <a:srgbClr val="777777"/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2"/>
            <p:cNvSpPr/>
            <p:nvPr/>
          </p:nvSpPr>
          <p:spPr>
            <a:xfrm>
              <a:off x="2322360" y="38552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2036880" y="2925720"/>
              <a:ext cx="1081080" cy="49068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4"/>
          <p:cNvGrpSpPr/>
          <p:nvPr/>
        </p:nvGrpSpPr>
        <p:grpSpPr>
          <a:xfrm>
            <a:off x="4672080" y="2886120"/>
            <a:ext cx="3500280" cy="1585800"/>
            <a:chOff x="4672080" y="2886120"/>
            <a:chExt cx="3500280" cy="1585800"/>
          </a:xfrm>
        </p:grpSpPr>
        <p:sp>
          <p:nvSpPr>
            <p:cNvPr id="803" name="AutoShape 15"/>
            <p:cNvSpPr/>
            <p:nvPr/>
          </p:nvSpPr>
          <p:spPr>
            <a:xfrm>
              <a:off x="4672080" y="2886120"/>
              <a:ext cx="3495600" cy="1585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16"/>
            <p:cNvSpPr/>
            <p:nvPr/>
          </p:nvSpPr>
          <p:spPr>
            <a:xfrm>
              <a:off x="4676760" y="2886120"/>
              <a:ext cx="3495600" cy="1585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189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7"/>
            <p:cNvSpPr/>
            <p:nvPr/>
          </p:nvSpPr>
          <p:spPr>
            <a:xfrm>
              <a:off x="6103800" y="38552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18"/>
            <p:cNvSpPr/>
            <p:nvPr/>
          </p:nvSpPr>
          <p:spPr>
            <a:xfrm>
              <a:off x="5881680" y="2925720"/>
              <a:ext cx="1081080" cy="49068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19"/>
          <p:cNvGrpSpPr/>
          <p:nvPr/>
        </p:nvGrpSpPr>
        <p:grpSpPr>
          <a:xfrm>
            <a:off x="828720" y="4581000"/>
            <a:ext cx="3500280" cy="1584360"/>
            <a:chOff x="828720" y="4581000"/>
            <a:chExt cx="3500280" cy="1584360"/>
          </a:xfrm>
        </p:grpSpPr>
        <p:sp>
          <p:nvSpPr>
            <p:cNvPr id="808" name="AutoShape 20"/>
            <p:cNvSpPr/>
            <p:nvPr/>
          </p:nvSpPr>
          <p:spPr>
            <a:xfrm flipH="1" rot="10800000">
              <a:off x="828720" y="458100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10031"/>
                </a:gs>
                <a:gs pos="100000">
                  <a:srgbClr val="d2006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1"/>
            <p:cNvSpPr/>
            <p:nvPr/>
          </p:nvSpPr>
          <p:spPr>
            <a:xfrm flipH="1" rot="10800000">
              <a:off x="833400" y="458100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2"/>
            <p:cNvSpPr/>
            <p:nvPr/>
          </p:nvSpPr>
          <p:spPr>
            <a:xfrm>
              <a:off x="2257200" y="4725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23"/>
            <p:cNvSpPr/>
            <p:nvPr/>
          </p:nvSpPr>
          <p:spPr>
            <a:xfrm flipV="1">
              <a:off x="2036880" y="5631480"/>
              <a:ext cx="1081080" cy="49068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24"/>
          <p:cNvGrpSpPr/>
          <p:nvPr/>
        </p:nvGrpSpPr>
        <p:grpSpPr>
          <a:xfrm>
            <a:off x="4670280" y="4581000"/>
            <a:ext cx="3500280" cy="1584360"/>
            <a:chOff x="4670280" y="4581000"/>
            <a:chExt cx="3500280" cy="1584360"/>
          </a:xfrm>
        </p:grpSpPr>
        <p:sp>
          <p:nvSpPr>
            <p:cNvPr id="813" name="AutoShape 25"/>
            <p:cNvSpPr/>
            <p:nvPr/>
          </p:nvSpPr>
          <p:spPr>
            <a:xfrm flipH="1" rot="10800000">
              <a:off x="4670280" y="458100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9ff99">
                    <a:alpha val="50196"/>
                  </a:srgbClr>
                </a:gs>
                <a:gs pos="100000">
                  <a:srgbClr val="4776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26"/>
            <p:cNvSpPr/>
            <p:nvPr/>
          </p:nvSpPr>
          <p:spPr>
            <a:xfrm flipH="1" rot="10800000">
              <a:off x="4674960" y="458100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27"/>
            <p:cNvSpPr/>
            <p:nvPr/>
          </p:nvSpPr>
          <p:spPr>
            <a:xfrm>
              <a:off x="5505120" y="4725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28"/>
            <p:cNvSpPr/>
            <p:nvPr/>
          </p:nvSpPr>
          <p:spPr>
            <a:xfrm flipV="1">
              <a:off x="5881680" y="5618160"/>
              <a:ext cx="1081080" cy="49032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29"/>
          <p:cNvGrpSpPr/>
          <p:nvPr/>
        </p:nvGrpSpPr>
        <p:grpSpPr>
          <a:xfrm>
            <a:off x="2751120" y="4581360"/>
            <a:ext cx="3498840" cy="1584360"/>
            <a:chOff x="2751120" y="4581360"/>
            <a:chExt cx="3498840" cy="1584360"/>
          </a:xfrm>
        </p:grpSpPr>
        <p:sp>
          <p:nvSpPr>
            <p:cNvPr id="818" name="AutoShape 30"/>
            <p:cNvSpPr/>
            <p:nvPr/>
          </p:nvSpPr>
          <p:spPr>
            <a:xfrm>
              <a:off x="2751120" y="458136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cc6600">
                    <a:alpha val="50196"/>
                  </a:srgbClr>
                </a:gs>
                <a:gs pos="100000">
                  <a:srgbClr val="5e2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31"/>
            <p:cNvSpPr/>
            <p:nvPr/>
          </p:nvSpPr>
          <p:spPr>
            <a:xfrm>
              <a:off x="2754360" y="458136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5c450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32"/>
            <p:cNvSpPr/>
            <p:nvPr/>
          </p:nvSpPr>
          <p:spPr>
            <a:xfrm>
              <a:off x="3470040" y="565524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33"/>
            <p:cNvSpPr/>
            <p:nvPr/>
          </p:nvSpPr>
          <p:spPr>
            <a:xfrm>
              <a:off x="3968640" y="4624200"/>
              <a:ext cx="1081080" cy="49068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823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824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rc 8"/>
          <p:cNvSpPr/>
          <p:nvPr/>
        </p:nvSpPr>
        <p:spPr>
          <a:xfrm>
            <a:off x="539640" y="2711520"/>
            <a:ext cx="7920000" cy="4164120"/>
          </a:xfrm>
          <a:custGeom>
            <a:avLst/>
            <a:gdLst>
              <a:gd name="textAreaLeft" fmla="*/ 0 w 7920000"/>
              <a:gd name="textAreaRight" fmla="*/ 7920360 w 7920000"/>
              <a:gd name="textAreaTop" fmla="*/ 0 h 4164120"/>
              <a:gd name="textAreaBottom" fmla="*/ 4164480 h 416412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31" y="0"/>
                  <a:pt x="-22370" y="9634"/>
                  <a:pt x="-22337" y="2154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31" y="0"/>
                  <a:pt x="-22370" y="9634"/>
                  <a:pt x="-22337" y="2154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rc 9"/>
          <p:cNvSpPr/>
          <p:nvPr/>
        </p:nvSpPr>
        <p:spPr>
          <a:xfrm>
            <a:off x="1709640" y="3105000"/>
            <a:ext cx="2793960" cy="3780000"/>
          </a:xfrm>
          <a:custGeom>
            <a:avLst/>
            <a:gdLst/>
            <a:ahLst/>
            <a:rect l="l" t="t" r="r" b="b"/>
            <a:pathLst>
              <a:path fill="none" w="16717" h="21511">
                <a:moveTo>
                  <a:pt x="-1" y="7832"/>
                </a:moveTo>
                <a:cubicBezTo>
                  <a:pt x="3668" y="3348"/>
                  <a:pt x="8985" y="526"/>
                  <a:pt x="14756" y="0"/>
                </a:cubicBezTo>
              </a:path>
              <a:path stroke="0" w="16717" h="21511">
                <a:moveTo>
                  <a:pt x="-1" y="7832"/>
                </a:moveTo>
                <a:cubicBezTo>
                  <a:pt x="3668" y="3348"/>
                  <a:pt x="8985" y="526"/>
                  <a:pt x="14756" y="0"/>
                </a:cubicBezTo>
                <a:lnTo>
                  <a:pt x="16717" y="21511"/>
                </a:lnTo>
                <a:lnTo>
                  <a:pt x="-1" y="7832"/>
                </a:lnTo>
                <a:close/>
              </a:path>
            </a:pathLst>
          </a:custGeom>
          <a:noFill/>
          <a:ln w="76320">
            <a:solidFill>
              <a:srgbClr val="f8f8f8"/>
            </a:solidFill>
            <a:round/>
            <a:headEnd len="med" type="triangle" w="med"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rc 10"/>
          <p:cNvSpPr/>
          <p:nvPr/>
        </p:nvSpPr>
        <p:spPr>
          <a:xfrm>
            <a:off x="4503600" y="3143160"/>
            <a:ext cx="2799000" cy="3741840"/>
          </a:xfrm>
          <a:custGeom>
            <a:avLst/>
            <a:gdLst/>
            <a:ahLst/>
            <a:rect l="l" t="t" r="r" b="b"/>
            <a:pathLst>
              <a:path fill="none" w="16742" h="21295">
                <a:moveTo>
                  <a:pt x="3616" y="-1"/>
                </a:moveTo>
                <a:cubicBezTo>
                  <a:pt x="8772" y="875"/>
                  <a:pt x="13436" y="3592"/>
                  <a:pt x="16741" y="7647"/>
                </a:cubicBezTo>
              </a:path>
              <a:path stroke="0" w="16742" h="21295">
                <a:moveTo>
                  <a:pt x="3616" y="-1"/>
                </a:moveTo>
                <a:cubicBezTo>
                  <a:pt x="8772" y="875"/>
                  <a:pt x="13436" y="3592"/>
                  <a:pt x="16741" y="7647"/>
                </a:cubicBezTo>
                <a:lnTo>
                  <a:pt x="0" y="21295"/>
                </a:lnTo>
                <a:lnTo>
                  <a:pt x="3616" y="-1"/>
                </a:lnTo>
                <a:close/>
              </a:path>
            </a:pathLst>
          </a:custGeom>
          <a:noFill/>
          <a:ln w="76320">
            <a:solidFill>
              <a:srgbClr val="f8f8f8"/>
            </a:solidFill>
            <a:round/>
            <a:tailEnd len="med" type="triangle" w="med"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rc 11"/>
          <p:cNvSpPr/>
          <p:nvPr/>
        </p:nvSpPr>
        <p:spPr>
          <a:xfrm>
            <a:off x="1284120" y="3446640"/>
            <a:ext cx="6523200" cy="342900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31" y="0"/>
                  <a:pt x="-22370" y="9634"/>
                  <a:pt x="-22337" y="2154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31" y="0"/>
                  <a:pt x="-22370" y="9634"/>
                  <a:pt x="-22337" y="2154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be0d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2"/>
          <p:cNvGrpSpPr/>
          <p:nvPr/>
        </p:nvGrpSpPr>
        <p:grpSpPr>
          <a:xfrm>
            <a:off x="3419640" y="2509920"/>
            <a:ext cx="2271600" cy="1584360"/>
            <a:chOff x="3419640" y="2509920"/>
            <a:chExt cx="2271600" cy="1584360"/>
          </a:xfrm>
        </p:grpSpPr>
        <p:sp>
          <p:nvSpPr>
            <p:cNvPr id="833" name="AutoShape 13"/>
            <p:cNvSpPr/>
            <p:nvPr/>
          </p:nvSpPr>
          <p:spPr>
            <a:xfrm>
              <a:off x="3419640" y="2509920"/>
              <a:ext cx="2271600" cy="15843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14"/>
            <p:cNvSpPr/>
            <p:nvPr/>
          </p:nvSpPr>
          <p:spPr>
            <a:xfrm>
              <a:off x="3575160" y="2616120"/>
              <a:ext cx="1960560" cy="137160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Line 15"/>
          <p:cNvSpPr/>
          <p:nvPr/>
        </p:nvSpPr>
        <p:spPr>
          <a:xfrm>
            <a:off x="2340000" y="5533920"/>
            <a:ext cx="79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6"/>
          <p:cNvSpPr/>
          <p:nvPr/>
        </p:nvSpPr>
        <p:spPr>
          <a:xfrm>
            <a:off x="5599080" y="553392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17"/>
          <p:cNvGrpSpPr/>
          <p:nvPr/>
        </p:nvGrpSpPr>
        <p:grpSpPr>
          <a:xfrm>
            <a:off x="179280" y="4741920"/>
            <a:ext cx="2271600" cy="1584360"/>
            <a:chOff x="179280" y="4741920"/>
            <a:chExt cx="2271600" cy="1584360"/>
          </a:xfrm>
        </p:grpSpPr>
        <p:sp>
          <p:nvSpPr>
            <p:cNvPr id="838" name="AutoShape 18"/>
            <p:cNvSpPr/>
            <p:nvPr/>
          </p:nvSpPr>
          <p:spPr>
            <a:xfrm>
              <a:off x="179280" y="4741920"/>
              <a:ext cx="2271600" cy="15843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19"/>
            <p:cNvSpPr/>
            <p:nvPr/>
          </p:nvSpPr>
          <p:spPr>
            <a:xfrm>
              <a:off x="334800" y="4848120"/>
              <a:ext cx="1960560" cy="137160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373737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Group 20"/>
          <p:cNvGrpSpPr/>
          <p:nvPr/>
        </p:nvGrpSpPr>
        <p:grpSpPr>
          <a:xfrm>
            <a:off x="3419640" y="4741920"/>
            <a:ext cx="2271600" cy="1584360"/>
            <a:chOff x="3419640" y="4741920"/>
            <a:chExt cx="2271600" cy="1584360"/>
          </a:xfrm>
        </p:grpSpPr>
        <p:sp>
          <p:nvSpPr>
            <p:cNvPr id="841" name="AutoShape 21"/>
            <p:cNvSpPr/>
            <p:nvPr/>
          </p:nvSpPr>
          <p:spPr>
            <a:xfrm>
              <a:off x="3419640" y="4741920"/>
              <a:ext cx="2271600" cy="15843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22"/>
            <p:cNvSpPr/>
            <p:nvPr/>
          </p:nvSpPr>
          <p:spPr>
            <a:xfrm>
              <a:off x="3575160" y="4848120"/>
              <a:ext cx="1960560" cy="137160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745806"/>
                </a:gs>
                <a:gs pos="100000">
                  <a:srgbClr val="fbbe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3"/>
          <p:cNvGrpSpPr/>
          <p:nvPr/>
        </p:nvGrpSpPr>
        <p:grpSpPr>
          <a:xfrm>
            <a:off x="6588000" y="4741920"/>
            <a:ext cx="2271600" cy="1584360"/>
            <a:chOff x="6588000" y="4741920"/>
            <a:chExt cx="2271600" cy="1584360"/>
          </a:xfrm>
        </p:grpSpPr>
        <p:sp>
          <p:nvSpPr>
            <p:cNvPr id="844" name="AutoShape 24"/>
            <p:cNvSpPr/>
            <p:nvPr/>
          </p:nvSpPr>
          <p:spPr>
            <a:xfrm>
              <a:off x="6588000" y="4741920"/>
              <a:ext cx="2271600" cy="15843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25"/>
            <p:cNvSpPr/>
            <p:nvPr/>
          </p:nvSpPr>
          <p:spPr>
            <a:xfrm>
              <a:off x="6743520" y="4848120"/>
              <a:ext cx="1960560" cy="137160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373737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AutoShape 2"/>
          <p:cNvSpPr/>
          <p:nvPr/>
        </p:nvSpPr>
        <p:spPr>
          <a:xfrm rot="20954400">
            <a:off x="888840" y="2852640"/>
            <a:ext cx="7643880" cy="2811600"/>
          </a:xfrm>
          <a:custGeom>
            <a:avLst/>
            <a:gdLst>
              <a:gd name="textAreaLeft" fmla="*/ 1119240 w 7643880"/>
              <a:gd name="textAreaRight" fmla="*/ 6524640 w 7643880"/>
              <a:gd name="textAreaTop" fmla="*/ 411480 h 2811600"/>
              <a:gd name="textAreaBottom" fmla="*/ 2400120 h 281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14" y="10800"/>
                </a:moveTo>
                <a:cubicBezTo>
                  <a:pt x="1314" y="16039"/>
                  <a:pt x="5561" y="20286"/>
                  <a:pt x="10800" y="20286"/>
                </a:cubicBezTo>
                <a:cubicBezTo>
                  <a:pt x="16039" y="20286"/>
                  <a:pt x="20286" y="16039"/>
                  <a:pt x="20286" y="10800"/>
                </a:cubicBezTo>
                <a:cubicBezTo>
                  <a:pt x="20286" y="5561"/>
                  <a:pt x="16039" y="1314"/>
                  <a:pt x="10800" y="1314"/>
                </a:cubicBezTo>
                <a:cubicBezTo>
                  <a:pt x="5561" y="1314"/>
                  <a:pt x="1314" y="5561"/>
                  <a:pt x="1314" y="10800"/>
                </a:cubicBezTo>
                <a:close/>
              </a:path>
            </a:pathLst>
          </a:custGeom>
          <a:solidFill>
            <a:srgbClr val="fddb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848" name="Group 4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849" name="AutoShape 5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AutoShape 6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AutoShape 7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8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9"/>
          <p:cNvSpPr/>
          <p:nvPr/>
        </p:nvSpPr>
        <p:spPr>
          <a:xfrm rot="19380000">
            <a:off x="2855880" y="2997000"/>
            <a:ext cx="4321080" cy="2881080"/>
          </a:xfrm>
          <a:custGeom>
            <a:avLst/>
            <a:gdLst>
              <a:gd name="textAreaLeft" fmla="*/ 632520 w 4321080"/>
              <a:gd name="textAreaRight" fmla="*/ 3688560 w 4321080"/>
              <a:gd name="textAreaTop" fmla="*/ 421920 h 2881080"/>
              <a:gd name="textAreaBottom" fmla="*/ 245916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14" y="10800"/>
                </a:moveTo>
                <a:cubicBezTo>
                  <a:pt x="1314" y="16039"/>
                  <a:pt x="5561" y="20286"/>
                  <a:pt x="10800" y="20286"/>
                </a:cubicBezTo>
                <a:cubicBezTo>
                  <a:pt x="16039" y="20286"/>
                  <a:pt x="20286" y="16039"/>
                  <a:pt x="20286" y="10800"/>
                </a:cubicBezTo>
                <a:cubicBezTo>
                  <a:pt x="20286" y="5561"/>
                  <a:pt x="16039" y="1314"/>
                  <a:pt x="10800" y="1314"/>
                </a:cubicBezTo>
                <a:cubicBezTo>
                  <a:pt x="5561" y="1314"/>
                  <a:pt x="1314" y="5561"/>
                  <a:pt x="1314" y="1080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0"/>
          <p:cNvGrpSpPr/>
          <p:nvPr/>
        </p:nvGrpSpPr>
        <p:grpSpPr>
          <a:xfrm>
            <a:off x="2698920" y="2141640"/>
            <a:ext cx="2833560" cy="2411280"/>
            <a:chOff x="2698920" y="2141640"/>
            <a:chExt cx="2833560" cy="2411280"/>
          </a:xfrm>
        </p:grpSpPr>
        <p:sp>
          <p:nvSpPr>
            <p:cNvPr id="855" name="AutoShape 11"/>
            <p:cNvSpPr/>
            <p:nvPr/>
          </p:nvSpPr>
          <p:spPr>
            <a:xfrm>
              <a:off x="2698920" y="2141640"/>
              <a:ext cx="2833560" cy="2411280"/>
            </a:xfrm>
            <a:prstGeom prst="hexagon">
              <a:avLst>
                <a:gd name="adj" fmla="val 29378"/>
                <a:gd name="vf" fmla="val 11547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12"/>
            <p:cNvGrpSpPr/>
            <p:nvPr/>
          </p:nvGrpSpPr>
          <p:grpSpPr>
            <a:xfrm>
              <a:off x="2741760" y="2154240"/>
              <a:ext cx="2687760" cy="2290680"/>
              <a:chOff x="2741760" y="2154240"/>
              <a:chExt cx="2687760" cy="2290680"/>
            </a:xfrm>
          </p:grpSpPr>
          <p:sp>
            <p:nvSpPr>
              <p:cNvPr id="857" name="AutoShape 13"/>
              <p:cNvSpPr/>
              <p:nvPr/>
            </p:nvSpPr>
            <p:spPr>
              <a:xfrm>
                <a:off x="2741760" y="2154240"/>
                <a:ext cx="2687760" cy="2290680"/>
              </a:xfrm>
              <a:prstGeom prst="hexagon">
                <a:avLst>
                  <a:gd name="adj" fmla="val 29334"/>
                  <a:gd name="vf" fmla="val 115470"/>
                </a:avLst>
              </a:prstGeom>
              <a:gradFill rotWithShape="0">
                <a:gsLst>
                  <a:gs pos="0">
                    <a:srgbClr val="fbbe0d"/>
                  </a:gs>
                  <a:gs pos="100000">
                    <a:srgbClr val="745806">
                      <a:alpha val="6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14"/>
              <p:cNvSpPr/>
              <p:nvPr/>
            </p:nvSpPr>
            <p:spPr>
              <a:xfrm>
                <a:off x="3906720" y="2709360"/>
                <a:ext cx="59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9" name="Group 15"/>
          <p:cNvGrpSpPr/>
          <p:nvPr/>
        </p:nvGrpSpPr>
        <p:grpSpPr>
          <a:xfrm>
            <a:off x="4529160" y="2863800"/>
            <a:ext cx="2832120" cy="2411280"/>
            <a:chOff x="4529160" y="2863800"/>
            <a:chExt cx="2832120" cy="2411280"/>
          </a:xfrm>
        </p:grpSpPr>
        <p:sp>
          <p:nvSpPr>
            <p:cNvPr id="860" name="AutoShape 16"/>
            <p:cNvSpPr/>
            <p:nvPr/>
          </p:nvSpPr>
          <p:spPr>
            <a:xfrm>
              <a:off x="4529160" y="2863800"/>
              <a:ext cx="2832120" cy="2411280"/>
            </a:xfrm>
            <a:prstGeom prst="hexagon">
              <a:avLst>
                <a:gd name="adj" fmla="val 29363"/>
                <a:gd name="vf" fmla="val 115470"/>
              </a:avLst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Group 17"/>
            <p:cNvGrpSpPr/>
            <p:nvPr/>
          </p:nvGrpSpPr>
          <p:grpSpPr>
            <a:xfrm>
              <a:off x="4565520" y="2874960"/>
              <a:ext cx="2687760" cy="2290680"/>
              <a:chOff x="4565520" y="2874960"/>
              <a:chExt cx="2687760" cy="2290680"/>
            </a:xfrm>
          </p:grpSpPr>
          <p:sp>
            <p:nvSpPr>
              <p:cNvPr id="862" name="AutoShape 18"/>
              <p:cNvSpPr/>
              <p:nvPr/>
            </p:nvSpPr>
            <p:spPr>
              <a:xfrm>
                <a:off x="4565520" y="2874960"/>
                <a:ext cx="2687760" cy="2290680"/>
              </a:xfrm>
              <a:prstGeom prst="hexagon">
                <a:avLst>
                  <a:gd name="adj" fmla="val 29334"/>
                  <a:gd name="vf" fmla="val 115470"/>
                </a:avLst>
              </a:prstGeom>
              <a:gradFill rotWithShape="0">
                <a:gsLst>
                  <a:gs pos="0">
                    <a:srgbClr val="db5414"/>
                  </a:gs>
                  <a:gs pos="100000">
                    <a:srgbClr val="652709">
                      <a:alpha val="6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9"/>
              <p:cNvSpPr/>
              <p:nvPr/>
            </p:nvSpPr>
            <p:spPr>
              <a:xfrm>
                <a:off x="5808240" y="3501360"/>
                <a:ext cx="59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Group 20"/>
          <p:cNvGrpSpPr/>
          <p:nvPr/>
        </p:nvGrpSpPr>
        <p:grpSpPr>
          <a:xfrm>
            <a:off x="2424240" y="4257720"/>
            <a:ext cx="2832120" cy="2411280"/>
            <a:chOff x="2424240" y="4257720"/>
            <a:chExt cx="2832120" cy="2411280"/>
          </a:xfrm>
        </p:grpSpPr>
        <p:sp>
          <p:nvSpPr>
            <p:cNvPr id="865" name="AutoShape 21"/>
            <p:cNvSpPr/>
            <p:nvPr/>
          </p:nvSpPr>
          <p:spPr>
            <a:xfrm>
              <a:off x="2424240" y="4257720"/>
              <a:ext cx="2832120" cy="2411280"/>
            </a:xfrm>
            <a:prstGeom prst="hexagon">
              <a:avLst>
                <a:gd name="adj" fmla="val 29363"/>
                <a:gd name="vf" fmla="val 11547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Group 22"/>
            <p:cNvGrpSpPr/>
            <p:nvPr/>
          </p:nvGrpSpPr>
          <p:grpSpPr>
            <a:xfrm>
              <a:off x="2471760" y="4270320"/>
              <a:ext cx="2689200" cy="2290680"/>
              <a:chOff x="2471760" y="4270320"/>
              <a:chExt cx="2689200" cy="2290680"/>
            </a:xfrm>
          </p:grpSpPr>
          <p:sp>
            <p:nvSpPr>
              <p:cNvPr id="867" name="AutoShape 23"/>
              <p:cNvSpPr/>
              <p:nvPr/>
            </p:nvSpPr>
            <p:spPr>
              <a:xfrm>
                <a:off x="2471760" y="4270320"/>
                <a:ext cx="2689200" cy="2290680"/>
              </a:xfrm>
              <a:prstGeom prst="hexagon">
                <a:avLst>
                  <a:gd name="adj" fmla="val 29349"/>
                  <a:gd name="vf" fmla="val 11547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>
                      <a:alpha val="6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24"/>
              <p:cNvSpPr/>
              <p:nvPr/>
            </p:nvSpPr>
            <p:spPr>
              <a:xfrm>
                <a:off x="3531960" y="5085720"/>
                <a:ext cx="59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Group 25"/>
          <p:cNvGrpSpPr/>
          <p:nvPr/>
        </p:nvGrpSpPr>
        <p:grpSpPr>
          <a:xfrm>
            <a:off x="3552480" y="3307320"/>
            <a:ext cx="2054880" cy="2008800"/>
            <a:chOff x="3552480" y="3307320"/>
            <a:chExt cx="2054880" cy="2008800"/>
          </a:xfrm>
        </p:grpSpPr>
        <p:sp>
          <p:nvSpPr>
            <p:cNvPr id="870" name="Oval 26"/>
            <p:cNvSpPr/>
            <p:nvPr/>
          </p:nvSpPr>
          <p:spPr>
            <a:xfrm rot="19380000">
              <a:off x="3795480" y="3645000"/>
              <a:ext cx="1568160" cy="1333440"/>
            </a:xfrm>
            <a:prstGeom prst="ellips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7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 rot="19380000">
              <a:off x="3796920" y="3654000"/>
              <a:ext cx="1531800" cy="129888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f8f8f8"/>
                </a:gs>
              </a:gsLst>
              <a:lin ang="7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>
              <a:off x="4248360" y="3932280"/>
              <a:ext cx="62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874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875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8"/>
          <p:cNvSpPr/>
          <p:nvPr/>
        </p:nvSpPr>
        <p:spPr>
          <a:xfrm>
            <a:off x="5003640" y="2502000"/>
            <a:ext cx="3384720" cy="48240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9"/>
          <p:cNvSpPr/>
          <p:nvPr/>
        </p:nvSpPr>
        <p:spPr>
          <a:xfrm>
            <a:off x="6946920" y="6116760"/>
            <a:ext cx="1441440" cy="47448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10"/>
          <p:cNvSpPr/>
          <p:nvPr/>
        </p:nvSpPr>
        <p:spPr>
          <a:xfrm>
            <a:off x="6730920" y="5713560"/>
            <a:ext cx="1657440" cy="48240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11"/>
          <p:cNvSpPr/>
          <p:nvPr/>
        </p:nvSpPr>
        <p:spPr>
          <a:xfrm>
            <a:off x="6443640" y="5319720"/>
            <a:ext cx="1944720" cy="47304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12"/>
          <p:cNvSpPr/>
          <p:nvPr/>
        </p:nvSpPr>
        <p:spPr>
          <a:xfrm>
            <a:off x="6299280" y="4917960"/>
            <a:ext cx="2089080" cy="48096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13"/>
          <p:cNvSpPr/>
          <p:nvPr/>
        </p:nvSpPr>
        <p:spPr>
          <a:xfrm>
            <a:off x="6083280" y="4514760"/>
            <a:ext cx="2305080" cy="47952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14"/>
          <p:cNvSpPr/>
          <p:nvPr/>
        </p:nvSpPr>
        <p:spPr>
          <a:xfrm>
            <a:off x="5867280" y="4113360"/>
            <a:ext cx="2521080" cy="48240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5"/>
          <p:cNvSpPr/>
          <p:nvPr/>
        </p:nvSpPr>
        <p:spPr>
          <a:xfrm>
            <a:off x="5651640" y="3708360"/>
            <a:ext cx="2736720" cy="48276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6"/>
          <p:cNvSpPr/>
          <p:nvPr/>
        </p:nvSpPr>
        <p:spPr>
          <a:xfrm>
            <a:off x="5435640" y="3305160"/>
            <a:ext cx="2952720" cy="48276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17"/>
          <p:cNvSpPr/>
          <p:nvPr/>
        </p:nvSpPr>
        <p:spPr>
          <a:xfrm>
            <a:off x="5219640" y="2905200"/>
            <a:ext cx="3168720" cy="48240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18"/>
          <p:cNvGrpSpPr/>
          <p:nvPr/>
        </p:nvGrpSpPr>
        <p:grpSpPr>
          <a:xfrm>
            <a:off x="755640" y="2494080"/>
            <a:ext cx="1006560" cy="4174560"/>
            <a:chOff x="755640" y="2494080"/>
            <a:chExt cx="1006560" cy="4174560"/>
          </a:xfrm>
        </p:grpSpPr>
        <p:sp>
          <p:nvSpPr>
            <p:cNvPr id="890" name="AutoShape 19"/>
            <p:cNvSpPr/>
            <p:nvPr/>
          </p:nvSpPr>
          <p:spPr>
            <a:xfrm>
              <a:off x="755640" y="2494080"/>
              <a:ext cx="1006560" cy="4103280"/>
            </a:xfrm>
            <a:prstGeom prst="cube">
              <a:avLst>
                <a:gd name="adj" fmla="val 13453"/>
              </a:avLst>
            </a:prstGeom>
            <a:gradFill rotWithShape="0">
              <a:gsLst>
                <a:gs pos="0">
                  <a:srgbClr val="652709"/>
                </a:gs>
                <a:gs pos="50000">
                  <a:srgbClr val="db5414"/>
                </a:gs>
                <a:gs pos="100000">
                  <a:srgbClr val="65270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20"/>
            <p:cNvSpPr/>
            <p:nvPr/>
          </p:nvSpPr>
          <p:spPr>
            <a:xfrm>
              <a:off x="928800" y="4003560"/>
              <a:ext cx="546120" cy="26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21"/>
            <p:cNvSpPr/>
            <p:nvPr/>
          </p:nvSpPr>
          <p:spPr>
            <a:xfrm>
              <a:off x="984240" y="2852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22"/>
            <p:cNvSpPr/>
            <p:nvPr/>
          </p:nvSpPr>
          <p:spPr>
            <a:xfrm>
              <a:off x="984240" y="3228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23"/>
            <p:cNvSpPr/>
            <p:nvPr/>
          </p:nvSpPr>
          <p:spPr>
            <a:xfrm>
              <a:off x="984240" y="3605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24"/>
            <p:cNvSpPr/>
            <p:nvPr/>
          </p:nvSpPr>
          <p:spPr>
            <a:xfrm>
              <a:off x="984240" y="397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5"/>
          <p:cNvGrpSpPr/>
          <p:nvPr/>
        </p:nvGrpSpPr>
        <p:grpSpPr>
          <a:xfrm>
            <a:off x="1619280" y="6116760"/>
            <a:ext cx="5392800" cy="474480"/>
            <a:chOff x="1619280" y="6116760"/>
            <a:chExt cx="5392800" cy="474480"/>
          </a:xfrm>
        </p:grpSpPr>
        <p:sp>
          <p:nvSpPr>
            <p:cNvPr id="897" name="AutoShape 26"/>
            <p:cNvSpPr/>
            <p:nvPr/>
          </p:nvSpPr>
          <p:spPr>
            <a:xfrm>
              <a:off x="1619280" y="6116760"/>
              <a:ext cx="5392800" cy="47448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7"/>
            <p:cNvSpPr/>
            <p:nvPr/>
          </p:nvSpPr>
          <p:spPr>
            <a:xfrm>
              <a:off x="1766880" y="6220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Group 28"/>
          <p:cNvGrpSpPr/>
          <p:nvPr/>
        </p:nvGrpSpPr>
        <p:grpSpPr>
          <a:xfrm>
            <a:off x="1619280" y="5713560"/>
            <a:ext cx="5199120" cy="482400"/>
            <a:chOff x="1619280" y="5713560"/>
            <a:chExt cx="5199120" cy="482400"/>
          </a:xfrm>
        </p:grpSpPr>
        <p:sp>
          <p:nvSpPr>
            <p:cNvPr id="900" name="AutoShape 29"/>
            <p:cNvSpPr/>
            <p:nvPr/>
          </p:nvSpPr>
          <p:spPr>
            <a:xfrm>
              <a:off x="1619280" y="5713560"/>
              <a:ext cx="5199120" cy="48240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30"/>
            <p:cNvSpPr/>
            <p:nvPr/>
          </p:nvSpPr>
          <p:spPr>
            <a:xfrm>
              <a:off x="1766880" y="5818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31"/>
          <p:cNvGrpSpPr/>
          <p:nvPr/>
        </p:nvGrpSpPr>
        <p:grpSpPr>
          <a:xfrm>
            <a:off x="1619280" y="5319720"/>
            <a:ext cx="4951440" cy="473040"/>
            <a:chOff x="1619280" y="5319720"/>
            <a:chExt cx="4951440" cy="473040"/>
          </a:xfrm>
        </p:grpSpPr>
        <p:sp>
          <p:nvSpPr>
            <p:cNvPr id="903" name="AutoShape 32"/>
            <p:cNvSpPr/>
            <p:nvPr/>
          </p:nvSpPr>
          <p:spPr>
            <a:xfrm>
              <a:off x="1619280" y="5319720"/>
              <a:ext cx="4951440" cy="47304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3"/>
            <p:cNvSpPr/>
            <p:nvPr/>
          </p:nvSpPr>
          <p:spPr>
            <a:xfrm>
              <a:off x="1766880" y="5417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34"/>
          <p:cNvGrpSpPr/>
          <p:nvPr/>
        </p:nvGrpSpPr>
        <p:grpSpPr>
          <a:xfrm>
            <a:off x="1619280" y="4917960"/>
            <a:ext cx="4770360" cy="480960"/>
            <a:chOff x="1619280" y="4917960"/>
            <a:chExt cx="4770360" cy="480960"/>
          </a:xfrm>
        </p:grpSpPr>
        <p:sp>
          <p:nvSpPr>
            <p:cNvPr id="906" name="AutoShape 35"/>
            <p:cNvSpPr/>
            <p:nvPr/>
          </p:nvSpPr>
          <p:spPr>
            <a:xfrm>
              <a:off x="1619280" y="4917960"/>
              <a:ext cx="4770360" cy="48096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6"/>
            <p:cNvSpPr/>
            <p:nvPr/>
          </p:nvSpPr>
          <p:spPr>
            <a:xfrm>
              <a:off x="1766880" y="5015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37"/>
          <p:cNvGrpSpPr/>
          <p:nvPr/>
        </p:nvGrpSpPr>
        <p:grpSpPr>
          <a:xfrm>
            <a:off x="1619280" y="4514760"/>
            <a:ext cx="4548240" cy="479520"/>
            <a:chOff x="1619280" y="4514760"/>
            <a:chExt cx="4548240" cy="479520"/>
          </a:xfrm>
        </p:grpSpPr>
        <p:sp>
          <p:nvSpPr>
            <p:cNvPr id="909" name="AutoShape 38"/>
            <p:cNvSpPr/>
            <p:nvPr/>
          </p:nvSpPr>
          <p:spPr>
            <a:xfrm>
              <a:off x="1619280" y="4514760"/>
              <a:ext cx="4548240" cy="47952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39"/>
            <p:cNvSpPr/>
            <p:nvPr/>
          </p:nvSpPr>
          <p:spPr>
            <a:xfrm>
              <a:off x="1766880" y="4614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0"/>
          <p:cNvGrpSpPr/>
          <p:nvPr/>
        </p:nvGrpSpPr>
        <p:grpSpPr>
          <a:xfrm>
            <a:off x="1619280" y="4113360"/>
            <a:ext cx="4340160" cy="482400"/>
            <a:chOff x="1619280" y="4113360"/>
            <a:chExt cx="4340160" cy="482400"/>
          </a:xfrm>
        </p:grpSpPr>
        <p:sp>
          <p:nvSpPr>
            <p:cNvPr id="912" name="AutoShape 41"/>
            <p:cNvSpPr/>
            <p:nvPr/>
          </p:nvSpPr>
          <p:spPr>
            <a:xfrm>
              <a:off x="1619280" y="4113360"/>
              <a:ext cx="4340160" cy="48240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42"/>
            <p:cNvSpPr/>
            <p:nvPr/>
          </p:nvSpPr>
          <p:spPr>
            <a:xfrm>
              <a:off x="1766880" y="421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43"/>
          <p:cNvGrpSpPr/>
          <p:nvPr/>
        </p:nvGrpSpPr>
        <p:grpSpPr>
          <a:xfrm>
            <a:off x="1619280" y="3708360"/>
            <a:ext cx="4105080" cy="482760"/>
            <a:chOff x="1619280" y="3708360"/>
            <a:chExt cx="4105080" cy="482760"/>
          </a:xfrm>
        </p:grpSpPr>
        <p:sp>
          <p:nvSpPr>
            <p:cNvPr id="915" name="AutoShape 44"/>
            <p:cNvSpPr/>
            <p:nvPr/>
          </p:nvSpPr>
          <p:spPr>
            <a:xfrm>
              <a:off x="1619280" y="3708360"/>
              <a:ext cx="4105080" cy="48276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45"/>
            <p:cNvSpPr/>
            <p:nvPr/>
          </p:nvSpPr>
          <p:spPr>
            <a:xfrm>
              <a:off x="1766160" y="3810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46"/>
          <p:cNvGrpSpPr/>
          <p:nvPr/>
        </p:nvGrpSpPr>
        <p:grpSpPr>
          <a:xfrm>
            <a:off x="1619280" y="3305160"/>
            <a:ext cx="3911400" cy="482760"/>
            <a:chOff x="1619280" y="3305160"/>
            <a:chExt cx="3911400" cy="482760"/>
          </a:xfrm>
        </p:grpSpPr>
        <p:sp>
          <p:nvSpPr>
            <p:cNvPr id="918" name="AutoShape 47"/>
            <p:cNvSpPr/>
            <p:nvPr/>
          </p:nvSpPr>
          <p:spPr>
            <a:xfrm>
              <a:off x="1619280" y="3305160"/>
              <a:ext cx="3911400" cy="48276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48"/>
            <p:cNvSpPr/>
            <p:nvPr/>
          </p:nvSpPr>
          <p:spPr>
            <a:xfrm>
              <a:off x="1766160" y="3409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49"/>
          <p:cNvGrpSpPr/>
          <p:nvPr/>
        </p:nvGrpSpPr>
        <p:grpSpPr>
          <a:xfrm>
            <a:off x="1619280" y="2905200"/>
            <a:ext cx="3691080" cy="482400"/>
            <a:chOff x="1619280" y="2905200"/>
            <a:chExt cx="3691080" cy="482400"/>
          </a:xfrm>
        </p:grpSpPr>
        <p:sp>
          <p:nvSpPr>
            <p:cNvPr id="921" name="AutoShape 50"/>
            <p:cNvSpPr/>
            <p:nvPr/>
          </p:nvSpPr>
          <p:spPr>
            <a:xfrm>
              <a:off x="1619280" y="2905200"/>
              <a:ext cx="3691080" cy="48240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51"/>
            <p:cNvSpPr/>
            <p:nvPr/>
          </p:nvSpPr>
          <p:spPr>
            <a:xfrm>
              <a:off x="1766880" y="3007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52"/>
          <p:cNvGrpSpPr/>
          <p:nvPr/>
        </p:nvGrpSpPr>
        <p:grpSpPr>
          <a:xfrm>
            <a:off x="1619280" y="2502000"/>
            <a:ext cx="3468600" cy="482400"/>
            <a:chOff x="1619280" y="2502000"/>
            <a:chExt cx="3468600" cy="482400"/>
          </a:xfrm>
        </p:grpSpPr>
        <p:sp>
          <p:nvSpPr>
            <p:cNvPr id="924" name="AutoShape 53"/>
            <p:cNvSpPr/>
            <p:nvPr/>
          </p:nvSpPr>
          <p:spPr>
            <a:xfrm>
              <a:off x="1619280" y="2502000"/>
              <a:ext cx="3468600" cy="48240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54"/>
            <p:cNvSpPr/>
            <p:nvPr/>
          </p:nvSpPr>
          <p:spPr>
            <a:xfrm>
              <a:off x="1766880" y="2607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0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3"/>
          <p:cNvSpPr/>
          <p:nvPr/>
        </p:nvSpPr>
        <p:spPr>
          <a:xfrm>
            <a:off x="1219320" y="4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WordArt 4"/>
          <p:cNvSpPr txBox="1"/>
          <p:nvPr/>
        </p:nvSpPr>
        <p:spPr>
          <a:xfrm>
            <a:off x="1905120" y="2362320"/>
            <a:ext cx="4952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 谢</a:t>
            </a:r>
            <a:endParaRPr b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200400" y="573408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694480" y="5276880"/>
            <a:ext cx="3035160" cy="900000"/>
          </a:xfrm>
          <a:prstGeom prst="rect">
            <a:avLst/>
          </a:prstGeom>
          <a:gradFill rotWithShape="0">
            <a:gsLst>
              <a:gs pos="0">
                <a:srgbClr val="652709"/>
              </a:gs>
              <a:gs pos="100000">
                <a:srgbClr val="db541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0280" y="5276880"/>
            <a:ext cx="2990880" cy="880920"/>
          </a:xfrm>
          <a:prstGeom prst="rect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699160" y="4267080"/>
            <a:ext cx="3049560" cy="900360"/>
          </a:xfrm>
          <a:prstGeom prst="rect">
            <a:avLst/>
          </a:prstGeom>
          <a:gradFill rotWithShape="0">
            <a:gsLst>
              <a:gs pos="0">
                <a:srgbClr val="652709"/>
              </a:gs>
              <a:gs pos="100000">
                <a:srgbClr val="db541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694480" y="3255840"/>
            <a:ext cx="3035160" cy="900360"/>
          </a:xfrm>
          <a:prstGeom prst="rect">
            <a:avLst/>
          </a:prstGeom>
          <a:gradFill rotWithShape="0">
            <a:gsLst>
              <a:gs pos="0">
                <a:srgbClr val="652709"/>
              </a:gs>
              <a:gs pos="100000">
                <a:srgbClr val="db541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31720" y="4267080"/>
            <a:ext cx="3005280" cy="881280"/>
          </a:xfrm>
          <a:prstGeom prst="rect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30280" y="3255840"/>
            <a:ext cx="2990880" cy="881280"/>
          </a:xfrm>
          <a:prstGeom prst="rect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3273480" y="2205000"/>
            <a:ext cx="2717640" cy="4392360"/>
            <a:chOff x="3273480" y="2205000"/>
            <a:chExt cx="2717640" cy="4392360"/>
          </a:xfrm>
        </p:grpSpPr>
        <p:grpSp>
          <p:nvGrpSpPr>
            <p:cNvPr id="101" name="Group 9"/>
            <p:cNvGrpSpPr/>
            <p:nvPr/>
          </p:nvGrpSpPr>
          <p:grpSpPr>
            <a:xfrm>
              <a:off x="3286080" y="4871880"/>
              <a:ext cx="2705040" cy="1725480"/>
              <a:chOff x="3286080" y="4871880"/>
              <a:chExt cx="2705040" cy="1725480"/>
            </a:xfrm>
          </p:grpSpPr>
          <p:sp>
            <p:nvSpPr>
              <p:cNvPr id="102" name="AutoShape 10"/>
              <p:cNvSpPr/>
              <p:nvPr/>
            </p:nvSpPr>
            <p:spPr>
              <a:xfrm>
                <a:off x="3286080" y="4890960"/>
                <a:ext cx="2698920" cy="16970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dddddd"/>
                  </a:gs>
                  <a:gs pos="100000">
                    <a:srgbClr val="3a3a3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1"/>
              <p:cNvSpPr/>
              <p:nvPr/>
            </p:nvSpPr>
            <p:spPr>
              <a:xfrm>
                <a:off x="3292560" y="4871880"/>
                <a:ext cx="2698560" cy="8794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666666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2"/>
              <p:cNvGrpSpPr/>
              <p:nvPr/>
            </p:nvGrpSpPr>
            <p:grpSpPr>
              <a:xfrm>
                <a:off x="3292560" y="5717880"/>
                <a:ext cx="2694960" cy="457200"/>
                <a:chOff x="3292560" y="5717880"/>
                <a:chExt cx="2694960" cy="457200"/>
              </a:xfrm>
            </p:grpSpPr>
            <p:sp>
              <p:nvSpPr>
                <p:cNvPr id="105" name="Arc 13"/>
                <p:cNvSpPr/>
                <p:nvPr/>
              </p:nvSpPr>
              <p:spPr>
                <a:xfrm>
                  <a:off x="3292560" y="573552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Arc 14"/>
                <p:cNvSpPr/>
                <p:nvPr/>
              </p:nvSpPr>
              <p:spPr>
                <a:xfrm>
                  <a:off x="3308040" y="571788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15"/>
              <p:cNvGrpSpPr/>
              <p:nvPr/>
            </p:nvGrpSpPr>
            <p:grpSpPr>
              <a:xfrm>
                <a:off x="4681440" y="5771880"/>
                <a:ext cx="12600" cy="825480"/>
                <a:chOff x="4681440" y="5771880"/>
                <a:chExt cx="12600" cy="825480"/>
              </a:xfrm>
            </p:grpSpPr>
            <p:sp>
              <p:nvSpPr>
                <p:cNvPr id="108" name="Line 16"/>
                <p:cNvSpPr/>
                <p:nvPr/>
              </p:nvSpPr>
              <p:spPr>
                <a:xfrm>
                  <a:off x="4694040" y="57718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7"/>
                <p:cNvSpPr/>
                <p:nvPr/>
              </p:nvSpPr>
              <p:spPr>
                <a:xfrm>
                  <a:off x="4681440" y="57812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18"/>
              <p:cNvSpPr/>
              <p:nvPr/>
            </p:nvSpPr>
            <p:spPr>
              <a:xfrm flipH="1" flipV="1">
                <a:off x="4678200" y="4871880"/>
                <a:ext cx="12960" cy="8841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9"/>
              <p:cNvSpPr/>
              <p:nvPr/>
            </p:nvSpPr>
            <p:spPr>
              <a:xfrm flipV="1">
                <a:off x="4678200" y="5271480"/>
                <a:ext cx="0" cy="50004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0"/>
              <p:cNvGrpSpPr/>
              <p:nvPr/>
            </p:nvGrpSpPr>
            <p:grpSpPr>
              <a:xfrm>
                <a:off x="3548880" y="5048280"/>
                <a:ext cx="2159280" cy="524160"/>
                <a:chOff x="3548880" y="5048280"/>
                <a:chExt cx="2159280" cy="524160"/>
              </a:xfrm>
            </p:grpSpPr>
            <p:sp>
              <p:nvSpPr>
                <p:cNvPr id="113" name="Line 21"/>
                <p:cNvSpPr/>
                <p:nvPr/>
              </p:nvSpPr>
              <p:spPr>
                <a:xfrm flipV="1">
                  <a:off x="3548880" y="507528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22"/>
                <p:cNvSpPr/>
                <p:nvPr/>
              </p:nvSpPr>
              <p:spPr>
                <a:xfrm flipV="1">
                  <a:off x="3571920" y="504828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23"/>
              <p:cNvGrpSpPr/>
              <p:nvPr/>
            </p:nvGrpSpPr>
            <p:grpSpPr>
              <a:xfrm>
                <a:off x="3544560" y="5584680"/>
                <a:ext cx="12600" cy="825480"/>
                <a:chOff x="3544560" y="5584680"/>
                <a:chExt cx="12600" cy="825480"/>
              </a:xfrm>
            </p:grpSpPr>
            <p:sp>
              <p:nvSpPr>
                <p:cNvPr id="116" name="Line 24"/>
                <p:cNvSpPr/>
                <p:nvPr/>
              </p:nvSpPr>
              <p:spPr>
                <a:xfrm>
                  <a:off x="3544560" y="55846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5"/>
                <p:cNvSpPr/>
                <p:nvPr/>
              </p:nvSpPr>
              <p:spPr>
                <a:xfrm>
                  <a:off x="3557160" y="55940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6"/>
              <p:cNvGrpSpPr/>
              <p:nvPr/>
            </p:nvGrpSpPr>
            <p:grpSpPr>
              <a:xfrm>
                <a:off x="5726160" y="5581440"/>
                <a:ext cx="12600" cy="825480"/>
                <a:chOff x="5726160" y="5581440"/>
                <a:chExt cx="12600" cy="825480"/>
              </a:xfrm>
            </p:grpSpPr>
            <p:sp>
              <p:nvSpPr>
                <p:cNvPr id="119" name="Line 27"/>
                <p:cNvSpPr/>
                <p:nvPr/>
              </p:nvSpPr>
              <p:spPr>
                <a:xfrm>
                  <a:off x="5738760" y="558144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28"/>
                <p:cNvSpPr/>
                <p:nvPr/>
              </p:nvSpPr>
              <p:spPr>
                <a:xfrm>
                  <a:off x="5726160" y="559080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29"/>
              <p:cNvGrpSpPr/>
              <p:nvPr/>
            </p:nvGrpSpPr>
            <p:grpSpPr>
              <a:xfrm>
                <a:off x="3707640" y="5015880"/>
                <a:ext cx="2069640" cy="579240"/>
                <a:chOff x="3707640" y="5015880"/>
                <a:chExt cx="2069640" cy="579240"/>
              </a:xfrm>
            </p:grpSpPr>
            <p:sp>
              <p:nvSpPr>
                <p:cNvPr id="122" name="Line 30"/>
                <p:cNvSpPr/>
                <p:nvPr/>
              </p:nvSpPr>
              <p:spPr>
                <a:xfrm>
                  <a:off x="3707640" y="502776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1"/>
                <p:cNvSpPr/>
                <p:nvPr/>
              </p:nvSpPr>
              <p:spPr>
                <a:xfrm>
                  <a:off x="3739680" y="501588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32"/>
            <p:cNvGrpSpPr/>
            <p:nvPr/>
          </p:nvGrpSpPr>
          <p:grpSpPr>
            <a:xfrm>
              <a:off x="3279960" y="3809880"/>
              <a:ext cx="2705040" cy="1725480"/>
              <a:chOff x="3279960" y="3809880"/>
              <a:chExt cx="2705040" cy="1725480"/>
            </a:xfrm>
          </p:grpSpPr>
          <p:sp>
            <p:nvSpPr>
              <p:cNvPr id="125" name="AutoShape 33"/>
              <p:cNvSpPr/>
              <p:nvPr/>
            </p:nvSpPr>
            <p:spPr>
              <a:xfrm>
                <a:off x="3279960" y="3828960"/>
                <a:ext cx="2698920" cy="16970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dddddd"/>
                  </a:gs>
                  <a:gs pos="100000">
                    <a:srgbClr val="3a3a3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34"/>
              <p:cNvSpPr/>
              <p:nvPr/>
            </p:nvSpPr>
            <p:spPr>
              <a:xfrm>
                <a:off x="3286440" y="3809880"/>
                <a:ext cx="2698560" cy="8794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666666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35"/>
              <p:cNvGrpSpPr/>
              <p:nvPr/>
            </p:nvGrpSpPr>
            <p:grpSpPr>
              <a:xfrm>
                <a:off x="3286440" y="4655880"/>
                <a:ext cx="2694960" cy="457200"/>
                <a:chOff x="3286440" y="4655880"/>
                <a:chExt cx="2694960" cy="457200"/>
              </a:xfrm>
            </p:grpSpPr>
            <p:sp>
              <p:nvSpPr>
                <p:cNvPr id="128" name="Arc 36"/>
                <p:cNvSpPr/>
                <p:nvPr/>
              </p:nvSpPr>
              <p:spPr>
                <a:xfrm>
                  <a:off x="3286440" y="467352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Arc 37"/>
                <p:cNvSpPr/>
                <p:nvPr/>
              </p:nvSpPr>
              <p:spPr>
                <a:xfrm>
                  <a:off x="3301920" y="465588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38"/>
              <p:cNvGrpSpPr/>
              <p:nvPr/>
            </p:nvGrpSpPr>
            <p:grpSpPr>
              <a:xfrm>
                <a:off x="4675320" y="4709880"/>
                <a:ext cx="12600" cy="825480"/>
                <a:chOff x="4675320" y="4709880"/>
                <a:chExt cx="12600" cy="825480"/>
              </a:xfrm>
            </p:grpSpPr>
            <p:sp>
              <p:nvSpPr>
                <p:cNvPr id="131" name="Line 39"/>
                <p:cNvSpPr/>
                <p:nvPr/>
              </p:nvSpPr>
              <p:spPr>
                <a:xfrm>
                  <a:off x="4687920" y="47098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0"/>
                <p:cNvSpPr/>
                <p:nvPr/>
              </p:nvSpPr>
              <p:spPr>
                <a:xfrm>
                  <a:off x="4675320" y="47192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41"/>
              <p:cNvSpPr/>
              <p:nvPr/>
            </p:nvSpPr>
            <p:spPr>
              <a:xfrm flipH="1" flipV="1">
                <a:off x="4672080" y="3809880"/>
                <a:ext cx="12960" cy="8841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2"/>
              <p:cNvSpPr/>
              <p:nvPr/>
            </p:nvSpPr>
            <p:spPr>
              <a:xfrm flipV="1">
                <a:off x="4672080" y="4209480"/>
                <a:ext cx="0" cy="50004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43"/>
              <p:cNvGrpSpPr/>
              <p:nvPr/>
            </p:nvGrpSpPr>
            <p:grpSpPr>
              <a:xfrm>
                <a:off x="3542760" y="3986280"/>
                <a:ext cx="2159280" cy="524160"/>
                <a:chOff x="3542760" y="3986280"/>
                <a:chExt cx="2159280" cy="524160"/>
              </a:xfrm>
            </p:grpSpPr>
            <p:sp>
              <p:nvSpPr>
                <p:cNvPr id="136" name="Line 44"/>
                <p:cNvSpPr/>
                <p:nvPr/>
              </p:nvSpPr>
              <p:spPr>
                <a:xfrm flipV="1">
                  <a:off x="3542760" y="401328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45"/>
                <p:cNvSpPr/>
                <p:nvPr/>
              </p:nvSpPr>
              <p:spPr>
                <a:xfrm flipV="1">
                  <a:off x="3565800" y="398628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46"/>
              <p:cNvGrpSpPr/>
              <p:nvPr/>
            </p:nvGrpSpPr>
            <p:grpSpPr>
              <a:xfrm>
                <a:off x="3538440" y="4522680"/>
                <a:ext cx="12600" cy="825480"/>
                <a:chOff x="3538440" y="4522680"/>
                <a:chExt cx="12600" cy="825480"/>
              </a:xfrm>
            </p:grpSpPr>
            <p:sp>
              <p:nvSpPr>
                <p:cNvPr id="139" name="Line 47"/>
                <p:cNvSpPr/>
                <p:nvPr/>
              </p:nvSpPr>
              <p:spPr>
                <a:xfrm>
                  <a:off x="3538440" y="45226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48"/>
                <p:cNvSpPr/>
                <p:nvPr/>
              </p:nvSpPr>
              <p:spPr>
                <a:xfrm>
                  <a:off x="3551040" y="45320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49"/>
              <p:cNvGrpSpPr/>
              <p:nvPr/>
            </p:nvGrpSpPr>
            <p:grpSpPr>
              <a:xfrm>
                <a:off x="5720040" y="4519440"/>
                <a:ext cx="12600" cy="825480"/>
                <a:chOff x="5720040" y="4519440"/>
                <a:chExt cx="12600" cy="8254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5732640" y="451944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51"/>
                <p:cNvSpPr/>
                <p:nvPr/>
              </p:nvSpPr>
              <p:spPr>
                <a:xfrm>
                  <a:off x="5720040" y="452880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52"/>
              <p:cNvGrpSpPr/>
              <p:nvPr/>
            </p:nvGrpSpPr>
            <p:grpSpPr>
              <a:xfrm>
                <a:off x="3701520" y="3953880"/>
                <a:ext cx="2069640" cy="579240"/>
                <a:chOff x="3701520" y="3953880"/>
                <a:chExt cx="2069640" cy="579240"/>
              </a:xfrm>
            </p:grpSpPr>
            <p:sp>
              <p:nvSpPr>
                <p:cNvPr id="145" name="Line 53"/>
                <p:cNvSpPr/>
                <p:nvPr/>
              </p:nvSpPr>
              <p:spPr>
                <a:xfrm>
                  <a:off x="3701520" y="396576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54"/>
                <p:cNvSpPr/>
                <p:nvPr/>
              </p:nvSpPr>
              <p:spPr>
                <a:xfrm>
                  <a:off x="3733560" y="395388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55"/>
            <p:cNvGrpSpPr/>
            <p:nvPr/>
          </p:nvGrpSpPr>
          <p:grpSpPr>
            <a:xfrm>
              <a:off x="3273480" y="2819520"/>
              <a:ext cx="2705040" cy="1725480"/>
              <a:chOff x="3273480" y="2819520"/>
              <a:chExt cx="2705040" cy="1725480"/>
            </a:xfrm>
          </p:grpSpPr>
          <p:sp>
            <p:nvSpPr>
              <p:cNvPr id="148" name="AutoShape 56"/>
              <p:cNvSpPr/>
              <p:nvPr/>
            </p:nvSpPr>
            <p:spPr>
              <a:xfrm>
                <a:off x="3273480" y="2838600"/>
                <a:ext cx="2698920" cy="16970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dddddd"/>
                  </a:gs>
                  <a:gs pos="100000">
                    <a:srgbClr val="3a3a3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57"/>
              <p:cNvSpPr/>
              <p:nvPr/>
            </p:nvSpPr>
            <p:spPr>
              <a:xfrm>
                <a:off x="3279960" y="2819520"/>
                <a:ext cx="2698560" cy="879480"/>
              </a:xfrm>
              <a:prstGeom prst="ellipse">
                <a:avLst/>
              </a:prstGeom>
              <a:gradFill rotWithShape="0">
                <a:gsLst>
                  <a:gs pos="0">
                    <a:srgbClr val="184785"/>
                  </a:gs>
                  <a:gs pos="50000">
                    <a:srgbClr val="0b213e"/>
                  </a:gs>
                  <a:gs pos="100000">
                    <a:srgbClr val="18478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58"/>
              <p:cNvGrpSpPr/>
              <p:nvPr/>
            </p:nvGrpSpPr>
            <p:grpSpPr>
              <a:xfrm>
                <a:off x="3279960" y="3665520"/>
                <a:ext cx="2694960" cy="457200"/>
                <a:chOff x="3279960" y="3665520"/>
                <a:chExt cx="2694960" cy="457200"/>
              </a:xfrm>
            </p:grpSpPr>
            <p:sp>
              <p:nvSpPr>
                <p:cNvPr id="151" name="Arc 59"/>
                <p:cNvSpPr/>
                <p:nvPr/>
              </p:nvSpPr>
              <p:spPr>
                <a:xfrm>
                  <a:off x="3279960" y="368316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Arc 60"/>
                <p:cNvSpPr/>
                <p:nvPr/>
              </p:nvSpPr>
              <p:spPr>
                <a:xfrm>
                  <a:off x="3295440" y="366552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61"/>
              <p:cNvGrpSpPr/>
              <p:nvPr/>
            </p:nvGrpSpPr>
            <p:grpSpPr>
              <a:xfrm>
                <a:off x="4668840" y="3719520"/>
                <a:ext cx="12600" cy="825480"/>
                <a:chOff x="4668840" y="3719520"/>
                <a:chExt cx="12600" cy="825480"/>
              </a:xfrm>
            </p:grpSpPr>
            <p:sp>
              <p:nvSpPr>
                <p:cNvPr id="154" name="Line 62"/>
                <p:cNvSpPr/>
                <p:nvPr/>
              </p:nvSpPr>
              <p:spPr>
                <a:xfrm>
                  <a:off x="4681440" y="371952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63"/>
                <p:cNvSpPr/>
                <p:nvPr/>
              </p:nvSpPr>
              <p:spPr>
                <a:xfrm>
                  <a:off x="4668840" y="372888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Line 64"/>
              <p:cNvSpPr/>
              <p:nvPr/>
            </p:nvSpPr>
            <p:spPr>
              <a:xfrm flipH="1" flipV="1">
                <a:off x="4665600" y="2819520"/>
                <a:ext cx="12960" cy="8841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5"/>
              <p:cNvSpPr/>
              <p:nvPr/>
            </p:nvSpPr>
            <p:spPr>
              <a:xfrm flipV="1">
                <a:off x="4665600" y="3219120"/>
                <a:ext cx="0" cy="50004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Group 66"/>
              <p:cNvGrpSpPr/>
              <p:nvPr/>
            </p:nvGrpSpPr>
            <p:grpSpPr>
              <a:xfrm>
                <a:off x="3536280" y="2995920"/>
                <a:ext cx="2159280" cy="524160"/>
                <a:chOff x="3536280" y="2995920"/>
                <a:chExt cx="2159280" cy="524160"/>
              </a:xfrm>
            </p:grpSpPr>
            <p:sp>
              <p:nvSpPr>
                <p:cNvPr id="159" name="Line 67"/>
                <p:cNvSpPr/>
                <p:nvPr/>
              </p:nvSpPr>
              <p:spPr>
                <a:xfrm flipV="1">
                  <a:off x="3536280" y="302292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68"/>
                <p:cNvSpPr/>
                <p:nvPr/>
              </p:nvSpPr>
              <p:spPr>
                <a:xfrm flipV="1">
                  <a:off x="3559320" y="299592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69"/>
              <p:cNvGrpSpPr/>
              <p:nvPr/>
            </p:nvGrpSpPr>
            <p:grpSpPr>
              <a:xfrm>
                <a:off x="3531960" y="3532320"/>
                <a:ext cx="12600" cy="825480"/>
                <a:chOff x="3531960" y="3532320"/>
                <a:chExt cx="12600" cy="825480"/>
              </a:xfrm>
            </p:grpSpPr>
            <p:sp>
              <p:nvSpPr>
                <p:cNvPr id="162" name="Line 70"/>
                <p:cNvSpPr/>
                <p:nvPr/>
              </p:nvSpPr>
              <p:spPr>
                <a:xfrm>
                  <a:off x="3531960" y="353232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71"/>
                <p:cNvSpPr/>
                <p:nvPr/>
              </p:nvSpPr>
              <p:spPr>
                <a:xfrm>
                  <a:off x="3544560" y="354168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72"/>
              <p:cNvGrpSpPr/>
              <p:nvPr/>
            </p:nvGrpSpPr>
            <p:grpSpPr>
              <a:xfrm>
                <a:off x="5713560" y="3529080"/>
                <a:ext cx="12600" cy="825480"/>
                <a:chOff x="5713560" y="3529080"/>
                <a:chExt cx="12600" cy="825480"/>
              </a:xfrm>
            </p:grpSpPr>
            <p:sp>
              <p:nvSpPr>
                <p:cNvPr id="165" name="Line 73"/>
                <p:cNvSpPr/>
                <p:nvPr/>
              </p:nvSpPr>
              <p:spPr>
                <a:xfrm>
                  <a:off x="5726160" y="35290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74"/>
                <p:cNvSpPr/>
                <p:nvPr/>
              </p:nvSpPr>
              <p:spPr>
                <a:xfrm>
                  <a:off x="5713560" y="35384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75"/>
              <p:cNvGrpSpPr/>
              <p:nvPr/>
            </p:nvGrpSpPr>
            <p:grpSpPr>
              <a:xfrm>
                <a:off x="3695040" y="2963520"/>
                <a:ext cx="2069640" cy="579240"/>
                <a:chOff x="3695040" y="2963520"/>
                <a:chExt cx="2069640" cy="579240"/>
              </a:xfrm>
            </p:grpSpPr>
            <p:sp>
              <p:nvSpPr>
                <p:cNvPr id="168" name="Line 76"/>
                <p:cNvSpPr/>
                <p:nvPr/>
              </p:nvSpPr>
              <p:spPr>
                <a:xfrm>
                  <a:off x="3695040" y="297540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77"/>
                <p:cNvSpPr/>
                <p:nvPr/>
              </p:nvSpPr>
              <p:spPr>
                <a:xfrm>
                  <a:off x="3727080" y="296352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Oval 78"/>
            <p:cNvSpPr/>
            <p:nvPr/>
          </p:nvSpPr>
          <p:spPr>
            <a:xfrm>
              <a:off x="3276720" y="2549520"/>
              <a:ext cx="2698560" cy="123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79"/>
            <p:cNvSpPr/>
            <p:nvPr/>
          </p:nvSpPr>
          <p:spPr>
            <a:xfrm>
              <a:off x="3570480" y="2205000"/>
              <a:ext cx="2081160" cy="134316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80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173" name="Group 81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174" name="AutoShape 82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83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AutoShape 84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85"/>
          <p:cNvSpPr/>
          <p:nvPr/>
        </p:nvSpPr>
        <p:spPr>
          <a:xfrm>
            <a:off x="460440" y="1988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179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180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"/>
          <p:cNvGrpSpPr/>
          <p:nvPr/>
        </p:nvGrpSpPr>
        <p:grpSpPr>
          <a:xfrm>
            <a:off x="395280" y="1718280"/>
            <a:ext cx="8288280" cy="4980600"/>
            <a:chOff x="395280" y="1718280"/>
            <a:chExt cx="8288280" cy="4980600"/>
          </a:xfrm>
        </p:grpSpPr>
        <p:grpSp>
          <p:nvGrpSpPr>
            <p:cNvPr id="184" name="Group 8"/>
            <p:cNvGrpSpPr/>
            <p:nvPr/>
          </p:nvGrpSpPr>
          <p:grpSpPr>
            <a:xfrm>
              <a:off x="771480" y="3249720"/>
              <a:ext cx="7535520" cy="3449160"/>
              <a:chOff x="771480" y="3249720"/>
              <a:chExt cx="7535520" cy="3449160"/>
            </a:xfrm>
          </p:grpSpPr>
          <p:sp>
            <p:nvSpPr>
              <p:cNvPr id="185" name="未知"/>
              <p:cNvSpPr/>
              <p:nvPr/>
            </p:nvSpPr>
            <p:spPr>
              <a:xfrm>
                <a:off x="771480" y="4277880"/>
                <a:ext cx="3764160" cy="860400"/>
              </a:xfrm>
              <a:custGeom>
                <a:avLst/>
                <a:gdLst>
                  <a:gd name="textAreaLeft" fmla="*/ 0 w 3764160"/>
                  <a:gd name="textAreaRight" fmla="*/ 3764520 w 3764160"/>
                  <a:gd name="textAreaTop" fmla="*/ 0 h 860400"/>
                  <a:gd name="textAreaBottom" fmla="*/ 860760 h 860400"/>
                </a:gdLst>
                <a:ahLst/>
                <a:rect l="textAreaLeft" t="textAreaTop" r="textAreaRight" b="textAreaBottom"/>
                <a:pathLst>
                  <a:path w="2506" h="572">
                    <a:moveTo>
                      <a:pt x="2506" y="0"/>
                    </a:moveTo>
                    <a:lnTo>
                      <a:pt x="1782" y="572"/>
                    </a:lnTo>
                    <a:lnTo>
                      <a:pt x="0" y="572"/>
                    </a:lnTo>
                  </a:path>
                </a:pathLst>
              </a:custGeom>
              <a:gradFill rotWithShape="0">
                <a:gsLst>
                  <a:gs pos="0">
                    <a:srgbClr val="858585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3456720" y="4277880"/>
                <a:ext cx="1078920" cy="1878480"/>
              </a:xfrm>
              <a:custGeom>
                <a:avLst/>
                <a:gdLst>
                  <a:gd name="textAreaLeft" fmla="*/ 0 w 1078920"/>
                  <a:gd name="textAreaRight" fmla="*/ 1079280 w 1078920"/>
                  <a:gd name="textAreaTop" fmla="*/ 0 h 1878480"/>
                  <a:gd name="textAreaBottom" fmla="*/ 1878840 h 1878480"/>
                </a:gdLst>
                <a:ahLst/>
                <a:rect l="textAreaLeft" t="textAreaTop" r="textAreaRight" b="textAreaBottom"/>
                <a:pathLst>
                  <a:path w="718" h="1250">
                    <a:moveTo>
                      <a:pt x="0" y="560"/>
                    </a:moveTo>
                    <a:lnTo>
                      <a:pt x="718" y="0"/>
                    </a:lnTo>
                    <a:lnTo>
                      <a:pt x="24" y="1250"/>
                    </a:lnTo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4535640" y="4277880"/>
                <a:ext cx="3771360" cy="878040"/>
              </a:xfrm>
              <a:custGeom>
                <a:avLst/>
                <a:gdLst>
                  <a:gd name="textAreaLeft" fmla="*/ 0 w 3771360"/>
                  <a:gd name="textAreaRight" fmla="*/ 3771720 w 3771360"/>
                  <a:gd name="textAreaTop" fmla="*/ 0 h 878040"/>
                  <a:gd name="textAreaBottom" fmla="*/ 878400 h 878040"/>
                </a:gdLst>
                <a:ahLst/>
                <a:rect l="textAreaLeft" t="textAreaTop" r="textAreaRight" b="textAreaBottom"/>
                <a:pathLst>
                  <a:path w="2510" h="584">
                    <a:moveTo>
                      <a:pt x="0" y="0"/>
                    </a:moveTo>
                    <a:lnTo>
                      <a:pt x="710" y="584"/>
                    </a:lnTo>
                    <a:lnTo>
                      <a:pt x="2510" y="578"/>
                    </a:lnTo>
                  </a:path>
                </a:pathLst>
              </a:custGeom>
              <a:gradFill rotWithShape="0">
                <a:gsLst>
                  <a:gs pos="0">
                    <a:srgbClr val="858585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4535640" y="4277880"/>
                <a:ext cx="1058040" cy="1869480"/>
              </a:xfrm>
              <a:custGeom>
                <a:avLst/>
                <a:gdLst>
                  <a:gd name="textAreaLeft" fmla="*/ 0 w 1058040"/>
                  <a:gd name="textAreaRight" fmla="*/ 1058400 w 1058040"/>
                  <a:gd name="textAreaTop" fmla="*/ 0 h 1869480"/>
                  <a:gd name="textAreaBottom" fmla="*/ 1869840 h 1869480"/>
                </a:gdLst>
                <a:ahLst/>
                <a:rect l="textAreaLeft" t="textAreaTop" r="textAreaRight" b="textAreaBottom"/>
                <a:pathLst>
                  <a:path w="704" h="1244">
                    <a:moveTo>
                      <a:pt x="704" y="578"/>
                    </a:moveTo>
                    <a:lnTo>
                      <a:pt x="0" y="0"/>
                    </a:lnTo>
                    <a:lnTo>
                      <a:pt x="692" y="1244"/>
                    </a:lnTo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3"/>
              <p:cNvSpPr/>
              <p:nvPr/>
            </p:nvSpPr>
            <p:spPr>
              <a:xfrm>
                <a:off x="814680" y="5117400"/>
                <a:ext cx="2650320" cy="11206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4"/>
              <p:cNvSpPr/>
              <p:nvPr/>
            </p:nvSpPr>
            <p:spPr>
              <a:xfrm>
                <a:off x="5594040" y="5117400"/>
                <a:ext cx="2650320" cy="11206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3245760" y="4282920"/>
                <a:ext cx="2597760" cy="1326960"/>
              </a:xfrm>
              <a:custGeom>
                <a:avLst/>
                <a:gdLst>
                  <a:gd name="textAreaLeft" fmla="*/ 0 w 2597760"/>
                  <a:gd name="textAreaRight" fmla="*/ 2598120 w 2597760"/>
                  <a:gd name="textAreaTop" fmla="*/ 0 h 1326960"/>
                  <a:gd name="textAreaBottom" fmla="*/ 1327320 h 1326960"/>
                </a:gdLst>
                <a:ahLst/>
                <a:rect l="textAreaLeft" t="textAreaTop" r="textAreaRight" b="textAreaBottom"/>
                <a:pathLst>
                  <a:path w="1729" h="1108">
                    <a:moveTo>
                      <a:pt x="0" y="1107"/>
                    </a:moveTo>
                    <a:lnTo>
                      <a:pt x="855" y="0"/>
                    </a:lnTo>
                    <a:lnTo>
                      <a:pt x="1728" y="1107"/>
                    </a:lnTo>
                    <a:lnTo>
                      <a:pt x="0" y="1107"/>
                    </a:lnTo>
                  </a:path>
                </a:pathLst>
              </a:custGeom>
              <a:gradFill rotWithShape="0">
                <a:gsLst>
                  <a:gs pos="0">
                    <a:srgbClr val="858585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6"/>
              <p:cNvSpPr/>
              <p:nvPr/>
            </p:nvSpPr>
            <p:spPr>
              <a:xfrm>
                <a:off x="3231360" y="5578200"/>
                <a:ext cx="2652480" cy="1120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17"/>
              <p:cNvGrpSpPr/>
              <p:nvPr/>
            </p:nvGrpSpPr>
            <p:grpSpPr>
              <a:xfrm>
                <a:off x="2622240" y="3249720"/>
                <a:ext cx="3809520" cy="2031840"/>
                <a:chOff x="2622240" y="3249720"/>
                <a:chExt cx="3809520" cy="2031840"/>
              </a:xfrm>
            </p:grpSpPr>
            <p:sp>
              <p:nvSpPr>
                <p:cNvPr id="194" name="AutoShape 18"/>
                <p:cNvSpPr/>
                <p:nvPr/>
              </p:nvSpPr>
              <p:spPr>
                <a:xfrm rot="900000">
                  <a:off x="2706120" y="3701520"/>
                  <a:ext cx="3641400" cy="1127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20"/>
                      </a:moveTo>
                      <a:lnTo>
                        <a:pt x="3818" y="3820"/>
                      </a:lnTo>
                      <a:lnTo>
                        <a:pt x="5000" y="0"/>
                      </a:lnTo>
                      <a:lnTo>
                        <a:pt x="6182" y="3820"/>
                      </a:lnTo>
                      <a:lnTo>
                        <a:pt x="10000" y="3820"/>
                      </a:lnTo>
                      <a:lnTo>
                        <a:pt x="6914" y="6180"/>
                      </a:lnTo>
                      <a:lnTo>
                        <a:pt x="8086" y="10000"/>
                      </a:lnTo>
                      <a:lnTo>
                        <a:pt x="5000" y="7639"/>
                      </a:lnTo>
                      <a:lnTo>
                        <a:pt x="1914" y="10000"/>
                      </a:lnTo>
                      <a:lnTo>
                        <a:pt x="3086" y="6180"/>
                      </a:lnTo>
                      <a:lnTo>
                        <a:pt x="0" y="38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 rot="20700000">
                  <a:off x="2706480" y="3701520"/>
                  <a:ext cx="3641400" cy="1127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20"/>
                      </a:moveTo>
                      <a:lnTo>
                        <a:pt x="3818" y="3820"/>
                      </a:lnTo>
                      <a:lnTo>
                        <a:pt x="5000" y="0"/>
                      </a:lnTo>
                      <a:lnTo>
                        <a:pt x="6182" y="3820"/>
                      </a:lnTo>
                      <a:lnTo>
                        <a:pt x="10000" y="3820"/>
                      </a:lnTo>
                      <a:lnTo>
                        <a:pt x="6914" y="6180"/>
                      </a:lnTo>
                      <a:lnTo>
                        <a:pt x="8086" y="10000"/>
                      </a:lnTo>
                      <a:lnTo>
                        <a:pt x="5000" y="7639"/>
                      </a:lnTo>
                      <a:lnTo>
                        <a:pt x="1914" y="10000"/>
                      </a:lnTo>
                      <a:lnTo>
                        <a:pt x="3086" y="6180"/>
                      </a:lnTo>
                      <a:lnTo>
                        <a:pt x="0" y="38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未知"/>
            <p:cNvSpPr/>
            <p:nvPr/>
          </p:nvSpPr>
          <p:spPr>
            <a:xfrm>
              <a:off x="395280" y="2909880"/>
              <a:ext cx="4140360" cy="947880"/>
            </a:xfrm>
            <a:custGeom>
              <a:avLst/>
              <a:gdLst>
                <a:gd name="textAreaLeft" fmla="*/ 0 w 4140360"/>
                <a:gd name="textAreaRight" fmla="*/ 4140720 w 4140360"/>
                <a:gd name="textAreaTop" fmla="*/ 0 h 947880"/>
                <a:gd name="textAreaBottom" fmla="*/ 948240 h 947880"/>
              </a:gdLst>
              <a:ahLst/>
              <a:rect l="textAreaLeft" t="textAreaTop" r="textAreaRight" b="textAreaBottom"/>
              <a:pathLst>
                <a:path w="2506" h="572">
                  <a:moveTo>
                    <a:pt x="2506" y="0"/>
                  </a:moveTo>
                  <a:lnTo>
                    <a:pt x="1782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3348000" y="2909880"/>
              <a:ext cx="1187640" cy="206676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2066760"/>
                <a:gd name="textAreaBottom" fmla="*/ 2067120 h 2066760"/>
              </a:gdLst>
              <a:ahLst/>
              <a:rect l="textAreaLeft" t="textAreaTop" r="textAreaRight" b="textAreaBottom"/>
              <a:pathLst>
                <a:path w="718" h="1250">
                  <a:moveTo>
                    <a:pt x="0" y="560"/>
                  </a:moveTo>
                  <a:lnTo>
                    <a:pt x="718" y="0"/>
                  </a:lnTo>
                  <a:lnTo>
                    <a:pt x="24" y="125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4535640" y="2909880"/>
              <a:ext cx="4147920" cy="966600"/>
            </a:xfrm>
            <a:custGeom>
              <a:avLst/>
              <a:gdLst>
                <a:gd name="textAreaLeft" fmla="*/ 0 w 4147920"/>
                <a:gd name="textAreaRight" fmla="*/ 4147920 w 414792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2510" h="584">
                  <a:moveTo>
                    <a:pt x="0" y="0"/>
                  </a:moveTo>
                  <a:lnTo>
                    <a:pt x="710" y="584"/>
                  </a:lnTo>
                  <a:lnTo>
                    <a:pt x="2510" y="578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4535640" y="2909880"/>
              <a:ext cx="1163520" cy="205740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704" h="1244">
                  <a:moveTo>
                    <a:pt x="704" y="578"/>
                  </a:moveTo>
                  <a:lnTo>
                    <a:pt x="0" y="0"/>
                  </a:lnTo>
                  <a:lnTo>
                    <a:pt x="692" y="1244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4"/>
            <p:cNvSpPr/>
            <p:nvPr/>
          </p:nvSpPr>
          <p:spPr>
            <a:xfrm>
              <a:off x="442800" y="3833640"/>
              <a:ext cx="2916360" cy="1233720"/>
            </a:xfrm>
            <a:prstGeom prst="rect">
              <a:avLst/>
            </a:prstGeom>
            <a:gradFill rotWithShape="0">
              <a:gsLst>
                <a:gs pos="0">
                  <a:srgbClr val="652709"/>
                </a:gs>
                <a:gs pos="5000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5699160" y="3833640"/>
              <a:ext cx="2914560" cy="1233720"/>
            </a:xfrm>
            <a:prstGeom prst="rect">
              <a:avLst/>
            </a:prstGeom>
            <a:gradFill rotWithShape="0">
              <a:gsLst>
                <a:gs pos="0">
                  <a:srgbClr val="652709"/>
                </a:gs>
                <a:gs pos="5000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116160" y="2916360"/>
              <a:ext cx="2857680" cy="1458720"/>
            </a:xfrm>
            <a:custGeom>
              <a:avLst/>
              <a:gdLst>
                <a:gd name="textAreaLeft" fmla="*/ 0 w 2857680"/>
                <a:gd name="textAreaRight" fmla="*/ 2858040 w 285768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729" h="1108">
                  <a:moveTo>
                    <a:pt x="0" y="1107"/>
                  </a:moveTo>
                  <a:lnTo>
                    <a:pt x="855" y="0"/>
                  </a:lnTo>
                  <a:lnTo>
                    <a:pt x="1728" y="1107"/>
                  </a:lnTo>
                  <a:lnTo>
                    <a:pt x="0" y="1107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7"/>
            <p:cNvSpPr/>
            <p:nvPr/>
          </p:nvSpPr>
          <p:spPr>
            <a:xfrm>
              <a:off x="3100320" y="4340160"/>
              <a:ext cx="2917800" cy="1233360"/>
            </a:xfrm>
            <a:prstGeom prst="rect">
              <a:avLst/>
            </a:prstGeom>
            <a:gradFill rotWithShape="0">
              <a:gsLst>
                <a:gs pos="0">
                  <a:srgbClr val="652709"/>
                </a:gs>
                <a:gs pos="5000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2336040" y="1718280"/>
              <a:ext cx="4353840" cy="2844360"/>
              <a:chOff x="2336040" y="1718280"/>
              <a:chExt cx="4353840" cy="2844360"/>
            </a:xfrm>
          </p:grpSpPr>
          <p:sp>
            <p:nvSpPr>
              <p:cNvPr id="205" name="AutoShape 29"/>
              <p:cNvSpPr/>
              <p:nvPr/>
            </p:nvSpPr>
            <p:spPr>
              <a:xfrm rot="900000">
                <a:off x="2509560" y="2204640"/>
                <a:ext cx="4006080" cy="1871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2"/>
                    </a:moveTo>
                    <a:lnTo>
                      <a:pt x="3818" y="3822"/>
                    </a:lnTo>
                    <a:lnTo>
                      <a:pt x="5000" y="0"/>
                    </a:lnTo>
                    <a:lnTo>
                      <a:pt x="6182" y="3822"/>
                    </a:lnTo>
                    <a:lnTo>
                      <a:pt x="10000" y="3822"/>
                    </a:lnTo>
                    <a:lnTo>
                      <a:pt x="6914" y="6178"/>
                    </a:lnTo>
                    <a:lnTo>
                      <a:pt x="8086" y="10000"/>
                    </a:lnTo>
                    <a:lnTo>
                      <a:pt x="5000" y="7644"/>
                    </a:lnTo>
                    <a:lnTo>
                      <a:pt x="1914" y="10000"/>
                    </a:lnTo>
                    <a:lnTo>
                      <a:pt x="3086" y="6178"/>
                    </a:lnTo>
                    <a:lnTo>
                      <a:pt x="0" y="38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bbe0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30"/>
              <p:cNvSpPr/>
              <p:nvPr/>
            </p:nvSpPr>
            <p:spPr>
              <a:xfrm rot="20700000">
                <a:off x="2509920" y="2204640"/>
                <a:ext cx="4006080" cy="1871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2"/>
                    </a:moveTo>
                    <a:lnTo>
                      <a:pt x="3818" y="3822"/>
                    </a:lnTo>
                    <a:lnTo>
                      <a:pt x="5000" y="0"/>
                    </a:lnTo>
                    <a:lnTo>
                      <a:pt x="6182" y="3822"/>
                    </a:lnTo>
                    <a:lnTo>
                      <a:pt x="10000" y="3822"/>
                    </a:lnTo>
                    <a:lnTo>
                      <a:pt x="6914" y="6178"/>
                    </a:lnTo>
                    <a:lnTo>
                      <a:pt x="8086" y="10000"/>
                    </a:lnTo>
                    <a:lnTo>
                      <a:pt x="5000" y="7644"/>
                    </a:lnTo>
                    <a:lnTo>
                      <a:pt x="1914" y="10000"/>
                    </a:lnTo>
                    <a:lnTo>
                      <a:pt x="3086" y="6178"/>
                    </a:lnTo>
                    <a:lnTo>
                      <a:pt x="0" y="38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bbe0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Rectangle 31"/>
          <p:cNvSpPr/>
          <p:nvPr/>
        </p:nvSpPr>
        <p:spPr>
          <a:xfrm>
            <a:off x="549360" y="2059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2"/>
          <p:cNvSpPr/>
          <p:nvPr/>
        </p:nvSpPr>
        <p:spPr>
          <a:xfrm>
            <a:off x="3564000" y="2133720"/>
            <a:ext cx="2016000" cy="1366560"/>
          </a:xfrm>
          <a:prstGeom prst="ellipse">
            <a:avLst/>
          </a:prstGeom>
          <a:gradFill rotWithShape="0">
            <a:gsLst>
              <a:gs pos="0">
                <a:srgbClr val="745806"/>
              </a:gs>
              <a:gs pos="50000">
                <a:srgbClr val="fbbe0d"/>
              </a:gs>
              <a:gs pos="100000">
                <a:srgbClr val="7458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3"/>
          <p:cNvSpPr/>
          <p:nvPr/>
        </p:nvSpPr>
        <p:spPr>
          <a:xfrm flipH="1">
            <a:off x="1042560" y="2982960"/>
            <a:ext cx="2305080" cy="576360"/>
          </a:xfrm>
          <a:prstGeom prst="line">
            <a:avLst/>
          </a:prstGeom>
          <a:ln w="38160">
            <a:solidFill>
              <a:srgbClr val="db54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4"/>
          <p:cNvSpPr/>
          <p:nvPr/>
        </p:nvSpPr>
        <p:spPr>
          <a:xfrm>
            <a:off x="5796000" y="2982960"/>
            <a:ext cx="2305080" cy="576360"/>
          </a:xfrm>
          <a:prstGeom prst="line">
            <a:avLst/>
          </a:prstGeom>
          <a:ln w="38160">
            <a:solidFill>
              <a:srgbClr val="db54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212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213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"/>
          <p:cNvGrpSpPr/>
          <p:nvPr/>
        </p:nvGrpSpPr>
        <p:grpSpPr>
          <a:xfrm>
            <a:off x="611280" y="2133720"/>
            <a:ext cx="7920720" cy="3600000"/>
            <a:chOff x="611280" y="2133720"/>
            <a:chExt cx="7920720" cy="3600000"/>
          </a:xfrm>
        </p:grpSpPr>
        <p:cxnSp>
          <p:nvCxnSpPr>
            <p:cNvPr id="217" name="AutoShape 8"/>
            <p:cNvCxnSpPr/>
            <p:nvPr/>
          </p:nvCxnSpPr>
          <p:spPr>
            <a:xfrm flipV="1">
              <a:off x="1547280" y="350028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" name="AutoShape 9"/>
            <p:cNvCxnSpPr/>
            <p:nvPr/>
          </p:nvCxnSpPr>
          <p:spPr>
            <a:xfrm flipV="1">
              <a:off x="3563280" y="350028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AutoShape 10"/>
            <p:cNvCxnSpPr/>
            <p:nvPr/>
          </p:nvCxnSpPr>
          <p:spPr>
            <a:xfrm flipV="1">
              <a:off x="5579280" y="350028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" name="AutoShape 11"/>
            <p:cNvCxnSpPr/>
            <p:nvPr/>
          </p:nvCxnSpPr>
          <p:spPr>
            <a:xfrm flipV="1">
              <a:off x="7595640" y="350028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1" name="AutoShape 12"/>
            <p:cNvSpPr/>
            <p:nvPr/>
          </p:nvSpPr>
          <p:spPr>
            <a:xfrm>
              <a:off x="3046320" y="2133720"/>
              <a:ext cx="3023640" cy="97164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3"/>
            <p:cNvSpPr/>
            <p:nvPr/>
          </p:nvSpPr>
          <p:spPr>
            <a:xfrm>
              <a:off x="3244680" y="2276640"/>
              <a:ext cx="2617200" cy="64764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c7970a">
                    <a:alpha val="6000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 rot="5400000">
              <a:off x="4506120" y="1344600"/>
              <a:ext cx="73080" cy="1758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5"/>
            <p:cNvGrpSpPr/>
            <p:nvPr/>
          </p:nvGrpSpPr>
          <p:grpSpPr>
            <a:xfrm>
              <a:off x="611280" y="3934080"/>
              <a:ext cx="1872360" cy="1799640"/>
              <a:chOff x="611280" y="3934080"/>
              <a:chExt cx="1872360" cy="1799640"/>
            </a:xfrm>
          </p:grpSpPr>
          <p:sp>
            <p:nvSpPr>
              <p:cNvPr id="225" name="AutoShape 16"/>
              <p:cNvSpPr/>
              <p:nvPr/>
            </p:nvSpPr>
            <p:spPr>
              <a:xfrm>
                <a:off x="634320" y="4078080"/>
                <a:ext cx="1819440" cy="165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1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7"/>
              <p:cNvSpPr/>
              <p:nvPr/>
            </p:nvSpPr>
            <p:spPr>
              <a:xfrm>
                <a:off x="611280" y="3934080"/>
                <a:ext cx="1872360" cy="77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18"/>
              <p:cNvSpPr/>
              <p:nvPr/>
            </p:nvSpPr>
            <p:spPr>
              <a:xfrm>
                <a:off x="840600" y="4713120"/>
                <a:ext cx="1413360" cy="172800"/>
              </a:xfrm>
              <a:custGeom>
                <a:avLst/>
                <a:gdLst>
                  <a:gd name="textAreaLeft" fmla="*/ 293760 w 1413360"/>
                  <a:gd name="textAreaRight" fmla="*/ 1119600 w 1413360"/>
                  <a:gd name="textAreaTop" fmla="*/ 36360 h 172800"/>
                  <a:gd name="textAreaBottom" fmla="*/ 136440 h 17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c7c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9"/>
              <p:cNvSpPr/>
              <p:nvPr/>
            </p:nvSpPr>
            <p:spPr>
              <a:xfrm>
                <a:off x="761400" y="4005000"/>
                <a:ext cx="1575360" cy="641160"/>
              </a:xfrm>
              <a:prstGeom prst="rect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3f1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20"/>
              <p:cNvSpPr/>
              <p:nvPr/>
            </p:nvSpPr>
            <p:spPr>
              <a:xfrm>
                <a:off x="761400" y="3971880"/>
                <a:ext cx="1568880" cy="10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21"/>
              <p:cNvSpPr/>
              <p:nvPr/>
            </p:nvSpPr>
            <p:spPr>
              <a:xfrm flipV="1">
                <a:off x="894960" y="4544280"/>
                <a:ext cx="1304640" cy="12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 rot="18900000">
                <a:off x="703080" y="3934800"/>
                <a:ext cx="60840" cy="169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3"/>
            <p:cNvGrpSpPr/>
            <p:nvPr/>
          </p:nvGrpSpPr>
          <p:grpSpPr>
            <a:xfrm>
              <a:off x="2626920" y="3934080"/>
              <a:ext cx="1872720" cy="1799640"/>
              <a:chOff x="2626920" y="3934080"/>
              <a:chExt cx="1872720" cy="1799640"/>
            </a:xfrm>
          </p:grpSpPr>
          <p:sp>
            <p:nvSpPr>
              <p:cNvPr id="233" name="AutoShape 24"/>
              <p:cNvSpPr/>
              <p:nvPr/>
            </p:nvSpPr>
            <p:spPr>
              <a:xfrm>
                <a:off x="2649960" y="4078080"/>
                <a:ext cx="1819800" cy="165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6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25"/>
              <p:cNvSpPr/>
              <p:nvPr/>
            </p:nvSpPr>
            <p:spPr>
              <a:xfrm>
                <a:off x="2626920" y="3934080"/>
                <a:ext cx="1872720" cy="77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26"/>
              <p:cNvSpPr/>
              <p:nvPr/>
            </p:nvSpPr>
            <p:spPr>
              <a:xfrm>
                <a:off x="2856240" y="4713120"/>
                <a:ext cx="1413720" cy="172800"/>
              </a:xfrm>
              <a:custGeom>
                <a:avLst/>
                <a:gdLst>
                  <a:gd name="textAreaLeft" fmla="*/ 293760 w 1413720"/>
                  <a:gd name="textAreaRight" fmla="*/ 1119960 w 1413720"/>
                  <a:gd name="textAreaTop" fmla="*/ 36360 h 172800"/>
                  <a:gd name="textAreaBottom" fmla="*/ 136440 h 17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c7c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27"/>
              <p:cNvSpPr/>
              <p:nvPr/>
            </p:nvSpPr>
            <p:spPr>
              <a:xfrm>
                <a:off x="2777040" y="4005000"/>
                <a:ext cx="1575360" cy="641160"/>
              </a:xfrm>
              <a:prstGeom prst="rect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3f1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28"/>
              <p:cNvSpPr/>
              <p:nvPr/>
            </p:nvSpPr>
            <p:spPr>
              <a:xfrm>
                <a:off x="2777040" y="3971880"/>
                <a:ext cx="1569240" cy="10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29"/>
              <p:cNvSpPr/>
              <p:nvPr/>
            </p:nvSpPr>
            <p:spPr>
              <a:xfrm flipV="1">
                <a:off x="2910600" y="4544280"/>
                <a:ext cx="1304640" cy="12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30"/>
              <p:cNvSpPr/>
              <p:nvPr/>
            </p:nvSpPr>
            <p:spPr>
              <a:xfrm rot="18900000">
                <a:off x="2718720" y="3934800"/>
                <a:ext cx="60840" cy="169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1"/>
            <p:cNvGrpSpPr/>
            <p:nvPr/>
          </p:nvGrpSpPr>
          <p:grpSpPr>
            <a:xfrm>
              <a:off x="4643280" y="3934080"/>
              <a:ext cx="1872360" cy="1799640"/>
              <a:chOff x="4643280" y="3934080"/>
              <a:chExt cx="1872360" cy="1799640"/>
            </a:xfrm>
          </p:grpSpPr>
          <p:sp>
            <p:nvSpPr>
              <p:cNvPr id="241" name="AutoShape 32"/>
              <p:cNvSpPr/>
              <p:nvPr/>
            </p:nvSpPr>
            <p:spPr>
              <a:xfrm>
                <a:off x="4666320" y="4078080"/>
                <a:ext cx="1819440" cy="165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33"/>
              <p:cNvSpPr/>
              <p:nvPr/>
            </p:nvSpPr>
            <p:spPr>
              <a:xfrm>
                <a:off x="4643280" y="3934080"/>
                <a:ext cx="1872360" cy="77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34"/>
              <p:cNvSpPr/>
              <p:nvPr/>
            </p:nvSpPr>
            <p:spPr>
              <a:xfrm>
                <a:off x="4872600" y="4713120"/>
                <a:ext cx="1413360" cy="172800"/>
              </a:xfrm>
              <a:custGeom>
                <a:avLst/>
                <a:gdLst>
                  <a:gd name="textAreaLeft" fmla="*/ 293760 w 1413360"/>
                  <a:gd name="textAreaRight" fmla="*/ 1119600 w 1413360"/>
                  <a:gd name="textAreaTop" fmla="*/ 36360 h 172800"/>
                  <a:gd name="textAreaBottom" fmla="*/ 136440 h 17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c7c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35"/>
              <p:cNvSpPr/>
              <p:nvPr/>
            </p:nvSpPr>
            <p:spPr>
              <a:xfrm>
                <a:off x="4793400" y="4005000"/>
                <a:ext cx="1575360" cy="641160"/>
              </a:xfrm>
              <a:prstGeom prst="rect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3f1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utoShape 36"/>
              <p:cNvSpPr/>
              <p:nvPr/>
            </p:nvSpPr>
            <p:spPr>
              <a:xfrm>
                <a:off x="4793400" y="3971880"/>
                <a:ext cx="1568880" cy="10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37"/>
              <p:cNvSpPr/>
              <p:nvPr/>
            </p:nvSpPr>
            <p:spPr>
              <a:xfrm flipV="1">
                <a:off x="4926960" y="4544280"/>
                <a:ext cx="1304640" cy="12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38"/>
              <p:cNvSpPr/>
              <p:nvPr/>
            </p:nvSpPr>
            <p:spPr>
              <a:xfrm rot="18900000">
                <a:off x="4735080" y="3934800"/>
                <a:ext cx="60840" cy="169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9"/>
            <p:cNvGrpSpPr/>
            <p:nvPr/>
          </p:nvGrpSpPr>
          <p:grpSpPr>
            <a:xfrm>
              <a:off x="6659280" y="3934080"/>
              <a:ext cx="1872720" cy="1799640"/>
              <a:chOff x="6659280" y="3934080"/>
              <a:chExt cx="1872720" cy="1799640"/>
            </a:xfrm>
          </p:grpSpPr>
          <p:sp>
            <p:nvSpPr>
              <p:cNvPr id="249" name="AutoShape 40"/>
              <p:cNvSpPr/>
              <p:nvPr/>
            </p:nvSpPr>
            <p:spPr>
              <a:xfrm>
                <a:off x="6682320" y="4078080"/>
                <a:ext cx="1819800" cy="165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5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41"/>
              <p:cNvSpPr/>
              <p:nvPr/>
            </p:nvSpPr>
            <p:spPr>
              <a:xfrm>
                <a:off x="6659280" y="3934080"/>
                <a:ext cx="1872720" cy="77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42"/>
              <p:cNvSpPr/>
              <p:nvPr/>
            </p:nvSpPr>
            <p:spPr>
              <a:xfrm>
                <a:off x="6888600" y="4713120"/>
                <a:ext cx="1413720" cy="172800"/>
              </a:xfrm>
              <a:custGeom>
                <a:avLst/>
                <a:gdLst>
                  <a:gd name="textAreaLeft" fmla="*/ 293760 w 1413720"/>
                  <a:gd name="textAreaRight" fmla="*/ 1119960 w 1413720"/>
                  <a:gd name="textAreaTop" fmla="*/ 36360 h 172800"/>
                  <a:gd name="textAreaBottom" fmla="*/ 136440 h 17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c7c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43"/>
              <p:cNvSpPr/>
              <p:nvPr/>
            </p:nvSpPr>
            <p:spPr>
              <a:xfrm>
                <a:off x="6809400" y="4005000"/>
                <a:ext cx="1575360" cy="641160"/>
              </a:xfrm>
              <a:prstGeom prst="rect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3f1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44"/>
              <p:cNvSpPr/>
              <p:nvPr/>
            </p:nvSpPr>
            <p:spPr>
              <a:xfrm>
                <a:off x="6809400" y="3971880"/>
                <a:ext cx="1569240" cy="10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45"/>
              <p:cNvSpPr/>
              <p:nvPr/>
            </p:nvSpPr>
            <p:spPr>
              <a:xfrm flipV="1">
                <a:off x="6942960" y="4544280"/>
                <a:ext cx="1304640" cy="12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46"/>
              <p:cNvSpPr/>
              <p:nvPr/>
            </p:nvSpPr>
            <p:spPr>
              <a:xfrm rot="18900000">
                <a:off x="6751080" y="3934800"/>
                <a:ext cx="60840" cy="169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6" name="AutoShape 47"/>
            <p:cNvCxnSpPr>
              <a:stCxn id="221" idx="2"/>
            </p:cNvCxnSpPr>
            <p:nvPr/>
          </p:nvCxnSpPr>
          <p:spPr>
            <a:xfrm>
              <a:off x="4558680" y="3105360"/>
              <a:ext cx="1080" cy="39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7" name="Line 48"/>
            <p:cNvSpPr/>
            <p:nvPr/>
          </p:nvSpPr>
          <p:spPr>
            <a:xfrm>
              <a:off x="1547640" y="3500640"/>
              <a:ext cx="60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259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260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7"/>
          <p:cNvGrpSpPr/>
          <p:nvPr/>
        </p:nvGrpSpPr>
        <p:grpSpPr>
          <a:xfrm>
            <a:off x="-112680" y="1956960"/>
            <a:ext cx="4757400" cy="4622760"/>
            <a:chOff x="-112680" y="1956960"/>
            <a:chExt cx="4757400" cy="4622760"/>
          </a:xfrm>
        </p:grpSpPr>
        <p:grpSp>
          <p:nvGrpSpPr>
            <p:cNvPr id="264" name="Group 8"/>
            <p:cNvGrpSpPr/>
            <p:nvPr/>
          </p:nvGrpSpPr>
          <p:grpSpPr>
            <a:xfrm>
              <a:off x="-112680" y="1956960"/>
              <a:ext cx="4757400" cy="4622760"/>
              <a:chOff x="-112680" y="1956960"/>
              <a:chExt cx="4757400" cy="4622760"/>
            </a:xfrm>
          </p:grpSpPr>
          <p:sp>
            <p:nvSpPr>
              <p:cNvPr id="265" name="AutoShape 9"/>
              <p:cNvSpPr/>
              <p:nvPr/>
            </p:nvSpPr>
            <p:spPr>
              <a:xfrm>
                <a:off x="1527120" y="3370680"/>
                <a:ext cx="1580760" cy="1502280"/>
              </a:xfrm>
              <a:prstGeom prst="pentagon">
                <a:avLst/>
              </a:prstGeom>
              <a:gradFill rotWithShape="0">
                <a:gsLst>
                  <a:gs pos="0">
                    <a:srgbClr val="db5414">
                      <a:alpha val="90196"/>
                    </a:srgbClr>
                  </a:gs>
                  <a:gs pos="100000">
                    <a:srgbClr val="652709"/>
                  </a:gs>
                </a:gsLst>
                <a:lin ang="2700000"/>
              </a:gradFill>
              <a:ln w="316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0"/>
              <p:cNvSpPr/>
              <p:nvPr/>
            </p:nvSpPr>
            <p:spPr>
              <a:xfrm rot="19463400">
                <a:off x="2775240" y="3817080"/>
                <a:ext cx="1580040" cy="1501920"/>
              </a:xfrm>
              <a:prstGeom prst="pentagon">
                <a:avLst/>
              </a:prstGeom>
              <a:blipFill rotWithShape="0">
                <a:blip r:embed="rId1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11"/>
              <p:cNvSpPr/>
              <p:nvPr/>
            </p:nvSpPr>
            <p:spPr>
              <a:xfrm rot="19463400">
                <a:off x="2297520" y="2292120"/>
                <a:ext cx="1580040" cy="1502280"/>
              </a:xfrm>
              <a:prstGeom prst="pentagon">
                <a:avLst/>
              </a:prstGeom>
              <a:blipFill rotWithShape="0">
                <a:blip r:embed="rId2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12"/>
              <p:cNvSpPr/>
              <p:nvPr/>
            </p:nvSpPr>
            <p:spPr>
              <a:xfrm rot="19463400">
                <a:off x="679320" y="2276640"/>
                <a:ext cx="1580040" cy="1502280"/>
              </a:xfrm>
              <a:prstGeom prst="pentagon">
                <a:avLst/>
              </a:prstGeom>
              <a:blipFill rotWithShape="0">
                <a:blip r:embed="rId3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13"/>
              <p:cNvSpPr/>
              <p:nvPr/>
            </p:nvSpPr>
            <p:spPr>
              <a:xfrm rot="19407600">
                <a:off x="178920" y="3800880"/>
                <a:ext cx="1580040" cy="1502280"/>
              </a:xfrm>
              <a:prstGeom prst="pentagon">
                <a:avLst/>
              </a:prstGeom>
              <a:blipFill rotWithShape="0">
                <a:blip r:embed="rId4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14"/>
              <p:cNvSpPr/>
              <p:nvPr/>
            </p:nvSpPr>
            <p:spPr>
              <a:xfrm rot="19438800">
                <a:off x="1489680" y="4756320"/>
                <a:ext cx="1580040" cy="1502280"/>
              </a:xfrm>
              <a:prstGeom prst="pentagon">
                <a:avLst/>
              </a:prstGeom>
              <a:blipFill rotWithShape="0">
                <a:blip r:embed="rId5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Rectangle 15"/>
            <p:cNvSpPr/>
            <p:nvPr/>
          </p:nvSpPr>
          <p:spPr>
            <a:xfrm>
              <a:off x="2011680" y="537336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6"/>
            <p:cNvSpPr/>
            <p:nvPr/>
          </p:nvSpPr>
          <p:spPr>
            <a:xfrm>
              <a:off x="1144800" y="285408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7"/>
            <p:cNvSpPr/>
            <p:nvPr/>
          </p:nvSpPr>
          <p:spPr>
            <a:xfrm>
              <a:off x="714600" y="443844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8"/>
            <p:cNvSpPr/>
            <p:nvPr/>
          </p:nvSpPr>
          <p:spPr>
            <a:xfrm>
              <a:off x="3313440" y="440352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9"/>
            <p:cNvSpPr/>
            <p:nvPr/>
          </p:nvSpPr>
          <p:spPr>
            <a:xfrm>
              <a:off x="2802240" y="285408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0"/>
            <p:cNvSpPr/>
            <p:nvPr/>
          </p:nvSpPr>
          <p:spPr>
            <a:xfrm>
              <a:off x="1620720" y="3830760"/>
              <a:ext cx="142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5786280" y="4218120"/>
            <a:ext cx="2066760" cy="1803240"/>
            <a:chOff x="5786280" y="4218120"/>
            <a:chExt cx="2066760" cy="1803240"/>
          </a:xfrm>
        </p:grpSpPr>
        <p:sp>
          <p:nvSpPr>
            <p:cNvPr id="278" name="AutoShape 22"/>
            <p:cNvSpPr/>
            <p:nvPr/>
          </p:nvSpPr>
          <p:spPr>
            <a:xfrm>
              <a:off x="5786280" y="4378320"/>
              <a:ext cx="2066760" cy="1643040"/>
            </a:xfrm>
            <a:prstGeom prst="diamond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23"/>
            <p:cNvGrpSpPr/>
            <p:nvPr/>
          </p:nvGrpSpPr>
          <p:grpSpPr>
            <a:xfrm>
              <a:off x="5786280" y="4218120"/>
              <a:ext cx="2066760" cy="1644480"/>
              <a:chOff x="5786280" y="4218120"/>
              <a:chExt cx="2066760" cy="1644480"/>
            </a:xfrm>
          </p:grpSpPr>
          <p:sp>
            <p:nvSpPr>
              <p:cNvPr id="280" name="AutoShape 24"/>
              <p:cNvSpPr/>
              <p:nvPr/>
            </p:nvSpPr>
            <p:spPr>
              <a:xfrm>
                <a:off x="5786280" y="4218120"/>
                <a:ext cx="2066760" cy="1644480"/>
              </a:xfrm>
              <a:prstGeom prst="diamond">
                <a:avLst/>
              </a:prstGeom>
              <a:gradFill rotWithShape="0">
                <a:gsLst>
                  <a:gs pos="0">
                    <a:srgbClr val="fbbe0d"/>
                  </a:gs>
                  <a:gs pos="100000">
                    <a:srgbClr val="feeb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×××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5"/>
              <p:cNvSpPr/>
              <p:nvPr/>
            </p:nvSpPr>
            <p:spPr>
              <a:xfrm>
                <a:off x="5786280" y="5040720"/>
                <a:ext cx="1033920" cy="56916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26"/>
          <p:cNvGrpSpPr/>
          <p:nvPr/>
        </p:nvGrpSpPr>
        <p:grpSpPr>
          <a:xfrm>
            <a:off x="4746600" y="3349800"/>
            <a:ext cx="2070000" cy="1799640"/>
            <a:chOff x="4746600" y="3349800"/>
            <a:chExt cx="2070000" cy="1799640"/>
          </a:xfrm>
        </p:grpSpPr>
        <p:sp>
          <p:nvSpPr>
            <p:cNvPr id="283" name="AutoShape 27"/>
            <p:cNvSpPr/>
            <p:nvPr/>
          </p:nvSpPr>
          <p:spPr>
            <a:xfrm>
              <a:off x="4749840" y="3506760"/>
              <a:ext cx="2066760" cy="1642680"/>
            </a:xfrm>
            <a:prstGeom prst="diamond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8"/>
            <p:cNvGrpSpPr/>
            <p:nvPr/>
          </p:nvGrpSpPr>
          <p:grpSpPr>
            <a:xfrm>
              <a:off x="4746600" y="3349800"/>
              <a:ext cx="2066760" cy="1644120"/>
              <a:chOff x="4746600" y="3349800"/>
              <a:chExt cx="2066760" cy="1644120"/>
            </a:xfrm>
          </p:grpSpPr>
          <p:sp>
            <p:nvSpPr>
              <p:cNvPr id="285" name="AutoShape 29"/>
              <p:cNvSpPr/>
              <p:nvPr/>
            </p:nvSpPr>
            <p:spPr>
              <a:xfrm>
                <a:off x="4746600" y="3349800"/>
                <a:ext cx="2066760" cy="1644120"/>
              </a:xfrm>
              <a:prstGeom prst="diamond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4e1e0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30"/>
              <p:cNvSpPr/>
              <p:nvPr/>
            </p:nvSpPr>
            <p:spPr>
              <a:xfrm>
                <a:off x="4750200" y="4168440"/>
                <a:ext cx="1034280" cy="56916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31"/>
          <p:cNvGrpSpPr/>
          <p:nvPr/>
        </p:nvGrpSpPr>
        <p:grpSpPr>
          <a:xfrm>
            <a:off x="6823080" y="3344760"/>
            <a:ext cx="2070000" cy="1800360"/>
            <a:chOff x="6823080" y="3344760"/>
            <a:chExt cx="2070000" cy="1800360"/>
          </a:xfrm>
        </p:grpSpPr>
        <p:sp>
          <p:nvSpPr>
            <p:cNvPr id="288" name="AutoShape 32"/>
            <p:cNvSpPr/>
            <p:nvPr/>
          </p:nvSpPr>
          <p:spPr>
            <a:xfrm>
              <a:off x="6826320" y="3500280"/>
              <a:ext cx="2066760" cy="1644840"/>
            </a:xfrm>
            <a:prstGeom prst="diamond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33"/>
            <p:cNvGrpSpPr/>
            <p:nvPr/>
          </p:nvGrpSpPr>
          <p:grpSpPr>
            <a:xfrm>
              <a:off x="6823080" y="3344760"/>
              <a:ext cx="2066760" cy="1643040"/>
              <a:chOff x="6823080" y="3344760"/>
              <a:chExt cx="2066760" cy="1643040"/>
            </a:xfrm>
          </p:grpSpPr>
          <p:sp>
            <p:nvSpPr>
              <p:cNvPr id="290" name="AutoShape 34"/>
              <p:cNvSpPr/>
              <p:nvPr/>
            </p:nvSpPr>
            <p:spPr>
              <a:xfrm>
                <a:off x="6823080" y="3344760"/>
                <a:ext cx="2066760" cy="1643040"/>
              </a:xfrm>
              <a:prstGeom prst="diamond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4e1e0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5"/>
              <p:cNvSpPr/>
              <p:nvPr/>
            </p:nvSpPr>
            <p:spPr>
              <a:xfrm>
                <a:off x="6832080" y="4164120"/>
                <a:ext cx="1033920" cy="56844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36"/>
          <p:cNvGrpSpPr/>
          <p:nvPr/>
        </p:nvGrpSpPr>
        <p:grpSpPr>
          <a:xfrm>
            <a:off x="6330960" y="2492280"/>
            <a:ext cx="1368000" cy="1261800"/>
            <a:chOff x="6330960" y="2492280"/>
            <a:chExt cx="1368000" cy="1261800"/>
          </a:xfrm>
        </p:grpSpPr>
        <p:sp>
          <p:nvSpPr>
            <p:cNvPr id="293" name="未知"/>
            <p:cNvSpPr/>
            <p:nvPr/>
          </p:nvSpPr>
          <p:spPr>
            <a:xfrm>
              <a:off x="6465960" y="3463920"/>
              <a:ext cx="532800" cy="2743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832080" y="3364200"/>
              <a:ext cx="583560" cy="26964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7210800" y="3527640"/>
              <a:ext cx="488160" cy="226440"/>
            </a:xfrm>
            <a:custGeom>
              <a:avLst/>
              <a:gdLst>
                <a:gd name="textAreaLeft" fmla="*/ 0 w 488160"/>
                <a:gd name="textAreaRight" fmla="*/ 488520 w 48816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6330960" y="2832840"/>
              <a:ext cx="356400" cy="90216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902160"/>
                <a:gd name="textAreaBottom" fmla="*/ 902520 h 9021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6674760" y="2492280"/>
              <a:ext cx="448200" cy="113508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084800" y="2851920"/>
              <a:ext cx="356400" cy="90216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902160"/>
                <a:gd name="textAreaBottom" fmla="*/ 902520 h 9021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43"/>
          <p:cNvSpPr/>
          <p:nvPr/>
        </p:nvSpPr>
        <p:spPr>
          <a:xfrm>
            <a:off x="4572000" y="2349360"/>
            <a:ext cx="0" cy="4032360"/>
          </a:xfrm>
          <a:prstGeom prst="line">
            <a:avLst/>
          </a:prstGeom>
          <a:ln w="25560">
            <a:solidFill>
              <a:srgbClr val="db54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447840" y="6497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302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303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7"/>
          <p:cNvSpPr/>
          <p:nvPr/>
        </p:nvSpPr>
        <p:spPr>
          <a:xfrm>
            <a:off x="4643280" y="2357280"/>
            <a:ext cx="0" cy="4032360"/>
          </a:xfrm>
          <a:prstGeom prst="line">
            <a:avLst/>
          </a:prstGeom>
          <a:ln w="25560">
            <a:solidFill>
              <a:srgbClr val="db54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395280" y="2205000"/>
            <a:ext cx="417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1906560" y="3581280"/>
            <a:ext cx="936720" cy="576360"/>
          </a:xfrm>
          <a:prstGeom prst="ellipse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0"/>
          <p:cNvGrpSpPr/>
          <p:nvPr/>
        </p:nvGrpSpPr>
        <p:grpSpPr>
          <a:xfrm>
            <a:off x="395280" y="4230720"/>
            <a:ext cx="1944720" cy="1273320"/>
            <a:chOff x="395280" y="4230720"/>
            <a:chExt cx="1944720" cy="1273320"/>
          </a:xfrm>
        </p:grpSpPr>
        <p:sp>
          <p:nvSpPr>
            <p:cNvPr id="310" name="AutoShape 11"/>
            <p:cNvSpPr/>
            <p:nvPr/>
          </p:nvSpPr>
          <p:spPr>
            <a:xfrm rot="10800000">
              <a:off x="395280" y="4807080"/>
              <a:ext cx="1944720" cy="696960"/>
            </a:xfrm>
            <a:custGeom>
              <a:avLst/>
              <a:gdLst>
                <a:gd name="textAreaLeft" fmla="*/ 404640 w 1944720"/>
                <a:gd name="textAreaRight" fmla="*/ 1540080 w 1944720"/>
                <a:gd name="textAreaTop" fmla="*/ 144360 h 696960"/>
                <a:gd name="textAreaBottom" fmla="*/ 552600 h 69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bbe0d"/>
                </a:gs>
                <a:gs pos="100000">
                  <a:srgbClr val="be90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1044720" y="4230720"/>
              <a:ext cx="671400" cy="50328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1002240" y="487836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4"/>
          <p:cNvGrpSpPr/>
          <p:nvPr/>
        </p:nvGrpSpPr>
        <p:grpSpPr>
          <a:xfrm>
            <a:off x="2411280" y="4230720"/>
            <a:ext cx="1944720" cy="1273320"/>
            <a:chOff x="2411280" y="4230720"/>
            <a:chExt cx="1944720" cy="1273320"/>
          </a:xfrm>
        </p:grpSpPr>
        <p:sp>
          <p:nvSpPr>
            <p:cNvPr id="314" name="AutoShape 15"/>
            <p:cNvSpPr/>
            <p:nvPr/>
          </p:nvSpPr>
          <p:spPr>
            <a:xfrm rot="10800000">
              <a:off x="2411280" y="4807080"/>
              <a:ext cx="1944720" cy="696960"/>
            </a:xfrm>
            <a:custGeom>
              <a:avLst/>
              <a:gdLst>
                <a:gd name="textAreaLeft" fmla="*/ 404640 w 1944720"/>
                <a:gd name="textAreaRight" fmla="*/ 1540080 w 1944720"/>
                <a:gd name="textAreaTop" fmla="*/ 144360 h 696960"/>
                <a:gd name="textAreaBottom" fmla="*/ 552600 h 69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3035160" y="4230720"/>
              <a:ext cx="671400" cy="503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7"/>
            <p:cNvSpPr/>
            <p:nvPr/>
          </p:nvSpPr>
          <p:spPr>
            <a:xfrm>
              <a:off x="3059280" y="487836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2043360" y="5835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5075280" y="2205360"/>
            <a:ext cx="3529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6580440" y="5835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1"/>
          <p:cNvGrpSpPr/>
          <p:nvPr/>
        </p:nvGrpSpPr>
        <p:grpSpPr>
          <a:xfrm>
            <a:off x="5938920" y="4230720"/>
            <a:ext cx="1944720" cy="1273320"/>
            <a:chOff x="5938920" y="4230720"/>
            <a:chExt cx="1944720" cy="1273320"/>
          </a:xfrm>
        </p:grpSpPr>
        <p:sp>
          <p:nvSpPr>
            <p:cNvPr id="321" name="AutoShape 22"/>
            <p:cNvSpPr/>
            <p:nvPr/>
          </p:nvSpPr>
          <p:spPr>
            <a:xfrm rot="10800000">
              <a:off x="5938920" y="4807080"/>
              <a:ext cx="1944720" cy="696960"/>
            </a:xfrm>
            <a:custGeom>
              <a:avLst/>
              <a:gdLst>
                <a:gd name="textAreaLeft" fmla="*/ 404640 w 1944720"/>
                <a:gd name="textAreaRight" fmla="*/ 1540080 w 1944720"/>
                <a:gd name="textAreaTop" fmla="*/ 144360 h 696960"/>
                <a:gd name="textAreaBottom" fmla="*/ 552600 h 69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/>
                </a:gs>
                <a:gs pos="100000">
                  <a:srgbClr val="a640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6588360" y="4230720"/>
              <a:ext cx="671400" cy="50328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4"/>
            <p:cNvSpPr/>
            <p:nvPr/>
          </p:nvSpPr>
          <p:spPr>
            <a:xfrm>
              <a:off x="6558480" y="487836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2"/>
          <p:cNvSpPr/>
          <p:nvPr/>
        </p:nvSpPr>
        <p:spPr>
          <a:xfrm>
            <a:off x="181080" y="5589720"/>
            <a:ext cx="3743280" cy="119700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326" name="Group 4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327" name="AutoShape 5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6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AutoShape 7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8"/>
          <p:cNvGrpSpPr/>
          <p:nvPr/>
        </p:nvGrpSpPr>
        <p:grpSpPr>
          <a:xfrm>
            <a:off x="4140360" y="3645000"/>
            <a:ext cx="3816360" cy="649080"/>
            <a:chOff x="4140360" y="3645000"/>
            <a:chExt cx="3816360" cy="649080"/>
          </a:xfrm>
        </p:grpSpPr>
        <p:sp>
          <p:nvSpPr>
            <p:cNvPr id="331" name="AutoShape 9"/>
            <p:cNvSpPr/>
            <p:nvPr/>
          </p:nvSpPr>
          <p:spPr>
            <a:xfrm>
              <a:off x="4500720" y="3715920"/>
              <a:ext cx="3456000" cy="55080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0"/>
            <p:cNvSpPr/>
            <p:nvPr/>
          </p:nvSpPr>
          <p:spPr>
            <a:xfrm>
              <a:off x="4140360" y="3645000"/>
              <a:ext cx="649440" cy="64908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1"/>
          <p:cNvGrpSpPr/>
          <p:nvPr/>
        </p:nvGrpSpPr>
        <p:grpSpPr>
          <a:xfrm>
            <a:off x="4140360" y="5084640"/>
            <a:ext cx="3816360" cy="649440"/>
            <a:chOff x="4140360" y="5084640"/>
            <a:chExt cx="3816360" cy="649440"/>
          </a:xfrm>
        </p:grpSpPr>
        <p:sp>
          <p:nvSpPr>
            <p:cNvPr id="334" name="AutoShape 12"/>
            <p:cNvSpPr/>
            <p:nvPr/>
          </p:nvSpPr>
          <p:spPr>
            <a:xfrm>
              <a:off x="4500720" y="5143320"/>
              <a:ext cx="3456000" cy="55080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3"/>
            <p:cNvSpPr/>
            <p:nvPr/>
          </p:nvSpPr>
          <p:spPr>
            <a:xfrm>
              <a:off x="4140360" y="5084640"/>
              <a:ext cx="649440" cy="649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4"/>
          <p:cNvGrpSpPr/>
          <p:nvPr/>
        </p:nvGrpSpPr>
        <p:grpSpPr>
          <a:xfrm>
            <a:off x="315360" y="2167560"/>
            <a:ext cx="3623040" cy="3819960"/>
            <a:chOff x="315360" y="2167560"/>
            <a:chExt cx="3623040" cy="3819960"/>
          </a:xfrm>
        </p:grpSpPr>
        <p:sp>
          <p:nvSpPr>
            <p:cNvPr id="337" name="AutoShape 15"/>
            <p:cNvSpPr/>
            <p:nvPr/>
          </p:nvSpPr>
          <p:spPr>
            <a:xfrm rot="924000">
              <a:off x="683640" y="2493720"/>
              <a:ext cx="2885760" cy="3167280"/>
            </a:xfrm>
            <a:custGeom>
              <a:avLst/>
              <a:gdLst>
                <a:gd name="textAreaLeft" fmla="*/ 421920 w 2885760"/>
                <a:gd name="textAreaRight" fmla="*/ 2463840 w 2885760"/>
                <a:gd name="textAreaTop" fmla="*/ 463680 h 3167280"/>
                <a:gd name="textAreaBottom" fmla="*/ 2703600 h 31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16"/>
            <p:cNvGrpSpPr/>
            <p:nvPr/>
          </p:nvGrpSpPr>
          <p:grpSpPr>
            <a:xfrm>
              <a:off x="378000" y="2275560"/>
              <a:ext cx="3281760" cy="3533400"/>
              <a:chOff x="378000" y="2275560"/>
              <a:chExt cx="3281760" cy="3533400"/>
            </a:xfrm>
          </p:grpSpPr>
          <p:sp>
            <p:nvSpPr>
              <p:cNvPr id="339" name="未知"/>
              <p:cNvSpPr/>
              <p:nvPr/>
            </p:nvSpPr>
            <p:spPr>
              <a:xfrm rot="584400">
                <a:off x="935640" y="2525760"/>
                <a:ext cx="2480040" cy="3095280"/>
              </a:xfrm>
              <a:custGeom>
                <a:avLst/>
                <a:gdLst>
                  <a:gd name="textAreaLeft" fmla="*/ 0 w 2480040"/>
                  <a:gd name="textAreaRight" fmla="*/ 2480400 w 2480040"/>
                  <a:gd name="textAreaTop" fmla="*/ 0 h 3095280"/>
                  <a:gd name="textAreaBottom" fmla="*/ 3095640 h 3095280"/>
                </a:gdLst>
                <a:ahLst/>
                <a:rect l="textAreaLeft" t="textAreaTop" r="textAreaRight" b="textAreaBottom"/>
                <a:pathLst>
                  <a:path w="1080" h="1260">
                    <a:moveTo>
                      <a:pt x="450" y="0"/>
                    </a:moveTo>
                    <a:lnTo>
                      <a:pt x="462" y="0"/>
                    </a:lnTo>
                    <a:lnTo>
                      <a:pt x="474" y="0"/>
                    </a:lnTo>
                    <a:lnTo>
                      <a:pt x="486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28" y="6"/>
                    </a:lnTo>
                    <a:lnTo>
                      <a:pt x="540" y="6"/>
                    </a:lnTo>
                    <a:lnTo>
                      <a:pt x="552" y="6"/>
                    </a:lnTo>
                    <a:lnTo>
                      <a:pt x="558" y="6"/>
                    </a:lnTo>
                    <a:lnTo>
                      <a:pt x="570" y="12"/>
                    </a:lnTo>
                    <a:lnTo>
                      <a:pt x="582" y="12"/>
                    </a:lnTo>
                    <a:lnTo>
                      <a:pt x="594" y="12"/>
                    </a:lnTo>
                    <a:lnTo>
                      <a:pt x="606" y="18"/>
                    </a:lnTo>
                    <a:lnTo>
                      <a:pt x="612" y="18"/>
                    </a:lnTo>
                    <a:lnTo>
                      <a:pt x="624" y="24"/>
                    </a:lnTo>
                    <a:lnTo>
                      <a:pt x="636" y="24"/>
                    </a:lnTo>
                    <a:lnTo>
                      <a:pt x="648" y="30"/>
                    </a:lnTo>
                    <a:lnTo>
                      <a:pt x="654" y="30"/>
                    </a:lnTo>
                    <a:lnTo>
                      <a:pt x="666" y="36"/>
                    </a:lnTo>
                    <a:lnTo>
                      <a:pt x="678" y="42"/>
                    </a:lnTo>
                    <a:lnTo>
                      <a:pt x="684" y="42"/>
                    </a:lnTo>
                    <a:lnTo>
                      <a:pt x="696" y="48"/>
                    </a:lnTo>
                    <a:lnTo>
                      <a:pt x="708" y="54"/>
                    </a:lnTo>
                    <a:lnTo>
                      <a:pt x="714" y="60"/>
                    </a:lnTo>
                    <a:lnTo>
                      <a:pt x="726" y="60"/>
                    </a:lnTo>
                    <a:lnTo>
                      <a:pt x="738" y="66"/>
                    </a:lnTo>
                    <a:lnTo>
                      <a:pt x="744" y="72"/>
                    </a:lnTo>
                    <a:lnTo>
                      <a:pt x="756" y="78"/>
                    </a:lnTo>
                    <a:lnTo>
                      <a:pt x="768" y="84"/>
                    </a:lnTo>
                    <a:lnTo>
                      <a:pt x="774" y="90"/>
                    </a:lnTo>
                    <a:lnTo>
                      <a:pt x="786" y="96"/>
                    </a:lnTo>
                    <a:lnTo>
                      <a:pt x="792" y="102"/>
                    </a:lnTo>
                    <a:lnTo>
                      <a:pt x="804" y="108"/>
                    </a:lnTo>
                    <a:lnTo>
                      <a:pt x="810" y="114"/>
                    </a:lnTo>
                    <a:lnTo>
                      <a:pt x="822" y="120"/>
                    </a:lnTo>
                    <a:lnTo>
                      <a:pt x="828" y="126"/>
                    </a:lnTo>
                    <a:lnTo>
                      <a:pt x="840" y="132"/>
                    </a:lnTo>
                    <a:lnTo>
                      <a:pt x="846" y="138"/>
                    </a:lnTo>
                    <a:lnTo>
                      <a:pt x="852" y="144"/>
                    </a:lnTo>
                    <a:lnTo>
                      <a:pt x="864" y="156"/>
                    </a:lnTo>
                    <a:lnTo>
                      <a:pt x="870" y="162"/>
                    </a:lnTo>
                    <a:lnTo>
                      <a:pt x="882" y="168"/>
                    </a:lnTo>
                    <a:lnTo>
                      <a:pt x="888" y="174"/>
                    </a:lnTo>
                    <a:lnTo>
                      <a:pt x="894" y="186"/>
                    </a:lnTo>
                    <a:lnTo>
                      <a:pt x="900" y="192"/>
                    </a:lnTo>
                    <a:lnTo>
                      <a:pt x="912" y="198"/>
                    </a:lnTo>
                    <a:lnTo>
                      <a:pt x="918" y="204"/>
                    </a:lnTo>
                    <a:lnTo>
                      <a:pt x="924" y="216"/>
                    </a:lnTo>
                    <a:lnTo>
                      <a:pt x="930" y="222"/>
                    </a:lnTo>
                    <a:lnTo>
                      <a:pt x="936" y="234"/>
                    </a:lnTo>
                    <a:lnTo>
                      <a:pt x="948" y="240"/>
                    </a:lnTo>
                    <a:lnTo>
                      <a:pt x="954" y="252"/>
                    </a:lnTo>
                    <a:lnTo>
                      <a:pt x="960" y="258"/>
                    </a:lnTo>
                    <a:lnTo>
                      <a:pt x="966" y="270"/>
                    </a:lnTo>
                    <a:lnTo>
                      <a:pt x="972" y="276"/>
                    </a:lnTo>
                    <a:lnTo>
                      <a:pt x="978" y="288"/>
                    </a:lnTo>
                    <a:lnTo>
                      <a:pt x="984" y="294"/>
                    </a:lnTo>
                    <a:lnTo>
                      <a:pt x="990" y="306"/>
                    </a:lnTo>
                    <a:lnTo>
                      <a:pt x="996" y="312"/>
                    </a:lnTo>
                    <a:lnTo>
                      <a:pt x="1002" y="324"/>
                    </a:lnTo>
                    <a:lnTo>
                      <a:pt x="1008" y="330"/>
                    </a:lnTo>
                    <a:lnTo>
                      <a:pt x="1008" y="342"/>
                    </a:lnTo>
                    <a:lnTo>
                      <a:pt x="1014" y="354"/>
                    </a:lnTo>
                    <a:lnTo>
                      <a:pt x="1020" y="360"/>
                    </a:lnTo>
                    <a:lnTo>
                      <a:pt x="1026" y="372"/>
                    </a:lnTo>
                    <a:lnTo>
                      <a:pt x="1026" y="384"/>
                    </a:lnTo>
                    <a:lnTo>
                      <a:pt x="1032" y="390"/>
                    </a:lnTo>
                    <a:lnTo>
                      <a:pt x="1038" y="402"/>
                    </a:lnTo>
                    <a:lnTo>
                      <a:pt x="1038" y="414"/>
                    </a:lnTo>
                    <a:lnTo>
                      <a:pt x="1044" y="426"/>
                    </a:lnTo>
                    <a:lnTo>
                      <a:pt x="1050" y="432"/>
                    </a:lnTo>
                    <a:lnTo>
                      <a:pt x="1050" y="444"/>
                    </a:lnTo>
                    <a:lnTo>
                      <a:pt x="1056" y="456"/>
                    </a:lnTo>
                    <a:lnTo>
                      <a:pt x="1056" y="468"/>
                    </a:lnTo>
                    <a:lnTo>
                      <a:pt x="1062" y="474"/>
                    </a:lnTo>
                    <a:lnTo>
                      <a:pt x="1062" y="486"/>
                    </a:lnTo>
                    <a:lnTo>
                      <a:pt x="1062" y="498"/>
                    </a:lnTo>
                    <a:lnTo>
                      <a:pt x="1068" y="510"/>
                    </a:lnTo>
                    <a:lnTo>
                      <a:pt x="1068" y="522"/>
                    </a:lnTo>
                    <a:lnTo>
                      <a:pt x="1068" y="528"/>
                    </a:lnTo>
                    <a:lnTo>
                      <a:pt x="1074" y="540"/>
                    </a:lnTo>
                    <a:lnTo>
                      <a:pt x="1074" y="552"/>
                    </a:lnTo>
                    <a:lnTo>
                      <a:pt x="1074" y="564"/>
                    </a:lnTo>
                    <a:lnTo>
                      <a:pt x="1074" y="576"/>
                    </a:lnTo>
                    <a:lnTo>
                      <a:pt x="1074" y="582"/>
                    </a:lnTo>
                    <a:lnTo>
                      <a:pt x="1080" y="594"/>
                    </a:lnTo>
                    <a:lnTo>
                      <a:pt x="1080" y="606"/>
                    </a:lnTo>
                    <a:lnTo>
                      <a:pt x="1080" y="618"/>
                    </a:lnTo>
                    <a:lnTo>
                      <a:pt x="1080" y="630"/>
                    </a:lnTo>
                    <a:lnTo>
                      <a:pt x="1080" y="642"/>
                    </a:lnTo>
                    <a:lnTo>
                      <a:pt x="1080" y="648"/>
                    </a:lnTo>
                    <a:lnTo>
                      <a:pt x="1080" y="660"/>
                    </a:lnTo>
                    <a:lnTo>
                      <a:pt x="1074" y="672"/>
                    </a:lnTo>
                    <a:lnTo>
                      <a:pt x="1074" y="684"/>
                    </a:lnTo>
                    <a:lnTo>
                      <a:pt x="1074" y="696"/>
                    </a:lnTo>
                    <a:lnTo>
                      <a:pt x="1074" y="708"/>
                    </a:lnTo>
                    <a:lnTo>
                      <a:pt x="1074" y="714"/>
                    </a:lnTo>
                    <a:lnTo>
                      <a:pt x="1068" y="726"/>
                    </a:lnTo>
                    <a:lnTo>
                      <a:pt x="1068" y="738"/>
                    </a:lnTo>
                    <a:lnTo>
                      <a:pt x="1068" y="750"/>
                    </a:lnTo>
                    <a:lnTo>
                      <a:pt x="1062" y="762"/>
                    </a:lnTo>
                    <a:lnTo>
                      <a:pt x="1062" y="768"/>
                    </a:lnTo>
                    <a:lnTo>
                      <a:pt x="1062" y="780"/>
                    </a:lnTo>
                    <a:lnTo>
                      <a:pt x="1056" y="792"/>
                    </a:lnTo>
                    <a:lnTo>
                      <a:pt x="1056" y="804"/>
                    </a:lnTo>
                    <a:lnTo>
                      <a:pt x="1050" y="810"/>
                    </a:lnTo>
                    <a:lnTo>
                      <a:pt x="1050" y="822"/>
                    </a:lnTo>
                    <a:lnTo>
                      <a:pt x="1044" y="834"/>
                    </a:lnTo>
                    <a:lnTo>
                      <a:pt x="1038" y="846"/>
                    </a:lnTo>
                    <a:lnTo>
                      <a:pt x="1038" y="852"/>
                    </a:lnTo>
                    <a:lnTo>
                      <a:pt x="1032" y="864"/>
                    </a:lnTo>
                    <a:lnTo>
                      <a:pt x="1026" y="876"/>
                    </a:lnTo>
                    <a:lnTo>
                      <a:pt x="1026" y="882"/>
                    </a:lnTo>
                    <a:lnTo>
                      <a:pt x="1020" y="894"/>
                    </a:lnTo>
                    <a:lnTo>
                      <a:pt x="1014" y="906"/>
                    </a:lnTo>
                    <a:lnTo>
                      <a:pt x="1008" y="912"/>
                    </a:lnTo>
                    <a:lnTo>
                      <a:pt x="1008" y="924"/>
                    </a:lnTo>
                    <a:lnTo>
                      <a:pt x="1002" y="936"/>
                    </a:lnTo>
                    <a:lnTo>
                      <a:pt x="996" y="942"/>
                    </a:lnTo>
                    <a:lnTo>
                      <a:pt x="990" y="954"/>
                    </a:lnTo>
                    <a:lnTo>
                      <a:pt x="984" y="960"/>
                    </a:lnTo>
                    <a:lnTo>
                      <a:pt x="978" y="972"/>
                    </a:lnTo>
                    <a:lnTo>
                      <a:pt x="972" y="978"/>
                    </a:lnTo>
                    <a:lnTo>
                      <a:pt x="966" y="990"/>
                    </a:lnTo>
                    <a:lnTo>
                      <a:pt x="960" y="996"/>
                    </a:lnTo>
                    <a:lnTo>
                      <a:pt x="954" y="1008"/>
                    </a:lnTo>
                    <a:lnTo>
                      <a:pt x="948" y="1014"/>
                    </a:lnTo>
                    <a:lnTo>
                      <a:pt x="936" y="1026"/>
                    </a:lnTo>
                    <a:lnTo>
                      <a:pt x="930" y="1032"/>
                    </a:lnTo>
                    <a:lnTo>
                      <a:pt x="924" y="1044"/>
                    </a:lnTo>
                    <a:lnTo>
                      <a:pt x="918" y="1050"/>
                    </a:lnTo>
                    <a:lnTo>
                      <a:pt x="912" y="1056"/>
                    </a:lnTo>
                    <a:lnTo>
                      <a:pt x="900" y="1068"/>
                    </a:lnTo>
                    <a:lnTo>
                      <a:pt x="894" y="1074"/>
                    </a:lnTo>
                    <a:lnTo>
                      <a:pt x="888" y="1080"/>
                    </a:lnTo>
                    <a:lnTo>
                      <a:pt x="882" y="1092"/>
                    </a:lnTo>
                    <a:lnTo>
                      <a:pt x="870" y="1098"/>
                    </a:lnTo>
                    <a:lnTo>
                      <a:pt x="864" y="1104"/>
                    </a:lnTo>
                    <a:lnTo>
                      <a:pt x="852" y="1110"/>
                    </a:lnTo>
                    <a:lnTo>
                      <a:pt x="846" y="1116"/>
                    </a:lnTo>
                    <a:lnTo>
                      <a:pt x="840" y="1122"/>
                    </a:lnTo>
                    <a:lnTo>
                      <a:pt x="828" y="1134"/>
                    </a:lnTo>
                    <a:lnTo>
                      <a:pt x="822" y="1140"/>
                    </a:lnTo>
                    <a:lnTo>
                      <a:pt x="810" y="1146"/>
                    </a:lnTo>
                    <a:lnTo>
                      <a:pt x="804" y="1152"/>
                    </a:lnTo>
                    <a:lnTo>
                      <a:pt x="792" y="1158"/>
                    </a:lnTo>
                    <a:lnTo>
                      <a:pt x="786" y="1164"/>
                    </a:lnTo>
                    <a:lnTo>
                      <a:pt x="774" y="1170"/>
                    </a:lnTo>
                    <a:lnTo>
                      <a:pt x="768" y="1176"/>
                    </a:lnTo>
                    <a:lnTo>
                      <a:pt x="756" y="1182"/>
                    </a:lnTo>
                    <a:lnTo>
                      <a:pt x="744" y="1182"/>
                    </a:lnTo>
                    <a:lnTo>
                      <a:pt x="738" y="1188"/>
                    </a:lnTo>
                    <a:lnTo>
                      <a:pt x="726" y="1194"/>
                    </a:lnTo>
                    <a:lnTo>
                      <a:pt x="714" y="1200"/>
                    </a:lnTo>
                    <a:lnTo>
                      <a:pt x="708" y="1206"/>
                    </a:lnTo>
                    <a:lnTo>
                      <a:pt x="696" y="1206"/>
                    </a:lnTo>
                    <a:lnTo>
                      <a:pt x="684" y="1212"/>
                    </a:lnTo>
                    <a:lnTo>
                      <a:pt x="678" y="1218"/>
                    </a:lnTo>
                    <a:lnTo>
                      <a:pt x="666" y="1218"/>
                    </a:lnTo>
                    <a:lnTo>
                      <a:pt x="654" y="1224"/>
                    </a:lnTo>
                    <a:lnTo>
                      <a:pt x="648" y="1230"/>
                    </a:lnTo>
                    <a:lnTo>
                      <a:pt x="636" y="1230"/>
                    </a:lnTo>
                    <a:lnTo>
                      <a:pt x="624" y="1236"/>
                    </a:lnTo>
                    <a:lnTo>
                      <a:pt x="612" y="1236"/>
                    </a:lnTo>
                    <a:lnTo>
                      <a:pt x="606" y="1242"/>
                    </a:lnTo>
                    <a:lnTo>
                      <a:pt x="594" y="1242"/>
                    </a:lnTo>
                    <a:lnTo>
                      <a:pt x="582" y="1242"/>
                    </a:lnTo>
                    <a:lnTo>
                      <a:pt x="570" y="1248"/>
                    </a:lnTo>
                    <a:lnTo>
                      <a:pt x="558" y="1248"/>
                    </a:lnTo>
                    <a:lnTo>
                      <a:pt x="552" y="1248"/>
                    </a:lnTo>
                    <a:lnTo>
                      <a:pt x="540" y="1254"/>
                    </a:lnTo>
                    <a:lnTo>
                      <a:pt x="528" y="1254"/>
                    </a:lnTo>
                    <a:lnTo>
                      <a:pt x="516" y="1254"/>
                    </a:lnTo>
                    <a:lnTo>
                      <a:pt x="504" y="1254"/>
                    </a:lnTo>
                    <a:lnTo>
                      <a:pt x="498" y="1254"/>
                    </a:lnTo>
                    <a:lnTo>
                      <a:pt x="486" y="1260"/>
                    </a:lnTo>
                    <a:lnTo>
                      <a:pt x="474" y="1260"/>
                    </a:lnTo>
                    <a:lnTo>
                      <a:pt x="462" y="1260"/>
                    </a:lnTo>
                    <a:lnTo>
                      <a:pt x="450" y="1260"/>
                    </a:lnTo>
                    <a:lnTo>
                      <a:pt x="438" y="1260"/>
                    </a:lnTo>
                    <a:lnTo>
                      <a:pt x="432" y="1260"/>
                    </a:lnTo>
                    <a:lnTo>
                      <a:pt x="420" y="1260"/>
                    </a:lnTo>
                    <a:lnTo>
                      <a:pt x="408" y="1254"/>
                    </a:lnTo>
                    <a:lnTo>
                      <a:pt x="396" y="1254"/>
                    </a:lnTo>
                    <a:lnTo>
                      <a:pt x="384" y="1254"/>
                    </a:lnTo>
                    <a:lnTo>
                      <a:pt x="378" y="1254"/>
                    </a:lnTo>
                    <a:lnTo>
                      <a:pt x="366" y="1254"/>
                    </a:lnTo>
                    <a:lnTo>
                      <a:pt x="354" y="1248"/>
                    </a:lnTo>
                    <a:lnTo>
                      <a:pt x="342" y="1248"/>
                    </a:lnTo>
                    <a:lnTo>
                      <a:pt x="330" y="1248"/>
                    </a:lnTo>
                    <a:lnTo>
                      <a:pt x="324" y="1242"/>
                    </a:lnTo>
                    <a:lnTo>
                      <a:pt x="312" y="1242"/>
                    </a:lnTo>
                    <a:lnTo>
                      <a:pt x="300" y="1242"/>
                    </a:lnTo>
                    <a:lnTo>
                      <a:pt x="288" y="1236"/>
                    </a:lnTo>
                    <a:lnTo>
                      <a:pt x="276" y="1236"/>
                    </a:lnTo>
                    <a:lnTo>
                      <a:pt x="270" y="1230"/>
                    </a:lnTo>
                    <a:lnTo>
                      <a:pt x="258" y="1230"/>
                    </a:lnTo>
                    <a:lnTo>
                      <a:pt x="246" y="1224"/>
                    </a:lnTo>
                    <a:lnTo>
                      <a:pt x="240" y="1218"/>
                    </a:lnTo>
                    <a:lnTo>
                      <a:pt x="228" y="1218"/>
                    </a:lnTo>
                    <a:lnTo>
                      <a:pt x="216" y="1212"/>
                    </a:lnTo>
                    <a:lnTo>
                      <a:pt x="204" y="1206"/>
                    </a:lnTo>
                    <a:lnTo>
                      <a:pt x="198" y="1206"/>
                    </a:lnTo>
                    <a:lnTo>
                      <a:pt x="186" y="1200"/>
                    </a:lnTo>
                    <a:lnTo>
                      <a:pt x="174" y="1194"/>
                    </a:lnTo>
                    <a:lnTo>
                      <a:pt x="168" y="1188"/>
                    </a:lnTo>
                    <a:lnTo>
                      <a:pt x="156" y="1182"/>
                    </a:lnTo>
                    <a:lnTo>
                      <a:pt x="150" y="1182"/>
                    </a:lnTo>
                    <a:lnTo>
                      <a:pt x="138" y="1176"/>
                    </a:lnTo>
                    <a:lnTo>
                      <a:pt x="126" y="1170"/>
                    </a:lnTo>
                    <a:lnTo>
                      <a:pt x="120" y="1164"/>
                    </a:lnTo>
                    <a:lnTo>
                      <a:pt x="108" y="1158"/>
                    </a:lnTo>
                    <a:lnTo>
                      <a:pt x="102" y="1152"/>
                    </a:lnTo>
                    <a:lnTo>
                      <a:pt x="90" y="1146"/>
                    </a:lnTo>
                    <a:lnTo>
                      <a:pt x="84" y="1140"/>
                    </a:lnTo>
                    <a:lnTo>
                      <a:pt x="72" y="1134"/>
                    </a:lnTo>
                    <a:lnTo>
                      <a:pt x="66" y="1122"/>
                    </a:lnTo>
                    <a:lnTo>
                      <a:pt x="54" y="1116"/>
                    </a:lnTo>
                    <a:lnTo>
                      <a:pt x="48" y="1110"/>
                    </a:lnTo>
                    <a:lnTo>
                      <a:pt x="42" y="1104"/>
                    </a:lnTo>
                    <a:lnTo>
                      <a:pt x="30" y="1098"/>
                    </a:lnTo>
                    <a:lnTo>
                      <a:pt x="24" y="1092"/>
                    </a:lnTo>
                    <a:lnTo>
                      <a:pt x="18" y="1080"/>
                    </a:lnTo>
                    <a:lnTo>
                      <a:pt x="6" y="1074"/>
                    </a:lnTo>
                    <a:lnTo>
                      <a:pt x="0" y="1068"/>
                    </a:lnTo>
                    <a:lnTo>
                      <a:pt x="222" y="846"/>
                    </a:lnTo>
                    <a:lnTo>
                      <a:pt x="228" y="852"/>
                    </a:lnTo>
                    <a:lnTo>
                      <a:pt x="234" y="852"/>
                    </a:lnTo>
                    <a:lnTo>
                      <a:pt x="234" y="858"/>
                    </a:lnTo>
                    <a:lnTo>
                      <a:pt x="240" y="858"/>
                    </a:lnTo>
                    <a:lnTo>
                      <a:pt x="246" y="864"/>
                    </a:lnTo>
                    <a:lnTo>
                      <a:pt x="252" y="870"/>
                    </a:lnTo>
                    <a:lnTo>
                      <a:pt x="258" y="876"/>
                    </a:lnTo>
                    <a:lnTo>
                      <a:pt x="264" y="876"/>
                    </a:lnTo>
                    <a:lnTo>
                      <a:pt x="264" y="882"/>
                    </a:lnTo>
                    <a:lnTo>
                      <a:pt x="270" y="882"/>
                    </a:lnTo>
                    <a:lnTo>
                      <a:pt x="276" y="888"/>
                    </a:lnTo>
                    <a:lnTo>
                      <a:pt x="282" y="888"/>
                    </a:lnTo>
                    <a:lnTo>
                      <a:pt x="282" y="894"/>
                    </a:lnTo>
                    <a:lnTo>
                      <a:pt x="288" y="894"/>
                    </a:lnTo>
                    <a:lnTo>
                      <a:pt x="294" y="900"/>
                    </a:lnTo>
                    <a:lnTo>
                      <a:pt x="300" y="900"/>
                    </a:lnTo>
                    <a:lnTo>
                      <a:pt x="306" y="906"/>
                    </a:lnTo>
                    <a:lnTo>
                      <a:pt x="312" y="906"/>
                    </a:lnTo>
                    <a:lnTo>
                      <a:pt x="318" y="912"/>
                    </a:lnTo>
                    <a:lnTo>
                      <a:pt x="324" y="912"/>
                    </a:lnTo>
                    <a:lnTo>
                      <a:pt x="330" y="918"/>
                    </a:lnTo>
                    <a:lnTo>
                      <a:pt x="336" y="918"/>
                    </a:lnTo>
                    <a:lnTo>
                      <a:pt x="342" y="924"/>
                    </a:lnTo>
                    <a:lnTo>
                      <a:pt x="348" y="924"/>
                    </a:lnTo>
                    <a:lnTo>
                      <a:pt x="354" y="924"/>
                    </a:lnTo>
                    <a:lnTo>
                      <a:pt x="360" y="924"/>
                    </a:lnTo>
                    <a:lnTo>
                      <a:pt x="366" y="930"/>
                    </a:lnTo>
                    <a:lnTo>
                      <a:pt x="372" y="930"/>
                    </a:lnTo>
                    <a:lnTo>
                      <a:pt x="378" y="930"/>
                    </a:lnTo>
                    <a:lnTo>
                      <a:pt x="384" y="936"/>
                    </a:lnTo>
                    <a:lnTo>
                      <a:pt x="390" y="936"/>
                    </a:lnTo>
                    <a:lnTo>
                      <a:pt x="396" y="936"/>
                    </a:lnTo>
                    <a:lnTo>
                      <a:pt x="402" y="936"/>
                    </a:lnTo>
                    <a:lnTo>
                      <a:pt x="408" y="936"/>
                    </a:lnTo>
                    <a:lnTo>
                      <a:pt x="414" y="936"/>
                    </a:lnTo>
                    <a:lnTo>
                      <a:pt x="420" y="936"/>
                    </a:lnTo>
                    <a:lnTo>
                      <a:pt x="426" y="942"/>
                    </a:lnTo>
                    <a:lnTo>
                      <a:pt x="432" y="942"/>
                    </a:lnTo>
                    <a:lnTo>
                      <a:pt x="438" y="942"/>
                    </a:lnTo>
                    <a:lnTo>
                      <a:pt x="444" y="942"/>
                    </a:lnTo>
                    <a:lnTo>
                      <a:pt x="450" y="942"/>
                    </a:lnTo>
                    <a:lnTo>
                      <a:pt x="456" y="942"/>
                    </a:lnTo>
                    <a:lnTo>
                      <a:pt x="462" y="942"/>
                    </a:lnTo>
                    <a:lnTo>
                      <a:pt x="468" y="942"/>
                    </a:lnTo>
                    <a:lnTo>
                      <a:pt x="474" y="942"/>
                    </a:lnTo>
                    <a:lnTo>
                      <a:pt x="480" y="942"/>
                    </a:lnTo>
                    <a:lnTo>
                      <a:pt x="486" y="936"/>
                    </a:lnTo>
                    <a:lnTo>
                      <a:pt x="492" y="936"/>
                    </a:lnTo>
                    <a:lnTo>
                      <a:pt x="498" y="936"/>
                    </a:lnTo>
                    <a:lnTo>
                      <a:pt x="504" y="936"/>
                    </a:lnTo>
                    <a:lnTo>
                      <a:pt x="510" y="936"/>
                    </a:lnTo>
                    <a:lnTo>
                      <a:pt x="516" y="936"/>
                    </a:lnTo>
                    <a:lnTo>
                      <a:pt x="522" y="930"/>
                    </a:lnTo>
                    <a:lnTo>
                      <a:pt x="528" y="930"/>
                    </a:lnTo>
                    <a:lnTo>
                      <a:pt x="534" y="930"/>
                    </a:lnTo>
                    <a:lnTo>
                      <a:pt x="540" y="930"/>
                    </a:lnTo>
                    <a:lnTo>
                      <a:pt x="546" y="924"/>
                    </a:lnTo>
                    <a:lnTo>
                      <a:pt x="552" y="924"/>
                    </a:lnTo>
                    <a:lnTo>
                      <a:pt x="558" y="924"/>
                    </a:lnTo>
                    <a:lnTo>
                      <a:pt x="564" y="918"/>
                    </a:lnTo>
                    <a:lnTo>
                      <a:pt x="570" y="918"/>
                    </a:lnTo>
                    <a:lnTo>
                      <a:pt x="576" y="918"/>
                    </a:lnTo>
                    <a:lnTo>
                      <a:pt x="582" y="912"/>
                    </a:lnTo>
                    <a:lnTo>
                      <a:pt x="588" y="906"/>
                    </a:lnTo>
                    <a:lnTo>
                      <a:pt x="594" y="906"/>
                    </a:lnTo>
                    <a:lnTo>
                      <a:pt x="600" y="906"/>
                    </a:lnTo>
                    <a:lnTo>
                      <a:pt x="606" y="900"/>
                    </a:lnTo>
                    <a:lnTo>
                      <a:pt x="612" y="900"/>
                    </a:lnTo>
                    <a:lnTo>
                      <a:pt x="612" y="894"/>
                    </a:lnTo>
                    <a:lnTo>
                      <a:pt x="618" y="894"/>
                    </a:lnTo>
                    <a:lnTo>
                      <a:pt x="624" y="888"/>
                    </a:lnTo>
                    <a:lnTo>
                      <a:pt x="630" y="888"/>
                    </a:lnTo>
                    <a:lnTo>
                      <a:pt x="630" y="882"/>
                    </a:lnTo>
                    <a:lnTo>
                      <a:pt x="636" y="882"/>
                    </a:lnTo>
                    <a:lnTo>
                      <a:pt x="642" y="876"/>
                    </a:lnTo>
                    <a:lnTo>
                      <a:pt x="648" y="876"/>
                    </a:lnTo>
                    <a:lnTo>
                      <a:pt x="648" y="870"/>
                    </a:lnTo>
                    <a:lnTo>
                      <a:pt x="654" y="870"/>
                    </a:lnTo>
                    <a:lnTo>
                      <a:pt x="660" y="864"/>
                    </a:lnTo>
                    <a:lnTo>
                      <a:pt x="660" y="858"/>
                    </a:lnTo>
                    <a:lnTo>
                      <a:pt x="666" y="858"/>
                    </a:lnTo>
                    <a:lnTo>
                      <a:pt x="672" y="852"/>
                    </a:lnTo>
                    <a:lnTo>
                      <a:pt x="678" y="846"/>
                    </a:lnTo>
                    <a:lnTo>
                      <a:pt x="684" y="840"/>
                    </a:lnTo>
                    <a:lnTo>
                      <a:pt x="690" y="834"/>
                    </a:lnTo>
                    <a:lnTo>
                      <a:pt x="690" y="828"/>
                    </a:lnTo>
                    <a:lnTo>
                      <a:pt x="696" y="822"/>
                    </a:lnTo>
                    <a:lnTo>
                      <a:pt x="702" y="822"/>
                    </a:lnTo>
                    <a:lnTo>
                      <a:pt x="702" y="816"/>
                    </a:lnTo>
                    <a:lnTo>
                      <a:pt x="708" y="810"/>
                    </a:lnTo>
                    <a:lnTo>
                      <a:pt x="714" y="804"/>
                    </a:lnTo>
                    <a:lnTo>
                      <a:pt x="714" y="798"/>
                    </a:lnTo>
                    <a:lnTo>
                      <a:pt x="720" y="792"/>
                    </a:lnTo>
                    <a:lnTo>
                      <a:pt x="726" y="786"/>
                    </a:lnTo>
                    <a:lnTo>
                      <a:pt x="726" y="780"/>
                    </a:lnTo>
                    <a:lnTo>
                      <a:pt x="732" y="774"/>
                    </a:lnTo>
                    <a:lnTo>
                      <a:pt x="732" y="768"/>
                    </a:lnTo>
                    <a:lnTo>
                      <a:pt x="738" y="762"/>
                    </a:lnTo>
                    <a:lnTo>
                      <a:pt x="738" y="756"/>
                    </a:lnTo>
                    <a:lnTo>
                      <a:pt x="744" y="750"/>
                    </a:lnTo>
                    <a:lnTo>
                      <a:pt x="744" y="744"/>
                    </a:lnTo>
                    <a:lnTo>
                      <a:pt x="744" y="738"/>
                    </a:lnTo>
                    <a:lnTo>
                      <a:pt x="750" y="738"/>
                    </a:lnTo>
                    <a:lnTo>
                      <a:pt x="750" y="732"/>
                    </a:lnTo>
                    <a:lnTo>
                      <a:pt x="750" y="726"/>
                    </a:lnTo>
                    <a:lnTo>
                      <a:pt x="750" y="720"/>
                    </a:lnTo>
                    <a:lnTo>
                      <a:pt x="756" y="714"/>
                    </a:lnTo>
                    <a:lnTo>
                      <a:pt x="756" y="708"/>
                    </a:lnTo>
                    <a:lnTo>
                      <a:pt x="756" y="702"/>
                    </a:lnTo>
                    <a:lnTo>
                      <a:pt x="756" y="696"/>
                    </a:lnTo>
                    <a:lnTo>
                      <a:pt x="762" y="696"/>
                    </a:lnTo>
                    <a:lnTo>
                      <a:pt x="762" y="690"/>
                    </a:lnTo>
                    <a:lnTo>
                      <a:pt x="762" y="684"/>
                    </a:lnTo>
                    <a:lnTo>
                      <a:pt x="762" y="678"/>
                    </a:lnTo>
                    <a:lnTo>
                      <a:pt x="762" y="672"/>
                    </a:lnTo>
                    <a:lnTo>
                      <a:pt x="762" y="666"/>
                    </a:lnTo>
                    <a:lnTo>
                      <a:pt x="762" y="660"/>
                    </a:lnTo>
                    <a:lnTo>
                      <a:pt x="768" y="654"/>
                    </a:lnTo>
                    <a:lnTo>
                      <a:pt x="768" y="648"/>
                    </a:lnTo>
                    <a:lnTo>
                      <a:pt x="768" y="642"/>
                    </a:lnTo>
                    <a:lnTo>
                      <a:pt x="768" y="636"/>
                    </a:lnTo>
                    <a:lnTo>
                      <a:pt x="768" y="630"/>
                    </a:lnTo>
                    <a:lnTo>
                      <a:pt x="768" y="624"/>
                    </a:lnTo>
                    <a:lnTo>
                      <a:pt x="768" y="618"/>
                    </a:lnTo>
                    <a:lnTo>
                      <a:pt x="768" y="612"/>
                    </a:lnTo>
                    <a:lnTo>
                      <a:pt x="768" y="606"/>
                    </a:lnTo>
                    <a:lnTo>
                      <a:pt x="768" y="600"/>
                    </a:lnTo>
                    <a:lnTo>
                      <a:pt x="762" y="594"/>
                    </a:lnTo>
                    <a:lnTo>
                      <a:pt x="762" y="588"/>
                    </a:lnTo>
                    <a:lnTo>
                      <a:pt x="762" y="582"/>
                    </a:lnTo>
                    <a:lnTo>
                      <a:pt x="762" y="576"/>
                    </a:lnTo>
                    <a:lnTo>
                      <a:pt x="762" y="570"/>
                    </a:lnTo>
                    <a:lnTo>
                      <a:pt x="762" y="564"/>
                    </a:lnTo>
                    <a:lnTo>
                      <a:pt x="756" y="558"/>
                    </a:lnTo>
                    <a:lnTo>
                      <a:pt x="756" y="552"/>
                    </a:lnTo>
                    <a:lnTo>
                      <a:pt x="756" y="546"/>
                    </a:lnTo>
                    <a:lnTo>
                      <a:pt x="756" y="540"/>
                    </a:lnTo>
                    <a:lnTo>
                      <a:pt x="750" y="540"/>
                    </a:lnTo>
                    <a:lnTo>
                      <a:pt x="750" y="534"/>
                    </a:lnTo>
                    <a:lnTo>
                      <a:pt x="750" y="528"/>
                    </a:lnTo>
                    <a:lnTo>
                      <a:pt x="750" y="522"/>
                    </a:lnTo>
                    <a:lnTo>
                      <a:pt x="744" y="516"/>
                    </a:lnTo>
                    <a:lnTo>
                      <a:pt x="744" y="510"/>
                    </a:lnTo>
                    <a:lnTo>
                      <a:pt x="744" y="504"/>
                    </a:lnTo>
                    <a:lnTo>
                      <a:pt x="738" y="504"/>
                    </a:lnTo>
                    <a:lnTo>
                      <a:pt x="738" y="498"/>
                    </a:lnTo>
                    <a:lnTo>
                      <a:pt x="732" y="492"/>
                    </a:lnTo>
                    <a:lnTo>
                      <a:pt x="732" y="486"/>
                    </a:lnTo>
                    <a:lnTo>
                      <a:pt x="732" y="480"/>
                    </a:lnTo>
                    <a:lnTo>
                      <a:pt x="726" y="480"/>
                    </a:lnTo>
                    <a:lnTo>
                      <a:pt x="726" y="474"/>
                    </a:lnTo>
                    <a:lnTo>
                      <a:pt x="720" y="468"/>
                    </a:lnTo>
                    <a:lnTo>
                      <a:pt x="720" y="462"/>
                    </a:lnTo>
                    <a:lnTo>
                      <a:pt x="714" y="456"/>
                    </a:lnTo>
                    <a:lnTo>
                      <a:pt x="708" y="450"/>
                    </a:lnTo>
                    <a:lnTo>
                      <a:pt x="708" y="444"/>
                    </a:lnTo>
                    <a:lnTo>
                      <a:pt x="702" y="438"/>
                    </a:lnTo>
                    <a:lnTo>
                      <a:pt x="696" y="432"/>
                    </a:lnTo>
                    <a:lnTo>
                      <a:pt x="690" y="426"/>
                    </a:lnTo>
                    <a:lnTo>
                      <a:pt x="684" y="420"/>
                    </a:lnTo>
                    <a:lnTo>
                      <a:pt x="684" y="414"/>
                    </a:lnTo>
                    <a:lnTo>
                      <a:pt x="678" y="414"/>
                    </a:lnTo>
                    <a:lnTo>
                      <a:pt x="672" y="408"/>
                    </a:lnTo>
                    <a:lnTo>
                      <a:pt x="672" y="402"/>
                    </a:lnTo>
                    <a:lnTo>
                      <a:pt x="666" y="402"/>
                    </a:lnTo>
                    <a:lnTo>
                      <a:pt x="660" y="396"/>
                    </a:lnTo>
                    <a:lnTo>
                      <a:pt x="654" y="390"/>
                    </a:lnTo>
                    <a:lnTo>
                      <a:pt x="648" y="384"/>
                    </a:lnTo>
                    <a:lnTo>
                      <a:pt x="642" y="378"/>
                    </a:lnTo>
                    <a:lnTo>
                      <a:pt x="636" y="378"/>
                    </a:lnTo>
                    <a:lnTo>
                      <a:pt x="630" y="372"/>
                    </a:lnTo>
                    <a:lnTo>
                      <a:pt x="624" y="366"/>
                    </a:lnTo>
                    <a:lnTo>
                      <a:pt x="618" y="366"/>
                    </a:lnTo>
                    <a:lnTo>
                      <a:pt x="612" y="360"/>
                    </a:lnTo>
                    <a:lnTo>
                      <a:pt x="606" y="354"/>
                    </a:lnTo>
                    <a:lnTo>
                      <a:pt x="600" y="354"/>
                    </a:lnTo>
                    <a:lnTo>
                      <a:pt x="594" y="348"/>
                    </a:lnTo>
                    <a:lnTo>
                      <a:pt x="588" y="348"/>
                    </a:lnTo>
                    <a:lnTo>
                      <a:pt x="582" y="348"/>
                    </a:lnTo>
                    <a:lnTo>
                      <a:pt x="582" y="342"/>
                    </a:lnTo>
                    <a:lnTo>
                      <a:pt x="576" y="342"/>
                    </a:lnTo>
                    <a:lnTo>
                      <a:pt x="570" y="342"/>
                    </a:lnTo>
                    <a:lnTo>
                      <a:pt x="564" y="336"/>
                    </a:lnTo>
                    <a:lnTo>
                      <a:pt x="558" y="336"/>
                    </a:lnTo>
                    <a:lnTo>
                      <a:pt x="552" y="336"/>
                    </a:lnTo>
                    <a:lnTo>
                      <a:pt x="546" y="330"/>
                    </a:lnTo>
                    <a:lnTo>
                      <a:pt x="540" y="330"/>
                    </a:lnTo>
                    <a:lnTo>
                      <a:pt x="534" y="330"/>
                    </a:lnTo>
                    <a:lnTo>
                      <a:pt x="528" y="324"/>
                    </a:lnTo>
                    <a:lnTo>
                      <a:pt x="522" y="324"/>
                    </a:lnTo>
                    <a:lnTo>
                      <a:pt x="516" y="324"/>
                    </a:lnTo>
                    <a:lnTo>
                      <a:pt x="510" y="324"/>
                    </a:lnTo>
                    <a:lnTo>
                      <a:pt x="504" y="324"/>
                    </a:lnTo>
                    <a:lnTo>
                      <a:pt x="498" y="318"/>
                    </a:lnTo>
                    <a:lnTo>
                      <a:pt x="492" y="318"/>
                    </a:lnTo>
                    <a:lnTo>
                      <a:pt x="486" y="318"/>
                    </a:lnTo>
                    <a:lnTo>
                      <a:pt x="480" y="318"/>
                    </a:lnTo>
                    <a:lnTo>
                      <a:pt x="474" y="318"/>
                    </a:lnTo>
                    <a:lnTo>
                      <a:pt x="468" y="318"/>
                    </a:lnTo>
                    <a:lnTo>
                      <a:pt x="462" y="318"/>
                    </a:lnTo>
                    <a:lnTo>
                      <a:pt x="456" y="318"/>
                    </a:lnTo>
                    <a:lnTo>
                      <a:pt x="450" y="318"/>
                    </a:lnTo>
                    <a:lnTo>
                      <a:pt x="45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5414"/>
                  </a:gs>
                  <a:gs pos="100000">
                    <a:srgbClr val="65270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rot="584400">
                <a:off x="487080" y="3572640"/>
                <a:ext cx="909000" cy="137088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396" h="558">
                    <a:moveTo>
                      <a:pt x="174" y="558"/>
                    </a:moveTo>
                    <a:lnTo>
                      <a:pt x="168" y="546"/>
                    </a:lnTo>
                    <a:lnTo>
                      <a:pt x="162" y="540"/>
                    </a:lnTo>
                    <a:lnTo>
                      <a:pt x="150" y="534"/>
                    </a:lnTo>
                    <a:lnTo>
                      <a:pt x="144" y="522"/>
                    </a:lnTo>
                    <a:lnTo>
                      <a:pt x="138" y="516"/>
                    </a:lnTo>
                    <a:lnTo>
                      <a:pt x="132" y="504"/>
                    </a:lnTo>
                    <a:lnTo>
                      <a:pt x="126" y="498"/>
                    </a:lnTo>
                    <a:lnTo>
                      <a:pt x="120" y="486"/>
                    </a:lnTo>
                    <a:lnTo>
                      <a:pt x="114" y="480"/>
                    </a:lnTo>
                    <a:lnTo>
                      <a:pt x="108" y="468"/>
                    </a:lnTo>
                    <a:lnTo>
                      <a:pt x="102" y="462"/>
                    </a:lnTo>
                    <a:lnTo>
                      <a:pt x="96" y="450"/>
                    </a:lnTo>
                    <a:lnTo>
                      <a:pt x="90" y="444"/>
                    </a:lnTo>
                    <a:lnTo>
                      <a:pt x="84" y="432"/>
                    </a:lnTo>
                    <a:lnTo>
                      <a:pt x="78" y="426"/>
                    </a:lnTo>
                    <a:lnTo>
                      <a:pt x="72" y="414"/>
                    </a:lnTo>
                    <a:lnTo>
                      <a:pt x="66" y="402"/>
                    </a:lnTo>
                    <a:lnTo>
                      <a:pt x="60" y="396"/>
                    </a:lnTo>
                    <a:lnTo>
                      <a:pt x="60" y="384"/>
                    </a:lnTo>
                    <a:lnTo>
                      <a:pt x="54" y="372"/>
                    </a:lnTo>
                    <a:lnTo>
                      <a:pt x="48" y="366"/>
                    </a:lnTo>
                    <a:lnTo>
                      <a:pt x="42" y="354"/>
                    </a:lnTo>
                    <a:lnTo>
                      <a:pt x="42" y="342"/>
                    </a:lnTo>
                    <a:lnTo>
                      <a:pt x="36" y="336"/>
                    </a:lnTo>
                    <a:lnTo>
                      <a:pt x="30" y="324"/>
                    </a:lnTo>
                    <a:lnTo>
                      <a:pt x="30" y="312"/>
                    </a:lnTo>
                    <a:lnTo>
                      <a:pt x="24" y="300"/>
                    </a:lnTo>
                    <a:lnTo>
                      <a:pt x="24" y="294"/>
                    </a:lnTo>
                    <a:lnTo>
                      <a:pt x="18" y="282"/>
                    </a:lnTo>
                    <a:lnTo>
                      <a:pt x="18" y="270"/>
                    </a:lnTo>
                    <a:lnTo>
                      <a:pt x="12" y="258"/>
                    </a:lnTo>
                    <a:lnTo>
                      <a:pt x="12" y="252"/>
                    </a:lnTo>
                    <a:lnTo>
                      <a:pt x="12" y="240"/>
                    </a:lnTo>
                    <a:lnTo>
                      <a:pt x="6" y="228"/>
                    </a:lnTo>
                    <a:lnTo>
                      <a:pt x="6" y="216"/>
                    </a:lnTo>
                    <a:lnTo>
                      <a:pt x="6" y="204"/>
                    </a:lnTo>
                    <a:lnTo>
                      <a:pt x="6" y="198"/>
                    </a:lnTo>
                    <a:lnTo>
                      <a:pt x="0" y="186"/>
                    </a:lnTo>
                    <a:lnTo>
                      <a:pt x="0" y="174"/>
                    </a:lnTo>
                    <a:lnTo>
                      <a:pt x="0" y="162"/>
                    </a:lnTo>
                    <a:lnTo>
                      <a:pt x="0" y="150"/>
                    </a:lnTo>
                    <a:lnTo>
                      <a:pt x="0" y="138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0" y="108"/>
                    </a:lnTo>
                    <a:lnTo>
                      <a:pt x="0" y="96"/>
                    </a:lnTo>
                    <a:lnTo>
                      <a:pt x="0" y="84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318" y="60"/>
                    </a:lnTo>
                    <a:lnTo>
                      <a:pt x="318" y="66"/>
                    </a:lnTo>
                    <a:lnTo>
                      <a:pt x="312" y="72"/>
                    </a:lnTo>
                    <a:lnTo>
                      <a:pt x="312" y="78"/>
                    </a:lnTo>
                    <a:lnTo>
                      <a:pt x="312" y="84"/>
                    </a:lnTo>
                    <a:lnTo>
                      <a:pt x="312" y="90"/>
                    </a:lnTo>
                    <a:lnTo>
                      <a:pt x="312" y="96"/>
                    </a:lnTo>
                    <a:lnTo>
                      <a:pt x="312" y="102"/>
                    </a:lnTo>
                    <a:lnTo>
                      <a:pt x="312" y="108"/>
                    </a:lnTo>
                    <a:lnTo>
                      <a:pt x="312" y="114"/>
                    </a:lnTo>
                    <a:lnTo>
                      <a:pt x="312" y="120"/>
                    </a:lnTo>
                    <a:lnTo>
                      <a:pt x="312" y="126"/>
                    </a:lnTo>
                    <a:lnTo>
                      <a:pt x="312" y="132"/>
                    </a:lnTo>
                    <a:lnTo>
                      <a:pt x="312" y="138"/>
                    </a:lnTo>
                    <a:lnTo>
                      <a:pt x="312" y="144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2"/>
                    </a:lnTo>
                    <a:lnTo>
                      <a:pt x="312" y="168"/>
                    </a:lnTo>
                    <a:lnTo>
                      <a:pt x="318" y="174"/>
                    </a:lnTo>
                    <a:lnTo>
                      <a:pt x="318" y="180"/>
                    </a:lnTo>
                    <a:lnTo>
                      <a:pt x="318" y="186"/>
                    </a:lnTo>
                    <a:lnTo>
                      <a:pt x="318" y="192"/>
                    </a:lnTo>
                    <a:lnTo>
                      <a:pt x="324" y="198"/>
                    </a:lnTo>
                    <a:lnTo>
                      <a:pt x="324" y="204"/>
                    </a:lnTo>
                    <a:lnTo>
                      <a:pt x="324" y="210"/>
                    </a:lnTo>
                    <a:lnTo>
                      <a:pt x="324" y="216"/>
                    </a:lnTo>
                    <a:lnTo>
                      <a:pt x="330" y="222"/>
                    </a:lnTo>
                    <a:lnTo>
                      <a:pt x="330" y="228"/>
                    </a:lnTo>
                    <a:lnTo>
                      <a:pt x="336" y="234"/>
                    </a:lnTo>
                    <a:lnTo>
                      <a:pt x="336" y="240"/>
                    </a:lnTo>
                    <a:lnTo>
                      <a:pt x="336" y="246"/>
                    </a:lnTo>
                    <a:lnTo>
                      <a:pt x="342" y="252"/>
                    </a:lnTo>
                    <a:lnTo>
                      <a:pt x="342" y="258"/>
                    </a:lnTo>
                    <a:lnTo>
                      <a:pt x="348" y="264"/>
                    </a:lnTo>
                    <a:lnTo>
                      <a:pt x="348" y="270"/>
                    </a:lnTo>
                    <a:lnTo>
                      <a:pt x="354" y="276"/>
                    </a:lnTo>
                    <a:lnTo>
                      <a:pt x="354" y="282"/>
                    </a:lnTo>
                    <a:lnTo>
                      <a:pt x="360" y="282"/>
                    </a:lnTo>
                    <a:lnTo>
                      <a:pt x="360" y="288"/>
                    </a:lnTo>
                    <a:lnTo>
                      <a:pt x="366" y="294"/>
                    </a:lnTo>
                    <a:lnTo>
                      <a:pt x="366" y="300"/>
                    </a:lnTo>
                    <a:lnTo>
                      <a:pt x="372" y="300"/>
                    </a:lnTo>
                    <a:lnTo>
                      <a:pt x="372" y="306"/>
                    </a:lnTo>
                    <a:lnTo>
                      <a:pt x="378" y="312"/>
                    </a:lnTo>
                    <a:lnTo>
                      <a:pt x="384" y="318"/>
                    </a:lnTo>
                    <a:lnTo>
                      <a:pt x="390" y="324"/>
                    </a:lnTo>
                    <a:lnTo>
                      <a:pt x="390" y="330"/>
                    </a:lnTo>
                    <a:lnTo>
                      <a:pt x="396" y="330"/>
                    </a:lnTo>
                    <a:lnTo>
                      <a:pt x="396" y="336"/>
                    </a:lnTo>
                    <a:lnTo>
                      <a:pt x="174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 rot="584400">
                <a:off x="720000" y="2384280"/>
                <a:ext cx="1405080" cy="1400400"/>
              </a:xfrm>
              <a:custGeom>
                <a:avLst/>
                <a:gdLst>
                  <a:gd name="textAreaLeft" fmla="*/ 0 w 1405080"/>
                  <a:gd name="textAreaRight" fmla="*/ 1405440 w 1405080"/>
                  <a:gd name="textAreaTop" fmla="*/ 0 h 1400400"/>
                  <a:gd name="textAreaBottom" fmla="*/ 1400760 h 1400400"/>
                </a:gdLst>
                <a:ahLst/>
                <a:rect l="textAreaLeft" t="textAreaTop" r="textAreaRight" b="textAreaBottom"/>
                <a:pathLst>
                  <a:path w="612" h="570">
                    <a:moveTo>
                      <a:pt x="0" y="510"/>
                    </a:moveTo>
                    <a:lnTo>
                      <a:pt x="0" y="498"/>
                    </a:lnTo>
                    <a:lnTo>
                      <a:pt x="0" y="486"/>
                    </a:lnTo>
                    <a:lnTo>
                      <a:pt x="6" y="474"/>
                    </a:lnTo>
                    <a:lnTo>
                      <a:pt x="6" y="468"/>
                    </a:lnTo>
                    <a:lnTo>
                      <a:pt x="12" y="456"/>
                    </a:lnTo>
                    <a:lnTo>
                      <a:pt x="12" y="444"/>
                    </a:lnTo>
                    <a:lnTo>
                      <a:pt x="18" y="432"/>
                    </a:lnTo>
                    <a:lnTo>
                      <a:pt x="18" y="426"/>
                    </a:lnTo>
                    <a:lnTo>
                      <a:pt x="24" y="414"/>
                    </a:lnTo>
                    <a:lnTo>
                      <a:pt x="30" y="402"/>
                    </a:lnTo>
                    <a:lnTo>
                      <a:pt x="30" y="390"/>
                    </a:lnTo>
                    <a:lnTo>
                      <a:pt x="36" y="384"/>
                    </a:lnTo>
                    <a:lnTo>
                      <a:pt x="42" y="372"/>
                    </a:lnTo>
                    <a:lnTo>
                      <a:pt x="48" y="360"/>
                    </a:lnTo>
                    <a:lnTo>
                      <a:pt x="48" y="354"/>
                    </a:lnTo>
                    <a:lnTo>
                      <a:pt x="54" y="342"/>
                    </a:lnTo>
                    <a:lnTo>
                      <a:pt x="60" y="330"/>
                    </a:lnTo>
                    <a:lnTo>
                      <a:pt x="66" y="324"/>
                    </a:lnTo>
                    <a:lnTo>
                      <a:pt x="72" y="312"/>
                    </a:lnTo>
                    <a:lnTo>
                      <a:pt x="78" y="306"/>
                    </a:lnTo>
                    <a:lnTo>
                      <a:pt x="84" y="294"/>
                    </a:lnTo>
                    <a:lnTo>
                      <a:pt x="90" y="288"/>
                    </a:lnTo>
                    <a:lnTo>
                      <a:pt x="96" y="276"/>
                    </a:lnTo>
                    <a:lnTo>
                      <a:pt x="102" y="270"/>
                    </a:lnTo>
                    <a:lnTo>
                      <a:pt x="108" y="258"/>
                    </a:lnTo>
                    <a:lnTo>
                      <a:pt x="114" y="252"/>
                    </a:lnTo>
                    <a:lnTo>
                      <a:pt x="120" y="240"/>
                    </a:lnTo>
                    <a:lnTo>
                      <a:pt x="126" y="234"/>
                    </a:lnTo>
                    <a:lnTo>
                      <a:pt x="132" y="222"/>
                    </a:lnTo>
                    <a:lnTo>
                      <a:pt x="138" y="216"/>
                    </a:lnTo>
                    <a:lnTo>
                      <a:pt x="150" y="204"/>
                    </a:lnTo>
                    <a:lnTo>
                      <a:pt x="156" y="198"/>
                    </a:lnTo>
                    <a:lnTo>
                      <a:pt x="162" y="192"/>
                    </a:lnTo>
                    <a:lnTo>
                      <a:pt x="168" y="186"/>
                    </a:lnTo>
                    <a:lnTo>
                      <a:pt x="180" y="174"/>
                    </a:lnTo>
                    <a:lnTo>
                      <a:pt x="186" y="168"/>
                    </a:lnTo>
                    <a:lnTo>
                      <a:pt x="192" y="162"/>
                    </a:lnTo>
                    <a:lnTo>
                      <a:pt x="204" y="156"/>
                    </a:lnTo>
                    <a:lnTo>
                      <a:pt x="210" y="144"/>
                    </a:lnTo>
                    <a:lnTo>
                      <a:pt x="216" y="138"/>
                    </a:lnTo>
                    <a:lnTo>
                      <a:pt x="228" y="132"/>
                    </a:lnTo>
                    <a:lnTo>
                      <a:pt x="234" y="126"/>
                    </a:lnTo>
                    <a:lnTo>
                      <a:pt x="246" y="120"/>
                    </a:lnTo>
                    <a:lnTo>
                      <a:pt x="252" y="114"/>
                    </a:lnTo>
                    <a:lnTo>
                      <a:pt x="264" y="108"/>
                    </a:lnTo>
                    <a:lnTo>
                      <a:pt x="270" y="102"/>
                    </a:lnTo>
                    <a:lnTo>
                      <a:pt x="282" y="96"/>
                    </a:lnTo>
                    <a:lnTo>
                      <a:pt x="288" y="90"/>
                    </a:lnTo>
                    <a:lnTo>
                      <a:pt x="300" y="84"/>
                    </a:lnTo>
                    <a:lnTo>
                      <a:pt x="312" y="78"/>
                    </a:lnTo>
                    <a:lnTo>
                      <a:pt x="318" y="72"/>
                    </a:lnTo>
                    <a:lnTo>
                      <a:pt x="330" y="66"/>
                    </a:lnTo>
                    <a:lnTo>
                      <a:pt x="336" y="60"/>
                    </a:lnTo>
                    <a:lnTo>
                      <a:pt x="348" y="60"/>
                    </a:lnTo>
                    <a:lnTo>
                      <a:pt x="360" y="54"/>
                    </a:lnTo>
                    <a:lnTo>
                      <a:pt x="366" y="48"/>
                    </a:lnTo>
                    <a:lnTo>
                      <a:pt x="378" y="42"/>
                    </a:lnTo>
                    <a:lnTo>
                      <a:pt x="390" y="42"/>
                    </a:lnTo>
                    <a:lnTo>
                      <a:pt x="402" y="36"/>
                    </a:lnTo>
                    <a:lnTo>
                      <a:pt x="408" y="30"/>
                    </a:lnTo>
                    <a:lnTo>
                      <a:pt x="420" y="30"/>
                    </a:lnTo>
                    <a:lnTo>
                      <a:pt x="432" y="24"/>
                    </a:lnTo>
                    <a:lnTo>
                      <a:pt x="438" y="24"/>
                    </a:lnTo>
                    <a:lnTo>
                      <a:pt x="450" y="18"/>
                    </a:lnTo>
                    <a:lnTo>
                      <a:pt x="462" y="18"/>
                    </a:lnTo>
                    <a:lnTo>
                      <a:pt x="474" y="12"/>
                    </a:lnTo>
                    <a:lnTo>
                      <a:pt x="486" y="12"/>
                    </a:lnTo>
                    <a:lnTo>
                      <a:pt x="492" y="12"/>
                    </a:lnTo>
                    <a:lnTo>
                      <a:pt x="504" y="6"/>
                    </a:lnTo>
                    <a:lnTo>
                      <a:pt x="516" y="6"/>
                    </a:lnTo>
                    <a:lnTo>
                      <a:pt x="528" y="6"/>
                    </a:lnTo>
                    <a:lnTo>
                      <a:pt x="540" y="6"/>
                    </a:lnTo>
                    <a:lnTo>
                      <a:pt x="546" y="0"/>
                    </a:lnTo>
                    <a:lnTo>
                      <a:pt x="558" y="0"/>
                    </a:lnTo>
                    <a:lnTo>
                      <a:pt x="570" y="0"/>
                    </a:lnTo>
                    <a:lnTo>
                      <a:pt x="582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12" y="0"/>
                    </a:lnTo>
                    <a:lnTo>
                      <a:pt x="612" y="318"/>
                    </a:lnTo>
                    <a:lnTo>
                      <a:pt x="606" y="318"/>
                    </a:lnTo>
                    <a:lnTo>
                      <a:pt x="600" y="318"/>
                    </a:lnTo>
                    <a:lnTo>
                      <a:pt x="594" y="318"/>
                    </a:lnTo>
                    <a:lnTo>
                      <a:pt x="588" y="318"/>
                    </a:lnTo>
                    <a:lnTo>
                      <a:pt x="582" y="318"/>
                    </a:lnTo>
                    <a:lnTo>
                      <a:pt x="576" y="318"/>
                    </a:lnTo>
                    <a:lnTo>
                      <a:pt x="570" y="318"/>
                    </a:lnTo>
                    <a:lnTo>
                      <a:pt x="564" y="318"/>
                    </a:lnTo>
                    <a:lnTo>
                      <a:pt x="558" y="324"/>
                    </a:lnTo>
                    <a:lnTo>
                      <a:pt x="552" y="324"/>
                    </a:lnTo>
                    <a:lnTo>
                      <a:pt x="546" y="324"/>
                    </a:lnTo>
                    <a:lnTo>
                      <a:pt x="540" y="324"/>
                    </a:lnTo>
                    <a:lnTo>
                      <a:pt x="534" y="330"/>
                    </a:lnTo>
                    <a:lnTo>
                      <a:pt x="528" y="330"/>
                    </a:lnTo>
                    <a:lnTo>
                      <a:pt x="522" y="330"/>
                    </a:lnTo>
                    <a:lnTo>
                      <a:pt x="516" y="330"/>
                    </a:lnTo>
                    <a:lnTo>
                      <a:pt x="510" y="336"/>
                    </a:lnTo>
                    <a:lnTo>
                      <a:pt x="504" y="336"/>
                    </a:lnTo>
                    <a:lnTo>
                      <a:pt x="498" y="336"/>
                    </a:lnTo>
                    <a:lnTo>
                      <a:pt x="498" y="342"/>
                    </a:lnTo>
                    <a:lnTo>
                      <a:pt x="492" y="342"/>
                    </a:lnTo>
                    <a:lnTo>
                      <a:pt x="486" y="342"/>
                    </a:lnTo>
                    <a:lnTo>
                      <a:pt x="480" y="348"/>
                    </a:lnTo>
                    <a:lnTo>
                      <a:pt x="474" y="348"/>
                    </a:lnTo>
                    <a:lnTo>
                      <a:pt x="468" y="348"/>
                    </a:lnTo>
                    <a:lnTo>
                      <a:pt x="468" y="354"/>
                    </a:lnTo>
                    <a:lnTo>
                      <a:pt x="462" y="354"/>
                    </a:lnTo>
                    <a:lnTo>
                      <a:pt x="456" y="360"/>
                    </a:lnTo>
                    <a:lnTo>
                      <a:pt x="450" y="360"/>
                    </a:lnTo>
                    <a:lnTo>
                      <a:pt x="444" y="366"/>
                    </a:lnTo>
                    <a:lnTo>
                      <a:pt x="438" y="372"/>
                    </a:lnTo>
                    <a:lnTo>
                      <a:pt x="432" y="372"/>
                    </a:lnTo>
                    <a:lnTo>
                      <a:pt x="426" y="378"/>
                    </a:lnTo>
                    <a:lnTo>
                      <a:pt x="420" y="384"/>
                    </a:lnTo>
                    <a:lnTo>
                      <a:pt x="414" y="384"/>
                    </a:lnTo>
                    <a:lnTo>
                      <a:pt x="414" y="390"/>
                    </a:lnTo>
                    <a:lnTo>
                      <a:pt x="408" y="396"/>
                    </a:lnTo>
                    <a:lnTo>
                      <a:pt x="402" y="396"/>
                    </a:lnTo>
                    <a:lnTo>
                      <a:pt x="396" y="402"/>
                    </a:lnTo>
                    <a:lnTo>
                      <a:pt x="390" y="408"/>
                    </a:lnTo>
                    <a:lnTo>
                      <a:pt x="384" y="414"/>
                    </a:lnTo>
                    <a:lnTo>
                      <a:pt x="378" y="420"/>
                    </a:lnTo>
                    <a:lnTo>
                      <a:pt x="378" y="426"/>
                    </a:lnTo>
                    <a:lnTo>
                      <a:pt x="372" y="426"/>
                    </a:lnTo>
                    <a:lnTo>
                      <a:pt x="366" y="432"/>
                    </a:lnTo>
                    <a:lnTo>
                      <a:pt x="366" y="438"/>
                    </a:lnTo>
                    <a:lnTo>
                      <a:pt x="360" y="438"/>
                    </a:lnTo>
                    <a:lnTo>
                      <a:pt x="360" y="444"/>
                    </a:lnTo>
                    <a:lnTo>
                      <a:pt x="354" y="450"/>
                    </a:lnTo>
                    <a:lnTo>
                      <a:pt x="354" y="456"/>
                    </a:lnTo>
                    <a:lnTo>
                      <a:pt x="348" y="456"/>
                    </a:lnTo>
                    <a:lnTo>
                      <a:pt x="348" y="462"/>
                    </a:lnTo>
                    <a:lnTo>
                      <a:pt x="342" y="468"/>
                    </a:lnTo>
                    <a:lnTo>
                      <a:pt x="342" y="474"/>
                    </a:lnTo>
                    <a:lnTo>
                      <a:pt x="336" y="480"/>
                    </a:lnTo>
                    <a:lnTo>
                      <a:pt x="330" y="486"/>
                    </a:lnTo>
                    <a:lnTo>
                      <a:pt x="330" y="492"/>
                    </a:lnTo>
                    <a:lnTo>
                      <a:pt x="330" y="498"/>
                    </a:lnTo>
                    <a:lnTo>
                      <a:pt x="324" y="504"/>
                    </a:lnTo>
                    <a:lnTo>
                      <a:pt x="324" y="510"/>
                    </a:lnTo>
                    <a:lnTo>
                      <a:pt x="318" y="516"/>
                    </a:lnTo>
                    <a:lnTo>
                      <a:pt x="318" y="522"/>
                    </a:lnTo>
                    <a:lnTo>
                      <a:pt x="318" y="528"/>
                    </a:lnTo>
                    <a:lnTo>
                      <a:pt x="312" y="534"/>
                    </a:lnTo>
                    <a:lnTo>
                      <a:pt x="312" y="540"/>
                    </a:lnTo>
                    <a:lnTo>
                      <a:pt x="312" y="546"/>
                    </a:lnTo>
                    <a:lnTo>
                      <a:pt x="306" y="552"/>
                    </a:lnTo>
                    <a:lnTo>
                      <a:pt x="306" y="558"/>
                    </a:lnTo>
                    <a:lnTo>
                      <a:pt x="306" y="564"/>
                    </a:lnTo>
                    <a:lnTo>
                      <a:pt x="306" y="57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be0d"/>
                  </a:gs>
                  <a:gs pos="100000">
                    <a:srgbClr val="745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20"/>
            <p:cNvSpPr/>
            <p:nvPr/>
          </p:nvSpPr>
          <p:spPr>
            <a:xfrm>
              <a:off x="1628280" y="3715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1693080" y="493308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598680" y="39333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3"/>
            <p:cNvSpPr/>
            <p:nvPr/>
          </p:nvSpPr>
          <p:spPr>
            <a:xfrm>
              <a:off x="1261080" y="285192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24"/>
          <p:cNvSpPr/>
          <p:nvPr/>
        </p:nvSpPr>
        <p:spPr>
          <a:xfrm>
            <a:off x="5348160" y="4206960"/>
            <a:ext cx="952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0360" indent="-360360">
              <a:lnSpc>
                <a:spcPct val="130000"/>
              </a:lnSpc>
              <a:buClr>
                <a:srgbClr val="fbbe0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30000"/>
              </a:lnSpc>
              <a:buClr>
                <a:srgbClr val="fbbe0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5348160" y="579852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0360" indent="-360360">
              <a:lnSpc>
                <a:spcPct val="100000"/>
              </a:lnSpc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6"/>
          <p:cNvGrpSpPr/>
          <p:nvPr/>
        </p:nvGrpSpPr>
        <p:grpSpPr>
          <a:xfrm>
            <a:off x="4140360" y="2579760"/>
            <a:ext cx="3816360" cy="649080"/>
            <a:chOff x="4140360" y="2579760"/>
            <a:chExt cx="3816360" cy="649080"/>
          </a:xfrm>
        </p:grpSpPr>
        <p:sp>
          <p:nvSpPr>
            <p:cNvPr id="349" name="AutoShape 27"/>
            <p:cNvSpPr/>
            <p:nvPr/>
          </p:nvSpPr>
          <p:spPr>
            <a:xfrm>
              <a:off x="4500720" y="2636640"/>
              <a:ext cx="3456000" cy="55044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db541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8"/>
            <p:cNvSpPr/>
            <p:nvPr/>
          </p:nvSpPr>
          <p:spPr>
            <a:xfrm>
              <a:off x="4140360" y="2579760"/>
              <a:ext cx="649440" cy="64908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352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353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7"/>
          <p:cNvSpPr/>
          <p:nvPr/>
        </p:nvSpPr>
        <p:spPr>
          <a:xfrm>
            <a:off x="1044720" y="5230800"/>
            <a:ext cx="7056360" cy="15112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511280"/>
              <a:gd name="textAreaBottom" fmla="*/ 539640 h 1511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636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4094640" y="5629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2556000" y="6093000"/>
            <a:ext cx="3600360" cy="431640"/>
          </a:xfrm>
          <a:prstGeom prst="rightArrow">
            <a:avLst>
              <a:gd name="adj1" fmla="val 50000"/>
              <a:gd name="adj2" fmla="val 208528"/>
            </a:avLst>
          </a:prstGeom>
          <a:gradFill rotWithShape="0">
            <a:gsLst>
              <a:gs pos="0">
                <a:srgbClr val="d9a40b">
                  <a:alpha val="0"/>
                </a:srgbClr>
              </a:gs>
              <a:gs pos="100000">
                <a:srgbClr val="fbbe0d">
                  <a:alpha val="6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2124000" y="2351160"/>
            <a:ext cx="2160720" cy="3095640"/>
            <a:chOff x="2124000" y="2351160"/>
            <a:chExt cx="2160720" cy="3095640"/>
          </a:xfrm>
        </p:grpSpPr>
        <p:sp>
          <p:nvSpPr>
            <p:cNvPr id="360" name="未知"/>
            <p:cNvSpPr/>
            <p:nvPr/>
          </p:nvSpPr>
          <p:spPr>
            <a:xfrm>
              <a:off x="2124000" y="2351160"/>
              <a:ext cx="2160720" cy="309564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3095640"/>
                <a:gd name="textAreaBottom" fmla="*/ 3096000 h 3095640"/>
              </a:gdLst>
              <a:ahLst/>
              <a:rect l="textAreaLeft" t="textAreaTop" r="textAreaRight" b="textAreaBottom"/>
              <a:pathLst>
                <a:path w="1134" h="1950">
                  <a:moveTo>
                    <a:pt x="0" y="0"/>
                  </a:moveTo>
                  <a:lnTo>
                    <a:pt x="0" y="1950"/>
                  </a:lnTo>
                  <a:lnTo>
                    <a:pt x="1134" y="1814"/>
                  </a:lnTo>
                  <a:lnTo>
                    <a:pt x="1134" y="13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400f"/>
                </a:gs>
                <a:gs pos="100000">
                  <a:srgbClr val="db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"/>
            <p:cNvSpPr/>
            <p:nvPr/>
          </p:nvSpPr>
          <p:spPr>
            <a:xfrm>
              <a:off x="2729520" y="2815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>
              <a:off x="2845800" y="357336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4"/>
          <p:cNvGrpSpPr/>
          <p:nvPr/>
        </p:nvGrpSpPr>
        <p:grpSpPr>
          <a:xfrm>
            <a:off x="4932360" y="2351160"/>
            <a:ext cx="2160720" cy="3095640"/>
            <a:chOff x="4932360" y="2351160"/>
            <a:chExt cx="2160720" cy="3095640"/>
          </a:xfrm>
        </p:grpSpPr>
        <p:sp>
          <p:nvSpPr>
            <p:cNvPr id="364" name="未知"/>
            <p:cNvSpPr/>
            <p:nvPr/>
          </p:nvSpPr>
          <p:spPr>
            <a:xfrm flipH="1">
              <a:off x="4932360" y="2351160"/>
              <a:ext cx="2160720" cy="3095640"/>
            </a:xfrm>
            <a:custGeom>
              <a:avLst/>
              <a:gdLst>
                <a:gd name="textAreaLeft" fmla="*/ 360 w 2160720"/>
                <a:gd name="textAreaRight" fmla="*/ 2161440 w 2160720"/>
                <a:gd name="textAreaTop" fmla="*/ 0 h 3095640"/>
                <a:gd name="textAreaBottom" fmla="*/ 3096000 h 3095640"/>
              </a:gdLst>
              <a:ahLst/>
              <a:rect l="textAreaLeft" t="textAreaTop" r="textAreaRight" b="textAreaBottom"/>
              <a:pathLst>
                <a:path w="1134" h="1950">
                  <a:moveTo>
                    <a:pt x="0" y="0"/>
                  </a:moveTo>
                  <a:lnTo>
                    <a:pt x="0" y="1950"/>
                  </a:lnTo>
                  <a:lnTo>
                    <a:pt x="1134" y="1814"/>
                  </a:lnTo>
                  <a:lnTo>
                    <a:pt x="1134" y="13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2f0b"/>
                </a:gs>
                <a:gs pos="100000">
                  <a:srgbClr val="db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"/>
            <p:cNvSpPr/>
            <p:nvPr/>
          </p:nvSpPr>
          <p:spPr>
            <a:xfrm>
              <a:off x="5537880" y="2815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7"/>
            <p:cNvSpPr/>
            <p:nvPr/>
          </p:nvSpPr>
          <p:spPr>
            <a:xfrm>
              <a:off x="5597280" y="357336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8"/>
            <p:cNvSpPr/>
            <p:nvPr/>
          </p:nvSpPr>
          <p:spPr>
            <a:xfrm>
              <a:off x="5076720" y="4248360"/>
              <a:ext cx="185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23880" indent="-623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48:13Z</dcterms:created>
  <dc:creator>libin2437</dc:creator>
  <dc:description/>
  <dc:language>en-US</dc:language>
  <cp:lastModifiedBy>yu wang</cp:lastModifiedBy>
  <dcterms:modified xsi:type="dcterms:W3CDTF">2015-08-12T14:50:15Z</dcterms:modified>
  <cp:revision>10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Version">
    <vt:r8>1</vt:r8>
  </property>
</Properties>
</file>