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gif" ContentType="image/gi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C14A-9E77-4747-B3FE-8D5A75C408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DF28-E723-4DA6-8032-A342F0BFBC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B9C5-A807-4B91-B9C1-6E898DADC1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8C07-4806-47EF-9181-CC3B9031A9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5CDC-AA35-4914-9CFD-00AF6AACD6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42A4-0968-4777-82D4-BB7F095F31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AF66-5169-42E8-8914-7568DE662F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01A8-A5D5-403C-96B6-EA15AC1CF0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A2B1-61F2-4F76-B890-0D5CBB23AF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32E9-7966-41A8-8A7F-137F73DE0E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3145-B523-44FF-938A-94155E5F25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3875-DF89-46C0-8390-37EEC34862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11280" y="333360"/>
            <a:ext cx="77724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162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52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162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152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8916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152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8916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1280" y="333360"/>
            <a:ext cx="77724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1280" y="2646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2" name="Picture 4" descr="neo@Ogilvy Logo_CMYK"/>
          <p:cNvPicPr/>
          <p:nvPr/>
        </p:nvPicPr>
        <p:blipFill>
          <a:blip r:embed="rId2"/>
          <a:stretch/>
        </p:blipFill>
        <p:spPr>
          <a:xfrm>
            <a:off x="8504280" y="3900600"/>
            <a:ext cx="511200" cy="28051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d20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neo@Ogilvy Logo_CMYK"/>
          <p:cNvPicPr/>
          <p:nvPr/>
        </p:nvPicPr>
        <p:blipFill>
          <a:blip r:embed="rId2"/>
          <a:stretch/>
        </p:blipFill>
        <p:spPr>
          <a:xfrm>
            <a:off x="1557360" y="2763720"/>
            <a:ext cx="6029280" cy="1096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49"/>
              </a:spcBef>
              <a:buClr>
                <a:srgbClr val="ff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6.gi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gif"/><Relationship Id="rId11" Type="http://schemas.openxmlformats.org/officeDocument/2006/relationships/image" Target="../media/image7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1987920" y="10666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中国移动网络公关总体策略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5029200" y="1941840"/>
            <a:ext cx="2666880" cy="496080"/>
          </a:xfrm>
          <a:prstGeom prst="borderCallout2">
            <a:avLst>
              <a:gd name="adj1" fmla="val 18750"/>
              <a:gd name="adj2" fmla="val -8333"/>
              <a:gd name="adj3" fmla="val 17865"/>
              <a:gd name="adj4" fmla="val -2856"/>
              <a:gd name="adj5" fmla="val 287453"/>
              <a:gd name="adj6" fmla="val -22726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细黑"/>
              </a:rPr>
              <a:t>教育</a:t>
            </a:r>
            <a:r>
              <a:rPr b="0" lang="en-US" sz="2400" spc="-1" strike="noStrike">
                <a:solidFill>
                  <a:srgbClr val="ff0000"/>
                </a:solidFill>
                <a:latin typeface="华文细黑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细黑"/>
              </a:rPr>
              <a:t>灌输</a:t>
            </a:r>
            <a:r>
              <a:rPr b="0" lang="en-US" sz="2400" spc="-1" strike="noStrike">
                <a:solidFill>
                  <a:srgbClr val="ff0000"/>
                </a:solidFill>
                <a:latin typeface="华文细黑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细黑"/>
              </a:rPr>
              <a:t>认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cxnSp>
        <p:nvCxnSpPr>
          <p:cNvPr id="169" name="AutoShape 4"/>
          <p:cNvCxnSpPr/>
          <p:nvPr/>
        </p:nvCxnSpPr>
        <p:spPr>
          <a:xfrm flipH="1" flipV="1" rot="5400000">
            <a:off x="4067640" y="3897720"/>
            <a:ext cx="527760" cy="1195920"/>
          </a:xfrm>
          <a:prstGeom prst="bentConnector4">
            <a:avLst>
              <a:gd name="adj1" fmla="val -1774"/>
              <a:gd name="adj2" fmla="val 81933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170" name="Text Box 5"/>
          <p:cNvSpPr/>
          <p:nvPr/>
        </p:nvSpPr>
        <p:spPr>
          <a:xfrm>
            <a:off x="5029200" y="4012560"/>
            <a:ext cx="3414600" cy="368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</a:rPr>
              <a:t>将多种网络传播工具综合有效利用，形成不同于传统手段的独特传播模式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157320" y="1627200"/>
            <a:ext cx="4405320" cy="4024440"/>
          </a:xfrm>
          <a:prstGeom prst="ellipse">
            <a:avLst/>
          </a:prstGeom>
          <a:gradFill rotWithShape="0">
            <a:gsLst>
              <a:gs pos="0">
                <a:srgbClr val="cf0e30"/>
              </a:gs>
              <a:gs pos="100000">
                <a:srgbClr val="60061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9720" y="2432160"/>
            <a:ext cx="96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News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新闻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04920" y="4156200"/>
            <a:ext cx="138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电子邮件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354400" y="1962000"/>
            <a:ext cx="96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专题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3581280" y="3411360"/>
            <a:ext cx="8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网络广告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482840" y="1917720"/>
            <a:ext cx="9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Blog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博客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0" y="329076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EDM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电子杂志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3033720" y="2514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BBS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网络论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1600200" y="4613400"/>
            <a:ext cx="70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IM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即时通讯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3048120" y="434340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圈群资源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987480" y="1934640"/>
            <a:ext cx="2677680" cy="356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2" name="Line 17"/>
          <p:cNvSpPr/>
          <p:nvPr/>
        </p:nvSpPr>
        <p:spPr>
          <a:xfrm flipH="1">
            <a:off x="155880" y="3147480"/>
            <a:ext cx="4361400" cy="112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3" name="Line 18"/>
          <p:cNvSpPr/>
          <p:nvPr/>
        </p:nvSpPr>
        <p:spPr>
          <a:xfrm flipH="1">
            <a:off x="981720" y="1941840"/>
            <a:ext cx="2674440" cy="348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276120" y="2883240"/>
            <a:ext cx="4166280" cy="156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2278080" y="1616040"/>
            <a:ext cx="155520" cy="412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2362320" y="4782960"/>
            <a:ext cx="95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媒体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互动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7" name="Oval 22"/>
          <p:cNvSpPr/>
          <p:nvPr/>
        </p:nvSpPr>
        <p:spPr>
          <a:xfrm>
            <a:off x="1295280" y="2666880"/>
            <a:ext cx="2086200" cy="1968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核心信息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762120" y="57150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华文细黑"/>
              </a:rPr>
              <a:t>       </a:t>
            </a:r>
            <a:r>
              <a:rPr b="1" i="1" lang="zh-CN" sz="1800" spc="-1" strike="noStrike">
                <a:solidFill>
                  <a:srgbClr val="000000"/>
                </a:solidFill>
                <a:latin typeface="华文细黑"/>
              </a:rPr>
              <a:t>结合网络营销的新趋势，运用专题、论坛、博客、电子杂志等网络传播手段，做到策划、创意、发布和网络推动四位一体的新型传播模式，为中国移动打造网络内容平台，形成全新传播渠道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奥美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360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度网络公关整合传播 </a:t>
            </a: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828800" y="28195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网络营销新趋势分析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</a:rPr>
              <a:t>中国移动网络公关总体策略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提   要 </a:t>
            </a: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H="1">
            <a:off x="761760" y="2133720"/>
            <a:ext cx="6600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362320" y="23623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背景分析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公关任务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传播内容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公关策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亮点重述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260640" indent="-260640">
              <a:spcBef>
                <a:spcPts val="601"/>
              </a:spcBef>
              <a:buClr>
                <a:srgbClr val="b2b2b2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效果预估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2286000" y="2133720"/>
            <a:ext cx="0" cy="31240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286000" y="5257800"/>
            <a:ext cx="16765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85800" y="1600200"/>
            <a:ext cx="2362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本节包括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457200" y="175248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0000"/>
                </a:solidFill>
                <a:uFillTx/>
                <a:latin typeface="华文细黑"/>
              </a:rPr>
              <a:t>网络上存在大量的中国移动负面报道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无论是竞争对手所为，还是消费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者对中国移动产品质疑，网上负面报道大量存在，品牌口碑不容乐观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0000"/>
                </a:solidFill>
                <a:uFillTx/>
                <a:latin typeface="华文细黑"/>
              </a:rPr>
              <a:t>我们的调查结果</a:t>
            </a:r>
            <a:r>
              <a:rPr b="0" lang="en-US" sz="2000" spc="-1" strike="noStrike">
                <a:solidFill>
                  <a:srgbClr val="ff0000"/>
                </a:solidFill>
                <a:latin typeface="华文细黑"/>
              </a:rPr>
              <a:t>: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大多数企业对网络宣传不够重视，除在网络新闻报道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方面有一些宣传外，几乎没有其他形式，形式单一，内容单薄，没有充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分利用互联网的互动式传播特点，没有专业团队介入操作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华文细黑"/>
              </a:rPr>
              <a:t>选准传播策略，新产品也能低投入高产出：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网络媒体日益重要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网民接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触习惯正在改变，网络公关的格局也在随之变化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7200" y="4838760"/>
            <a:ext cx="822960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结论：人无我有，人有我强。网络整合公关传播，将成为中国移动进行品牌塑造</a:t>
            </a: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市场拓展、产品宣传的暗战部队，成为中国移动最有力的宣传平台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背景分析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公关任务 </a:t>
            </a: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286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华文细黑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371600" y="2514600"/>
            <a:ext cx="49528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正面信息的海量发布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4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负面信息的淹没和消隐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4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网络媒体的良好关系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4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华文细黑"/>
              </a:rPr>
              <a:t>品牌和产品形象的全面提升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57200" y="3429000"/>
            <a:ext cx="820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99ff"/>
                </a:solidFill>
                <a:latin typeface="华文细黑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移动旗下的全球通、神州行、动感地带等具体产品和子品牌，都可以利用海量信息发布、病毒传播等方式进行推广和宣传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4952880"/>
            <a:ext cx="82090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99ff"/>
                </a:solidFill>
                <a:latin typeface="华文细黑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每月围绕中国移动，进行内容方面的传播推广，不仅能实现对网民口碑的塑造，还能与各个网站编辑、论坛版主、知名博客等建立良好的关系，变被动危机公关为主动危机防范，最大化减少负面的影响。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1676520"/>
            <a:ext cx="820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99ff"/>
                </a:solidFill>
                <a:latin typeface="华文细黑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华文细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中国移动品牌和具体产品属性是两个截然不同的概念，网络公关可以帮助中国移动打造企业形象，确立自身行业龙头的地位。 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04920" y="1676520"/>
            <a:ext cx="8381880" cy="123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62120" y="1371600"/>
            <a:ext cx="3352680" cy="532800"/>
          </a:xfrm>
          <a:prstGeom prst="rect">
            <a:avLst/>
          </a:prstGeom>
          <a:solidFill>
            <a:srgbClr val="ff99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移动品牌形象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04920" y="3429000"/>
            <a:ext cx="8381880" cy="123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762120" y="3124080"/>
            <a:ext cx="3352680" cy="532800"/>
          </a:xfrm>
          <a:prstGeom prst="rect">
            <a:avLst/>
          </a:prstGeom>
          <a:solidFill>
            <a:srgbClr val="ff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移动相关产品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304920" y="5105520"/>
            <a:ext cx="8381880" cy="123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762120" y="4800600"/>
            <a:ext cx="3352680" cy="532800"/>
          </a:xfrm>
          <a:prstGeom prst="rect">
            <a:avLst/>
          </a:prstGeom>
          <a:solidFill>
            <a:srgbClr val="ff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网络危机公关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0" y="6094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传播内容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380880" y="1668600"/>
            <a:ext cx="845820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八大手段，全面整合，迅速提升中国移动的口碑美誉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①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正面新闻发布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在门户网站和科技网站传播企业新闻，进行信息积累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②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新闻专题制作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主要门户网站专题应用，提高企业、品牌行业地位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③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论坛博客炒作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名人博客和知名写手炒作，提高可信度和传播力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④</a:t>
            </a:r>
            <a:r>
              <a:rPr b="0" lang="en-US" sz="2000" spc="-1" strike="noStrike">
                <a:solidFill>
                  <a:srgbClr val="cc0000"/>
                </a:solidFill>
                <a:latin typeface="华文细黑"/>
              </a:rPr>
              <a:t>WIKI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口碑维护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利用百度贴吧、新浪爱问等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进行口碑维护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⑤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病毒营销打造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结合产品，制作图片、视频等传播力强的网络内容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⑥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全年热点结合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如十一国庆、体育赛事、奥运等热点，借势传播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⑦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负面信息消隐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针对客户网络负面信息进行全面消隐，降低危害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⑧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网络信息监测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：对中国移动网络信息进行监控分析，每月提交报告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6094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公关策略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554040" y="201600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52600" y="342756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547560" y="4859280"/>
            <a:ext cx="799812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095480" y="1724040"/>
            <a:ext cx="709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09480" y="213372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尼尔森互联网研究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(Nielsen/NetRatings)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报告显示，中国网民最经常使用的网络功能中，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使用频率最多的就是网络新闻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 有超过三成的网民固定上网看新闻，比例为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1%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631800" y="3495600"/>
            <a:ext cx="78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选择新浪、搜狐、腾讯、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CTV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凤凰、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1CN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网等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家知名门户、新闻网站、专业网站，进行全年度新闻、软文发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布。使中国移动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拥有常年不断的网络声音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获得消费者信任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619200" y="4921200"/>
            <a:ext cx="78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结合全年热点事件或企业主题活动，在新浪、搜狐、腾讯等网站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制作大型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新闻专题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新闻专题一般放置时间长，阅览人群多，具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有很强的网络传播力。特别适合与新闻和论坛话题形成配合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0" y="5335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新闻专题发布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457200" y="198108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80960" y="34178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76280" y="484992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023840" y="1714680"/>
            <a:ext cx="709632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33520" y="213372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织各大论坛版主和网络知名写手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定期定量撰写软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发布到猫扑、天涯、西祠、西陆等主要论坛，利用公关资源进行文章保护，推荐到首页置顶或热贴排行，扩大传播效果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60520" y="3486240"/>
            <a:ext cx="78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织庞大的网络推广队员（网络哄客），将文章大量转发到各大论坛，并且组织对热点文章进行回复和评论，对文章内容给于充分的肯定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隐性而又有效地加深对中国移动的好感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33520" y="495288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每月针对门户网站子论坛、知名社区论坛、行业专业论坛等进行海量信息发布，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将全面支持网络搜索引擎的内容搜索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在最大程度上加强产品的网络认知度和好感度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0" y="5335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软文海量传播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0" y="533520"/>
            <a:ext cx="90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W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权威发布 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228600" y="1866960"/>
            <a:ext cx="8686800" cy="12571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228600" y="3348000"/>
            <a:ext cx="868680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28600" y="4800600"/>
            <a:ext cx="8686800" cy="125748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57200" y="33368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2.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代，网民习惯在百度贴吧、新浪爱问、搜狐说吧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发现问题、提出问题、解决问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而负面信息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更容易被放大和误解，因此要充分重视这个平台，增加与网民的互动，取得网民的信任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57200" y="4876920"/>
            <a:ext cx="83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网络上的意见领袖越来越专业化，其专业性的负面评价很容易受到网民的认可。充分利用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平台，在产品推出前期，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利用专业型意见领袖给予产品预热和正面引导，从初期开始打造产品口碑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57200" y="198108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是一种多人协作的写作工具。人人参与写作，知识开放式共享。代表：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百度贴吧、新浪爱问等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具有公众性、知识性的特点，需要与关键词方面结合才能创造出商业价值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3276720"/>
            <a:ext cx="6553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中国移动网络公关总体策略</a:t>
            </a:r>
            <a:endParaRPr b="1" lang="en-US" sz="40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533520" y="190512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531720" y="331632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527040" y="47480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074600" y="1612800"/>
            <a:ext cx="70963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0" y="609480"/>
            <a:ext cx="90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知名博客炒作 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84280" y="21081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据国际调查机构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Ipsos-MORI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最新调查结果显示：</a:t>
            </a:r>
            <a:r>
              <a:rPr b="0" lang="en-US" sz="2000" spc="-1" strike="noStrike">
                <a:solidFill>
                  <a:srgbClr val="ff0000"/>
                </a:solidFill>
                <a:latin typeface="华文细黑"/>
              </a:rPr>
              <a:t>24%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的人相信网络博客内容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7%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的人相信电视广告，博客内容可信度高于电视和广告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33520" y="3352680"/>
            <a:ext cx="78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分别邀请新浪和搜狐等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知名百万、千万博客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撰写文章，上传到各自博客上进行推广，优秀文章通过公关被推荐到新浪、搜狐博客首页、科技频道首页甚至门户首页，引起大众和平媒的关注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3520" y="472428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当博客的点击率达到一定数量时，它就具备了大众媒体的所有特征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甚至在互动性、参与性方面有过之而无不及，传播的影响力也更大，利用新浪、搜狐的门户平台优势，再加上百万、千万博客的意见领袖效应，将品牌影响推向高潮 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54040" y="201600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52600" y="342756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547560" y="4859280"/>
            <a:ext cx="799812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95480" y="1724040"/>
            <a:ext cx="709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09480" y="2133720"/>
            <a:ext cx="78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随着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Web2.0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的逐步发展，动画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和网络视频越来越受到网民的欢迎，在线浏览网站中，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动漫论坛所占比例为</a:t>
            </a:r>
            <a:r>
              <a:rPr b="0" lang="en-US" sz="2000" spc="-1" strike="noStrike">
                <a:solidFill>
                  <a:srgbClr val="cc0000"/>
                </a:solidFill>
                <a:latin typeface="华文细黑"/>
              </a:rPr>
              <a:t>16%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网络动漫市场规模的增长速度将会越来越快。 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609480" y="3505320"/>
            <a:ext cx="78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移动品牌的宣传，一方面要用广告、新闻、软文向网民告知，更重要的是用丰富有趣的形式进行教育和灌输。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制作上传</a:t>
            </a:r>
            <a:r>
              <a:rPr b="0" lang="en-US" sz="2000" spc="-1" strike="noStrike">
                <a:solidFill>
                  <a:srgbClr val="cc0000"/>
                </a:solidFill>
                <a:latin typeface="华文细黑"/>
              </a:rPr>
              <a:t>FLASH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动画或游戏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植入产品信息和资讯，能更好的起到传播效果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619200" y="492120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动画或网络游戏，不仅能够在线进行，还可以下载到电脑，甚至下载到手机上进行游戏和传播，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相关资讯的宣传会一直存留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具有长期性和持续性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0" y="5335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动画视频推广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554040" y="20066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52600" y="34178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47560" y="4849920"/>
            <a:ext cx="799812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1095480" y="1714680"/>
            <a:ext cx="709596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9320" y="609480"/>
            <a:ext cx="90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负面信息消隐 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33520" y="198108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负面信息消隐包括法律、政府干预、网站公关、信息淹没、黑客技术等手段。其中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信息淹没是最有效最便捷的手段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通过持续大量地发布企业正面信息，将负面信息覆盖，减少负面曝光率。实现良性循环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31800" y="3486240"/>
            <a:ext cx="78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我们同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各大网站、社区论坛、知名博客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建立了良好的合作关系，如果发现恶意攻击和诋毁企业形象的内容，通过网络公关力量，力争第一时间从网络撤稿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19200" y="491184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对于网民自发的网络言论，我们将安排专门的网络监督员，对网络文章进行回复和顶贴，</a:t>
            </a:r>
            <a:r>
              <a:rPr b="0" lang="zh-CN" sz="2000" spc="-1" strike="noStrike">
                <a:solidFill>
                  <a:srgbClr val="cc0000"/>
                </a:solidFill>
                <a:latin typeface="华文细黑"/>
              </a:rPr>
              <a:t>教育和普及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正确的企业文化和品牌知识，消除网民的误解和疑惑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554040" y="19400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52600" y="3351240"/>
            <a:ext cx="799776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547560" y="4782960"/>
            <a:ext cx="7998120" cy="1258920"/>
          </a:xfrm>
          <a:prstGeom prst="rect">
            <a:avLst/>
          </a:prstGeom>
          <a:solidFill>
            <a:srgbClr val="336699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095480" y="1647720"/>
            <a:ext cx="709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49320" y="609480"/>
            <a:ext cx="90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信息监测 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609480" y="205740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我们将对主要网络媒体进行全面信息监测，包括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门户网站、行业网站、论坛社区、个人博客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等。负责监督行业最新消息、企业竞争情报、政府决策情报等。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631800" y="3419640"/>
            <a:ext cx="78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同各大媒体建立战略合作关系，做到网络发布的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内容统一、口径统一、监测统一，打造个性化、智能化网络媒体信息服务平台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的同时，提高危机意识，增加预警机制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619200" y="484488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、网络信息监测体系由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</a:rPr>
              <a:t>专人专岗位负责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利用电话、网络等实现与企业相关人员的及时沟通。每月以打印文件的形式向企业提报信息监测报告，帮助中国移动分析行业发展动态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亮点重述 </a:t>
            </a: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04920" y="2057400"/>
            <a:ext cx="8229600" cy="1863720"/>
          </a:xfrm>
          <a:prstGeom prst="rect">
            <a:avLst/>
          </a:prstGeom>
          <a:noFill/>
          <a:ln w="0">
            <a:noFill/>
          </a:ln>
          <a:effectLst>
            <a:outerShdw dist="134955" dir="832711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80880" y="2057400"/>
            <a:ext cx="84582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利用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新闻、论坛、社区、博客、即时通讯工具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等沟通平台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通过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文章、图片、动画、视频、游戏、音乐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等多种方式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制造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网络口碑传播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效应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进行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负面信息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的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淹没和消隐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不断推动信息的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几何式扩散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just">
              <a:lnSpc>
                <a:spcPct val="13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全面提升品牌、产品</a:t>
            </a:r>
            <a:r>
              <a:rPr b="1" i="1" lang="zh-CN" sz="2400" spc="-1" strike="noStrike">
                <a:solidFill>
                  <a:srgbClr val="ff0000"/>
                </a:solidFill>
                <a:latin typeface="华文细黑"/>
              </a:rPr>
              <a:t>美誉度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273" name="Picture 6" descr="MCj01986750000[1]"/>
          <p:cNvPicPr/>
          <p:nvPr/>
        </p:nvPicPr>
        <p:blipFill>
          <a:blip r:embed="rId1"/>
          <a:stretch/>
        </p:blipFill>
        <p:spPr>
          <a:xfrm>
            <a:off x="6172200" y="4114800"/>
            <a:ext cx="1698480" cy="139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公关的决胜关键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457200" y="1600200"/>
            <a:ext cx="5616720" cy="647640"/>
            <a:chOff x="457200" y="1600200"/>
            <a:chExt cx="5616720" cy="647640"/>
          </a:xfrm>
        </p:grpSpPr>
        <p:sp>
          <p:nvSpPr>
            <p:cNvPr id="276" name="Text Box 4"/>
            <p:cNvSpPr/>
            <p:nvPr/>
          </p:nvSpPr>
          <p:spPr>
            <a:xfrm>
              <a:off x="1174680" y="1789200"/>
              <a:ext cx="48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创意策划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+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媒体发布的双核服务◥</a:t>
              </a: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77" name="Picture 5" descr="MCj02903490000[1]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52560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6"/>
          <p:cNvGrpSpPr/>
          <p:nvPr/>
        </p:nvGrpSpPr>
        <p:grpSpPr>
          <a:xfrm>
            <a:off x="380880" y="2438280"/>
            <a:ext cx="8196120" cy="916920"/>
            <a:chOff x="380880" y="2438280"/>
            <a:chExt cx="8196120" cy="916920"/>
          </a:xfrm>
        </p:grpSpPr>
        <p:sp>
          <p:nvSpPr>
            <p:cNvPr id="279" name="Text Box 7"/>
            <p:cNvSpPr/>
            <p:nvPr/>
          </p:nvSpPr>
          <p:spPr>
            <a:xfrm>
              <a:off x="2404800" y="2606760"/>
              <a:ext cx="61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跨营销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广告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公关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网络制作多领域专业团队</a:t>
              </a:r>
              <a:r>
                <a:rPr b="0" lang="zh-CN" sz="1600" spc="-1" strike="noStrike">
                  <a:solidFill>
                    <a:srgbClr val="000000"/>
                  </a:solidFill>
                  <a:latin typeface="华文细黑"/>
                </a:rPr>
                <a:t>◥</a:t>
              </a:r>
              <a:endParaRPr b="0" lang="en-US" sz="16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80" name="Picture 8" descr="MCj02996910000[1]"/>
            <p:cNvPicPr/>
            <p:nvPr/>
          </p:nvPicPr>
          <p:blipFill>
            <a:blip r:embed="rId2"/>
            <a:stretch/>
          </p:blipFill>
          <p:spPr>
            <a:xfrm>
              <a:off x="1427040" y="2519280"/>
              <a:ext cx="7174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9"/>
            <p:cNvSpPr/>
            <p:nvPr/>
          </p:nvSpPr>
          <p:spPr>
            <a:xfrm>
              <a:off x="958680" y="2438280"/>
              <a:ext cx="66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82" name="Picture 10" descr="MCj02903490000[1]"/>
            <p:cNvPicPr/>
            <p:nvPr/>
          </p:nvPicPr>
          <p:blipFill>
            <a:blip r:embed="rId3"/>
            <a:stretch/>
          </p:blipFill>
          <p:spPr>
            <a:xfrm>
              <a:off x="444240" y="2485800"/>
              <a:ext cx="5256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11"/>
            <p:cNvSpPr/>
            <p:nvPr/>
          </p:nvSpPr>
          <p:spPr>
            <a:xfrm>
              <a:off x="380880" y="2485800"/>
              <a:ext cx="652320" cy="720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284" name="Group 12"/>
          <p:cNvGrpSpPr/>
          <p:nvPr/>
        </p:nvGrpSpPr>
        <p:grpSpPr>
          <a:xfrm>
            <a:off x="380880" y="3429000"/>
            <a:ext cx="8196120" cy="938880"/>
            <a:chOff x="380880" y="3429000"/>
            <a:chExt cx="8196120" cy="938880"/>
          </a:xfrm>
        </p:grpSpPr>
        <p:sp>
          <p:nvSpPr>
            <p:cNvPr id="285" name="Text Box 13"/>
            <p:cNvSpPr/>
            <p:nvPr/>
          </p:nvSpPr>
          <p:spPr>
            <a:xfrm>
              <a:off x="3581280" y="3617640"/>
              <a:ext cx="499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覆盖全网的网站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论坛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细黑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细黑"/>
                </a:rPr>
                <a:t>博客等媒体平台</a:t>
              </a:r>
              <a:r>
                <a:rPr b="0" lang="zh-CN" sz="1600" spc="-1" strike="noStrike">
                  <a:solidFill>
                    <a:srgbClr val="000000"/>
                  </a:solidFill>
                  <a:latin typeface="华文细黑"/>
                </a:rPr>
                <a:t>◥</a:t>
              </a:r>
              <a:endParaRPr b="0" lang="en-US" sz="16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86" name="Picture 14" descr="MMj01892250000[1]"/>
            <p:cNvPicPr/>
            <p:nvPr/>
          </p:nvPicPr>
          <p:blipFill>
            <a:blip r:embed="rId4"/>
            <a:stretch/>
          </p:blipFill>
          <p:spPr>
            <a:xfrm>
              <a:off x="2601720" y="3614400"/>
              <a:ext cx="7858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15"/>
            <p:cNvSpPr/>
            <p:nvPr/>
          </p:nvSpPr>
          <p:spPr>
            <a:xfrm>
              <a:off x="958680" y="3450960"/>
              <a:ext cx="66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88" name="Picture 16" descr="MCj02903490000[1]"/>
            <p:cNvPicPr/>
            <p:nvPr/>
          </p:nvPicPr>
          <p:blipFill>
            <a:blip r:embed="rId5"/>
            <a:stretch/>
          </p:blipFill>
          <p:spPr>
            <a:xfrm>
              <a:off x="445680" y="3500280"/>
              <a:ext cx="525600" cy="6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7" descr="MCj02996910000[1]"/>
            <p:cNvPicPr/>
            <p:nvPr/>
          </p:nvPicPr>
          <p:blipFill>
            <a:blip r:embed="rId6"/>
            <a:stretch/>
          </p:blipFill>
          <p:spPr>
            <a:xfrm>
              <a:off x="1427040" y="3535200"/>
              <a:ext cx="7174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18"/>
            <p:cNvSpPr/>
            <p:nvPr/>
          </p:nvSpPr>
          <p:spPr>
            <a:xfrm>
              <a:off x="2134800" y="3429000"/>
              <a:ext cx="66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291" name="Rectangle 19"/>
            <p:cNvSpPr/>
            <p:nvPr/>
          </p:nvSpPr>
          <p:spPr>
            <a:xfrm>
              <a:off x="380880" y="3500280"/>
              <a:ext cx="1827000" cy="720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292" name="Group 20"/>
          <p:cNvGrpSpPr/>
          <p:nvPr/>
        </p:nvGrpSpPr>
        <p:grpSpPr>
          <a:xfrm>
            <a:off x="380880" y="4419720"/>
            <a:ext cx="8043840" cy="969120"/>
            <a:chOff x="380880" y="4419720"/>
            <a:chExt cx="8043840" cy="969120"/>
          </a:xfrm>
        </p:grpSpPr>
        <p:sp>
          <p:nvSpPr>
            <p:cNvPr id="293" name="Text Box 21"/>
            <p:cNvSpPr/>
            <p:nvPr/>
          </p:nvSpPr>
          <p:spPr>
            <a:xfrm>
              <a:off x="4843440" y="4730400"/>
              <a:ext cx="358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多种多样的网络传播形式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◥</a:t>
              </a:r>
              <a:endParaRPr b="0" lang="en-US" sz="16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94" name="Picture 22" descr="MCj01986750000[1]"/>
            <p:cNvPicPr/>
            <p:nvPr/>
          </p:nvPicPr>
          <p:blipFill>
            <a:blip r:embed="rId7"/>
            <a:stretch/>
          </p:blipFill>
          <p:spPr>
            <a:xfrm>
              <a:off x="3709800" y="4501800"/>
              <a:ext cx="72072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3" descr="MCj02903490000[1]"/>
            <p:cNvPicPr/>
            <p:nvPr/>
          </p:nvPicPr>
          <p:blipFill>
            <a:blip r:embed="rId8"/>
            <a:stretch/>
          </p:blipFill>
          <p:spPr>
            <a:xfrm>
              <a:off x="444600" y="4539960"/>
              <a:ext cx="52524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24"/>
            <p:cNvSpPr/>
            <p:nvPr/>
          </p:nvSpPr>
          <p:spPr>
            <a:xfrm>
              <a:off x="958680" y="4471920"/>
              <a:ext cx="66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97" name="Picture 25" descr="MCj02996910000[1]"/>
            <p:cNvPicPr/>
            <p:nvPr/>
          </p:nvPicPr>
          <p:blipFill>
            <a:blip r:embed="rId9"/>
            <a:stretch/>
          </p:blipFill>
          <p:spPr>
            <a:xfrm>
              <a:off x="1427040" y="4539960"/>
              <a:ext cx="71748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26"/>
            <p:cNvSpPr/>
            <p:nvPr/>
          </p:nvSpPr>
          <p:spPr>
            <a:xfrm>
              <a:off x="2125440" y="4446360"/>
              <a:ext cx="660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299" name="Picture 27" descr="MMj01892250000[1]"/>
            <p:cNvPicPr/>
            <p:nvPr/>
          </p:nvPicPr>
          <p:blipFill>
            <a:blip r:embed="rId10"/>
            <a:stretch/>
          </p:blipFill>
          <p:spPr>
            <a:xfrm>
              <a:off x="2601720" y="4684320"/>
              <a:ext cx="78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28"/>
            <p:cNvSpPr/>
            <p:nvPr/>
          </p:nvSpPr>
          <p:spPr>
            <a:xfrm>
              <a:off x="3309840" y="4419720"/>
              <a:ext cx="663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301" name="Rectangle 29"/>
            <p:cNvSpPr/>
            <p:nvPr/>
          </p:nvSpPr>
          <p:spPr>
            <a:xfrm>
              <a:off x="380880" y="4539960"/>
              <a:ext cx="3006720" cy="7203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grpSp>
        <p:nvGrpSpPr>
          <p:cNvPr id="302" name="Group 30"/>
          <p:cNvGrpSpPr/>
          <p:nvPr/>
        </p:nvGrpSpPr>
        <p:grpSpPr>
          <a:xfrm>
            <a:off x="380880" y="5486400"/>
            <a:ext cx="8424720" cy="940680"/>
            <a:chOff x="380880" y="5486400"/>
            <a:chExt cx="8424720" cy="940680"/>
          </a:xfrm>
        </p:grpSpPr>
        <p:sp>
          <p:nvSpPr>
            <p:cNvPr id="303" name="Text Box 31"/>
            <p:cNvSpPr/>
            <p:nvPr/>
          </p:nvSpPr>
          <p:spPr>
            <a:xfrm>
              <a:off x="5344920" y="5707080"/>
              <a:ext cx="346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最快速的网络炒作与监测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◥</a:t>
              </a:r>
              <a:endParaRPr b="0" lang="en-US" sz="16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304" name="Picture 32" descr="MCj02504130000[1]"/>
            <p:cNvPicPr/>
            <p:nvPr/>
          </p:nvPicPr>
          <p:blipFill>
            <a:blip r:embed="rId11"/>
            <a:stretch/>
          </p:blipFill>
          <p:spPr>
            <a:xfrm>
              <a:off x="4690800" y="5486400"/>
              <a:ext cx="5889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33" descr="MCj01986750000[1]"/>
            <p:cNvPicPr/>
            <p:nvPr/>
          </p:nvPicPr>
          <p:blipFill>
            <a:blip r:embed="rId12"/>
            <a:stretch/>
          </p:blipFill>
          <p:spPr>
            <a:xfrm>
              <a:off x="3709800" y="5519880"/>
              <a:ext cx="72072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34" descr="MCj02903490000[1]"/>
            <p:cNvPicPr/>
            <p:nvPr/>
          </p:nvPicPr>
          <p:blipFill>
            <a:blip r:embed="rId13"/>
            <a:stretch/>
          </p:blipFill>
          <p:spPr>
            <a:xfrm>
              <a:off x="444240" y="5560920"/>
              <a:ext cx="5256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35"/>
            <p:cNvSpPr/>
            <p:nvPr/>
          </p:nvSpPr>
          <p:spPr>
            <a:xfrm>
              <a:off x="969840" y="5510160"/>
              <a:ext cx="660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308" name="Picture 36" descr="MCj02996910000[1]"/>
            <p:cNvPicPr/>
            <p:nvPr/>
          </p:nvPicPr>
          <p:blipFill>
            <a:blip r:embed="rId14"/>
            <a:stretch/>
          </p:blipFill>
          <p:spPr>
            <a:xfrm>
              <a:off x="1427040" y="5630760"/>
              <a:ext cx="7174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7"/>
            <p:cNvSpPr/>
            <p:nvPr/>
          </p:nvSpPr>
          <p:spPr>
            <a:xfrm>
              <a:off x="2135160" y="5486400"/>
              <a:ext cx="66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pic>
          <p:nvPicPr>
            <p:cNvPr id="310" name="Picture 38" descr="MMj01892250000[1]"/>
            <p:cNvPicPr/>
            <p:nvPr/>
          </p:nvPicPr>
          <p:blipFill>
            <a:blip r:embed="rId15"/>
            <a:stretch/>
          </p:blipFill>
          <p:spPr>
            <a:xfrm>
              <a:off x="2601720" y="5702400"/>
              <a:ext cx="78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39"/>
            <p:cNvSpPr/>
            <p:nvPr/>
          </p:nvSpPr>
          <p:spPr>
            <a:xfrm>
              <a:off x="3309840" y="5486400"/>
              <a:ext cx="663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312" name="Text Box 40"/>
            <p:cNvSpPr/>
            <p:nvPr/>
          </p:nvSpPr>
          <p:spPr>
            <a:xfrm>
              <a:off x="4289400" y="5486400"/>
              <a:ext cx="663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313" name="Rectangle 41"/>
            <p:cNvSpPr/>
            <p:nvPr/>
          </p:nvSpPr>
          <p:spPr>
            <a:xfrm>
              <a:off x="380880" y="5557680"/>
              <a:ext cx="3983040" cy="722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1143000" y="5029200"/>
            <a:ext cx="66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我们</a:t>
            </a:r>
            <a:r>
              <a:rPr b="1" lang="zh-CN" sz="2800" spc="-1" strike="noStrike">
                <a:solidFill>
                  <a:srgbClr val="6699ff"/>
                </a:solidFill>
                <a:latin typeface="Times New Roman"/>
                <a:ea typeface="华文中宋"/>
              </a:rPr>
              <a:t>期待与您的合作！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657600" cy="2755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细黑"/>
              </a:rPr>
              <a:t>使用规范说明</a:t>
            </a:r>
            <a:endParaRPr b="1" lang="en-US" sz="3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华文细黑"/>
              </a:rPr>
              <a:t> </a:t>
            </a:r>
            <a:r>
              <a:rPr b="0" lang="zh-CN" sz="1000" spc="-1" strike="noStrike" u="sng">
                <a:solidFill>
                  <a:srgbClr val="99ccff"/>
                </a:solidFill>
                <a:uFillTx/>
                <a:latin typeface="华文细黑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99ccff"/>
                </a:solidFill>
                <a:uFillTx/>
                <a:latin typeface="华文细黑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99ccff"/>
                </a:solidFill>
                <a:uFillTx/>
                <a:latin typeface="华文细黑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26668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</a:rPr>
              <a:t>网络公关的魅力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</a:rPr>
              <a:t>中国移动网络公关总体策略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2001"/>
              </a:spcBef>
              <a:buClr>
                <a:srgbClr val="008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提   要 </a:t>
            </a: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公关的含义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2743200"/>
            <a:ext cx="807696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网络公关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(PR on line)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，又叫做线上公关或者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公关，它借助互联网的高科技表达手段营造企业形象，为现代公关提供了新的思维方式、策划思路和传播媒介。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057400"/>
            <a:ext cx="7848360" cy="41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公关是一种直复公关，网络公关具备了更强的整合力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”指的是网络公关主体与公众之间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绕开了各种节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如媒体、意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见领袖、时间差、地域差等，从而明显缩短了相互之间的作用路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径，能够保证网络传播的有效到达率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复”则是指公关主体与公众之间即时、高效的互动性，即信息的来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反复性，通过反复的相互交流，对传播内容不断充实，对疑问的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释更加完善，这种互动可以使网络公关这种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“软”营销工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威力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加淋漓尽致地发挥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公关的含义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公关的优势 </a:t>
            </a: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1447920"/>
            <a:ext cx="79246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可信度高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之于网络广告，网络公关传播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含蓄的、富有文化魅力的宣传 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方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仅更易深入人心，也以广告无法实现的方式提高产品 、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服务的可信度。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扩散性强</a:t>
            </a:r>
            <a:r>
              <a:rPr b="1" i="1" lang="zh-CN" sz="1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好的咨询信息会自我繁殖，自给自足，一旦内容具有很强的公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众需求，会形成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病毒式的乘数扩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使移动直接对公众产生影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响，产生一传百，百传万的口碑效应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自由度大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用多种传播形式的软性宣传，多类话题均可在网上使用，各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种热点事件都可以免费借势，发布各种信息而不必借助于传统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媒体中介，从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绕开新闻媒体严格苛刻的审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沟通性广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内容的策划创意做网络公关，一方面可以深入网罗网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络资源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更多的联系网络编辑和网络意见领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另一方面也更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好地对网络内容实施监控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避免负面信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扩大影响。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2133720" y="2895480"/>
            <a:ext cx="6094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Oval 3"/>
          <p:cNvSpPr/>
          <p:nvPr/>
        </p:nvSpPr>
        <p:spPr>
          <a:xfrm>
            <a:off x="380880" y="2743200"/>
            <a:ext cx="1524240" cy="1523880"/>
          </a:xfrm>
          <a:prstGeom prst="ellipse">
            <a:avLst/>
          </a:prstGeom>
          <a:solidFill>
            <a:srgbClr val="ff0000"/>
          </a:solidFill>
          <a:ln cap="rnd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品牌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Oval 4"/>
          <p:cNvSpPr/>
          <p:nvPr/>
        </p:nvSpPr>
        <p:spPr>
          <a:xfrm>
            <a:off x="7086600" y="3048120"/>
            <a:ext cx="828720" cy="788760"/>
          </a:xfrm>
          <a:prstGeom prst="ellipse">
            <a:avLst/>
          </a:prstGeom>
          <a:solidFill>
            <a:srgbClr val="00ccff"/>
          </a:solidFill>
          <a:ln cap="rnd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用户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3048120" y="1905120"/>
            <a:ext cx="2743200" cy="2971800"/>
            <a:chOff x="3048120" y="1905120"/>
            <a:chExt cx="2743200" cy="2971800"/>
          </a:xfrm>
        </p:grpSpPr>
        <p:sp>
          <p:nvSpPr>
            <p:cNvPr id="101" name="AutoShape 6"/>
            <p:cNvSpPr/>
            <p:nvPr/>
          </p:nvSpPr>
          <p:spPr>
            <a:xfrm>
              <a:off x="3048120" y="1905120"/>
              <a:ext cx="2743200" cy="59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Times New Roman"/>
                  <a:ea typeface="华文中宋"/>
                </a:rPr>
                <a:t>电视广告</a:t>
              </a:r>
              <a:endParaRPr b="0" lang="en-US" sz="2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02" name="AutoShape 7"/>
            <p:cNvSpPr/>
            <p:nvPr/>
          </p:nvSpPr>
          <p:spPr>
            <a:xfrm>
              <a:off x="3048120" y="2697480"/>
              <a:ext cx="2743200" cy="59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Times New Roman"/>
                  <a:ea typeface="华文中宋"/>
                </a:rPr>
                <a:t>平面广告</a:t>
              </a:r>
              <a:endParaRPr b="0" lang="en-US" sz="2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03" name="AutoShape 8"/>
            <p:cNvSpPr/>
            <p:nvPr/>
          </p:nvSpPr>
          <p:spPr>
            <a:xfrm>
              <a:off x="3048120" y="3489840"/>
              <a:ext cx="2743200" cy="59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Times New Roman"/>
                  <a:ea typeface="华文中宋"/>
                </a:rPr>
                <a:t>户外广告</a:t>
              </a:r>
              <a:endParaRPr b="0" lang="en-US" sz="2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04" name="AutoShape 9"/>
            <p:cNvSpPr/>
            <p:nvPr/>
          </p:nvSpPr>
          <p:spPr>
            <a:xfrm>
              <a:off x="3048120" y="4282560"/>
              <a:ext cx="2743200" cy="59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Times New Roman"/>
                  <a:ea typeface="华文中宋"/>
                </a:rPr>
                <a:t>网络广告</a:t>
              </a:r>
              <a:endParaRPr b="0" lang="en-US" sz="2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105" name="AutoShape 10"/>
          <p:cNvSpPr/>
          <p:nvPr/>
        </p:nvSpPr>
        <p:spPr>
          <a:xfrm>
            <a:off x="6095880" y="2895480"/>
            <a:ext cx="6098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传统广告的传播形式 </a:t>
            </a: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85800" y="51814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传统广告的传播是一次性的，受众人群会随着层层过滤而逐渐减少。目标受众不会把一个电视广告复制到另一个电视台，也不会把一个网站上的广告照搬到另一个网站上。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营销的新型传播形式 </a:t>
            </a: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1828800"/>
            <a:ext cx="7543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网络媒体随着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Web2.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的发展，出现了新型的传播形式，所有最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优秀的网络内容都有一个共同特点：被</a:t>
            </a:r>
            <a:r>
              <a:rPr b="0" lang="zh-CN" sz="1800" spc="-1" strike="noStrike">
                <a:solidFill>
                  <a:srgbClr val="ff0000"/>
                </a:solidFill>
                <a:latin typeface="华文细黑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华文细黑"/>
              </a:rPr>
              <a:t>Ctrl+C”</a:t>
            </a:r>
            <a:r>
              <a:rPr b="0" lang="zh-CN" sz="1800" spc="-1" strike="noStrike">
                <a:solidFill>
                  <a:srgbClr val="ff0000"/>
                </a:solidFill>
                <a:latin typeface="华文细黑"/>
              </a:rPr>
              <a:t>和“</a:t>
            </a:r>
            <a:r>
              <a:rPr b="0" lang="en-US" sz="1800" spc="-1" strike="noStrike">
                <a:solidFill>
                  <a:srgbClr val="ff0000"/>
                </a:solidFill>
                <a:latin typeface="华文细黑"/>
              </a:rPr>
              <a:t>Ctrl+V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最多。这种传播叫做</a:t>
            </a:r>
            <a:r>
              <a:rPr b="0" lang="zh-CN" sz="1800" spc="-1" strike="noStrike">
                <a:solidFill>
                  <a:srgbClr val="ff0000"/>
                </a:solidFill>
                <a:latin typeface="华文细黑"/>
              </a:rPr>
              <a:t>“波式多次传播”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可以说，新型网络传播的最大魅力，是“</a:t>
            </a:r>
            <a:r>
              <a:rPr b="0" lang="zh-CN" sz="1800" spc="-1" strike="noStrike">
                <a:solidFill>
                  <a:srgbClr val="ff0000"/>
                </a:solidFill>
                <a:latin typeface="华文细黑"/>
              </a:rPr>
              <a:t>网站→网民→网站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”无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限重复的传播模式。网络的有效传播，很多都是全国网民自发的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参与了传播过程的结果。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此，在网络营销的新趋势中，要打造最有价值的网络营销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不仅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要打造最精美的网络广告内容，还要打造网民能参于并自发传播的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网络内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03320" y="6373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152280" y="1752480"/>
            <a:ext cx="8296560" cy="4751640"/>
            <a:chOff x="152280" y="1752480"/>
            <a:chExt cx="8296560" cy="4751640"/>
          </a:xfrm>
        </p:grpSpPr>
        <p:sp>
          <p:nvSpPr>
            <p:cNvPr id="112" name="AutoShape 3"/>
            <p:cNvSpPr/>
            <p:nvPr/>
          </p:nvSpPr>
          <p:spPr>
            <a:xfrm>
              <a:off x="1752480" y="3505320"/>
              <a:ext cx="6098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152280" y="3352680"/>
              <a:ext cx="1524240" cy="152424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品牌信息</a:t>
              </a:r>
              <a:endParaRPr b="0" lang="en-US" sz="2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14" name="Oval 5"/>
            <p:cNvSpPr/>
            <p:nvPr/>
          </p:nvSpPr>
          <p:spPr>
            <a:xfrm>
              <a:off x="3886200" y="24382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华文细黑"/>
                </a:rPr>
                <a:t>用户</a:t>
              </a:r>
              <a:r>
                <a:rPr b="1" lang="en-US" sz="1200" spc="-1" strike="noStrike">
                  <a:solidFill>
                    <a:srgbClr val="000000"/>
                  </a:solidFill>
                  <a:latin typeface="华文细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438280" y="2514600"/>
              <a:ext cx="914400" cy="2971800"/>
              <a:chOff x="2438280" y="2514600"/>
              <a:chExt cx="914400" cy="2971800"/>
            </a:xfrm>
          </p:grpSpPr>
          <p:sp>
            <p:nvSpPr>
              <p:cNvPr id="116" name="AutoShape 7"/>
              <p:cNvSpPr/>
              <p:nvPr/>
            </p:nvSpPr>
            <p:spPr>
              <a:xfrm>
                <a:off x="2438280" y="2514600"/>
                <a:ext cx="914400" cy="5943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17" name="AutoShape 8"/>
              <p:cNvSpPr/>
              <p:nvPr/>
            </p:nvSpPr>
            <p:spPr>
              <a:xfrm>
                <a:off x="2438280" y="3306960"/>
                <a:ext cx="914400" cy="5943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18" name="AutoShape 9"/>
              <p:cNvSpPr/>
              <p:nvPr/>
            </p:nvSpPr>
            <p:spPr>
              <a:xfrm>
                <a:off x="2438280" y="4099320"/>
                <a:ext cx="914400" cy="5943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19" name="AutoShape 10"/>
              <p:cNvSpPr/>
              <p:nvPr/>
            </p:nvSpPr>
            <p:spPr>
              <a:xfrm>
                <a:off x="2438280" y="4892040"/>
                <a:ext cx="914400" cy="59436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</p:grpSp>
        <p:sp>
          <p:nvSpPr>
            <p:cNvPr id="120" name="AutoShape 11"/>
            <p:cNvSpPr/>
            <p:nvPr/>
          </p:nvSpPr>
          <p:spPr>
            <a:xfrm>
              <a:off x="3429000" y="2590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1" name="Oval 12"/>
            <p:cNvSpPr/>
            <p:nvPr/>
          </p:nvSpPr>
          <p:spPr>
            <a:xfrm>
              <a:off x="3886200" y="3276720"/>
              <a:ext cx="828720" cy="78876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华文细黑"/>
                </a:rPr>
                <a:t>用户</a:t>
              </a:r>
              <a:r>
                <a:rPr b="1" lang="en-US" sz="1200" spc="-1" strike="noStrike">
                  <a:solidFill>
                    <a:srgbClr val="000000"/>
                  </a:solidFill>
                  <a:latin typeface="华文细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2" name="Oval 13"/>
            <p:cNvSpPr/>
            <p:nvPr/>
          </p:nvSpPr>
          <p:spPr>
            <a:xfrm>
              <a:off x="3886200" y="41148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华文细黑"/>
                </a:rPr>
                <a:t>用户</a:t>
              </a:r>
              <a:r>
                <a:rPr b="1" lang="en-US" sz="1200" spc="-1" strike="noStrike">
                  <a:solidFill>
                    <a:srgbClr val="000000"/>
                  </a:solidFill>
                  <a:latin typeface="华文细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3" name="Oval 14"/>
            <p:cNvSpPr/>
            <p:nvPr/>
          </p:nvSpPr>
          <p:spPr>
            <a:xfrm>
              <a:off x="3886200" y="49528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华文细黑"/>
                </a:rPr>
                <a:t>用户</a:t>
              </a:r>
              <a:r>
                <a:rPr b="1" lang="en-US" sz="1200" spc="-1" strike="noStrike">
                  <a:solidFill>
                    <a:srgbClr val="000000"/>
                  </a:solidFill>
                  <a:latin typeface="华文细黑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4" name="AutoShape 15"/>
            <p:cNvSpPr/>
            <p:nvPr/>
          </p:nvSpPr>
          <p:spPr>
            <a:xfrm>
              <a:off x="3429000" y="33526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5" name="AutoShape 16"/>
            <p:cNvSpPr/>
            <p:nvPr/>
          </p:nvSpPr>
          <p:spPr>
            <a:xfrm>
              <a:off x="3429000" y="41911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6" name="AutoShape 17"/>
            <p:cNvSpPr/>
            <p:nvPr/>
          </p:nvSpPr>
          <p:spPr>
            <a:xfrm>
              <a:off x="34290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7" name="AutoShape 18"/>
            <p:cNvSpPr/>
            <p:nvPr/>
          </p:nvSpPr>
          <p:spPr>
            <a:xfrm>
              <a:off x="4800600" y="2590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8" name="AutoShape 19"/>
            <p:cNvSpPr/>
            <p:nvPr/>
          </p:nvSpPr>
          <p:spPr>
            <a:xfrm>
              <a:off x="4800600" y="33526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29" name="AutoShape 20"/>
            <p:cNvSpPr/>
            <p:nvPr/>
          </p:nvSpPr>
          <p:spPr>
            <a:xfrm>
              <a:off x="4800600" y="41911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30" name="AutoShape 21"/>
            <p:cNvSpPr/>
            <p:nvPr/>
          </p:nvSpPr>
          <p:spPr>
            <a:xfrm>
              <a:off x="4800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grpSp>
          <p:nvGrpSpPr>
            <p:cNvPr id="131" name="Group 22"/>
            <p:cNvGrpSpPr/>
            <p:nvPr/>
          </p:nvGrpSpPr>
          <p:grpSpPr>
            <a:xfrm>
              <a:off x="5257800" y="1905120"/>
              <a:ext cx="914400" cy="1752120"/>
              <a:chOff x="5257800" y="1905120"/>
              <a:chExt cx="914400" cy="1752120"/>
            </a:xfrm>
          </p:grpSpPr>
          <p:sp>
            <p:nvSpPr>
              <p:cNvPr id="132" name="AutoShape 23"/>
              <p:cNvSpPr/>
              <p:nvPr/>
            </p:nvSpPr>
            <p:spPr>
              <a:xfrm>
                <a:off x="5257800" y="190512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33" name="AutoShape 24"/>
              <p:cNvSpPr/>
              <p:nvPr/>
            </p:nvSpPr>
            <p:spPr>
              <a:xfrm>
                <a:off x="5257800" y="237240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34" name="AutoShape 25"/>
              <p:cNvSpPr/>
              <p:nvPr/>
            </p:nvSpPr>
            <p:spPr>
              <a:xfrm>
                <a:off x="5257800" y="283968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35" name="AutoShape 26"/>
              <p:cNvSpPr/>
              <p:nvPr/>
            </p:nvSpPr>
            <p:spPr>
              <a:xfrm>
                <a:off x="5257800" y="330696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</p:grpSp>
        <p:grpSp>
          <p:nvGrpSpPr>
            <p:cNvPr id="136" name="Group 27"/>
            <p:cNvGrpSpPr/>
            <p:nvPr/>
          </p:nvGrpSpPr>
          <p:grpSpPr>
            <a:xfrm>
              <a:off x="5257800" y="3733920"/>
              <a:ext cx="914400" cy="1752120"/>
              <a:chOff x="5257800" y="3733920"/>
              <a:chExt cx="914400" cy="1752120"/>
            </a:xfrm>
          </p:grpSpPr>
          <p:sp>
            <p:nvSpPr>
              <p:cNvPr id="137" name="AutoShape 28"/>
              <p:cNvSpPr/>
              <p:nvPr/>
            </p:nvSpPr>
            <p:spPr>
              <a:xfrm>
                <a:off x="5257800" y="373392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38" name="AutoShape 29"/>
              <p:cNvSpPr/>
              <p:nvPr/>
            </p:nvSpPr>
            <p:spPr>
              <a:xfrm>
                <a:off x="5257800" y="420120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39" name="AutoShape 30"/>
              <p:cNvSpPr/>
              <p:nvPr/>
            </p:nvSpPr>
            <p:spPr>
              <a:xfrm>
                <a:off x="5257800" y="466848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  <p:sp>
            <p:nvSpPr>
              <p:cNvPr id="140" name="AutoShape 31"/>
              <p:cNvSpPr/>
              <p:nvPr/>
            </p:nvSpPr>
            <p:spPr>
              <a:xfrm>
                <a:off x="5257800" y="5135760"/>
                <a:ext cx="914400" cy="3502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8000"/>
                    </a:solidFill>
                    <a:latin typeface="华文细黑"/>
                  </a:rPr>
                  <a:t>网站</a:t>
                </a:r>
                <a:r>
                  <a:rPr b="0" lang="en-US" sz="1800" spc="-1" strike="noStrike">
                    <a:solidFill>
                      <a:srgbClr val="008000"/>
                    </a:solidFill>
                    <a:latin typeface="华文细黑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华文细黑"/>
                </a:endParaRPr>
              </a:p>
            </p:txBody>
          </p:sp>
        </p:grpSp>
        <p:sp>
          <p:nvSpPr>
            <p:cNvPr id="141" name="AutoShape 32"/>
            <p:cNvSpPr/>
            <p:nvPr/>
          </p:nvSpPr>
          <p:spPr>
            <a:xfrm>
              <a:off x="5257800" y="5638680"/>
              <a:ext cx="914400" cy="351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8000"/>
                  </a:solidFill>
                  <a:latin typeface="华文细黑"/>
                </a:rPr>
                <a:t>网站</a:t>
              </a:r>
              <a:r>
                <a:rPr b="0" lang="en-US" sz="1800" spc="-1" strike="noStrike">
                  <a:solidFill>
                    <a:srgbClr val="008000"/>
                  </a:solidFill>
                  <a:latin typeface="华文细黑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2" name="AutoShape 33"/>
            <p:cNvSpPr/>
            <p:nvPr/>
          </p:nvSpPr>
          <p:spPr>
            <a:xfrm>
              <a:off x="5257800" y="6095880"/>
              <a:ext cx="914400" cy="3510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8000"/>
                  </a:solidFill>
                  <a:latin typeface="华文细黑"/>
                </a:rPr>
                <a:t>网站</a:t>
              </a:r>
              <a:r>
                <a:rPr b="0" lang="en-US" sz="1800" spc="-1" strike="noStrike">
                  <a:solidFill>
                    <a:srgbClr val="008000"/>
                  </a:solidFill>
                  <a:latin typeface="华文细黑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3" name="Oval 34"/>
            <p:cNvSpPr/>
            <p:nvPr/>
          </p:nvSpPr>
          <p:spPr>
            <a:xfrm>
              <a:off x="6705720" y="17524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4" name="AutoShape 35"/>
            <p:cNvSpPr/>
            <p:nvPr/>
          </p:nvSpPr>
          <p:spPr>
            <a:xfrm>
              <a:off x="6248520" y="19051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5" name="AutoShape 36"/>
            <p:cNvSpPr/>
            <p:nvPr/>
          </p:nvSpPr>
          <p:spPr>
            <a:xfrm>
              <a:off x="6248520" y="55627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6" name="AutoShape 37"/>
            <p:cNvSpPr/>
            <p:nvPr/>
          </p:nvSpPr>
          <p:spPr>
            <a:xfrm>
              <a:off x="6248520" y="51055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7" name="AutoShape 38"/>
            <p:cNvSpPr/>
            <p:nvPr/>
          </p:nvSpPr>
          <p:spPr>
            <a:xfrm>
              <a:off x="6248520" y="4648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8" name="AutoShape 39"/>
            <p:cNvSpPr/>
            <p:nvPr/>
          </p:nvSpPr>
          <p:spPr>
            <a:xfrm>
              <a:off x="6248520" y="41911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49" name="AutoShape 40"/>
            <p:cNvSpPr/>
            <p:nvPr/>
          </p:nvSpPr>
          <p:spPr>
            <a:xfrm>
              <a:off x="6248520" y="3733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0" name="AutoShape 41"/>
            <p:cNvSpPr/>
            <p:nvPr/>
          </p:nvSpPr>
          <p:spPr>
            <a:xfrm>
              <a:off x="6248520" y="32767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1" name="AutoShape 42"/>
            <p:cNvSpPr/>
            <p:nvPr/>
          </p:nvSpPr>
          <p:spPr>
            <a:xfrm>
              <a:off x="6248520" y="28195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2" name="AutoShape 43"/>
            <p:cNvSpPr/>
            <p:nvPr/>
          </p:nvSpPr>
          <p:spPr>
            <a:xfrm>
              <a:off x="6248520" y="2362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3" name="AutoShape 44"/>
            <p:cNvSpPr/>
            <p:nvPr/>
          </p:nvSpPr>
          <p:spPr>
            <a:xfrm>
              <a:off x="6248520" y="60199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4" name="Oval 45"/>
            <p:cNvSpPr/>
            <p:nvPr/>
          </p:nvSpPr>
          <p:spPr>
            <a:xfrm>
              <a:off x="7467480" y="17524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5" name="Oval 46"/>
            <p:cNvSpPr/>
            <p:nvPr/>
          </p:nvSpPr>
          <p:spPr>
            <a:xfrm>
              <a:off x="6781680" y="29718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6" name="Oval 47"/>
            <p:cNvSpPr/>
            <p:nvPr/>
          </p:nvSpPr>
          <p:spPr>
            <a:xfrm>
              <a:off x="7543800" y="2362320"/>
              <a:ext cx="828720" cy="78876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7" name="Oval 48"/>
            <p:cNvSpPr/>
            <p:nvPr/>
          </p:nvSpPr>
          <p:spPr>
            <a:xfrm>
              <a:off x="7620120" y="56386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8" name="Oval 49"/>
            <p:cNvSpPr/>
            <p:nvPr/>
          </p:nvSpPr>
          <p:spPr>
            <a:xfrm>
              <a:off x="7543800" y="29718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59" name="Oval 50"/>
            <p:cNvSpPr/>
            <p:nvPr/>
          </p:nvSpPr>
          <p:spPr>
            <a:xfrm>
              <a:off x="7543800" y="36576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0" name="Oval 51"/>
            <p:cNvSpPr/>
            <p:nvPr/>
          </p:nvSpPr>
          <p:spPr>
            <a:xfrm>
              <a:off x="7543800" y="42670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1" name="Oval 52"/>
            <p:cNvSpPr/>
            <p:nvPr/>
          </p:nvSpPr>
          <p:spPr>
            <a:xfrm>
              <a:off x="7620120" y="495288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2" name="Oval 53"/>
            <p:cNvSpPr/>
            <p:nvPr/>
          </p:nvSpPr>
          <p:spPr>
            <a:xfrm>
              <a:off x="6858000" y="57150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3" name="Oval 54"/>
            <p:cNvSpPr/>
            <p:nvPr/>
          </p:nvSpPr>
          <p:spPr>
            <a:xfrm>
              <a:off x="6781680" y="50292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4" name="Oval 55"/>
            <p:cNvSpPr/>
            <p:nvPr/>
          </p:nvSpPr>
          <p:spPr>
            <a:xfrm>
              <a:off x="6858000" y="43434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5" name="Oval 56"/>
            <p:cNvSpPr/>
            <p:nvPr/>
          </p:nvSpPr>
          <p:spPr>
            <a:xfrm>
              <a:off x="6858000" y="3657600"/>
              <a:ext cx="828720" cy="78912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  <p:sp>
          <p:nvSpPr>
            <p:cNvPr id="166" name="Oval 57"/>
            <p:cNvSpPr/>
            <p:nvPr/>
          </p:nvSpPr>
          <p:spPr>
            <a:xfrm>
              <a:off x="6781680" y="2362320"/>
              <a:ext cx="828720" cy="788760"/>
            </a:xfrm>
            <a:prstGeom prst="ellipse">
              <a:avLst/>
            </a:prstGeom>
            <a:solidFill>
              <a:srgbClr val="00ccff"/>
            </a:soli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用户</a:t>
              </a:r>
              <a:endParaRPr b="0" lang="en-US" sz="1400" spc="-1" strike="noStrike">
                <a:solidFill>
                  <a:srgbClr val="000000"/>
                </a:solidFill>
                <a:latin typeface="华文细黑"/>
              </a:endParaRPr>
            </a:p>
          </p:txBody>
        </p:sp>
      </p:grpSp>
      <p:sp>
        <p:nvSpPr>
          <p:cNvPr id="167" name="Text Box 58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 </a:t>
            </a:r>
            <a:r>
              <a:rPr b="1" lang="zh-CN" sz="2800" spc="-1" strike="noStrike">
                <a:solidFill>
                  <a:srgbClr val="ffffff"/>
                </a:solidFill>
                <a:latin typeface="华文细黑"/>
              </a:rPr>
              <a:t>网络营销的新型传播模型 </a:t>
            </a:r>
            <a:r>
              <a:rPr b="1" lang="en-US" sz="1800" spc="-1" strike="noStrike">
                <a:solidFill>
                  <a:srgbClr val="ffffff"/>
                </a:solidFill>
                <a:latin typeface="华文细黑"/>
              </a:rPr>
              <a:t>————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0:18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