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FEA-B3FE-4EE2-9EF9-02EE305A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3F2-363D-4204-BE6F-A37561D7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F38-ED50-45DE-A548-A529E920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7E0-3B51-4E1A-B1A2-0CD097AB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3A34-0D0D-43A9-987C-38F2B679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41C6-F9FA-483A-BBF5-C34F4AD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DE21-94A9-4179-A40C-05C5739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CC0-D819-4724-841A-4ED0FDB2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DD7E-F488-4557-8DAE-28C9CA41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6CFB-4846-44E1-BC5A-1E0434D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AB72-E7EF-4C40-96E2-57AFC4C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6C8-FE3D-4802-BAE8-48C9E4B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3266-73D0-4501-8750-DBD552A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F78-1A14-4D23-A45A-B504EF1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51D1-5E9E-4372-A6AE-D2BB24C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70E-FF71-4F0B-822B-36A9F2CC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ADF-3F2F-4201-85BE-878A1A1B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3567-B9F3-44CB-9C44-98001858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5D2F-DCF0-4A8D-AE22-BF2F063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0B81-4AE3-411F-BDF3-1FF29420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5810-DC4F-4EA0-A232-E0D97388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DF44-6BDF-435E-870D-8803AFC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CED-E47A-4522-B3E1-ECFC1F8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78F2-A712-452F-A70C-FD002734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4AEA-ABB2-41BA-A6C1-1690220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AFC2-1D42-417A-BC85-A3712CB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4634-B97D-4BCA-A8C6-3543C9F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2CA6-9561-464B-8240-16E45DB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7E01-611D-4F95-AFA1-F08B442F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5185-2EEF-4A77-80BF-46740EA7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4E9-4E33-4662-B3D4-FD55169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D2C-85B5-4615-AF95-E9DD7B3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C7A-D980-4F5F-9C7C-6E9AC94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257-5742-46B1-B5EC-FD8C337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68E-72B2-49EE-8D77-724EA2F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579-FD94-4C53-92E7-954621B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62F5-BF54-46D3-9A79-3C21CA181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89F-4C87-41E5-B74A-AFC4B7704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2F37-5C63-4338-8233-4F67B814C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 flipV="1">
            <a:off x="0" y="-27720"/>
            <a:ext cx="9180360" cy="6885000"/>
          </a:xfrm>
          <a:prstGeom prst="flowChartPunchedCard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b13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 rot="1740000">
            <a:off x="1959840" y="3878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紫色斜边设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131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직선 화살표 연결선 380"/>
            <p:cNvCxnSpPr>
              <a:stCxn id="131" idx="0"/>
            </p:cNvCxnSpPr>
            <p:nvPr/>
          </p:nvCxnSpPr>
          <p:spPr>
            <a:xfrm flipV="1">
              <a:off x="4536360" y="307260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142" name="직선 화살표 연결선 382"/>
            <p:cNvCxnSpPr/>
            <p:nvPr/>
          </p:nvCxnSpPr>
          <p:spPr>
            <a:xfrm flipV="1">
              <a:off x="320508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3" name="직선 화살표 연결선 383"/>
            <p:cNvCxnSpPr/>
            <p:nvPr/>
          </p:nvCxnSpPr>
          <p:spPr>
            <a:xfrm flipV="1">
              <a:off x="18468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4" name="직선 화살표 연결선 384"/>
            <p:cNvCxnSpPr/>
            <p:nvPr/>
          </p:nvCxnSpPr>
          <p:spPr>
            <a:xfrm flipV="1">
              <a:off x="72486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5" name="직선 화살표 연결선 385"/>
            <p:cNvCxnSpPr/>
            <p:nvPr/>
          </p:nvCxnSpPr>
          <p:spPr>
            <a:xfrm flipV="1">
              <a:off x="589032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6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147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150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157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7"/>
          <p:cNvSpPr/>
          <p:nvPr/>
        </p:nvSpPr>
        <p:spPr>
          <a:xfrm>
            <a:off x="108000" y="643248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商务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50:13Z</dcterms:created>
  <dc:creator>yellownancy</dc:creator>
  <dc:description/>
  <cp:keywords/>
  <dc:language>en-US</dc:language>
  <cp:lastModifiedBy>yu wang</cp:lastModifiedBy>
  <dcterms:modified xsi:type="dcterms:W3CDTF">2015-08-12T14:54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