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D09-EA64-46A9-BBA3-5B701036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CCC-FEF7-490C-AD03-D12C60E0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6097-1FB0-462D-AD60-E9BE3B0F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898-D20E-4F59-AA0E-9C4F74AB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8842-30C3-468F-BE6B-DED48052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6931-AE91-4F26-9AD0-EEDF0761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336C-EBB4-4497-AC10-8FF490EA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8277-43A9-4AF6-A13A-93982AA5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575F-520A-4029-88FE-5EDD3830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2198-0256-4B58-8699-986BC02D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D618-4E8B-4F4F-BCBA-6138BF46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C47-ACA2-4AEA-95D0-FD1AA263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C161-E4A2-44AF-8E3A-5F55FED2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CF57-52EB-4C38-A586-8A73EB56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8B5D-2C8B-44F3-B533-A645786E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CF6B-C0E8-4002-8971-1EF07133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0F4C-D4A0-4F04-BF4F-686AA0AA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7EBF0-A473-40AB-BB6A-2C46E315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A2FA9-8615-4F25-9065-9E0043BC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5CD93-0CD4-4A47-BAD9-6B13F085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F484-811A-4FEE-BA34-57203FEB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0D9C1-22CC-403F-986C-4E51449F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962-EE3A-4AF5-B628-2127D48B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3BB0-26F2-497F-B5B8-B479D575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30EF5-71CD-4BC1-8491-C7C8DD16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09DCF-BB24-4334-AD97-B34619E2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F863D-6587-43F0-A88B-38FF1990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70ED7-DA80-4B27-A4B0-798E2106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4583-B494-4721-BC33-0B53D563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E6ED0-1670-4C43-90D9-0560F4FE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25C-12B3-496A-BEAD-2E3DEB94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A66-58AD-467F-B43E-D99D01B7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515-950E-4FA9-8053-C8DC0C32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AD7-B71F-4729-8EF9-E9C813D9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2EE-46C3-4CFF-A10B-ABB98478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2EB-5D72-4FF9-89FC-09B77922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14ADC4-E6D7-44B3-A24F-FCBFF97B1621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13F277-C987-4198-8E37-F33E24F33AFD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图片 4" descr=""/>
          <p:cNvPicPr/>
          <p:nvPr/>
        </p:nvPicPr>
        <p:blipFill>
          <a:blip r:embed="rId2"/>
          <a:stretch/>
        </p:blipFill>
        <p:spPr>
          <a:xfrm>
            <a:off x="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45" name="矩形 5"/>
          <p:cNvSpPr/>
          <p:nvPr/>
        </p:nvSpPr>
        <p:spPr>
          <a:xfrm>
            <a:off x="0" y="532440"/>
            <a:ext cx="12191760" cy="57664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2EBF84-7802-4864-A9E6-517217692C34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8" descr=""/>
          <p:cNvPicPr/>
          <p:nvPr/>
        </p:nvPicPr>
        <p:blipFill>
          <a:blip r:embed="rId1"/>
          <a:stretch/>
        </p:blipFill>
        <p:spPr>
          <a:xfrm>
            <a:off x="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126" name="矩形 9"/>
          <p:cNvSpPr/>
          <p:nvPr/>
        </p:nvSpPr>
        <p:spPr>
          <a:xfrm>
            <a:off x="0" y="1203480"/>
            <a:ext cx="12191760" cy="34948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1307880" y="1689840"/>
            <a:ext cx="9575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朦胧绿色</a:t>
            </a:r>
            <a:r>
              <a:rPr b="1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直接连接符 3"/>
          <p:cNvCxnSpPr/>
          <p:nvPr/>
        </p:nvCxnSpPr>
        <p:spPr>
          <a:xfrm>
            <a:off x="3015720" y="3429000"/>
            <a:ext cx="626904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12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2757600" y="1111680"/>
            <a:ext cx="6260760" cy="1122120"/>
            <a:chOff x="2757600" y="1111680"/>
            <a:chExt cx="6260760" cy="1122120"/>
          </a:xfrm>
        </p:grpSpPr>
        <p:pic>
          <p:nvPicPr>
            <p:cNvPr id="131" name="AutoShape 864" descr=""/>
            <p:cNvPicPr/>
            <p:nvPr/>
          </p:nvPicPr>
          <p:blipFill>
            <a:blip r:embed="rId1"/>
            <a:stretch/>
          </p:blipFill>
          <p:spPr>
            <a:xfrm>
              <a:off x="2757600" y="1111680"/>
              <a:ext cx="626076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4"/>
            <p:cNvSpPr/>
            <p:nvPr/>
          </p:nvSpPr>
          <p:spPr>
            <a:xfrm>
              <a:off x="2952720" y="1298880"/>
              <a:ext cx="569880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  <a:ea typeface="Gulim"/>
              </a:endParaRPr>
            </a:p>
          </p:txBody>
        </p:sp>
      </p:grpSp>
      <p:grpSp>
        <p:nvGrpSpPr>
          <p:cNvPr id="133" name="Group 5"/>
          <p:cNvGrpSpPr/>
          <p:nvPr/>
        </p:nvGrpSpPr>
        <p:grpSpPr>
          <a:xfrm>
            <a:off x="3686040" y="1268640"/>
            <a:ext cx="4866840" cy="560160"/>
            <a:chOff x="3686040" y="1268640"/>
            <a:chExt cx="4866840" cy="560160"/>
          </a:xfrm>
        </p:grpSpPr>
        <p:sp>
          <p:nvSpPr>
            <p:cNvPr id="134" name="AutoShape 50"/>
            <p:cNvSpPr/>
            <p:nvPr/>
          </p:nvSpPr>
          <p:spPr>
            <a:xfrm>
              <a:off x="3686040" y="1268640"/>
              <a:ext cx="4866840" cy="56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cadc8"/>
                </a:gs>
                <a:gs pos="100000">
                  <a:srgbClr val="ffffff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HY헤드라인M"/>
                  <a:ea typeface="HY헤드라인M"/>
                </a:rPr>
                <a:t>CLICK TO EDIT TITLE 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51"/>
            <p:cNvSpPr/>
            <p:nvPr/>
          </p:nvSpPr>
          <p:spPr>
            <a:xfrm>
              <a:off x="3801240" y="1336680"/>
              <a:ext cx="4556160" cy="262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8039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14076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</p:grpSp>
      <p:sp>
        <p:nvSpPr>
          <p:cNvPr id="136" name="TextBox 47"/>
          <p:cNvSpPr/>
          <p:nvPr/>
        </p:nvSpPr>
        <p:spPr>
          <a:xfrm>
            <a:off x="3125160" y="1206720"/>
            <a:ext cx="435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Gulim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"/>
          <p:cNvGrpSpPr/>
          <p:nvPr/>
        </p:nvGrpSpPr>
        <p:grpSpPr>
          <a:xfrm>
            <a:off x="2757960" y="2008440"/>
            <a:ext cx="6260400" cy="1115280"/>
            <a:chOff x="2757960" y="2008440"/>
            <a:chExt cx="6260400" cy="1115280"/>
          </a:xfrm>
        </p:grpSpPr>
        <p:grpSp>
          <p:nvGrpSpPr>
            <p:cNvPr id="138" name="Group 10"/>
            <p:cNvGrpSpPr/>
            <p:nvPr/>
          </p:nvGrpSpPr>
          <p:grpSpPr>
            <a:xfrm>
              <a:off x="2757960" y="2008440"/>
              <a:ext cx="6260400" cy="1115280"/>
              <a:chOff x="2757960" y="2008440"/>
              <a:chExt cx="6260400" cy="1115280"/>
            </a:xfrm>
          </p:grpSpPr>
          <p:pic>
            <p:nvPicPr>
              <p:cNvPr id="139" name="AutoShape 864" descr=""/>
              <p:cNvPicPr/>
              <p:nvPr/>
            </p:nvPicPr>
            <p:blipFill>
              <a:blip r:embed="rId2"/>
              <a:stretch/>
            </p:blipFill>
            <p:spPr>
              <a:xfrm>
                <a:off x="2757960" y="2008440"/>
                <a:ext cx="6260400" cy="111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Text Box 12"/>
              <p:cNvSpPr/>
              <p:nvPr/>
            </p:nvSpPr>
            <p:spPr>
              <a:xfrm>
                <a:off x="2951640" y="2194920"/>
                <a:ext cx="5699160" cy="5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Gulim"/>
                </a:endParaRPr>
              </a:p>
            </p:txBody>
          </p:sp>
        </p:grpSp>
        <p:grpSp>
          <p:nvGrpSpPr>
            <p:cNvPr id="141" name="Group 13"/>
            <p:cNvGrpSpPr/>
            <p:nvPr/>
          </p:nvGrpSpPr>
          <p:grpSpPr>
            <a:xfrm>
              <a:off x="3714480" y="2185200"/>
              <a:ext cx="4865760" cy="559080"/>
              <a:chOff x="3714480" y="2185200"/>
              <a:chExt cx="4865760" cy="559080"/>
            </a:xfrm>
          </p:grpSpPr>
          <p:sp>
            <p:nvSpPr>
              <p:cNvPr id="142" name="AutoShape 50"/>
              <p:cNvSpPr/>
              <p:nvPr/>
            </p:nvSpPr>
            <p:spPr>
              <a:xfrm>
                <a:off x="3714480" y="2185200"/>
                <a:ext cx="4865760" cy="55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cadc8"/>
                  </a:gs>
                  <a:gs pos="100000">
                    <a:srgbClr val="ffffff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51"/>
              <p:cNvSpPr/>
              <p:nvPr/>
            </p:nvSpPr>
            <p:spPr>
              <a:xfrm>
                <a:off x="3873240" y="2215800"/>
                <a:ext cx="4555080" cy="262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41120" bIns="-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  <p:sp>
          <p:nvSpPr>
            <p:cNvPr id="144" name="TextBox 53"/>
            <p:cNvSpPr/>
            <p:nvPr/>
          </p:nvSpPr>
          <p:spPr>
            <a:xfrm>
              <a:off x="3125160" y="210312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7"/>
          <p:cNvGrpSpPr/>
          <p:nvPr/>
        </p:nvGrpSpPr>
        <p:grpSpPr>
          <a:xfrm>
            <a:off x="2757960" y="2904480"/>
            <a:ext cx="6260400" cy="1115280"/>
            <a:chOff x="2757960" y="2904480"/>
            <a:chExt cx="6260400" cy="1115280"/>
          </a:xfrm>
        </p:grpSpPr>
        <p:grpSp>
          <p:nvGrpSpPr>
            <p:cNvPr id="146" name="Group 18"/>
            <p:cNvGrpSpPr/>
            <p:nvPr/>
          </p:nvGrpSpPr>
          <p:grpSpPr>
            <a:xfrm>
              <a:off x="2757960" y="2904480"/>
              <a:ext cx="6260400" cy="1115280"/>
              <a:chOff x="2757960" y="2904480"/>
              <a:chExt cx="6260400" cy="1115280"/>
            </a:xfrm>
          </p:grpSpPr>
          <p:pic>
            <p:nvPicPr>
              <p:cNvPr id="147" name="AutoShape 864" descr=""/>
              <p:cNvPicPr/>
              <p:nvPr/>
            </p:nvPicPr>
            <p:blipFill>
              <a:blip r:embed="rId3"/>
              <a:stretch/>
            </p:blipFill>
            <p:spPr>
              <a:xfrm>
                <a:off x="2757960" y="2904480"/>
                <a:ext cx="6260400" cy="111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Text Box 20"/>
              <p:cNvSpPr/>
              <p:nvPr/>
            </p:nvSpPr>
            <p:spPr>
              <a:xfrm>
                <a:off x="2951640" y="3090240"/>
                <a:ext cx="5699160" cy="5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Gulim"/>
                </a:endParaRPr>
              </a:p>
            </p:txBody>
          </p:sp>
        </p:grpSp>
        <p:grpSp>
          <p:nvGrpSpPr>
            <p:cNvPr id="149" name="Group 21"/>
            <p:cNvGrpSpPr/>
            <p:nvPr/>
          </p:nvGrpSpPr>
          <p:grpSpPr>
            <a:xfrm>
              <a:off x="3714480" y="3080520"/>
              <a:ext cx="4865760" cy="559080"/>
              <a:chOff x="3714480" y="3080520"/>
              <a:chExt cx="4865760" cy="559080"/>
            </a:xfrm>
          </p:grpSpPr>
          <p:sp>
            <p:nvSpPr>
              <p:cNvPr id="150" name="AutoShape 50"/>
              <p:cNvSpPr/>
              <p:nvPr/>
            </p:nvSpPr>
            <p:spPr>
              <a:xfrm>
                <a:off x="3714480" y="3080520"/>
                <a:ext cx="4865760" cy="55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cadc8"/>
                  </a:gs>
                  <a:gs pos="100000">
                    <a:srgbClr val="ffffff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51"/>
              <p:cNvSpPr/>
              <p:nvPr/>
            </p:nvSpPr>
            <p:spPr>
              <a:xfrm>
                <a:off x="3873240" y="3111120"/>
                <a:ext cx="4555080" cy="262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41120" bIns="-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  <p:sp>
          <p:nvSpPr>
            <p:cNvPr id="152" name="TextBox 59"/>
            <p:cNvSpPr/>
            <p:nvPr/>
          </p:nvSpPr>
          <p:spPr>
            <a:xfrm>
              <a:off x="3125160" y="299880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25"/>
          <p:cNvGrpSpPr/>
          <p:nvPr/>
        </p:nvGrpSpPr>
        <p:grpSpPr>
          <a:xfrm>
            <a:off x="2757960" y="3800520"/>
            <a:ext cx="6260400" cy="1115280"/>
            <a:chOff x="2757960" y="3800520"/>
            <a:chExt cx="6260400" cy="1115280"/>
          </a:xfrm>
        </p:grpSpPr>
        <p:grpSp>
          <p:nvGrpSpPr>
            <p:cNvPr id="154" name="Group 26"/>
            <p:cNvGrpSpPr/>
            <p:nvPr/>
          </p:nvGrpSpPr>
          <p:grpSpPr>
            <a:xfrm>
              <a:off x="2757960" y="3800520"/>
              <a:ext cx="6260400" cy="1115280"/>
              <a:chOff x="2757960" y="3800520"/>
              <a:chExt cx="6260400" cy="1115280"/>
            </a:xfrm>
          </p:grpSpPr>
          <p:pic>
            <p:nvPicPr>
              <p:cNvPr id="155" name="AutoShape 864" descr=""/>
              <p:cNvPicPr/>
              <p:nvPr/>
            </p:nvPicPr>
            <p:blipFill>
              <a:blip r:embed="rId4"/>
              <a:stretch/>
            </p:blipFill>
            <p:spPr>
              <a:xfrm>
                <a:off x="2757960" y="3800520"/>
                <a:ext cx="6260400" cy="111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Text Box 28"/>
              <p:cNvSpPr/>
              <p:nvPr/>
            </p:nvSpPr>
            <p:spPr>
              <a:xfrm>
                <a:off x="2951280" y="3985200"/>
                <a:ext cx="5699880" cy="5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Gulim"/>
                </a:endParaRPr>
              </a:p>
            </p:txBody>
          </p:sp>
        </p:grpSp>
        <p:grpSp>
          <p:nvGrpSpPr>
            <p:cNvPr id="157" name="Group 29"/>
            <p:cNvGrpSpPr/>
            <p:nvPr/>
          </p:nvGrpSpPr>
          <p:grpSpPr>
            <a:xfrm>
              <a:off x="3714480" y="3975840"/>
              <a:ext cx="4865760" cy="557640"/>
              <a:chOff x="3714480" y="3975840"/>
              <a:chExt cx="4865760" cy="557640"/>
            </a:xfrm>
          </p:grpSpPr>
          <p:sp>
            <p:nvSpPr>
              <p:cNvPr id="158" name="AutoShape 50"/>
              <p:cNvSpPr/>
              <p:nvPr/>
            </p:nvSpPr>
            <p:spPr>
              <a:xfrm>
                <a:off x="3714480" y="3975840"/>
                <a:ext cx="4865760" cy="55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cadc8"/>
                  </a:gs>
                  <a:gs pos="100000">
                    <a:srgbClr val="ffffff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51"/>
              <p:cNvSpPr/>
              <p:nvPr/>
            </p:nvSpPr>
            <p:spPr>
              <a:xfrm>
                <a:off x="3873240" y="4006080"/>
                <a:ext cx="4555080" cy="261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40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  <p:sp>
          <p:nvSpPr>
            <p:cNvPr id="160" name="TextBox 65"/>
            <p:cNvSpPr/>
            <p:nvPr/>
          </p:nvSpPr>
          <p:spPr>
            <a:xfrm>
              <a:off x="3125160" y="389412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3"/>
          <p:cNvGrpSpPr/>
          <p:nvPr/>
        </p:nvGrpSpPr>
        <p:grpSpPr>
          <a:xfrm>
            <a:off x="2757960" y="4690440"/>
            <a:ext cx="6260400" cy="1121400"/>
            <a:chOff x="2757960" y="4690440"/>
            <a:chExt cx="6260400" cy="1121400"/>
          </a:xfrm>
        </p:grpSpPr>
        <p:grpSp>
          <p:nvGrpSpPr>
            <p:cNvPr id="162" name="Group 34"/>
            <p:cNvGrpSpPr/>
            <p:nvPr/>
          </p:nvGrpSpPr>
          <p:grpSpPr>
            <a:xfrm>
              <a:off x="2757960" y="4690440"/>
              <a:ext cx="6260400" cy="1121400"/>
              <a:chOff x="2757960" y="4690440"/>
              <a:chExt cx="6260400" cy="1121400"/>
            </a:xfrm>
          </p:grpSpPr>
          <p:pic>
            <p:nvPicPr>
              <p:cNvPr id="163" name="AutoShape 864" descr=""/>
              <p:cNvPicPr/>
              <p:nvPr/>
            </p:nvPicPr>
            <p:blipFill>
              <a:blip r:embed="rId5"/>
              <a:stretch/>
            </p:blipFill>
            <p:spPr>
              <a:xfrm>
                <a:off x="2757960" y="4690440"/>
                <a:ext cx="6260400" cy="112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Text Box 36"/>
              <p:cNvSpPr/>
              <p:nvPr/>
            </p:nvSpPr>
            <p:spPr>
              <a:xfrm>
                <a:off x="2951640" y="4880880"/>
                <a:ext cx="5699160" cy="5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Gulim"/>
                </a:endParaRPr>
              </a:p>
            </p:txBody>
          </p:sp>
        </p:grpSp>
        <p:grpSp>
          <p:nvGrpSpPr>
            <p:cNvPr id="165" name="Group 37"/>
            <p:cNvGrpSpPr/>
            <p:nvPr/>
          </p:nvGrpSpPr>
          <p:grpSpPr>
            <a:xfrm>
              <a:off x="3714480" y="4871160"/>
              <a:ext cx="4865760" cy="559080"/>
              <a:chOff x="3714480" y="4871160"/>
              <a:chExt cx="4865760" cy="559080"/>
            </a:xfrm>
          </p:grpSpPr>
          <p:sp>
            <p:nvSpPr>
              <p:cNvPr id="166" name="AutoShape 50"/>
              <p:cNvSpPr/>
              <p:nvPr/>
            </p:nvSpPr>
            <p:spPr>
              <a:xfrm>
                <a:off x="3714480" y="4871160"/>
                <a:ext cx="4865760" cy="55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cadc8"/>
                  </a:gs>
                  <a:gs pos="100000">
                    <a:srgbClr val="ffffff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utoShape 51"/>
              <p:cNvSpPr/>
              <p:nvPr/>
            </p:nvSpPr>
            <p:spPr>
              <a:xfrm>
                <a:off x="3873240" y="4901760"/>
                <a:ext cx="4555080" cy="262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41120" bIns="-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  <p:sp>
          <p:nvSpPr>
            <p:cNvPr id="168" name="TextBox 71"/>
            <p:cNvSpPr/>
            <p:nvPr/>
          </p:nvSpPr>
          <p:spPr>
            <a:xfrm>
              <a:off x="3125160" y="478944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1"/>
          <p:cNvSpPr/>
          <p:nvPr/>
        </p:nvSpPr>
        <p:spPr>
          <a:xfrm>
            <a:off x="480240" y="242496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" descr=""/>
          <p:cNvPicPr/>
          <p:nvPr/>
        </p:nvPicPr>
        <p:blipFill>
          <a:blip r:embed="rId1"/>
          <a:stretch/>
        </p:blipFill>
        <p:spPr>
          <a:xfrm>
            <a:off x="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171" name="矩形 2"/>
          <p:cNvSpPr/>
          <p:nvPr/>
        </p:nvSpPr>
        <p:spPr>
          <a:xfrm>
            <a:off x="0" y="1203480"/>
            <a:ext cx="12191760" cy="34948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72" name="矩形 7"/>
          <p:cNvSpPr/>
          <p:nvPr/>
        </p:nvSpPr>
        <p:spPr>
          <a:xfrm>
            <a:off x="1307880" y="2032560"/>
            <a:ext cx="9575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谢谢观看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直接连接符 8"/>
          <p:cNvCxnSpPr/>
          <p:nvPr/>
        </p:nvCxnSpPr>
        <p:spPr>
          <a:xfrm>
            <a:off x="3015720" y="3429000"/>
            <a:ext cx="626904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  <Words>273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8T02:06:39Z</dcterms:created>
  <dc:creator>姓 汤旭铭</dc:creator>
  <dc:description/>
  <dc:language>en-US</dc:language>
  <cp:lastModifiedBy>yu wang</cp:lastModifiedBy>
  <dcterms:modified xsi:type="dcterms:W3CDTF">2015-08-12T14:52:19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4</vt:r8>
  </property>
</Properties>
</file>