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6F3A-FAAD-44D6-A122-4D3230A3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089-7427-441A-8D2D-990AB2C0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588-BA8D-411B-B130-3153D200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CBA-4587-4079-A973-3D306A25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0195-13D9-462C-B0D5-0F4A0C92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3F83-5E65-446B-9440-A0AA7560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83D2-B5A4-48AD-9086-D42A314E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4566-3763-47DC-BD16-3AFB1822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5F36-C5C6-424A-AAB7-E9CC5D79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BA5C-04A8-4140-83A0-F64FCD9E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87EC-54C1-4C06-BB29-0F7C6E98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FBE-68B7-4702-80E0-F9EB12ED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968B-03FE-4A70-A9B9-4CC9A87F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90AD-8284-4301-A3B2-6B1BF799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3618-9CF4-4BC0-96F3-378FE023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2237-42A0-4F3B-B7F3-12AF80F9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248D-7F8F-43B2-8DEA-792C5A49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549-3F25-47F6-8F95-84262F45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6D81-BB93-4343-AE5B-C9C3E527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958-2B33-43E9-923D-2D78D608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C11-FD7A-4797-BAC9-16A79D94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F15-1C27-4A3D-A44B-EE760496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AD3-698C-4927-BC45-54FABD54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F96-9AAE-4F62-8A69-B8A3C963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041F-1246-44BA-95E2-5760DD4746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D0A5-7EB3-4730-9755-03A029B08B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2490840" y="610236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41720" y="5086440"/>
            <a:ext cx="63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国际劳动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2"/>
          <p:cNvSpPr/>
          <p:nvPr/>
        </p:nvSpPr>
        <p:spPr>
          <a:xfrm>
            <a:off x="0" y="-9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6F10-463D-4E1B-9DE2-A688A60B53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3132000" y="515772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3610080" y="601488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5:03:40Z</dcterms:created>
  <dc:creator>幻灯片之家：www.eeppt.com</dc:creator>
  <dc:description>幻灯片之家：www.eeppt.com</dc:description>
  <cp:keywords>幻灯片之家：www.eeppt.com</cp:keywords>
  <dc:language>en-US</dc:language>
  <cp:lastModifiedBy>lenovo</cp:lastModifiedBy>
  <dcterms:modified xsi:type="dcterms:W3CDTF">2015-08-12T14:33:46Z</dcterms:modified>
  <cp:revision>3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