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EE17-FB92-4381-9106-F2FF797C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24C9-7E36-40A2-9802-C214BB4E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C3334-7B4A-4571-87FD-24BA3AD9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FEB6B-8169-46D7-9BA6-DD620663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5A8A4-2529-42F6-95DD-33AC1DD9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D5A12-C27A-43D5-A451-B6393764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547E5-9472-4E84-85DB-537960B0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894B6-7FC6-482D-ACBF-A37292B7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C0198-F5E5-4632-9E62-1A58F4B5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0E62E-7DBF-4029-BBD5-B7E4397C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C5411-2723-4F2B-8A4F-A226C6F1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464B2-246D-4E01-ADFB-5C459DA0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73DD-3503-4965-970D-CE59E0F2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1B8B1-A0B0-45AB-9F94-1CF1162B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FFA9D-5B76-4F7C-8B81-33755B8E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678C0-1E40-4773-995D-C3D16C7B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38FE7-A220-4B99-9106-8FA57C9A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7CF73-2A0E-4116-AED2-E251E3D9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8BED5-2589-4EB6-8BD6-6B2FCFEA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84099-9A9D-45EA-886E-68B23251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72390-C66C-4C77-B5AD-1A4E8FF0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2AB39-A193-43CA-B6BA-7968B6FA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DCA71-BFC6-41E6-8EEE-44EB384B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F1AF-C2DF-4F2C-B267-04B239A1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B28C6-6CDE-4FB0-9A57-66695734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27F38-81A8-47E1-BF0C-AB72C2CE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61757-9F7B-46D9-AD4E-3B9B0949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1D598-D079-4F8A-B290-2A6B95CF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B995B-A6B6-4A16-8D5E-14559DD1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DB402-9C16-47DF-9796-CEC0EBB1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1E571-D0DA-4B32-A284-1AF12B1A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1EF57-058D-4571-A304-DAA4412D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56A7E-3B6E-41FA-A96A-2B16F72A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5E5FC-F34A-4558-8AB1-10542B94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3AD1-ED10-4C87-8E4C-0ED767FF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02C99-B89B-4F87-AD0E-765E84F6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3F73A-A0FE-4D07-9652-5B9DCE75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31F4E-36A9-4015-B0C6-1C5DF511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47D3-33B3-46ED-AE81-775375D0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14F9-5683-4B42-AC28-A78F8C6C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ED20-8A28-4E32-9387-F05A7F78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D41D-7C5C-4A08-A0E8-51CFB0B5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E419-A72B-4B85-BE45-C6240F0B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B157-D9AA-4497-8F57-46474938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30EF-0E30-4FDE-B2A1-64F8911E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0D49-7914-400B-A191-F734D42B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245B-16DE-4029-945D-33E93769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8A4B-EA4C-4207-84D5-3A20C1BD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57ED-D34D-4553-B2C0-A845BBBC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1050-409F-4BDE-997F-DB6EDA5D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15EE5-31E4-45D8-B3FF-A817F013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A79D9-D620-4623-8652-8526CE60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38DF3-17F0-4D62-81AF-54C4BDD8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9D3E9-51E7-494D-8264-2AF1C2D1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E4EBE-7295-4FA0-B724-2C25DC9E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72EC-3C06-4CBA-8693-42B40CBA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29BE6-ECBD-4F12-8EC9-D06695A1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D5CDA-8409-48AF-9385-0B2607BB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5BDCE-5FC0-42B0-B51E-4DF2DD4C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4FD74-CB34-4457-B0B3-BCD69CC9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3F1AD-522F-4437-BFF6-CA21E080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B758A-777B-47A1-A1BE-4F8489F0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D1F75-EAC3-4026-A882-1EAF6FBA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9E07B-AEC3-461E-8055-3D72FDB5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6C0A4-70EA-42AF-A4E1-DD200A09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A795B-364F-48C5-9C37-AAF4BC07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F48E-B206-4C76-88CF-BD23659B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0B9AA-6842-4135-8D7A-7AD84364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1FDCD-95D8-4037-9EA3-7A599032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9E23D-956F-46E9-BA04-94F57014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7741D-F456-4438-8CB0-991D0ECD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C31A5-F230-41F7-B1EC-07EA2FAC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3D759-5841-46E4-927A-C632C2CC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578F4-152F-4CE0-910D-1F6B3BE5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0DCCA-7AB8-423F-B559-374DE040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40F14-9A1E-44DF-9891-D408C5F9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0706E-1F85-47D7-A679-B40F9B98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A47-B663-49DF-A777-A850062D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DA734-6F3E-4C08-97D9-1041BE1A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617A7-C1B2-4451-B1F5-F8A29E02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5B3CB-028E-42ED-BC0B-60375986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9E659-21E1-4A0B-AF97-F54C8CFA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E41EB-20DD-4302-B5C1-AFF14A77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533FB-2262-4668-82CE-E56708C1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145FD-75AF-431E-8815-FDBBABE5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5ED64-30E9-4D9F-8C17-334A499F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B1448-572E-45F6-99FD-FA2AB2BE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94418-379A-49AE-B8BC-CF062C64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B1E5-3D81-403C-9E82-65912F01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C7529-E6B6-4ABF-BC5A-0B34CCE9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519C3-DE05-41DB-B662-AE458DB0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3A1BB-A702-40ED-B6B3-A8E35723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CC817-F5E6-4FCB-BA7D-D7951951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CA9F6-F59B-4439-87C3-9FFE8392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43BA1-BAC0-483E-BAA0-FCB2076D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24809-1C26-429C-AB1F-46C6E0E5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3F15C-0FA2-456C-BB53-15BDB5C3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2D304-A40C-4550-96D9-9C8D48C0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5D267-D34E-46AB-B752-39C3D0DF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527A-A93F-418B-8BD8-9167A57B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71231-35F0-4652-86F2-1693B9DB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613CA-333E-43CF-8AAE-CC09332A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6F387-481D-4B8E-9A42-EB6445AD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FBC2F-C304-4360-B61B-1FCD497A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CD26F-4771-4734-A534-3D1C547A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D8798-0F7C-4719-A67C-453AFD6F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760B7-32A2-452D-9C78-F7F139AB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A46FF-A20A-4E74-B6BA-635DAAA3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F17C1-0B7B-4ADD-A0BA-FC1D485F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AABC9-E8DF-40D8-8E8A-7852C493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6887-B988-4601-BDF7-F0810309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CF604-9EA5-43C0-BDF0-9AE8BE2C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16913-EDBF-4910-99D9-23B8CF57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EB679-A58A-42C6-9E3C-FDFED920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4DEA7-C1E0-4903-BC5D-7D682FE2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24AFA-2B3F-451F-B985-2C46322E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54C47-7B7B-4A4D-A7D6-5D9485BE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A55F1-B9C9-40EA-ACCD-FCBDA020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CA26F-966F-46A7-851B-395CE23C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3D186-CDB2-4048-AD2F-21EEA98D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57E69-B356-42D0-B18E-D8758D8E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38E2-2102-446C-9091-EED09F16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BB158-984A-4650-81BB-344067A0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66398-8376-4665-BC31-A93F35D8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8EC17-B7A2-4F39-B1C7-10DAE5E4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A404D-3CD1-4FB0-9C84-1380100B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C1FC0-D324-4704-9ABD-E106FF9D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1C659-404D-40D8-B7C9-CA6CDDDB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0B62C-0982-4741-B3D3-5F05CCC6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E1A06-2788-4CC4-980F-C94A39D3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5283C-8B44-408B-8056-D87A857F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B660B-2566-47C0-A85C-2BEAC3AE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http://www.sc115.com-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5C88-F027-4147-B911-9CDAE9A51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C40D-2B69-40BB-AD9E-3A20A4E93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C69A-1ACA-4E0F-9EFE-1D2C15F7A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1B7A-B24D-45FA-8553-6533D2AA6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A85B-794C-45E3-8F67-1722773E9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7113-4882-4BE5-9130-7851754FB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F812-DB7F-455A-A4FB-3E1CEEAC4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E025-F3C0-4CB6-B23E-B8DEB0818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3DCD-71D2-4766-9BD0-A2C90AA6E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C28A-55AA-44DD-B979-150812EAB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8FB6-5081-4A81-94D2-E9B1F5515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268,-1,NEXT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AutoShape 6"/>
          <p:cNvSpPr/>
          <p:nvPr/>
        </p:nvSpPr>
        <p:spPr>
          <a:xfrm>
            <a:off x="-163440" y="563400"/>
            <a:ext cx="552240" cy="551160"/>
          </a:xfrm>
          <a:custGeom>
            <a:avLst/>
            <a:gdLst>
              <a:gd name="textAreaLeft" fmla="*/ 190080 w 552240"/>
              <a:gd name="textAreaRight" fmla="*/ 362160 w 552240"/>
              <a:gd name="textAreaTop" fmla="*/ 189720 h 551160"/>
              <a:gd name="textAreaBottom" fmla="*/ 361440 h 551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125" y="11709"/>
                </a:lnTo>
                <a:lnTo>
                  <a:pt x="786" y="14846"/>
                </a:lnTo>
                <a:lnTo>
                  <a:pt x="6806" y="13394"/>
                </a:lnTo>
                <a:lnTo>
                  <a:pt x="3163" y="18437"/>
                </a:lnTo>
                <a:lnTo>
                  <a:pt x="8137" y="14748"/>
                </a:lnTo>
                <a:lnTo>
                  <a:pt x="6580" y="20741"/>
                </a:lnTo>
                <a:lnTo>
                  <a:pt x="9810" y="15458"/>
                </a:lnTo>
                <a:lnTo>
                  <a:pt x="10800" y="21600"/>
                </a:lnTo>
                <a:lnTo>
                  <a:pt x="11709" y="15475"/>
                </a:lnTo>
                <a:lnTo>
                  <a:pt x="14846" y="20814"/>
                </a:lnTo>
                <a:lnTo>
                  <a:pt x="13394" y="14794"/>
                </a:lnTo>
                <a:lnTo>
                  <a:pt x="18437" y="18437"/>
                </a:lnTo>
                <a:lnTo>
                  <a:pt x="14748" y="13463"/>
                </a:lnTo>
                <a:lnTo>
                  <a:pt x="20741" y="15020"/>
                </a:lnTo>
                <a:lnTo>
                  <a:pt x="15458" y="11790"/>
                </a:lnTo>
                <a:lnTo>
                  <a:pt x="21600" y="10800"/>
                </a:lnTo>
                <a:lnTo>
                  <a:pt x="15475" y="9891"/>
                </a:lnTo>
                <a:lnTo>
                  <a:pt x="20814" y="6754"/>
                </a:lnTo>
                <a:lnTo>
                  <a:pt x="14794" y="8206"/>
                </a:lnTo>
                <a:lnTo>
                  <a:pt x="18437" y="3163"/>
                </a:lnTo>
                <a:lnTo>
                  <a:pt x="13463" y="6852"/>
                </a:lnTo>
                <a:lnTo>
                  <a:pt x="15020" y="859"/>
                </a:lnTo>
                <a:lnTo>
                  <a:pt x="11790" y="6142"/>
                </a:lnTo>
                <a:lnTo>
                  <a:pt x="10800" y="0"/>
                </a:lnTo>
                <a:lnTo>
                  <a:pt x="9891" y="6125"/>
                </a:lnTo>
                <a:lnTo>
                  <a:pt x="6754" y="786"/>
                </a:lnTo>
                <a:lnTo>
                  <a:pt x="8206" y="6806"/>
                </a:lnTo>
                <a:lnTo>
                  <a:pt x="3163" y="3163"/>
                </a:lnTo>
                <a:lnTo>
                  <a:pt x="6852" y="8137"/>
                </a:lnTo>
                <a:lnTo>
                  <a:pt x="859" y="6580"/>
                </a:lnTo>
                <a:lnTo>
                  <a:pt x="6142" y="981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7"/>
          <p:cNvSpPr/>
          <p:nvPr/>
        </p:nvSpPr>
        <p:spPr>
          <a:xfrm>
            <a:off x="-287280" y="458640"/>
            <a:ext cx="792000" cy="763560"/>
          </a:xfrm>
          <a:custGeom>
            <a:avLst/>
            <a:gdLst>
              <a:gd name="textAreaLeft" fmla="*/ 365760 w 792000"/>
              <a:gd name="textAreaRight" fmla="*/ 426240 w 792000"/>
              <a:gd name="textAreaTop" fmla="*/ 352800 h 763560"/>
              <a:gd name="textAreaBottom" fmla="*/ 410760 h 76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77" y="9977"/>
                </a:lnTo>
                <a:lnTo>
                  <a:pt x="10800" y="0"/>
                </a:lnTo>
                <a:lnTo>
                  <a:pt x="11623" y="9977"/>
                </a:lnTo>
                <a:lnTo>
                  <a:pt x="21600" y="10800"/>
                </a:lnTo>
                <a:lnTo>
                  <a:pt x="11623" y="11623"/>
                </a:lnTo>
                <a:lnTo>
                  <a:pt x="10800" y="21600"/>
                </a:lnTo>
                <a:lnTo>
                  <a:pt x="9977" y="1162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8"/>
          <p:cNvSpPr/>
          <p:nvPr/>
        </p:nvSpPr>
        <p:spPr>
          <a:xfrm rot="18909000">
            <a:off x="-380880" y="380520"/>
            <a:ext cx="981000" cy="944640"/>
          </a:xfrm>
          <a:custGeom>
            <a:avLst/>
            <a:gdLst>
              <a:gd name="textAreaLeft" fmla="*/ 453240 w 981000"/>
              <a:gd name="textAreaRight" fmla="*/ 527760 w 981000"/>
              <a:gd name="textAreaTop" fmla="*/ 436320 h 944640"/>
              <a:gd name="textAreaBottom" fmla="*/ 508320 h 94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77" y="9977"/>
                </a:lnTo>
                <a:lnTo>
                  <a:pt x="10800" y="0"/>
                </a:lnTo>
                <a:lnTo>
                  <a:pt x="11623" y="9977"/>
                </a:lnTo>
                <a:lnTo>
                  <a:pt x="21600" y="10800"/>
                </a:lnTo>
                <a:lnTo>
                  <a:pt x="11623" y="11623"/>
                </a:lnTo>
                <a:lnTo>
                  <a:pt x="10800" y="21600"/>
                </a:lnTo>
                <a:lnTo>
                  <a:pt x="9977" y="1162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9"/>
          <p:cNvSpPr/>
          <p:nvPr/>
        </p:nvSpPr>
        <p:spPr>
          <a:xfrm flipH="1">
            <a:off x="7481880" y="380880"/>
            <a:ext cx="758880" cy="731880"/>
          </a:xfrm>
          <a:custGeom>
            <a:avLst/>
            <a:gdLst>
              <a:gd name="textAreaLeft" fmla="*/ 349920 w 758880"/>
              <a:gd name="textAreaRight" fmla="*/ 408960 w 758880"/>
              <a:gd name="textAreaTop" fmla="*/ 337680 h 731880"/>
              <a:gd name="textAreaBottom" fmla="*/ 394200 h 731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1" y="9961"/>
                </a:lnTo>
                <a:lnTo>
                  <a:pt x="10800" y="0"/>
                </a:lnTo>
                <a:lnTo>
                  <a:pt x="11639" y="9961"/>
                </a:lnTo>
                <a:lnTo>
                  <a:pt x="21600" y="10800"/>
                </a:lnTo>
                <a:lnTo>
                  <a:pt x="11639" y="11639"/>
                </a:lnTo>
                <a:lnTo>
                  <a:pt x="10800" y="21600"/>
                </a:lnTo>
                <a:lnTo>
                  <a:pt x="9961" y="1163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0"/>
          <p:cNvSpPr/>
          <p:nvPr/>
        </p:nvSpPr>
        <p:spPr>
          <a:xfrm flipV="1" rot="18909600">
            <a:off x="7543440" y="446760"/>
            <a:ext cx="625320" cy="603000"/>
          </a:xfrm>
          <a:custGeom>
            <a:avLst/>
            <a:gdLst>
              <a:gd name="textAreaLeft" fmla="*/ 288360 w 625320"/>
              <a:gd name="textAreaRight" fmla="*/ 336960 w 625320"/>
              <a:gd name="textAreaTop" fmla="*/ 278280 h 603000"/>
              <a:gd name="textAreaBottom" fmla="*/ 324720 h 60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7" y="9967"/>
                </a:lnTo>
                <a:lnTo>
                  <a:pt x="10800" y="0"/>
                </a:lnTo>
                <a:lnTo>
                  <a:pt x="11633" y="9967"/>
                </a:lnTo>
                <a:lnTo>
                  <a:pt x="21600" y="10800"/>
                </a:lnTo>
                <a:lnTo>
                  <a:pt x="11633" y="11633"/>
                </a:lnTo>
                <a:lnTo>
                  <a:pt x="10800" y="21600"/>
                </a:lnTo>
                <a:lnTo>
                  <a:pt x="9967" y="1163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2057400" y="1295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1d1b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7"/>
          <p:cNvSpPr/>
          <p:nvPr/>
        </p:nvSpPr>
        <p:spPr>
          <a:xfrm>
            <a:off x="1371600" y="1905120"/>
            <a:ext cx="6095880" cy="0"/>
          </a:xfrm>
          <a:prstGeom prst="line">
            <a:avLst/>
          </a:prstGeom>
          <a:ln w="28080">
            <a:solidFill>
              <a:srgbClr val="7c1d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8"/>
          <p:cNvSpPr/>
          <p:nvPr/>
        </p:nvSpPr>
        <p:spPr>
          <a:xfrm>
            <a:off x="1752480" y="1447920"/>
            <a:ext cx="0" cy="3886200"/>
          </a:xfrm>
          <a:prstGeom prst="line">
            <a:avLst/>
          </a:prstGeom>
          <a:ln w="28080">
            <a:solidFill>
              <a:srgbClr val="7c1d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81"/>
          <p:cNvGrpSpPr/>
          <p:nvPr/>
        </p:nvGrpSpPr>
        <p:grpSpPr>
          <a:xfrm>
            <a:off x="2133720" y="2558880"/>
            <a:ext cx="2666160" cy="3232080"/>
            <a:chOff x="2133720" y="2558880"/>
            <a:chExt cx="2666160" cy="3232080"/>
          </a:xfrm>
        </p:grpSpPr>
        <p:sp>
          <p:nvSpPr>
            <p:cNvPr id="460" name="Text Box 12"/>
            <p:cNvSpPr/>
            <p:nvPr/>
          </p:nvSpPr>
          <p:spPr>
            <a:xfrm>
              <a:off x="2133720" y="4921200"/>
              <a:ext cx="25837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13"/>
            <p:cNvSpPr/>
            <p:nvPr/>
          </p:nvSpPr>
          <p:spPr>
            <a:xfrm>
              <a:off x="2133720" y="5394240"/>
              <a:ext cx="25837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2" name="Group 80"/>
            <p:cNvGrpSpPr/>
            <p:nvPr/>
          </p:nvGrpSpPr>
          <p:grpSpPr>
            <a:xfrm>
              <a:off x="2133720" y="2558880"/>
              <a:ext cx="2666160" cy="2379600"/>
              <a:chOff x="2133720" y="2558880"/>
              <a:chExt cx="2666160" cy="2379600"/>
            </a:xfrm>
          </p:grpSpPr>
          <p:sp>
            <p:nvSpPr>
              <p:cNvPr id="463" name="Text Box 11"/>
              <p:cNvSpPr/>
              <p:nvPr/>
            </p:nvSpPr>
            <p:spPr>
              <a:xfrm>
                <a:off x="2133720" y="2558880"/>
                <a:ext cx="2666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7c1d1b"/>
                    </a:solidFill>
                    <a:latin typeface="Arial"/>
                  </a:rPr>
                  <a:t>二、验收节点分解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74"/>
              <p:cNvSpPr/>
              <p:nvPr/>
            </p:nvSpPr>
            <p:spPr>
              <a:xfrm>
                <a:off x="2133720" y="3184200"/>
                <a:ext cx="199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◎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消防验收流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75"/>
              <p:cNvSpPr/>
              <p:nvPr/>
            </p:nvSpPr>
            <p:spPr>
              <a:xfrm>
                <a:off x="2133720" y="3641400"/>
                <a:ext cx="1833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◎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竣工备案流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76"/>
              <p:cNvSpPr/>
              <p:nvPr/>
            </p:nvSpPr>
            <p:spPr>
              <a:xfrm>
                <a:off x="2133720" y="4113000"/>
                <a:ext cx="2083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◎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规划验收流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77"/>
              <p:cNvSpPr/>
              <p:nvPr/>
            </p:nvSpPr>
            <p:spPr>
              <a:xfrm>
                <a:off x="2441880" y="4570200"/>
                <a:ext cx="1395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◎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入住前准备工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Group 79"/>
          <p:cNvGrpSpPr/>
          <p:nvPr/>
        </p:nvGrpSpPr>
        <p:grpSpPr>
          <a:xfrm>
            <a:off x="2089080" y="2209680"/>
            <a:ext cx="2330280" cy="614520"/>
            <a:chOff x="2089080" y="2209680"/>
            <a:chExt cx="2330280" cy="614520"/>
          </a:xfrm>
        </p:grpSpPr>
        <p:sp>
          <p:nvSpPr>
            <p:cNvPr id="469" name="Rectangle 68"/>
            <p:cNvSpPr/>
            <p:nvPr/>
          </p:nvSpPr>
          <p:spPr>
            <a:xfrm>
              <a:off x="2089080" y="22507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69"/>
            <p:cNvSpPr/>
            <p:nvPr/>
          </p:nvSpPr>
          <p:spPr>
            <a:xfrm>
              <a:off x="2089080" y="22953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70"/>
            <p:cNvSpPr/>
            <p:nvPr/>
          </p:nvSpPr>
          <p:spPr>
            <a:xfrm>
              <a:off x="2089080" y="233820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71"/>
            <p:cNvSpPr/>
            <p:nvPr/>
          </p:nvSpPr>
          <p:spPr>
            <a:xfrm>
              <a:off x="2089080" y="2373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72"/>
            <p:cNvSpPr/>
            <p:nvPr/>
          </p:nvSpPr>
          <p:spPr>
            <a:xfrm>
              <a:off x="2089080" y="24145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73"/>
            <p:cNvSpPr/>
            <p:nvPr/>
          </p:nvSpPr>
          <p:spPr>
            <a:xfrm>
              <a:off x="2089080" y="24573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78"/>
            <p:cNvSpPr/>
            <p:nvPr/>
          </p:nvSpPr>
          <p:spPr>
            <a:xfrm>
              <a:off x="2089080" y="2209680"/>
              <a:ext cx="233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c1d1b"/>
                  </a:solidFill>
                  <a:latin typeface="Arial"/>
                </a:rPr>
                <a:t>一、逻辑关系总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84"/>
          <p:cNvGrpSpPr/>
          <p:nvPr/>
        </p:nvGrpSpPr>
        <p:grpSpPr>
          <a:xfrm>
            <a:off x="6553080" y="38160"/>
            <a:ext cx="2590920" cy="1357200"/>
            <a:chOff x="6553080" y="38160"/>
            <a:chExt cx="2590920" cy="1357200"/>
          </a:xfrm>
        </p:grpSpPr>
        <p:pic>
          <p:nvPicPr>
            <p:cNvPr id="477" name="Picture 82" descr="底色"/>
            <p:cNvPicPr/>
            <p:nvPr/>
          </p:nvPicPr>
          <p:blipFill>
            <a:blip r:embed="rId2"/>
            <a:stretch/>
          </p:blipFill>
          <p:spPr>
            <a:xfrm>
              <a:off x="6553080" y="38160"/>
              <a:ext cx="259092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Text Box 83"/>
            <p:cNvSpPr/>
            <p:nvPr/>
          </p:nvSpPr>
          <p:spPr>
            <a:xfrm>
              <a:off x="7448400" y="1028880"/>
              <a:ext cx="1676520" cy="36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85"/>
          <p:cNvGrpSpPr/>
          <p:nvPr/>
        </p:nvGrpSpPr>
        <p:grpSpPr>
          <a:xfrm>
            <a:off x="1600200" y="6229440"/>
            <a:ext cx="1371600" cy="301320"/>
            <a:chOff x="1600200" y="6229440"/>
            <a:chExt cx="1371600" cy="301320"/>
          </a:xfrm>
        </p:grpSpPr>
        <p:sp>
          <p:nvSpPr>
            <p:cNvPr id="480" name="AutoShape 86"/>
            <p:cNvSpPr/>
            <p:nvPr/>
          </p:nvSpPr>
          <p:spPr>
            <a:xfrm>
              <a:off x="1600200" y="627552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c1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87"/>
            <p:cNvSpPr/>
            <p:nvPr/>
          </p:nvSpPr>
          <p:spPr>
            <a:xfrm>
              <a:off x="1600200" y="6229440"/>
              <a:ext cx="1371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 u="sng">
                  <a:solidFill>
                    <a:srgbClr val="990000"/>
                  </a:solidFill>
                  <a:uFillTx/>
                  <a:latin typeface="Arial"/>
                  <a:ea typeface="黑体"/>
                  <a:hlinkClick r:id="rId3"/>
                </a:rPr>
                <a:t>逻辑</a:t>
              </a:r>
              <a:r>
                <a:rPr b="0" lang="zh-CN" sz="1200" spc="-1" strike="noStrike">
                  <a:solidFill>
                    <a:srgbClr val="7c1d1b"/>
                  </a:solidFill>
                  <a:latin typeface="Arial"/>
                  <a:ea typeface="黑体"/>
                </a:rPr>
                <a:t>关系总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Group 88"/>
          <p:cNvGrpSpPr/>
          <p:nvPr/>
        </p:nvGrpSpPr>
        <p:grpSpPr>
          <a:xfrm>
            <a:off x="3124080" y="6229440"/>
            <a:ext cx="1371600" cy="276480"/>
            <a:chOff x="3124080" y="6229440"/>
            <a:chExt cx="1371600" cy="276480"/>
          </a:xfrm>
        </p:grpSpPr>
        <p:sp>
          <p:nvSpPr>
            <p:cNvPr id="483" name="AutoShape 89"/>
            <p:cNvSpPr/>
            <p:nvPr/>
          </p:nvSpPr>
          <p:spPr>
            <a:xfrm>
              <a:off x="3124080" y="627552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c1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90"/>
            <p:cNvSpPr/>
            <p:nvPr/>
          </p:nvSpPr>
          <p:spPr>
            <a:xfrm>
              <a:off x="3124080" y="622944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c1d1b"/>
                  </a:solidFill>
                  <a:latin typeface="Arial"/>
                  <a:ea typeface="黑体"/>
                </a:rPr>
                <a:t>消防验收流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91"/>
          <p:cNvGrpSpPr/>
          <p:nvPr/>
        </p:nvGrpSpPr>
        <p:grpSpPr>
          <a:xfrm>
            <a:off x="76320" y="6229440"/>
            <a:ext cx="1371600" cy="276480"/>
            <a:chOff x="76320" y="6229440"/>
            <a:chExt cx="1371600" cy="276480"/>
          </a:xfrm>
        </p:grpSpPr>
        <p:sp>
          <p:nvSpPr>
            <p:cNvPr id="486" name="AutoShape 92"/>
            <p:cNvSpPr/>
            <p:nvPr/>
          </p:nvSpPr>
          <p:spPr>
            <a:xfrm>
              <a:off x="76320" y="627552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c1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93"/>
            <p:cNvSpPr/>
            <p:nvPr/>
          </p:nvSpPr>
          <p:spPr>
            <a:xfrm>
              <a:off x="76320" y="622944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c1d1b"/>
                  </a:solidFill>
                  <a:latin typeface="Arial"/>
                  <a:ea typeface="黑体"/>
                </a:rPr>
                <a:t>返回目录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94"/>
          <p:cNvGrpSpPr/>
          <p:nvPr/>
        </p:nvGrpSpPr>
        <p:grpSpPr>
          <a:xfrm>
            <a:off x="4648320" y="6229440"/>
            <a:ext cx="1371600" cy="276480"/>
            <a:chOff x="4648320" y="6229440"/>
            <a:chExt cx="1371600" cy="276480"/>
          </a:xfrm>
        </p:grpSpPr>
        <p:sp>
          <p:nvSpPr>
            <p:cNvPr id="489" name="AutoShape 95"/>
            <p:cNvSpPr/>
            <p:nvPr/>
          </p:nvSpPr>
          <p:spPr>
            <a:xfrm>
              <a:off x="4648320" y="627552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c1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 Box 96"/>
            <p:cNvSpPr/>
            <p:nvPr/>
          </p:nvSpPr>
          <p:spPr>
            <a:xfrm>
              <a:off x="4648320" y="622944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c1d1b"/>
                  </a:solidFill>
                  <a:latin typeface="Arial"/>
                  <a:ea typeface="黑体"/>
                </a:rPr>
                <a:t>竣工备案流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97"/>
          <p:cNvGrpSpPr/>
          <p:nvPr/>
        </p:nvGrpSpPr>
        <p:grpSpPr>
          <a:xfrm>
            <a:off x="6172200" y="6229440"/>
            <a:ext cx="1371600" cy="276480"/>
            <a:chOff x="6172200" y="6229440"/>
            <a:chExt cx="1371600" cy="276480"/>
          </a:xfrm>
        </p:grpSpPr>
        <p:sp>
          <p:nvSpPr>
            <p:cNvPr id="492" name="AutoShape 98"/>
            <p:cNvSpPr/>
            <p:nvPr/>
          </p:nvSpPr>
          <p:spPr>
            <a:xfrm>
              <a:off x="6172200" y="627552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c1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99"/>
            <p:cNvSpPr/>
            <p:nvPr/>
          </p:nvSpPr>
          <p:spPr>
            <a:xfrm>
              <a:off x="6172200" y="622944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c1d1b"/>
                  </a:solidFill>
                  <a:latin typeface="Arial"/>
                  <a:ea typeface="黑体"/>
                </a:rPr>
                <a:t>规划验收流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100"/>
          <p:cNvGrpSpPr/>
          <p:nvPr/>
        </p:nvGrpSpPr>
        <p:grpSpPr>
          <a:xfrm>
            <a:off x="7696080" y="6229440"/>
            <a:ext cx="1371600" cy="276480"/>
            <a:chOff x="7696080" y="6229440"/>
            <a:chExt cx="1371600" cy="276480"/>
          </a:xfrm>
        </p:grpSpPr>
        <p:sp>
          <p:nvSpPr>
            <p:cNvPr id="495" name="AutoShape 101"/>
            <p:cNvSpPr/>
            <p:nvPr/>
          </p:nvSpPr>
          <p:spPr>
            <a:xfrm>
              <a:off x="7696080" y="627552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c1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102"/>
            <p:cNvSpPr/>
            <p:nvPr/>
          </p:nvSpPr>
          <p:spPr>
            <a:xfrm>
              <a:off x="7696080" y="622944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c1d1b"/>
                  </a:solidFill>
                  <a:latin typeface="Arial"/>
                  <a:ea typeface="黑体"/>
                </a:rPr>
                <a:t>入住前准备工作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7" name="Picture 104" descr="20081410265340_2"/>
          <p:cNvPicPr/>
          <p:nvPr/>
        </p:nvPicPr>
        <p:blipFill>
          <a:blip r:embed="rId4"/>
          <a:srcRect l="50003" t="0" r="0" b="543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05" descr="20081410265340_2"/>
          <p:cNvPicPr/>
          <p:nvPr/>
        </p:nvPicPr>
        <p:blipFill>
          <a:blip r:embed="rId5"/>
          <a:srcRect l="0" t="0" r="50003" b="543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99" name="WordArt 103" descr=""/>
          <p:cNvPicPr/>
          <p:nvPr/>
        </p:nvPicPr>
        <p:blipFill>
          <a:blip r:embed="rId6"/>
          <a:stretch/>
        </p:blipFill>
        <p:spPr>
          <a:xfrm>
            <a:off x="1584360" y="3035160"/>
            <a:ext cx="6273720" cy="101304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98360" y="333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传统风格会议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6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9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035 0.00209 L 0.84566 -0.00902 E">
                                      <p:cBhvr>
                                        <p:cTn id="57" dur="3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017 0.00185 L 0.8467 -0.00949 E">
                                      <p:cBhvr>
                                        <p:cTn id="59" dur="3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539 -0.00903 L -3.88889E-006 2.22222E-006 E">
                                      <p:cBhvr>
                                        <p:cTn id="61" dur="3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21599879">
                                      <p:cBhvr>
                                        <p:cTn id="63" dur="5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65" dur="5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21599879">
                                      <p:cBhvr>
                                        <p:cTn id="67" dur="5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20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20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20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>
                                  <p:stCondLst>
                                    <p:cond delay="3700"/>
                                  </p:stCondLst>
                                  <p:childTnLst>
                                    <p:animRot by="10800000">
                                      <p:cBhvr>
                                        <p:cTn id="94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8">
                                  <p:stCondLst>
                                    <p:cond delay="3700"/>
                                  </p:stCondLst>
                                  <p:childTnLst>
                                    <p:animRot by="-10799880">
                                      <p:cBhvr>
                                        <p:cTn id="96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53">
                                  <p:stCondLst>
                                    <p:cond delay="3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30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3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53">
                                  <p:stCondLst>
                                    <p:cond delay="4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3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3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2"/>
          <p:cNvGrpSpPr/>
          <p:nvPr/>
        </p:nvGrpSpPr>
        <p:grpSpPr>
          <a:xfrm>
            <a:off x="-19080" y="2819520"/>
            <a:ext cx="9199440" cy="1190520"/>
            <a:chOff x="-19080" y="2819520"/>
            <a:chExt cx="9199440" cy="1190520"/>
          </a:xfrm>
        </p:grpSpPr>
        <p:sp>
          <p:nvSpPr>
            <p:cNvPr id="503" name="Rectangle 3"/>
            <p:cNvSpPr/>
            <p:nvPr/>
          </p:nvSpPr>
          <p:spPr>
            <a:xfrm>
              <a:off x="0" y="2905200"/>
              <a:ext cx="9144000" cy="1028880"/>
            </a:xfrm>
            <a:prstGeom prst="rect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4"/>
            <p:cNvSpPr/>
            <p:nvPr/>
          </p:nvSpPr>
          <p:spPr>
            <a:xfrm>
              <a:off x="0" y="2819520"/>
              <a:ext cx="918036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5"/>
            <p:cNvSpPr/>
            <p:nvPr/>
          </p:nvSpPr>
          <p:spPr>
            <a:xfrm>
              <a:off x="-19080" y="4010040"/>
              <a:ext cx="918036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Rectangle 7"/>
          <p:cNvSpPr/>
          <p:nvPr/>
        </p:nvSpPr>
        <p:spPr>
          <a:xfrm>
            <a:off x="0" y="76320"/>
            <a:ext cx="6372360" cy="3808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8"/>
          <p:cNvSpPr/>
          <p:nvPr/>
        </p:nvSpPr>
        <p:spPr>
          <a:xfrm>
            <a:off x="-7920" y="533520"/>
            <a:ext cx="918036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9"/>
          <p:cNvSpPr/>
          <p:nvPr/>
        </p:nvSpPr>
        <p:spPr>
          <a:xfrm>
            <a:off x="0" y="6824520"/>
            <a:ext cx="918036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3"/>
          <p:cNvSpPr/>
          <p:nvPr/>
        </p:nvSpPr>
        <p:spPr>
          <a:xfrm>
            <a:off x="65160" y="6048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一、逻辑关系总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6"/>
          <p:cNvSpPr/>
          <p:nvPr/>
        </p:nvSpPr>
        <p:spPr>
          <a:xfrm>
            <a:off x="2692440" y="3171960"/>
            <a:ext cx="424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黑体"/>
              </a:rPr>
              <a:t>一、逻辑关系总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44444E-006 L -0.00087 -0.46875 E">
                                      <p:cBhvr>
                                        <p:cTn id="112" dur="1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68208E-006 L -0.00139 -0.46868 E">
                                      <p:cBhvr>
                                        <p:cTn id="114" dur="1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6"/>
          <p:cNvSpPr/>
          <p:nvPr/>
        </p:nvSpPr>
        <p:spPr>
          <a:xfrm>
            <a:off x="5202360" y="2541600"/>
            <a:ext cx="4332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0" y="76320"/>
            <a:ext cx="6372360" cy="3808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8"/>
          <p:cNvSpPr/>
          <p:nvPr/>
        </p:nvSpPr>
        <p:spPr>
          <a:xfrm>
            <a:off x="-7920" y="533520"/>
            <a:ext cx="918036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9"/>
          <p:cNvSpPr/>
          <p:nvPr/>
        </p:nvSpPr>
        <p:spPr>
          <a:xfrm>
            <a:off x="0" y="6824520"/>
            <a:ext cx="918036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5160" y="6048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一、逻辑关系总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000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9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3ED88-A260-4B70-A5D0-38CB2AC2196E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cq结构竖线"/>
          <p:cNvPicPr/>
          <p:nvPr/>
        </p:nvPicPr>
        <p:blipFill>
          <a:blip r:embed="rId2"/>
          <a:srcRect l="0" t="40001" r="79169" b="21110"/>
          <a:stretch/>
        </p:blipFill>
        <p:spPr>
          <a:xfrm>
            <a:off x="0" y="2743200"/>
            <a:ext cx="1905120" cy="26668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cq楼层横线"/>
          <p:cNvPicPr/>
          <p:nvPr/>
        </p:nvPicPr>
        <p:blipFill>
          <a:blip r:embed="rId3"/>
          <a:srcRect l="0" t="36669" r="78338" b="21110"/>
          <a:stretch/>
        </p:blipFill>
        <p:spPr>
          <a:xfrm>
            <a:off x="0" y="2514600"/>
            <a:ext cx="1981080" cy="28954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4" descr="cq结构横线"/>
          <p:cNvPicPr/>
          <p:nvPr/>
        </p:nvPicPr>
        <p:blipFill>
          <a:blip r:embed="rId4"/>
          <a:srcRect l="0" t="41113" r="75005" b="22223"/>
          <a:stretch/>
        </p:blipFill>
        <p:spPr>
          <a:xfrm>
            <a:off x="0" y="2819520"/>
            <a:ext cx="2286000" cy="25146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SH结构竖线"/>
          <p:cNvPicPr/>
          <p:nvPr/>
        </p:nvPicPr>
        <p:blipFill>
          <a:blip r:embed="rId5"/>
          <a:srcRect l="30835" t="45558" r="30001" b="21110"/>
          <a:stretch/>
        </p:blipFill>
        <p:spPr>
          <a:xfrm>
            <a:off x="2819520" y="3124080"/>
            <a:ext cx="3581280" cy="2286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" descr="SH结构横线"/>
          <p:cNvPicPr/>
          <p:nvPr/>
        </p:nvPicPr>
        <p:blipFill>
          <a:blip r:embed="rId6"/>
          <a:srcRect l="30835" t="47783" r="30835" b="20003"/>
          <a:stretch/>
        </p:blipFill>
        <p:spPr>
          <a:xfrm>
            <a:off x="2819520" y="3276720"/>
            <a:ext cx="3504960" cy="22096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7" descr="SH楼层横线"/>
          <p:cNvPicPr/>
          <p:nvPr/>
        </p:nvPicPr>
        <p:blipFill>
          <a:blip r:embed="rId7"/>
          <a:srcRect l="30835" t="47783" r="31666" b="21110"/>
          <a:stretch/>
        </p:blipFill>
        <p:spPr>
          <a:xfrm>
            <a:off x="2819520" y="3276720"/>
            <a:ext cx="3429000" cy="21333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SH楼层竖线"/>
          <p:cNvPicPr/>
          <p:nvPr/>
        </p:nvPicPr>
        <p:blipFill>
          <a:blip r:embed="rId8"/>
          <a:srcRect l="30839" t="46680" r="32489" b="21096"/>
          <a:stretch/>
        </p:blipFill>
        <p:spPr>
          <a:xfrm>
            <a:off x="2819520" y="3200400"/>
            <a:ext cx="3352680" cy="22096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bj结构竖线"/>
          <p:cNvPicPr/>
          <p:nvPr/>
        </p:nvPicPr>
        <p:blipFill>
          <a:blip r:embed="rId9"/>
          <a:srcRect l="70003" t="53335" r="0" b="21110"/>
          <a:stretch/>
        </p:blipFill>
        <p:spPr>
          <a:xfrm>
            <a:off x="6400800" y="365760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bj结构横线"/>
          <p:cNvPicPr/>
          <p:nvPr/>
        </p:nvPicPr>
        <p:blipFill>
          <a:blip r:embed="rId10"/>
          <a:srcRect l="70003" t="53335" r="0" b="21110"/>
          <a:stretch/>
        </p:blipFill>
        <p:spPr>
          <a:xfrm>
            <a:off x="6400800" y="365760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BJ楼层横线"/>
          <p:cNvPicPr/>
          <p:nvPr/>
        </p:nvPicPr>
        <p:blipFill>
          <a:blip r:embed="rId11"/>
          <a:srcRect l="69168" t="52222" r="0" b="21115"/>
          <a:stretch/>
        </p:blipFill>
        <p:spPr>
          <a:xfrm>
            <a:off x="6324480" y="3581280"/>
            <a:ext cx="2819520" cy="18288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25" descr="底色"/>
          <p:cNvPicPr/>
          <p:nvPr/>
        </p:nvPicPr>
        <p:blipFill>
          <a:blip r:embed="rId12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531" name="WordArt 29"/>
          <p:cNvSpPr txBox="1"/>
          <p:nvPr/>
        </p:nvSpPr>
        <p:spPr>
          <a:xfrm>
            <a:off x="2209680" y="2362320"/>
            <a:ext cx="50263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Eras Demi ITC"/>
              </a:rPr>
              <a:t>The end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Eras Demi ITC"/>
              <a:ea typeface="Eras Demi ITC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05:37:0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0:49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