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E491-3617-42E3-8C08-7337F20C4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3275-8031-4C3D-A7B8-904085A87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7E23-069C-47EB-8B24-A40FD9052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C548-D272-46B7-B174-18E9F35AD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D424-F554-4816-80D3-77BBFF448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F9EA-726F-4925-8A20-9BB760EE0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9CF9-E784-4A40-AEB4-9C52EF96A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86FF-EFE1-41E9-A8BF-2215BA72E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2C67-4312-41F9-B437-2E378F9CD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C4792-E897-40DC-88F4-18E420934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A97E-4B56-4F4F-B945-7AB613CA4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B80E-D8E9-4BA6-87B6-E9121BFBF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"/>
          <p:cNvPicPr/>
          <p:nvPr/>
        </p:nvPicPr>
        <p:blipFill>
          <a:blip r:embed="rId2"/>
          <a:stretch/>
        </p:blipFill>
        <p:spPr>
          <a:xfrm>
            <a:off x="0" y="318960"/>
            <a:ext cx="7072200" cy="65390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48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638172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0342F62-4AFE-4D3A-A9C6-497BB0690343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2" descr=""/>
          <p:cNvPicPr/>
          <p:nvPr/>
        </p:nvPicPr>
        <p:blipFill>
          <a:blip r:embed="rId2"/>
          <a:srcRect l="9568" t="0" r="0" b="0"/>
          <a:stretch/>
        </p:blipFill>
        <p:spPr>
          <a:xfrm>
            <a:off x="0" y="0"/>
            <a:ext cx="82677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7286760" y="6969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49200" y="1312920"/>
            <a:ext cx="6864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衬衣打领带个人简历打包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56080" y="598788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520" y="64404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33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6633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1234787-842E-4E25-BA56-C43DEEB4BBA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9640" y="2387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5f5f5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GZB</cp:lastModifiedBy>
  <dcterms:modified xsi:type="dcterms:W3CDTF">2015-08-12T14:36:21Z</dcterms:modified>
  <cp:revision>15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