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4200" y="1002960"/>
            <a:ext cx="7704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54200" y="3510360"/>
            <a:ext cx="7704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4200" y="1002960"/>
            <a:ext cx="3759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1960" y="1002960"/>
            <a:ext cx="3759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54200" y="3510360"/>
            <a:ext cx="3759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1960" y="3510360"/>
            <a:ext cx="3759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54200" y="1002960"/>
            <a:ext cx="2480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59160" y="1002960"/>
            <a:ext cx="2480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63760" y="1002960"/>
            <a:ext cx="2480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54200" y="3510360"/>
            <a:ext cx="2480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59160" y="3510360"/>
            <a:ext cx="2480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63760" y="3510360"/>
            <a:ext cx="2480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54200" y="1002960"/>
            <a:ext cx="7704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4200" y="1002960"/>
            <a:ext cx="770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4200" y="1002960"/>
            <a:ext cx="3759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1960" y="1002960"/>
            <a:ext cx="3759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4200" y="1002960"/>
            <a:ext cx="3759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1960" y="1002960"/>
            <a:ext cx="3759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54200" y="3510360"/>
            <a:ext cx="3759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54200" y="1002960"/>
            <a:ext cx="7704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4200" y="1002960"/>
            <a:ext cx="3759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1960" y="1002960"/>
            <a:ext cx="3759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1960" y="3510360"/>
            <a:ext cx="3759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4200" y="1002960"/>
            <a:ext cx="3759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1960" y="1002960"/>
            <a:ext cx="3759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54200" y="3510360"/>
            <a:ext cx="7704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4200" y="1002960"/>
            <a:ext cx="7704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54200" y="3510360"/>
            <a:ext cx="7704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4200" y="1002960"/>
            <a:ext cx="3759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1960" y="1002960"/>
            <a:ext cx="3759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4200" y="3510360"/>
            <a:ext cx="3759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1960" y="3510360"/>
            <a:ext cx="3759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4200" y="1002960"/>
            <a:ext cx="2480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59160" y="1002960"/>
            <a:ext cx="2480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3760" y="1002960"/>
            <a:ext cx="2480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54200" y="3510360"/>
            <a:ext cx="2480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59160" y="3510360"/>
            <a:ext cx="2480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3760" y="3510360"/>
            <a:ext cx="2480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54200" y="1002960"/>
            <a:ext cx="770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4200" y="1002960"/>
            <a:ext cx="3759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1960" y="1002960"/>
            <a:ext cx="3759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54200" y="1002960"/>
            <a:ext cx="3759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1960" y="1002960"/>
            <a:ext cx="3759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54200" y="3510360"/>
            <a:ext cx="3759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4200" y="1002960"/>
            <a:ext cx="3759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1960" y="1002960"/>
            <a:ext cx="3759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1960" y="3510360"/>
            <a:ext cx="3759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4200" y="1002960"/>
            <a:ext cx="3759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1960" y="1002960"/>
            <a:ext cx="3759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54200" y="3510360"/>
            <a:ext cx="7704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54200" y="1002960"/>
            <a:ext cx="770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66"/>
              </a:buClr>
              <a:buSzPct val="140000"/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33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33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" name="Picture 3" descr="Top_lime"/>
          <p:cNvPicPr/>
          <p:nvPr/>
        </p:nvPicPr>
        <p:blipFill>
          <a:blip r:embed="rId2"/>
          <a:stretch/>
        </p:blipFill>
        <p:spPr>
          <a:xfrm>
            <a:off x="0" y="5940360"/>
            <a:ext cx="9144000" cy="18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920" y="624852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3A39-C014-4B36-99DD-38A938406A4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0" descr="460984921_3299dc5b47_o"/>
          <p:cNvPicPr/>
          <p:nvPr/>
        </p:nvPicPr>
        <p:blipFill>
          <a:blip r:embed="rId2"/>
          <a:stretch/>
        </p:blipFill>
        <p:spPr>
          <a:xfrm>
            <a:off x="-152280" y="0"/>
            <a:ext cx="10362960" cy="691200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2"/>
          <p:cNvSpPr/>
          <p:nvPr/>
        </p:nvSpPr>
        <p:spPr>
          <a:xfrm>
            <a:off x="25560" y="5321160"/>
            <a:ext cx="12090240" cy="698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9288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 (Hebrew)"/>
            </a:endParaRPr>
          </a:p>
        </p:txBody>
      </p:sp>
      <p:pic>
        <p:nvPicPr>
          <p:cNvPr id="42" name="Picture 3" descr="Top_lime"/>
          <p:cNvPicPr/>
          <p:nvPr/>
        </p:nvPicPr>
        <p:blipFill>
          <a:blip r:embed="rId3"/>
          <a:stretch/>
        </p:blipFill>
        <p:spPr>
          <a:xfrm>
            <a:off x="0" y="6184800"/>
            <a:ext cx="12039480" cy="2494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0" y="4114800"/>
            <a:ext cx="12090240" cy="1003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9288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 (Hebrew)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754200" y="1002960"/>
            <a:ext cx="770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66"/>
              </a:buClr>
              <a:buSzPct val="140000"/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33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33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3"/>
          <p:cNvSpPr/>
          <p:nvPr/>
        </p:nvSpPr>
        <p:spPr>
          <a:xfrm>
            <a:off x="6450120" y="8418600"/>
            <a:ext cx="1895400" cy="4680"/>
          </a:xfrm>
          <a:prstGeom prst="line">
            <a:avLst/>
          </a:prstGeom>
          <a:ln w="936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2880" tIns="-41760" bIns="-41760" anchor="ctr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Times New Roman (Hebrew)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44193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4572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  <a:ea typeface="宋体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0" y="4343400"/>
            <a:ext cx="598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 (Hebrew)"/>
            </a:endParaRPr>
          </a:p>
        </p:txBody>
      </p:sp>
      <p:sp>
        <p:nvSpPr>
          <p:cNvPr id="85" name=""/>
          <p:cNvSpPr/>
          <p:nvPr/>
        </p:nvSpPr>
        <p:spPr>
          <a:xfrm>
            <a:off x="36360" y="55897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66"/>
              </a:solidFill>
              <a:latin typeface="Times New Roman (Hebrew)"/>
            </a:endParaRPr>
          </a:p>
        </p:txBody>
      </p:sp>
      <p:sp>
        <p:nvSpPr>
          <p:cNvPr id="86" name=""/>
          <p:cNvSpPr/>
          <p:nvPr/>
        </p:nvSpPr>
        <p:spPr>
          <a:xfrm>
            <a:off x="2197440" y="333360"/>
            <a:ext cx="556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 (Hebrew)"/>
              </a:rPr>
              <a:t>大堂群体会议</a:t>
            </a:r>
            <a:r>
              <a:rPr b="0" lang="zh-CN" sz="4000" spc="-1" strike="noStrike">
                <a:solidFill>
                  <a:srgbClr val="ffffff"/>
                </a:solidFill>
                <a:latin typeface="Times New Roman (Hebrew)"/>
                <a:ea typeface="宋体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Times New Roman (Hebrew)"/>
              </a:rPr>
              <a:t>模板</a:t>
            </a:r>
            <a:r>
              <a:rPr b="0" lang="zh-CN" sz="4000" spc="-1" strike="noStrike">
                <a:solidFill>
                  <a:srgbClr val="ffffff"/>
                </a:solidFill>
                <a:latin typeface="Times New Roman (Hebrew)"/>
                <a:ea typeface="宋体"/>
              </a:rPr>
              <a:t>打包下载</a:t>
            </a:r>
            <a:endParaRPr b="0" lang="en-US" sz="4000" spc="-1" strike="noStrike">
              <a:solidFill>
                <a:srgbClr val="003366"/>
              </a:solidFill>
              <a:latin typeface="Times New Roman (Hebrew)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4200" y="1002960"/>
            <a:ext cx="770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66"/>
              </a:solidFill>
              <a:latin typeface="Arial"/>
              <a:ea typeface="宋体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13413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 (Hebrew)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Times New Roman (Hebrew)"/>
              </a:rPr>
              <a:t>http://www.eeppt.com</a:t>
            </a:r>
            <a:endParaRPr b="0" lang="en-US" sz="1600" spc="-1" strike="noStrike">
              <a:solidFill>
                <a:srgbClr val="003366"/>
              </a:solidFill>
              <a:latin typeface="Times New Roman (Hebrew)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Times New Roman (Hebrew)"/>
              </a:rPr>
              <a:t>www.eeppt.com</a:t>
            </a:r>
            <a:endParaRPr b="0" lang="en-US" sz="1400" spc="-1" strike="noStrike">
              <a:solidFill>
                <a:srgbClr val="003366"/>
              </a:solidFill>
              <a:latin typeface="Times New Roman (Hebrew)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3"/>
          <p:cNvSpPr/>
          <p:nvPr/>
        </p:nvSpPr>
        <p:spPr>
          <a:xfrm>
            <a:off x="61920" y="6248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5D5D-6144-45CF-B74F-980A5BB11CD3}" type="slidenum">
              <a:rPr b="0" lang="ar-S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3366"/>
                </a:solidFill>
                <a:latin typeface="Arial"/>
                <a:ea typeface="宋体"/>
              </a:rPr>
              <a:t>	</a:t>
            </a:r>
            <a:endParaRPr b="0" lang="en-US" sz="1200" spc="-1" strike="noStrike">
              <a:solidFill>
                <a:srgbClr val="003366"/>
              </a:solidFill>
              <a:latin typeface="Times New Roman (Hebrew)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txBody>
          <a:bodyPr lIns="4572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4200" y="1002960"/>
            <a:ext cx="770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  <a:ea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4T10:02:4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cp:lastPrinted>2006-10-30T17:12:37Z</cp:lastPrinted>
  <dcterms:modified xsi:type="dcterms:W3CDTF">2015-08-14T12:51:26Z</dcterms:modified>
  <cp:revision>3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