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CAE-E91B-4D44-81D1-AC6A8C94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62F-7D63-4032-A361-17DDC94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BDE-9D4B-4EA1-87DF-2AE4E1EA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E5D-57AB-4A44-BB86-15B1A0FB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64D-4B40-4367-8FB9-5175DE22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259-4AB8-4406-BADF-A067ACA0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248-B44E-433D-ABD4-08B5F0DF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A90-9BE7-4E54-8894-ECEF47F2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95B-73F3-445C-A09D-220D9279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951-BD1D-436D-AB0B-694674E3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738-549C-426E-A5CE-5073E9A2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692-8A5C-4E40-86E1-EAB4B069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17EB-A1DC-4768-9D60-1504926EC8A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3D84-6D19-44DA-9207-C2F40236527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43000" y="142884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34c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适用于端午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214280" y="1928880"/>
            <a:ext cx="3000600" cy="1440"/>
          </a:xfrm>
          <a:prstGeom prst="line">
            <a:avLst/>
          </a:prstGeom>
          <a:ln w="9360">
            <a:solidFill>
              <a:srgbClr val="936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58770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9840" y="69228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端午节文化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CA4-1495-4A10-BA04-F9DC59F64B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0" descr="0006O734CD0598B0F1CDFCl.jpg"/>
          <p:cNvPicPr/>
          <p:nvPr/>
        </p:nvPicPr>
        <p:blipFill>
          <a:blip r:embed="rId1"/>
          <a:stretch/>
        </p:blipFill>
        <p:spPr>
          <a:xfrm>
            <a:off x="1643040" y="285840"/>
            <a:ext cx="25160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2" descr="1400806309552.jpg"/>
          <p:cNvPicPr/>
          <p:nvPr/>
        </p:nvPicPr>
        <p:blipFill>
          <a:blip r:embed="rId2"/>
          <a:stretch/>
        </p:blipFill>
        <p:spPr>
          <a:xfrm>
            <a:off x="4351320" y="214200"/>
            <a:ext cx="3935520" cy="25275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4" descr="yuan_d97aee01f80de0b2eef0ab7a5703605e.jpg"/>
          <p:cNvPicPr/>
          <p:nvPr/>
        </p:nvPicPr>
        <p:blipFill>
          <a:blip r:embed="rId3"/>
          <a:stretch/>
        </p:blipFill>
        <p:spPr>
          <a:xfrm>
            <a:off x="4643280" y="2928960"/>
            <a:ext cx="3989520" cy="29890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5" descr="23099736.jpg"/>
          <p:cNvPicPr/>
          <p:nvPr/>
        </p:nvPicPr>
        <p:blipFill>
          <a:blip r:embed="rId4"/>
          <a:stretch/>
        </p:blipFill>
        <p:spPr>
          <a:xfrm>
            <a:off x="1071720" y="4191120"/>
            <a:ext cx="3369960" cy="2238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7"/>
          <p:cNvSpPr/>
          <p:nvPr/>
        </p:nvSpPr>
        <p:spPr>
          <a:xfrm>
            <a:off x="4181400" y="2928960"/>
            <a:ext cx="4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美味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民间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0" descr="1.png"/>
          <p:cNvPicPr/>
          <p:nvPr/>
        </p:nvPicPr>
        <p:blipFill>
          <a:blip r:embed="rId2"/>
          <a:stretch/>
        </p:blipFill>
        <p:spPr>
          <a:xfrm>
            <a:off x="5072040" y="2928960"/>
            <a:ext cx="3903840" cy="3659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2428920" y="1285920"/>
            <a:ext cx="27385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（</a:t>
            </a:r>
            <a:r>
              <a:rPr b="0" lang="en-US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zòng zi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）又称“角黍”、“筒粽”，是端午节汉族的传统节日食品，由粽叶包裹糯米蒸制而成。传说是为纪念屈原而流传的，是中国历史上文化积淀最深厚的传统食品，深受人们的喜爱。</a:t>
            </a:r>
            <a:r>
              <a:rPr b="0" lang="en-US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12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月，江西德安县宋代古墓出土了两个实物粽子，据考证，这是目前发现的世界上最早的实物粽。早在春秋时期就已经出现“筒棕”，直到现在的每年农历五月初五，中国百姓家家都要浸糯米、洗粽叶、包粽子，这种风俗也流传到朝鲜、日本及东南亚诸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史籍记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85880" y="1282680"/>
            <a:ext cx="785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西汉把粽子做为最早出现的端午时食，应属“枭羹”。</a:t>
            </a: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《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史记</a:t>
            </a: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》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孝武本纪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注引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如淳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言：“汉使东郡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枭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五月五日为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枭羹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以赐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百官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。以恶鸟，故食之”。大约因为枭不易捕捉，所以吃枭羹的习俗并没有持续下来。锉是端午的主角－粽子，在稍晚的东汉就已出现。一直要到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晋朝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粽子才成为端午的应节食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2" descr="9885883_225152657159_2.jpg"/>
          <p:cNvPicPr/>
          <p:nvPr/>
        </p:nvPicPr>
        <p:blipFill>
          <a:blip r:embed="rId1"/>
          <a:stretch/>
        </p:blipFill>
        <p:spPr>
          <a:xfrm>
            <a:off x="76320" y="2214720"/>
            <a:ext cx="6852960" cy="4570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7000920" y="2071800"/>
            <a:ext cx="200016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南北朝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以后，民间开始有粽子，源自百姓祭奠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屈原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的说法。话说当年屈原投身汨罗江之后，百姓莫不感叹哀伤，空有抱负的屈子就这样离开了楚国，实乃国家损失。所以百姓为免让鱼虾侵蚀屈子，就纷纷将米粮投入江中，希望鱼虾只顾吃这些米粮而不损伤屈子肉身。 而后，据古书记载，是屈原托梦百姓说，米粮投入江中实则被江中的蛟龙所食，如果用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艾叶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包裹，再绑以五色绳，则可以免遭蛟龙吞食；这才有了后来的粽子。</a:t>
            </a:r>
            <a:r>
              <a:rPr b="0" lang="en-US" sz="1200" spc="-1" strike="noStrike" baseline="30000">
                <a:solidFill>
                  <a:srgbClr val="93634c"/>
                </a:solidFill>
                <a:latin typeface="微软雅黑"/>
                <a:ea typeface="微软雅黑"/>
              </a:rPr>
              <a:t>[5]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另有民间传说：包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粽子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其实是暗示屈原是被绑着扔到水里害死的，并不是自杀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主要品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642960" y="1428840"/>
            <a:ext cx="750096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竹叶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取竹叶裹白糯米粽煮之，尖有如生切菱角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艾香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 ：“糯米淘净，夹枣、栗、绿豆，以艾叶浸米裹，入锅煮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甜茶粽” ：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取真武山优质甜茶取汁用来制作粽子，其粽子色泽金黄油亮，入口润滑细嫩，柔软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                      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粘稠，齿颊留香，回味甘甜，去腻消食，营养丰富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腊肉香肠粽”：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腊肉香肠包的小粽，入口就有过年团圆的气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薄荷香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薄荷水浸米先蒸软，拌洋糖，用箬裹作小粽，再煮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豆沙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豆沙、糖、脂油丁包小粽煮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莲子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去皮心，拌洋糖，包小粽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松仁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去皮包小粽”</a:t>
            </a:r>
            <a:r>
              <a:rPr b="0" lang="en-US" sz="1200" spc="-1" strike="noStrike" baseline="30000">
                <a:solidFill>
                  <a:srgbClr val="93634c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火腿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入火腿块包粽，火腿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金华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者，精肥适均。又，肉丁包粽亦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蛋黄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中间一个蛋黄，蛋黄必须采用上好鸡蛋，入口甜咸而不反感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九子粽”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14"/>
          <p:cNvSpPr/>
          <p:nvPr/>
        </p:nvSpPr>
        <p:spPr>
          <a:xfrm>
            <a:off x="42876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形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571680" y="1357200"/>
            <a:ext cx="8215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因地区不同，由材料以至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粽叶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都有着很大的差别，连“裹”的形状，也有很大的不同，如早期人们盛行以牛角祭天，因此汉晋时的粽子，多做成角形，作为祭祖用品之一。此外，一般还有正三角形、正四角形、尖三角形、方形、长形等各种形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928800" y="2643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越南方形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下箭头 12"/>
          <p:cNvSpPr/>
          <p:nvPr/>
        </p:nvSpPr>
        <p:spPr>
          <a:xfrm>
            <a:off x="128592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3" descr="U5750P746DT20120618160259.jpg"/>
          <p:cNvPicPr/>
          <p:nvPr/>
        </p:nvPicPr>
        <p:blipFill>
          <a:blip r:embed="rId1"/>
          <a:stretch/>
        </p:blipFill>
        <p:spPr>
          <a:xfrm>
            <a:off x="654120" y="3881520"/>
            <a:ext cx="1631880" cy="1190520"/>
          </a:xfrm>
          <a:prstGeom prst="rect">
            <a:avLst/>
          </a:prstGeom>
          <a:ln w="0">
            <a:noFill/>
          </a:ln>
        </p:spPr>
      </p:pic>
      <p:sp>
        <p:nvSpPr>
          <p:cNvPr id="77" name="圆角矩形 15"/>
          <p:cNvSpPr/>
          <p:nvPr/>
        </p:nvSpPr>
        <p:spPr>
          <a:xfrm>
            <a:off x="257184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3071880" y="2643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湖州枕头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下箭头 17"/>
          <p:cNvSpPr/>
          <p:nvPr/>
        </p:nvSpPr>
        <p:spPr>
          <a:xfrm>
            <a:off x="342900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9" descr="3b292df5e0fe99252e035beb34a85edf8db17179.jpg"/>
          <p:cNvPicPr/>
          <p:nvPr/>
        </p:nvPicPr>
        <p:blipFill>
          <a:blip r:embed="rId2"/>
          <a:stretch/>
        </p:blipFill>
        <p:spPr>
          <a:xfrm>
            <a:off x="2714760" y="3905280"/>
            <a:ext cx="1663560" cy="1380960"/>
          </a:xfrm>
          <a:prstGeom prst="rect">
            <a:avLst/>
          </a:prstGeom>
          <a:ln w="0">
            <a:noFill/>
          </a:ln>
        </p:spPr>
      </p:pic>
      <p:sp>
        <p:nvSpPr>
          <p:cNvPr id="81" name="圆角矩形 20"/>
          <p:cNvSpPr/>
          <p:nvPr/>
        </p:nvSpPr>
        <p:spPr>
          <a:xfrm>
            <a:off x="471492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5429160" y="265284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日本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下箭头 22"/>
          <p:cNvSpPr/>
          <p:nvPr/>
        </p:nvSpPr>
        <p:spPr>
          <a:xfrm>
            <a:off x="557208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4" descr="a9d3fd1f4134970a4ce01c2395cad1c8a7865d2e.jpg"/>
          <p:cNvPicPr/>
          <p:nvPr/>
        </p:nvPicPr>
        <p:blipFill>
          <a:blip r:embed="rId3"/>
          <a:stretch/>
        </p:blipFill>
        <p:spPr>
          <a:xfrm>
            <a:off x="4857840" y="3919680"/>
            <a:ext cx="1724040" cy="1295280"/>
          </a:xfrm>
          <a:prstGeom prst="rect">
            <a:avLst/>
          </a:prstGeom>
          <a:ln w="0">
            <a:noFill/>
          </a:ln>
        </p:spPr>
      </p:pic>
      <p:sp>
        <p:nvSpPr>
          <p:cNvPr id="85" name="圆角矩形 25"/>
          <p:cNvSpPr/>
          <p:nvPr/>
        </p:nvSpPr>
        <p:spPr>
          <a:xfrm>
            <a:off x="685800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6"/>
          <p:cNvSpPr/>
          <p:nvPr/>
        </p:nvSpPr>
        <p:spPr>
          <a:xfrm>
            <a:off x="7358040" y="2643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客家四角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下箭头 27"/>
          <p:cNvSpPr/>
          <p:nvPr/>
        </p:nvSpPr>
        <p:spPr>
          <a:xfrm>
            <a:off x="771516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9" descr="20126517025116.jpg"/>
          <p:cNvPicPr/>
          <p:nvPr/>
        </p:nvPicPr>
        <p:blipFill>
          <a:blip r:embed="rId4"/>
          <a:stretch/>
        </p:blipFill>
        <p:spPr>
          <a:xfrm>
            <a:off x="7000920" y="3857760"/>
            <a:ext cx="1662120" cy="1174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食用禁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642960" y="3500280"/>
            <a:ext cx="70009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吃粽子时最好能同时喝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茶水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帮助吞咽和消化，有节制的食用，一次少吃一点，可选择迷你粽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吃粽时应该搭配凉拌青菜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水果沙拉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缓解肠胃不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3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要充分加热，煮热变软后才能吃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4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如有胃病的人吃粽子可选白米粽，别蘸糖，不要吃得太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5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有胆结石、胆囊炎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胰腺炎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的病人，不要吃肉粽、蛋黄粽等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脂肪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、蛋白含量过高的粽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少吃，选择健康类粽子，多喝清茶， 不吃过期和发霉变质的粽子。有胃病的人选择白米粽食用，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量少蘸糖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6. 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食用前需充分加热至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1" descr="41CEC264B502ADD49E375BC66C0FC16B.jpg"/>
          <p:cNvPicPr/>
          <p:nvPr/>
        </p:nvPicPr>
        <p:blipFill>
          <a:blip r:embed="rId1"/>
          <a:stretch/>
        </p:blipFill>
        <p:spPr>
          <a:xfrm>
            <a:off x="3773520" y="71280"/>
            <a:ext cx="529920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对角圆角矩形 19"/>
          <p:cNvSpPr/>
          <p:nvPr/>
        </p:nvSpPr>
        <p:spPr>
          <a:xfrm flipH="1" flipV="1">
            <a:off x="4785480" y="349956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对角圆角矩形 18"/>
          <p:cNvSpPr/>
          <p:nvPr/>
        </p:nvSpPr>
        <p:spPr>
          <a:xfrm flipV="1">
            <a:off x="2286000" y="349956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对角圆角矩形 15"/>
          <p:cNvSpPr/>
          <p:nvPr/>
        </p:nvSpPr>
        <p:spPr>
          <a:xfrm>
            <a:off x="2286000" y="100008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-191160" y="28584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节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071880" y="2714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吃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572080" y="26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赛龙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2857680" y="50720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悬艾叶菖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550080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饮雄黄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23099736.jpg"/>
          <p:cNvPicPr/>
          <p:nvPr/>
        </p:nvPicPr>
        <p:blipFill>
          <a:blip r:embed="rId1"/>
          <a:stretch/>
        </p:blipFill>
        <p:spPr>
          <a:xfrm>
            <a:off x="2714760" y="1643040"/>
            <a:ext cx="1606320" cy="1066680"/>
          </a:xfrm>
          <a:prstGeom prst="rect">
            <a:avLst/>
          </a:prstGeom>
          <a:ln w="0">
            <a:noFill/>
          </a:ln>
        </p:spPr>
      </p:pic>
      <p:sp>
        <p:nvSpPr>
          <p:cNvPr id="110" name="对角圆角矩形 17"/>
          <p:cNvSpPr/>
          <p:nvPr/>
        </p:nvSpPr>
        <p:spPr>
          <a:xfrm flipH="1">
            <a:off x="4785480" y="100008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0" descr="2008121084337411_2.jpg"/>
          <p:cNvPicPr/>
          <p:nvPr/>
        </p:nvPicPr>
        <p:blipFill>
          <a:blip r:embed="rId2"/>
          <a:stretch/>
        </p:blipFill>
        <p:spPr>
          <a:xfrm>
            <a:off x="5278320" y="1428840"/>
            <a:ext cx="139392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2" descr="20140523031616204.jpg"/>
          <p:cNvPicPr/>
          <p:nvPr/>
        </p:nvPicPr>
        <p:blipFill>
          <a:blip r:embed="rId3"/>
          <a:stretch/>
        </p:blipFill>
        <p:spPr>
          <a:xfrm>
            <a:off x="5357880" y="4071960"/>
            <a:ext cx="1315800" cy="9158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3" descr="20140528100617_98460.jpg"/>
          <p:cNvPicPr/>
          <p:nvPr/>
        </p:nvPicPr>
        <p:blipFill>
          <a:blip r:embed="rId4"/>
          <a:stretch/>
        </p:blipFill>
        <p:spPr>
          <a:xfrm>
            <a:off x="2857680" y="4016520"/>
            <a:ext cx="13204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2" descr="4e4a20a4462309f771ffc318720e0cf3d7cad62c.jpg"/>
          <p:cNvPicPr/>
          <p:nvPr/>
        </p:nvPicPr>
        <p:blipFill>
          <a:blip r:embed="rId1"/>
          <a:stretch/>
        </p:blipFill>
        <p:spPr>
          <a:xfrm>
            <a:off x="0" y="3187800"/>
            <a:ext cx="4183200" cy="36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4500720" y="1285920"/>
            <a:ext cx="428616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蛤蟆蝌蚪躲端午。（北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有钱难买五月五日旱。（山西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清明插柳，端午插艾。（北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癞蛤蟆躲不过五月五。（北京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请菩萨，端六发乌贼。（江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良辰当五日，偕老祝千年。（江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不戴艾，死去变妖怪。（西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喝了雄黄酒，百病远远丢。（山西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午时水饮一嘴，较好补药吃三年。（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山东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喝了雄黄酒，百病远远丢。　（山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节，天气热；五毒醒，不安宁。（江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未吃端午粽，寒衣不可送；吃了端午粽，还要冻三冻。（江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未食五月粽，被褥不甘松。未食五月粽，破裘唔甘放。未食五月粽，破裘毋甘放。未食五月粽，寒衣勿入栊。未食五月粽，寒衣未入栊。食过五月粽，寒衣收入杠，未食五月粽，寒衣不敢送。未食五月粽，寒衣不入栊，食过五月粽，不够百日又翻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做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" descr="665304.jpg"/>
          <p:cNvPicPr/>
          <p:nvPr/>
        </p:nvPicPr>
        <p:blipFill>
          <a:blip r:embed="rId1"/>
          <a:stretch/>
        </p:blipFill>
        <p:spPr>
          <a:xfrm>
            <a:off x="817560" y="12142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1" descr="665305.jpg"/>
          <p:cNvPicPr/>
          <p:nvPr/>
        </p:nvPicPr>
        <p:blipFill>
          <a:blip r:embed="rId2"/>
          <a:stretch/>
        </p:blipFill>
        <p:spPr>
          <a:xfrm>
            <a:off x="2889360" y="12142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2" descr="665306.jpg"/>
          <p:cNvPicPr/>
          <p:nvPr/>
        </p:nvPicPr>
        <p:blipFill>
          <a:blip r:embed="rId3"/>
          <a:stretch/>
        </p:blipFill>
        <p:spPr>
          <a:xfrm>
            <a:off x="5095800" y="1227240"/>
            <a:ext cx="1327320" cy="9954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3" descr="668463.jpg"/>
          <p:cNvPicPr/>
          <p:nvPr/>
        </p:nvPicPr>
        <p:blipFill>
          <a:blip r:embed="rId4"/>
          <a:stretch/>
        </p:blipFill>
        <p:spPr>
          <a:xfrm>
            <a:off x="7175520" y="12142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4" descr="668464.jpg"/>
          <p:cNvPicPr/>
          <p:nvPr/>
        </p:nvPicPr>
        <p:blipFill>
          <a:blip r:embed="rId5"/>
          <a:stretch/>
        </p:blipFill>
        <p:spPr>
          <a:xfrm>
            <a:off x="817560" y="307656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5" descr="668465.jpg"/>
          <p:cNvPicPr/>
          <p:nvPr/>
        </p:nvPicPr>
        <p:blipFill>
          <a:blip r:embed="rId6"/>
          <a:stretch/>
        </p:blipFill>
        <p:spPr>
          <a:xfrm>
            <a:off x="2960640" y="307656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6" descr="668466.jpg"/>
          <p:cNvPicPr/>
          <p:nvPr/>
        </p:nvPicPr>
        <p:blipFill>
          <a:blip r:embed="rId7"/>
          <a:stretch/>
        </p:blipFill>
        <p:spPr>
          <a:xfrm>
            <a:off x="5032440" y="307656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7" descr="668468.jpg"/>
          <p:cNvPicPr/>
          <p:nvPr/>
        </p:nvPicPr>
        <p:blipFill>
          <a:blip r:embed="rId8"/>
          <a:stretch/>
        </p:blipFill>
        <p:spPr>
          <a:xfrm>
            <a:off x="7104240" y="30718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8" descr="668469.jpg"/>
          <p:cNvPicPr/>
          <p:nvPr/>
        </p:nvPicPr>
        <p:blipFill>
          <a:blip r:embed="rId9"/>
          <a:stretch/>
        </p:blipFill>
        <p:spPr>
          <a:xfrm>
            <a:off x="817560" y="493380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9" descr="668470.jpg"/>
          <p:cNvPicPr/>
          <p:nvPr/>
        </p:nvPicPr>
        <p:blipFill>
          <a:blip r:embed="rId10"/>
          <a:stretch/>
        </p:blipFill>
        <p:spPr>
          <a:xfrm>
            <a:off x="3032280" y="493380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0" descr="668476.jpg"/>
          <p:cNvPicPr/>
          <p:nvPr/>
        </p:nvPicPr>
        <p:blipFill>
          <a:blip r:embed="rId11"/>
          <a:stretch/>
        </p:blipFill>
        <p:spPr>
          <a:xfrm>
            <a:off x="5103720" y="492912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2" descr="668491.jpg"/>
          <p:cNvPicPr/>
          <p:nvPr/>
        </p:nvPicPr>
        <p:blipFill>
          <a:blip r:embed="rId12"/>
          <a:stretch/>
        </p:blipFill>
        <p:spPr>
          <a:xfrm>
            <a:off x="7175520" y="4929120"/>
            <a:ext cx="1325520" cy="995400"/>
          </a:xfrm>
          <a:prstGeom prst="rect">
            <a:avLst/>
          </a:prstGeom>
          <a:ln w="0">
            <a:noFill/>
          </a:ln>
        </p:spPr>
      </p:pic>
      <p:sp>
        <p:nvSpPr>
          <p:cNvPr id="138" name="右箭头 25"/>
          <p:cNvSpPr/>
          <p:nvPr/>
        </p:nvSpPr>
        <p:spPr>
          <a:xfrm>
            <a:off x="2389320" y="150012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右箭头 26"/>
          <p:cNvSpPr/>
          <p:nvPr/>
        </p:nvSpPr>
        <p:spPr>
          <a:xfrm>
            <a:off x="4460760" y="1500120"/>
            <a:ext cx="357480" cy="35712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右箭头 27"/>
          <p:cNvSpPr/>
          <p:nvPr/>
        </p:nvSpPr>
        <p:spPr>
          <a:xfrm>
            <a:off x="6603840" y="157176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右箭头 28"/>
          <p:cNvSpPr/>
          <p:nvPr/>
        </p:nvSpPr>
        <p:spPr>
          <a:xfrm>
            <a:off x="2389320" y="336240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右箭头 29"/>
          <p:cNvSpPr/>
          <p:nvPr/>
        </p:nvSpPr>
        <p:spPr>
          <a:xfrm>
            <a:off x="4460760" y="336240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右箭头 30"/>
          <p:cNvSpPr/>
          <p:nvPr/>
        </p:nvSpPr>
        <p:spPr>
          <a:xfrm>
            <a:off x="6603840" y="3433680"/>
            <a:ext cx="357480" cy="35712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右箭头 31"/>
          <p:cNvSpPr/>
          <p:nvPr/>
        </p:nvSpPr>
        <p:spPr>
          <a:xfrm>
            <a:off x="2317680" y="5291280"/>
            <a:ext cx="357120" cy="35712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右箭头 32"/>
          <p:cNvSpPr/>
          <p:nvPr/>
        </p:nvSpPr>
        <p:spPr>
          <a:xfrm>
            <a:off x="4389480" y="529128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右箭头 33"/>
          <p:cNvSpPr/>
          <p:nvPr/>
        </p:nvSpPr>
        <p:spPr>
          <a:xfrm>
            <a:off x="6532560" y="536256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285840" y="2214720"/>
            <a:ext cx="26431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准备食材，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糯米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先清洗干净，用凉水泡</a:t>
            </a: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2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小时备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2786040" y="221472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2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将粽叶清洗干净用 开水烫一下备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00760" y="221472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3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准备豆沙蜜枣，或者其他馅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7072200" y="221472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4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准备好的材料，还有棉线绳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428760" y="407196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5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取一到两片粽叶，根据粽叶大小来选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3000240" y="40719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6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折出一个三角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5000760" y="407196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7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放一勺米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7286760" y="407196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8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再放馅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714240" y="592920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9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叶从上往下折叠，叠成三角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3071880" y="592920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0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用棉线绑结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072040" y="592920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1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包好的粽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6"/>
          <p:cNvSpPr/>
          <p:nvPr/>
        </p:nvSpPr>
        <p:spPr>
          <a:xfrm>
            <a:off x="7358040" y="592920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2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煮好的粽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5:58Z</dcterms:modified>
  <cp:revision>3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