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3"/>
          <p:cNvPicPr/>
          <p:nvPr/>
        </p:nvPicPr>
        <p:blipFill>
          <a:blip r:embed="rId2"/>
          <a:srcRect l="0" t="36344" r="0" b="10094"/>
          <a:stretch/>
        </p:blipFill>
        <p:spPr>
          <a:xfrm>
            <a:off x="0" y="1700280"/>
            <a:ext cx="9144000" cy="44654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-2520" y="1707480"/>
            <a:ext cx="1449360" cy="1298160"/>
            <a:chOff x="-2520" y="1707480"/>
            <a:chExt cx="1449360" cy="1298160"/>
          </a:xfrm>
        </p:grpSpPr>
        <p:grpSp>
          <p:nvGrpSpPr>
            <p:cNvPr id="2" name=""/>
            <p:cNvGrpSpPr/>
            <p:nvPr/>
          </p:nvGrpSpPr>
          <p:grpSpPr>
            <a:xfrm>
              <a:off x="569880" y="1823400"/>
              <a:ext cx="876960" cy="891000"/>
              <a:chOff x="569880" y="1823400"/>
              <a:chExt cx="876960" cy="891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966600" y="1999080"/>
                <a:ext cx="467280" cy="467640"/>
                <a:chOff x="966600" y="1999080"/>
                <a:chExt cx="467280" cy="467640"/>
              </a:xfrm>
            </p:grpSpPr>
            <p:sp>
              <p:nvSpPr>
                <p:cNvPr id="4" name="Freeform 6"/>
                <p:cNvSpPr/>
                <p:nvPr/>
              </p:nvSpPr>
              <p:spPr>
                <a:xfrm rot="18826800">
                  <a:off x="1013760" y="209052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 rot="20871600">
                  <a:off x="981000" y="219744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8"/>
                <p:cNvSpPr/>
                <p:nvPr/>
              </p:nvSpPr>
              <p:spPr>
                <a:xfrm rot="21169800">
                  <a:off x="966600" y="224100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Freeform 9"/>
                <p:cNvSpPr/>
                <p:nvPr/>
              </p:nvSpPr>
              <p:spPr>
                <a:xfrm rot="21169800">
                  <a:off x="1001160" y="226656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973800" y="1914120"/>
                <a:ext cx="372960" cy="432360"/>
                <a:chOff x="973800" y="1914120"/>
                <a:chExt cx="372960" cy="432360"/>
              </a:xfrm>
            </p:grpSpPr>
            <p:sp>
              <p:nvSpPr>
                <p:cNvPr id="9" name="Freeform 11"/>
                <p:cNvSpPr/>
                <p:nvPr/>
              </p:nvSpPr>
              <p:spPr>
                <a:xfrm rot="17034600">
                  <a:off x="975960" y="198756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12"/>
                <p:cNvSpPr/>
                <p:nvPr/>
              </p:nvSpPr>
              <p:spPr>
                <a:xfrm rot="19078800">
                  <a:off x="934560" y="209988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 rot="19377600">
                  <a:off x="948600" y="217224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 rot="19377600">
                  <a:off x="989280" y="217764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46280" y="1823400"/>
                <a:ext cx="460800" cy="462960"/>
                <a:chOff x="746280" y="1823400"/>
                <a:chExt cx="460800" cy="4629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rot="13688400">
                  <a:off x="806760" y="189756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rot="15733200">
                  <a:off x="760680" y="204084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rot="16031400">
                  <a:off x="846000" y="210924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 rot="16031400">
                  <a:off x="873360" y="208332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"/>
              <p:cNvGrpSpPr/>
              <p:nvPr/>
            </p:nvGrpSpPr>
            <p:grpSpPr>
              <a:xfrm>
                <a:off x="569880" y="1950480"/>
                <a:ext cx="437760" cy="363240"/>
                <a:chOff x="569880" y="1950480"/>
                <a:chExt cx="437760" cy="363240"/>
              </a:xfrm>
            </p:grpSpPr>
            <p:sp>
              <p:nvSpPr>
                <p:cNvPr id="19" name="Freeform 21"/>
                <p:cNvSpPr/>
                <p:nvPr/>
              </p:nvSpPr>
              <p:spPr>
                <a:xfrm rot="10003800">
                  <a:off x="597600" y="198972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 rot="12048600">
                  <a:off x="564840" y="213480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 rot="12346800">
                  <a:off x="696600" y="214344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 rot="12346800">
                  <a:off x="679680" y="210996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826200" y="2217600"/>
                <a:ext cx="462240" cy="462600"/>
                <a:chOff x="826200" y="2217600"/>
                <a:chExt cx="462240" cy="462600"/>
              </a:xfrm>
            </p:grpSpPr>
            <p:sp>
              <p:nvSpPr>
                <p:cNvPr id="24" name="Freeform 26"/>
                <p:cNvSpPr/>
                <p:nvPr/>
              </p:nvSpPr>
              <p:spPr>
                <a:xfrm rot="2727600">
                  <a:off x="887400" y="229140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 rot="4772400">
                  <a:off x="884520" y="242604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 rot="5070600">
                  <a:off x="893520" y="236880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 rot="5070600">
                  <a:off x="867600" y="240444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" name=""/>
              <p:cNvGrpSpPr/>
              <p:nvPr/>
            </p:nvGrpSpPr>
            <p:grpSpPr>
              <a:xfrm>
                <a:off x="658800" y="2250360"/>
                <a:ext cx="336600" cy="359640"/>
                <a:chOff x="658800" y="2250360"/>
                <a:chExt cx="336600" cy="359640"/>
              </a:xfrm>
            </p:grpSpPr>
            <p:sp>
              <p:nvSpPr>
                <p:cNvPr id="29" name="Freeform 31"/>
                <p:cNvSpPr/>
                <p:nvPr/>
              </p:nvSpPr>
              <p:spPr>
                <a:xfrm rot="5628000">
                  <a:off x="657360" y="227268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 rot="7672800">
                  <a:off x="650520" y="242496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 rot="7971000">
                  <a:off x="719280" y="235908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 rot="7971000">
                  <a:off x="678600" y="236448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576000" y="2106360"/>
                <a:ext cx="423000" cy="461160"/>
                <a:chOff x="576000" y="2106360"/>
                <a:chExt cx="423000" cy="461160"/>
              </a:xfrm>
            </p:grpSpPr>
            <p:sp>
              <p:nvSpPr>
                <p:cNvPr id="34" name="Freeform 36"/>
                <p:cNvSpPr/>
                <p:nvPr/>
              </p:nvSpPr>
              <p:spPr>
                <a:xfrm rot="6925800">
                  <a:off x="597600" y="219456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 rot="8970600">
                  <a:off x="582120" y="233676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 rot="9268800">
                  <a:off x="687960" y="228276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 rot="9268800">
                  <a:off x="648000" y="227664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"/>
              <p:cNvGrpSpPr/>
              <p:nvPr/>
            </p:nvGrpSpPr>
            <p:grpSpPr>
              <a:xfrm>
                <a:off x="1000800" y="2148120"/>
                <a:ext cx="446040" cy="377280"/>
                <a:chOff x="1000800" y="2148120"/>
                <a:chExt cx="446040" cy="377280"/>
              </a:xfrm>
            </p:grpSpPr>
            <p:sp>
              <p:nvSpPr>
                <p:cNvPr id="39" name="Freeform 41"/>
                <p:cNvSpPr/>
                <p:nvPr/>
              </p:nvSpPr>
              <p:spPr>
                <a:xfrm rot="20636400">
                  <a:off x="1039680" y="219420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 rot="1081200">
                  <a:off x="1017000" y="230040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 rot="1379400">
                  <a:off x="992520" y="230436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 rot="1379400">
                  <a:off x="1011240" y="234468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" name=""/>
              <p:cNvGrpSpPr/>
              <p:nvPr/>
            </p:nvGrpSpPr>
            <p:grpSpPr>
              <a:xfrm>
                <a:off x="923400" y="2225880"/>
                <a:ext cx="400680" cy="374760"/>
                <a:chOff x="923400" y="2225880"/>
                <a:chExt cx="400680" cy="374760"/>
              </a:xfrm>
            </p:grpSpPr>
            <p:sp>
              <p:nvSpPr>
                <p:cNvPr id="44" name="Freeform 46"/>
                <p:cNvSpPr/>
                <p:nvPr/>
              </p:nvSpPr>
              <p:spPr>
                <a:xfrm rot="805800">
                  <a:off x="953640" y="2261160"/>
                  <a:ext cx="339480" cy="304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2850600">
                  <a:off x="944640" y="2380680"/>
                  <a:ext cx="38808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3148800">
                  <a:off x="927720" y="2352600"/>
                  <a:ext cx="291240" cy="25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3148800">
                  <a:off x="923040" y="2396520"/>
                  <a:ext cx="29124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77440" y="2026080"/>
                <a:ext cx="482400" cy="455040"/>
                <a:chOff x="577440" y="2026080"/>
                <a:chExt cx="482400" cy="455040"/>
              </a:xfrm>
            </p:grpSpPr>
            <p:sp>
              <p:nvSpPr>
                <p:cNvPr id="49" name="Freeform 51"/>
                <p:cNvSpPr/>
                <p:nvPr/>
              </p:nvSpPr>
              <p:spPr>
                <a:xfrm rot="7717200">
                  <a:off x="695160" y="2043000"/>
                  <a:ext cx="246600" cy="420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 rot="9762000">
                  <a:off x="685440" y="2257560"/>
                  <a:ext cx="281880" cy="48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 rot="10060200">
                  <a:off x="757800" y="2210040"/>
                  <a:ext cx="211320" cy="35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 rot="10060200">
                  <a:off x="729360" y="2182680"/>
                  <a:ext cx="21132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821160" y="1874880"/>
                <a:ext cx="463320" cy="419040"/>
                <a:chOff x="821160" y="1874880"/>
                <a:chExt cx="463320" cy="419040"/>
              </a:xfrm>
            </p:grpSpPr>
            <p:sp>
              <p:nvSpPr>
                <p:cNvPr id="54" name="Freeform 56"/>
                <p:cNvSpPr/>
                <p:nvPr/>
              </p:nvSpPr>
              <p:spPr>
                <a:xfrm rot="13857000">
                  <a:off x="971280" y="1852200"/>
                  <a:ext cx="162720" cy="46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 rot="15901800">
                  <a:off x="927720" y="2058840"/>
                  <a:ext cx="185760" cy="53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 rot="16200000">
                  <a:off x="1000080" y="2097000"/>
                  <a:ext cx="139320" cy="396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59"/>
                <p:cNvSpPr/>
                <p:nvPr/>
              </p:nvSpPr>
              <p:spPr>
                <a:xfrm rot="16200000">
                  <a:off x="1042560" y="2090160"/>
                  <a:ext cx="1393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732600" y="1947600"/>
                <a:ext cx="336960" cy="377280"/>
                <a:chOff x="732600" y="1947600"/>
                <a:chExt cx="336960" cy="377280"/>
              </a:xfrm>
            </p:grpSpPr>
            <p:sp>
              <p:nvSpPr>
                <p:cNvPr id="59" name="Freeform 61"/>
                <p:cNvSpPr/>
                <p:nvPr/>
              </p:nvSpPr>
              <p:spPr>
                <a:xfrm rot="11895600">
                  <a:off x="775440" y="1978560"/>
                  <a:ext cx="25092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62"/>
                <p:cNvSpPr/>
                <p:nvPr/>
              </p:nvSpPr>
              <p:spPr>
                <a:xfrm rot="13940400">
                  <a:off x="739800" y="2130840"/>
                  <a:ext cx="286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63"/>
                <p:cNvSpPr/>
                <p:nvPr/>
              </p:nvSpPr>
              <p:spPr>
                <a:xfrm rot="14238600">
                  <a:off x="830160" y="2158560"/>
                  <a:ext cx="2149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 rot="14238600">
                  <a:off x="843120" y="2129400"/>
                  <a:ext cx="2152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728640" y="2280960"/>
                <a:ext cx="419760" cy="433440"/>
                <a:chOff x="728640" y="2280960"/>
                <a:chExt cx="419760" cy="433440"/>
              </a:xfrm>
            </p:grpSpPr>
            <p:sp>
              <p:nvSpPr>
                <p:cNvPr id="64" name="Freeform 66"/>
                <p:cNvSpPr/>
                <p:nvPr/>
              </p:nvSpPr>
              <p:spPr>
                <a:xfrm rot="4063800">
                  <a:off x="768600" y="234000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67"/>
                <p:cNvSpPr/>
                <p:nvPr/>
              </p:nvSpPr>
              <p:spPr>
                <a:xfrm rot="6108000">
                  <a:off x="766080" y="248328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68"/>
                <p:cNvSpPr/>
                <p:nvPr/>
              </p:nvSpPr>
              <p:spPr>
                <a:xfrm rot="6406200">
                  <a:off x="801360" y="241560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69"/>
                <p:cNvSpPr/>
                <p:nvPr/>
              </p:nvSpPr>
              <p:spPr>
                <a:xfrm rot="6406200">
                  <a:off x="765360" y="243900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822240" y="2125080"/>
                <a:ext cx="321480" cy="291240"/>
                <a:chOff x="822240" y="2125080"/>
                <a:chExt cx="321480" cy="291240"/>
              </a:xfrm>
            </p:grpSpPr>
            <p:sp>
              <p:nvSpPr>
                <p:cNvPr id="69" name="AutoShape 71"/>
                <p:cNvSpPr/>
                <p:nvPr/>
              </p:nvSpPr>
              <p:spPr>
                <a:xfrm>
                  <a:off x="822240" y="212508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Oval 72"/>
                <p:cNvSpPr/>
                <p:nvPr/>
              </p:nvSpPr>
              <p:spPr>
                <a:xfrm>
                  <a:off x="878040" y="2167920"/>
                  <a:ext cx="214560" cy="1940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115200" y="1707480"/>
              <a:ext cx="988920" cy="826560"/>
              <a:chOff x="115200" y="1707480"/>
              <a:chExt cx="988920" cy="8265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397440" y="2030400"/>
                <a:ext cx="455040" cy="450360"/>
                <a:chOff x="397440" y="2030400"/>
                <a:chExt cx="455040" cy="450360"/>
              </a:xfrm>
            </p:grpSpPr>
            <p:sp>
              <p:nvSpPr>
                <p:cNvPr id="73" name="Freeform 75"/>
                <p:cNvSpPr/>
                <p:nvPr/>
              </p:nvSpPr>
              <p:spPr>
                <a:xfrm rot="13149000">
                  <a:off x="455040" y="210348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 rot="15194400">
                  <a:off x="410760" y="224496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 rot="15492600">
                  <a:off x="504000" y="230688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 rot="15492600">
                  <a:off x="525240" y="227772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19960" y="2017800"/>
                <a:ext cx="390600" cy="414000"/>
                <a:chOff x="219960" y="2017800"/>
                <a:chExt cx="390600" cy="414000"/>
              </a:xfrm>
            </p:grpSpPr>
            <p:sp>
              <p:nvSpPr>
                <p:cNvPr id="78" name="Freeform 80"/>
                <p:cNvSpPr/>
                <p:nvPr/>
              </p:nvSpPr>
              <p:spPr>
                <a:xfrm rot="17227800">
                  <a:off x="245520" y="207252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rot="19273200">
                  <a:off x="207360" y="219132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 rot="19571400">
                  <a:off x="218880" y="225900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 rot="19571400">
                  <a:off x="258120" y="227052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8560" y="2083320"/>
                <a:ext cx="409680" cy="335880"/>
                <a:chOff x="538560" y="2083320"/>
                <a:chExt cx="409680" cy="335880"/>
              </a:xfrm>
            </p:grpSpPr>
            <p:sp>
              <p:nvSpPr>
                <p:cNvPr id="83" name="Freeform 85"/>
                <p:cNvSpPr/>
                <p:nvPr/>
              </p:nvSpPr>
              <p:spPr>
                <a:xfrm rot="11275800">
                  <a:off x="555480" y="210744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 rot="13320600">
                  <a:off x="517320" y="224460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87"/>
                <p:cNvSpPr/>
                <p:nvPr/>
              </p:nvSpPr>
              <p:spPr>
                <a:xfrm rot="13619400">
                  <a:off x="641160" y="228168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88"/>
                <p:cNvSpPr/>
                <p:nvPr/>
              </p:nvSpPr>
              <p:spPr>
                <a:xfrm rot="13619400">
                  <a:off x="637560" y="224568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245880" y="1787760"/>
                <a:ext cx="429840" cy="367200"/>
                <a:chOff x="245880" y="1787760"/>
                <a:chExt cx="429840" cy="367200"/>
              </a:xfrm>
            </p:grpSpPr>
            <p:sp>
              <p:nvSpPr>
                <p:cNvPr id="88" name="Freeform 90"/>
                <p:cNvSpPr/>
                <p:nvPr/>
              </p:nvSpPr>
              <p:spPr>
                <a:xfrm rot="823800">
                  <a:off x="273240" y="1838520"/>
                  <a:ext cx="375120" cy="275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91"/>
                <p:cNvSpPr/>
                <p:nvPr/>
              </p:nvSpPr>
              <p:spPr>
                <a:xfrm rot="2868600">
                  <a:off x="259200" y="194652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92"/>
                <p:cNvSpPr/>
                <p:nvPr/>
              </p:nvSpPr>
              <p:spPr>
                <a:xfrm rot="3166800">
                  <a:off x="246240" y="191088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93"/>
                <p:cNvSpPr/>
                <p:nvPr/>
              </p:nvSpPr>
              <p:spPr>
                <a:xfrm rot="3166800">
                  <a:off x="244800" y="1954800"/>
                  <a:ext cx="321840" cy="158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543960" y="1828800"/>
                <a:ext cx="435600" cy="447840"/>
                <a:chOff x="543960" y="1828800"/>
                <a:chExt cx="435600" cy="447840"/>
              </a:xfrm>
            </p:grpSpPr>
            <p:sp>
              <p:nvSpPr>
                <p:cNvPr id="93" name="Freeform 95"/>
                <p:cNvSpPr/>
                <p:nvPr/>
              </p:nvSpPr>
              <p:spPr>
                <a:xfrm rot="7251000">
                  <a:off x="591840" y="1900080"/>
                  <a:ext cx="33948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96"/>
                <p:cNvSpPr/>
                <p:nvPr/>
              </p:nvSpPr>
              <p:spPr>
                <a:xfrm rot="9295800">
                  <a:off x="577440" y="205308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97"/>
                <p:cNvSpPr/>
                <p:nvPr/>
              </p:nvSpPr>
              <p:spPr>
                <a:xfrm rot="9594000">
                  <a:off x="676080" y="200556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98"/>
                <p:cNvSpPr/>
                <p:nvPr/>
              </p:nvSpPr>
              <p:spPr>
                <a:xfrm rot="9594000">
                  <a:off x="640080" y="199332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15200" y="1865880"/>
                <a:ext cx="451440" cy="382320"/>
                <a:chOff x="115200" y="1865880"/>
                <a:chExt cx="451440" cy="382320"/>
              </a:xfrm>
            </p:grpSpPr>
            <p:sp>
              <p:nvSpPr>
                <p:cNvPr id="98" name="Freeform 100"/>
                <p:cNvSpPr/>
                <p:nvPr/>
              </p:nvSpPr>
              <p:spPr>
                <a:xfrm rot="20461800">
                  <a:off x="156960" y="191916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101"/>
                <p:cNvSpPr/>
                <p:nvPr/>
              </p:nvSpPr>
              <p:spPr>
                <a:xfrm rot="906600">
                  <a:off x="133200" y="202176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02"/>
                <p:cNvSpPr/>
                <p:nvPr/>
              </p:nvSpPr>
              <p:spPr>
                <a:xfrm rot="1205400">
                  <a:off x="109080" y="20289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03"/>
                <p:cNvSpPr/>
                <p:nvPr/>
              </p:nvSpPr>
              <p:spPr>
                <a:xfrm rot="1205400">
                  <a:off x="129960" y="206712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10400" y="1773000"/>
                <a:ext cx="393120" cy="415800"/>
                <a:chOff x="410400" y="1773000"/>
                <a:chExt cx="393120" cy="415800"/>
              </a:xfrm>
            </p:grpSpPr>
            <p:sp>
              <p:nvSpPr>
                <p:cNvPr id="103" name="Freeform 105"/>
                <p:cNvSpPr/>
                <p:nvPr/>
              </p:nvSpPr>
              <p:spPr>
                <a:xfrm rot="4341600">
                  <a:off x="437040" y="1828440"/>
                  <a:ext cx="33948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06"/>
                <p:cNvSpPr/>
                <p:nvPr/>
              </p:nvSpPr>
              <p:spPr>
                <a:xfrm rot="6385800">
                  <a:off x="433080" y="196848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107"/>
                <p:cNvSpPr/>
                <p:nvPr/>
              </p:nvSpPr>
              <p:spPr>
                <a:xfrm rot="6684000">
                  <a:off x="475560" y="190044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108"/>
                <p:cNvSpPr/>
                <p:nvPr/>
              </p:nvSpPr>
              <p:spPr>
                <a:xfrm rot="6684000">
                  <a:off x="439200" y="192096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336960" y="2106360"/>
                <a:ext cx="407880" cy="427680"/>
                <a:chOff x="336960" y="2106360"/>
                <a:chExt cx="407880" cy="427680"/>
              </a:xfrm>
            </p:grpSpPr>
            <p:sp>
              <p:nvSpPr>
                <p:cNvPr id="108" name="Freeform 110"/>
                <p:cNvSpPr/>
                <p:nvPr/>
              </p:nvSpPr>
              <p:spPr>
                <a:xfrm rot="14905200">
                  <a:off x="370800" y="216792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111"/>
                <p:cNvSpPr/>
                <p:nvPr/>
              </p:nvSpPr>
              <p:spPr>
                <a:xfrm rot="16950000">
                  <a:off x="325800" y="229860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112"/>
                <p:cNvSpPr/>
                <p:nvPr/>
              </p:nvSpPr>
              <p:spPr>
                <a:xfrm rot="17248800">
                  <a:off x="385200" y="237528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113"/>
                <p:cNvSpPr/>
                <p:nvPr/>
              </p:nvSpPr>
              <p:spPr>
                <a:xfrm rot="17248800">
                  <a:off x="420120" y="236088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81440" y="1923480"/>
                <a:ext cx="458280" cy="464400"/>
                <a:chOff x="181440" y="1923480"/>
                <a:chExt cx="458280" cy="464400"/>
              </a:xfrm>
            </p:grpSpPr>
            <p:sp>
              <p:nvSpPr>
                <p:cNvPr id="113" name="Freeform 115"/>
                <p:cNvSpPr/>
                <p:nvPr/>
              </p:nvSpPr>
              <p:spPr>
                <a:xfrm rot="18606000">
                  <a:off x="226080" y="201780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116"/>
                <p:cNvSpPr/>
                <p:nvPr/>
              </p:nvSpPr>
              <p:spPr>
                <a:xfrm rot="20650200">
                  <a:off x="192240" y="212112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117"/>
                <p:cNvSpPr/>
                <p:nvPr/>
              </p:nvSpPr>
              <p:spPr>
                <a:xfrm rot="20948400">
                  <a:off x="180720" y="21675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118"/>
                <p:cNvSpPr/>
                <p:nvPr/>
              </p:nvSpPr>
              <p:spPr>
                <a:xfrm rot="20948400">
                  <a:off x="216000" y="219024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34680" y="1933200"/>
                <a:ext cx="469440" cy="440280"/>
                <a:chOff x="634680" y="1933200"/>
                <a:chExt cx="469440" cy="440280"/>
              </a:xfrm>
            </p:grpSpPr>
            <p:sp>
              <p:nvSpPr>
                <p:cNvPr id="118" name="Freeform 120"/>
                <p:cNvSpPr/>
                <p:nvPr/>
              </p:nvSpPr>
              <p:spPr>
                <a:xfrm rot="8719200">
                  <a:off x="679680" y="2015280"/>
                  <a:ext cx="375120" cy="275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121"/>
                <p:cNvSpPr/>
                <p:nvPr/>
              </p:nvSpPr>
              <p:spPr>
                <a:xfrm rot="10764000">
                  <a:off x="654120" y="215676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 rot="11062200">
                  <a:off x="781920" y="213768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 rot="11062200">
                  <a:off x="752400" y="2113920"/>
                  <a:ext cx="321840" cy="158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88520" y="1815840"/>
                <a:ext cx="358560" cy="387000"/>
                <a:chOff x="488520" y="1815840"/>
                <a:chExt cx="358560" cy="387000"/>
              </a:xfrm>
            </p:grpSpPr>
            <p:sp>
              <p:nvSpPr>
                <p:cNvPr id="123" name="Freeform 125"/>
                <p:cNvSpPr/>
                <p:nvPr/>
              </p:nvSpPr>
              <p:spPr>
                <a:xfrm rot="5998800">
                  <a:off x="497880" y="185688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126"/>
                <p:cNvSpPr/>
                <p:nvPr/>
              </p:nvSpPr>
              <p:spPr>
                <a:xfrm rot="8043600">
                  <a:off x="489240" y="200592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127"/>
                <p:cNvSpPr/>
                <p:nvPr/>
              </p:nvSpPr>
              <p:spPr>
                <a:xfrm rot="8341800">
                  <a:off x="565560" y="194328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128"/>
                <p:cNvSpPr/>
                <p:nvPr/>
              </p:nvSpPr>
              <p:spPr>
                <a:xfrm rot="8341800">
                  <a:off x="525960" y="194508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88000" y="1707480"/>
                <a:ext cx="454680" cy="455400"/>
                <a:chOff x="288000" y="1707480"/>
                <a:chExt cx="454680" cy="455400"/>
              </a:xfrm>
            </p:grpSpPr>
            <p:sp>
              <p:nvSpPr>
                <p:cNvPr id="128" name="Freeform 130"/>
                <p:cNvSpPr/>
                <p:nvPr/>
              </p:nvSpPr>
              <p:spPr>
                <a:xfrm rot="2739000">
                  <a:off x="345240" y="178308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131"/>
                <p:cNvSpPr/>
                <p:nvPr/>
              </p:nvSpPr>
              <p:spPr>
                <a:xfrm rot="4783800">
                  <a:off x="341640" y="191304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132"/>
                <p:cNvSpPr/>
                <p:nvPr/>
              </p:nvSpPr>
              <p:spPr>
                <a:xfrm rot="5082000">
                  <a:off x="352080" y="185544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33"/>
                <p:cNvSpPr/>
                <p:nvPr/>
              </p:nvSpPr>
              <p:spPr>
                <a:xfrm rot="5082000">
                  <a:off x="326880" y="189072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63160" y="1913040"/>
                <a:ext cx="392040" cy="289440"/>
                <a:chOff x="263160" y="1913040"/>
                <a:chExt cx="392040" cy="289440"/>
              </a:xfrm>
            </p:grpSpPr>
            <p:sp>
              <p:nvSpPr>
                <p:cNvPr id="133" name="Freeform 135"/>
                <p:cNvSpPr/>
                <p:nvPr/>
              </p:nvSpPr>
              <p:spPr>
                <a:xfrm rot="12600">
                  <a:off x="271800" y="192600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136"/>
                <p:cNvSpPr/>
                <p:nvPr/>
              </p:nvSpPr>
              <p:spPr>
                <a:xfrm rot="2057400">
                  <a:off x="254520" y="203076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137"/>
                <p:cNvSpPr/>
                <p:nvPr/>
              </p:nvSpPr>
              <p:spPr>
                <a:xfrm rot="2355600">
                  <a:off x="234000" y="201204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138"/>
                <p:cNvSpPr/>
                <p:nvPr/>
              </p:nvSpPr>
              <p:spPr>
                <a:xfrm rot="2355600">
                  <a:off x="242280" y="205560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57200" y="2077200"/>
                <a:ext cx="459720" cy="425880"/>
                <a:chOff x="457200" y="2077200"/>
                <a:chExt cx="459720" cy="425880"/>
              </a:xfrm>
            </p:grpSpPr>
            <p:sp>
              <p:nvSpPr>
                <p:cNvPr id="138" name="Freeform 140"/>
                <p:cNvSpPr/>
                <p:nvPr/>
              </p:nvSpPr>
              <p:spPr>
                <a:xfrm rot="12437400">
                  <a:off x="499320" y="214776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141"/>
                <p:cNvSpPr/>
                <p:nvPr/>
              </p:nvSpPr>
              <p:spPr>
                <a:xfrm rot="14482200">
                  <a:off x="455760" y="228096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142"/>
                <p:cNvSpPr/>
                <p:nvPr/>
              </p:nvSpPr>
              <p:spPr>
                <a:xfrm rot="14781000">
                  <a:off x="565560" y="233928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143"/>
                <p:cNvSpPr/>
                <p:nvPr/>
              </p:nvSpPr>
              <p:spPr>
                <a:xfrm rot="14781000">
                  <a:off x="575280" y="230472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28920" y="2062440"/>
                <a:ext cx="415800" cy="315720"/>
                <a:chOff x="628920" y="2062440"/>
                <a:chExt cx="415800" cy="315720"/>
              </a:xfrm>
            </p:grpSpPr>
            <p:sp>
              <p:nvSpPr>
                <p:cNvPr id="143" name="Freeform 145"/>
                <p:cNvSpPr/>
                <p:nvPr/>
              </p:nvSpPr>
              <p:spPr>
                <a:xfrm rot="10413000">
                  <a:off x="646200" y="208224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146"/>
                <p:cNvSpPr/>
                <p:nvPr/>
              </p:nvSpPr>
              <p:spPr>
                <a:xfrm rot="12457800">
                  <a:off x="611640" y="222228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147"/>
                <p:cNvSpPr/>
                <p:nvPr/>
              </p:nvSpPr>
              <p:spPr>
                <a:xfrm rot="12756600">
                  <a:off x="741960" y="224100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148"/>
                <p:cNvSpPr/>
                <p:nvPr/>
              </p:nvSpPr>
              <p:spPr>
                <a:xfrm rot="12756600">
                  <a:off x="728640" y="220716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92760" y="1936080"/>
                <a:ext cx="416160" cy="401760"/>
                <a:chOff x="392760" y="1936080"/>
                <a:chExt cx="416160" cy="401760"/>
              </a:xfrm>
            </p:grpSpPr>
            <p:sp>
              <p:nvSpPr>
                <p:cNvPr id="148" name="AutoShape 150"/>
                <p:cNvSpPr/>
                <p:nvPr/>
              </p:nvSpPr>
              <p:spPr>
                <a:xfrm rot="12343200">
                  <a:off x="439920" y="199116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Oval 151"/>
                <p:cNvSpPr/>
                <p:nvPr/>
              </p:nvSpPr>
              <p:spPr>
                <a:xfrm rot="12343200">
                  <a:off x="488880" y="2044080"/>
                  <a:ext cx="214560" cy="1940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" name=""/>
            <p:cNvGrpSpPr/>
            <p:nvPr/>
          </p:nvGrpSpPr>
          <p:grpSpPr>
            <a:xfrm>
              <a:off x="-2520" y="2114640"/>
              <a:ext cx="876960" cy="891000"/>
              <a:chOff x="-2520" y="2114640"/>
              <a:chExt cx="876960" cy="8910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394200" y="2290320"/>
                <a:ext cx="467280" cy="467640"/>
                <a:chOff x="394200" y="2290320"/>
                <a:chExt cx="467280" cy="467640"/>
              </a:xfrm>
            </p:grpSpPr>
            <p:sp>
              <p:nvSpPr>
                <p:cNvPr id="152" name="Freeform 154"/>
                <p:cNvSpPr/>
                <p:nvPr/>
              </p:nvSpPr>
              <p:spPr>
                <a:xfrm rot="18826800">
                  <a:off x="441360" y="238176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55"/>
                <p:cNvSpPr/>
                <p:nvPr/>
              </p:nvSpPr>
              <p:spPr>
                <a:xfrm rot="20871600">
                  <a:off x="408600" y="248868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56"/>
                <p:cNvSpPr/>
                <p:nvPr/>
              </p:nvSpPr>
              <p:spPr>
                <a:xfrm rot="21169800">
                  <a:off x="394200" y="253224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57"/>
                <p:cNvSpPr/>
                <p:nvPr/>
              </p:nvSpPr>
              <p:spPr>
                <a:xfrm rot="21169800">
                  <a:off x="428760" y="255780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01400" y="2205360"/>
                <a:ext cx="372960" cy="432360"/>
                <a:chOff x="401400" y="2205360"/>
                <a:chExt cx="372960" cy="432360"/>
              </a:xfrm>
            </p:grpSpPr>
            <p:sp>
              <p:nvSpPr>
                <p:cNvPr id="157" name="Freeform 159"/>
                <p:cNvSpPr/>
                <p:nvPr/>
              </p:nvSpPr>
              <p:spPr>
                <a:xfrm rot="17034600">
                  <a:off x="403560" y="227880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160"/>
                <p:cNvSpPr/>
                <p:nvPr/>
              </p:nvSpPr>
              <p:spPr>
                <a:xfrm rot="19078800">
                  <a:off x="362160" y="239112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161"/>
                <p:cNvSpPr/>
                <p:nvPr/>
              </p:nvSpPr>
              <p:spPr>
                <a:xfrm rot="19377600">
                  <a:off x="376200" y="246348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62"/>
                <p:cNvSpPr/>
                <p:nvPr/>
              </p:nvSpPr>
              <p:spPr>
                <a:xfrm rot="19377600">
                  <a:off x="416880" y="246888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173880" y="2114640"/>
                <a:ext cx="460800" cy="462960"/>
                <a:chOff x="173880" y="2114640"/>
                <a:chExt cx="460800" cy="462960"/>
              </a:xfrm>
            </p:grpSpPr>
            <p:sp>
              <p:nvSpPr>
                <p:cNvPr id="162" name="Freeform 164"/>
                <p:cNvSpPr/>
                <p:nvPr/>
              </p:nvSpPr>
              <p:spPr>
                <a:xfrm rot="13688400">
                  <a:off x="234360" y="218880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65"/>
                <p:cNvSpPr/>
                <p:nvPr/>
              </p:nvSpPr>
              <p:spPr>
                <a:xfrm rot="15733200">
                  <a:off x="188280" y="233208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66"/>
                <p:cNvSpPr/>
                <p:nvPr/>
              </p:nvSpPr>
              <p:spPr>
                <a:xfrm rot="16031400">
                  <a:off x="273600" y="240048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67"/>
                <p:cNvSpPr/>
                <p:nvPr/>
              </p:nvSpPr>
              <p:spPr>
                <a:xfrm rot="16031400">
                  <a:off x="300960" y="237456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-2520" y="2241720"/>
                <a:ext cx="437760" cy="363240"/>
                <a:chOff x="-2520" y="2241720"/>
                <a:chExt cx="437760" cy="363240"/>
              </a:xfrm>
            </p:grpSpPr>
            <p:sp>
              <p:nvSpPr>
                <p:cNvPr id="167" name="Freeform 169"/>
                <p:cNvSpPr/>
                <p:nvPr/>
              </p:nvSpPr>
              <p:spPr>
                <a:xfrm rot="10003800">
                  <a:off x="25200" y="228096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70"/>
                <p:cNvSpPr/>
                <p:nvPr/>
              </p:nvSpPr>
              <p:spPr>
                <a:xfrm rot="12048600">
                  <a:off x="-7200" y="242604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171"/>
                <p:cNvSpPr/>
                <p:nvPr/>
              </p:nvSpPr>
              <p:spPr>
                <a:xfrm rot="12346800">
                  <a:off x="124200" y="243468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72"/>
                <p:cNvSpPr/>
                <p:nvPr/>
              </p:nvSpPr>
              <p:spPr>
                <a:xfrm rot="12346800">
                  <a:off x="107280" y="240120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53800" y="2508840"/>
                <a:ext cx="462240" cy="462600"/>
                <a:chOff x="253800" y="2508840"/>
                <a:chExt cx="462240" cy="462600"/>
              </a:xfrm>
            </p:grpSpPr>
            <p:sp>
              <p:nvSpPr>
                <p:cNvPr id="172" name="Freeform 174"/>
                <p:cNvSpPr/>
                <p:nvPr/>
              </p:nvSpPr>
              <p:spPr>
                <a:xfrm rot="2727600">
                  <a:off x="315000" y="258264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175"/>
                <p:cNvSpPr/>
                <p:nvPr/>
              </p:nvSpPr>
              <p:spPr>
                <a:xfrm rot="4772400">
                  <a:off x="312120" y="271728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176"/>
                <p:cNvSpPr/>
                <p:nvPr/>
              </p:nvSpPr>
              <p:spPr>
                <a:xfrm rot="5070600">
                  <a:off x="321120" y="266004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77"/>
                <p:cNvSpPr/>
                <p:nvPr/>
              </p:nvSpPr>
              <p:spPr>
                <a:xfrm rot="5070600">
                  <a:off x="295200" y="269568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86400" y="2541600"/>
                <a:ext cx="336600" cy="359640"/>
                <a:chOff x="86400" y="2541600"/>
                <a:chExt cx="336600" cy="359640"/>
              </a:xfrm>
            </p:grpSpPr>
            <p:sp>
              <p:nvSpPr>
                <p:cNvPr id="177" name="Freeform 179"/>
                <p:cNvSpPr/>
                <p:nvPr/>
              </p:nvSpPr>
              <p:spPr>
                <a:xfrm rot="5628000">
                  <a:off x="84960" y="256392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80"/>
                <p:cNvSpPr/>
                <p:nvPr/>
              </p:nvSpPr>
              <p:spPr>
                <a:xfrm rot="7672800">
                  <a:off x="78120" y="271620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81"/>
                <p:cNvSpPr/>
                <p:nvPr/>
              </p:nvSpPr>
              <p:spPr>
                <a:xfrm rot="7971000">
                  <a:off x="146880" y="265032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82"/>
                <p:cNvSpPr/>
                <p:nvPr/>
              </p:nvSpPr>
              <p:spPr>
                <a:xfrm rot="7971000">
                  <a:off x="106200" y="265572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600" y="2397600"/>
                <a:ext cx="423000" cy="461160"/>
                <a:chOff x="3600" y="2397600"/>
                <a:chExt cx="423000" cy="461160"/>
              </a:xfrm>
            </p:grpSpPr>
            <p:sp>
              <p:nvSpPr>
                <p:cNvPr id="182" name="Freeform 184"/>
                <p:cNvSpPr/>
                <p:nvPr/>
              </p:nvSpPr>
              <p:spPr>
                <a:xfrm rot="6925800">
                  <a:off x="25200" y="248580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85"/>
                <p:cNvSpPr/>
                <p:nvPr/>
              </p:nvSpPr>
              <p:spPr>
                <a:xfrm rot="8970600">
                  <a:off x="9720" y="262800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86"/>
                <p:cNvSpPr/>
                <p:nvPr/>
              </p:nvSpPr>
              <p:spPr>
                <a:xfrm rot="9268800">
                  <a:off x="115560" y="257400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87"/>
                <p:cNvSpPr/>
                <p:nvPr/>
              </p:nvSpPr>
              <p:spPr>
                <a:xfrm rot="9268800">
                  <a:off x="75600" y="256788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28400" y="2439360"/>
                <a:ext cx="446040" cy="377280"/>
                <a:chOff x="428400" y="2439360"/>
                <a:chExt cx="446040" cy="377280"/>
              </a:xfrm>
            </p:grpSpPr>
            <p:sp>
              <p:nvSpPr>
                <p:cNvPr id="187" name="Freeform 189"/>
                <p:cNvSpPr/>
                <p:nvPr/>
              </p:nvSpPr>
              <p:spPr>
                <a:xfrm rot="20636400">
                  <a:off x="467280" y="248544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90"/>
                <p:cNvSpPr/>
                <p:nvPr/>
              </p:nvSpPr>
              <p:spPr>
                <a:xfrm rot="1081200">
                  <a:off x="444600" y="259164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91"/>
                <p:cNvSpPr/>
                <p:nvPr/>
              </p:nvSpPr>
              <p:spPr>
                <a:xfrm rot="1379400">
                  <a:off x="420120" y="259560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92"/>
                <p:cNvSpPr/>
                <p:nvPr/>
              </p:nvSpPr>
              <p:spPr>
                <a:xfrm rot="1379400">
                  <a:off x="438840" y="263592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51000" y="2517120"/>
                <a:ext cx="400680" cy="374760"/>
                <a:chOff x="351000" y="2517120"/>
                <a:chExt cx="400680" cy="374760"/>
              </a:xfrm>
            </p:grpSpPr>
            <p:sp>
              <p:nvSpPr>
                <p:cNvPr id="192" name="Freeform 194"/>
                <p:cNvSpPr/>
                <p:nvPr/>
              </p:nvSpPr>
              <p:spPr>
                <a:xfrm rot="805800">
                  <a:off x="381240" y="2552400"/>
                  <a:ext cx="339480" cy="304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195"/>
                <p:cNvSpPr/>
                <p:nvPr/>
              </p:nvSpPr>
              <p:spPr>
                <a:xfrm rot="2850600">
                  <a:off x="372240" y="2671920"/>
                  <a:ext cx="38808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96"/>
                <p:cNvSpPr/>
                <p:nvPr/>
              </p:nvSpPr>
              <p:spPr>
                <a:xfrm rot="3148800">
                  <a:off x="355320" y="2643840"/>
                  <a:ext cx="291240" cy="25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7"/>
                <p:cNvSpPr/>
                <p:nvPr/>
              </p:nvSpPr>
              <p:spPr>
                <a:xfrm rot="3148800">
                  <a:off x="350640" y="2687760"/>
                  <a:ext cx="29124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040" y="2317320"/>
                <a:ext cx="482400" cy="455040"/>
                <a:chOff x="5040" y="2317320"/>
                <a:chExt cx="482400" cy="455040"/>
              </a:xfrm>
            </p:grpSpPr>
            <p:sp>
              <p:nvSpPr>
                <p:cNvPr id="197" name="Freeform 199"/>
                <p:cNvSpPr/>
                <p:nvPr/>
              </p:nvSpPr>
              <p:spPr>
                <a:xfrm rot="7717200">
                  <a:off x="122760" y="2334240"/>
                  <a:ext cx="246600" cy="420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00"/>
                <p:cNvSpPr/>
                <p:nvPr/>
              </p:nvSpPr>
              <p:spPr>
                <a:xfrm rot="9762000">
                  <a:off x="113040" y="2548800"/>
                  <a:ext cx="281880" cy="48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201"/>
                <p:cNvSpPr/>
                <p:nvPr/>
              </p:nvSpPr>
              <p:spPr>
                <a:xfrm rot="10060200">
                  <a:off x="185400" y="2501280"/>
                  <a:ext cx="211320" cy="35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202"/>
                <p:cNvSpPr/>
                <p:nvPr/>
              </p:nvSpPr>
              <p:spPr>
                <a:xfrm rot="10060200">
                  <a:off x="156960" y="2473920"/>
                  <a:ext cx="21132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48760" y="2166120"/>
                <a:ext cx="463320" cy="419040"/>
                <a:chOff x="248760" y="2166120"/>
                <a:chExt cx="463320" cy="419040"/>
              </a:xfrm>
            </p:grpSpPr>
            <p:sp>
              <p:nvSpPr>
                <p:cNvPr id="202" name="Freeform 204"/>
                <p:cNvSpPr/>
                <p:nvPr/>
              </p:nvSpPr>
              <p:spPr>
                <a:xfrm rot="13857000">
                  <a:off x="398880" y="2143440"/>
                  <a:ext cx="162720" cy="46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205"/>
                <p:cNvSpPr/>
                <p:nvPr/>
              </p:nvSpPr>
              <p:spPr>
                <a:xfrm rot="15901800">
                  <a:off x="355320" y="2350080"/>
                  <a:ext cx="185760" cy="53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06"/>
                <p:cNvSpPr/>
                <p:nvPr/>
              </p:nvSpPr>
              <p:spPr>
                <a:xfrm rot="16200000">
                  <a:off x="427680" y="2388240"/>
                  <a:ext cx="139320" cy="396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07"/>
                <p:cNvSpPr/>
                <p:nvPr/>
              </p:nvSpPr>
              <p:spPr>
                <a:xfrm rot="16200000">
                  <a:off x="470160" y="2381400"/>
                  <a:ext cx="1393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60200" y="2238840"/>
                <a:ext cx="336960" cy="377280"/>
                <a:chOff x="160200" y="2238840"/>
                <a:chExt cx="336960" cy="377280"/>
              </a:xfrm>
            </p:grpSpPr>
            <p:sp>
              <p:nvSpPr>
                <p:cNvPr id="207" name="Freeform 209"/>
                <p:cNvSpPr/>
                <p:nvPr/>
              </p:nvSpPr>
              <p:spPr>
                <a:xfrm rot="11895600">
                  <a:off x="203040" y="2269800"/>
                  <a:ext cx="25092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210"/>
                <p:cNvSpPr/>
                <p:nvPr/>
              </p:nvSpPr>
              <p:spPr>
                <a:xfrm rot="13940400">
                  <a:off x="167400" y="2422080"/>
                  <a:ext cx="286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11"/>
                <p:cNvSpPr/>
                <p:nvPr/>
              </p:nvSpPr>
              <p:spPr>
                <a:xfrm rot="14238600">
                  <a:off x="257760" y="2449800"/>
                  <a:ext cx="2149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212"/>
                <p:cNvSpPr/>
                <p:nvPr/>
              </p:nvSpPr>
              <p:spPr>
                <a:xfrm rot="14238600">
                  <a:off x="270720" y="2420640"/>
                  <a:ext cx="2152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56240" y="2572200"/>
                <a:ext cx="419760" cy="433440"/>
                <a:chOff x="156240" y="2572200"/>
                <a:chExt cx="419760" cy="433440"/>
              </a:xfrm>
            </p:grpSpPr>
            <p:sp>
              <p:nvSpPr>
                <p:cNvPr id="212" name="Freeform 214"/>
                <p:cNvSpPr/>
                <p:nvPr/>
              </p:nvSpPr>
              <p:spPr>
                <a:xfrm rot="4063800">
                  <a:off x="196200" y="263124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215"/>
                <p:cNvSpPr/>
                <p:nvPr/>
              </p:nvSpPr>
              <p:spPr>
                <a:xfrm rot="6108000">
                  <a:off x="193680" y="277452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216"/>
                <p:cNvSpPr/>
                <p:nvPr/>
              </p:nvSpPr>
              <p:spPr>
                <a:xfrm rot="6406200">
                  <a:off x="228960" y="270684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217"/>
                <p:cNvSpPr/>
                <p:nvPr/>
              </p:nvSpPr>
              <p:spPr>
                <a:xfrm rot="6406200">
                  <a:off x="192960" y="273024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49840" y="2416320"/>
                <a:ext cx="321480" cy="291240"/>
                <a:chOff x="249840" y="2416320"/>
                <a:chExt cx="321480" cy="291240"/>
              </a:xfrm>
            </p:grpSpPr>
            <p:sp>
              <p:nvSpPr>
                <p:cNvPr id="217" name="AutoShape 219"/>
                <p:cNvSpPr/>
                <p:nvPr/>
              </p:nvSpPr>
              <p:spPr>
                <a:xfrm>
                  <a:off x="249840" y="241632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220"/>
                <p:cNvSpPr/>
                <p:nvPr/>
              </p:nvSpPr>
              <p:spPr>
                <a:xfrm>
                  <a:off x="305640" y="2459160"/>
                  <a:ext cx="214560" cy="19404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"/>
          <p:cNvGrpSpPr/>
          <p:nvPr/>
        </p:nvGrpSpPr>
        <p:grpSpPr>
          <a:xfrm>
            <a:off x="7583760" y="4633200"/>
            <a:ext cx="1467720" cy="1439640"/>
            <a:chOff x="7583760" y="4633200"/>
            <a:chExt cx="1467720" cy="1439640"/>
          </a:xfrm>
        </p:grpSpPr>
        <p:grpSp>
          <p:nvGrpSpPr>
            <p:cNvPr id="220" name=""/>
            <p:cNvGrpSpPr/>
            <p:nvPr/>
          </p:nvGrpSpPr>
          <p:grpSpPr>
            <a:xfrm>
              <a:off x="7583760" y="4962960"/>
              <a:ext cx="896040" cy="988200"/>
              <a:chOff x="7583760" y="4962960"/>
              <a:chExt cx="896040" cy="98820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588440" y="5253120"/>
                <a:ext cx="492120" cy="493560"/>
                <a:chOff x="7588440" y="5253120"/>
                <a:chExt cx="492120" cy="493560"/>
              </a:xfrm>
            </p:grpSpPr>
            <p:sp>
              <p:nvSpPr>
                <p:cNvPr id="222" name="Freeform 224"/>
                <p:cNvSpPr/>
                <p:nvPr/>
              </p:nvSpPr>
              <p:spPr>
                <a:xfrm flipH="1" flipV="1" rot="18826800">
                  <a:off x="7646760" y="5338080"/>
                  <a:ext cx="37440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225"/>
                <p:cNvSpPr/>
                <p:nvPr/>
              </p:nvSpPr>
              <p:spPr>
                <a:xfrm flipH="1" flipV="1" rot="20871600">
                  <a:off x="7625520" y="5503320"/>
                  <a:ext cx="428400" cy="367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226"/>
                <p:cNvSpPr/>
                <p:nvPr/>
              </p:nvSpPr>
              <p:spPr>
                <a:xfrm flipH="1" flipV="1" rot="21169800">
                  <a:off x="7746840" y="546552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227"/>
                <p:cNvSpPr/>
                <p:nvPr/>
              </p:nvSpPr>
              <p:spPr>
                <a:xfrm flipH="1" flipV="1" rot="21169800">
                  <a:off x="7712280" y="5444280"/>
                  <a:ext cx="3214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7670520" y="5395320"/>
                <a:ext cx="403200" cy="441000"/>
                <a:chOff x="7670520" y="5395320"/>
                <a:chExt cx="403200" cy="441000"/>
              </a:xfrm>
            </p:grpSpPr>
            <p:sp>
              <p:nvSpPr>
                <p:cNvPr id="227" name="Freeform 229"/>
                <p:cNvSpPr/>
                <p:nvPr/>
              </p:nvSpPr>
              <p:spPr>
                <a:xfrm flipH="1" flipV="1" rot="17034600">
                  <a:off x="7684560" y="5454000"/>
                  <a:ext cx="37440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230"/>
                <p:cNvSpPr/>
                <p:nvPr/>
              </p:nvSpPr>
              <p:spPr>
                <a:xfrm flipH="1" flipV="1" rot="19078800">
                  <a:off x="7674120" y="5612400"/>
                  <a:ext cx="42804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231"/>
                <p:cNvSpPr/>
                <p:nvPr/>
              </p:nvSpPr>
              <p:spPr>
                <a:xfrm flipH="1" flipV="1" rot="19377600">
                  <a:off x="7764480" y="5547240"/>
                  <a:ext cx="32112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232"/>
                <p:cNvSpPr/>
                <p:nvPr/>
              </p:nvSpPr>
              <p:spPr>
                <a:xfrm flipH="1" flipV="1" rot="19377600">
                  <a:off x="7721640" y="5546880"/>
                  <a:ext cx="32112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813440" y="5455080"/>
                <a:ext cx="490680" cy="496080"/>
                <a:chOff x="7813440" y="5455080"/>
                <a:chExt cx="490680" cy="496080"/>
              </a:xfrm>
            </p:grpSpPr>
            <p:sp>
              <p:nvSpPr>
                <p:cNvPr id="232" name="Freeform 234"/>
                <p:cNvSpPr/>
                <p:nvPr/>
              </p:nvSpPr>
              <p:spPr>
                <a:xfrm flipH="1" flipV="1" rot="13688400">
                  <a:off x="7865640" y="5545800"/>
                  <a:ext cx="384840" cy="313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235"/>
                <p:cNvSpPr/>
                <p:nvPr/>
              </p:nvSpPr>
              <p:spPr>
                <a:xfrm flipH="1" flipV="1" rot="15733200">
                  <a:off x="7860600" y="5679720"/>
                  <a:ext cx="43956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236"/>
                <p:cNvSpPr/>
                <p:nvPr/>
              </p:nvSpPr>
              <p:spPr>
                <a:xfrm flipH="1" flipV="1" rot="16031400">
                  <a:off x="7878240" y="561240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237"/>
                <p:cNvSpPr/>
                <p:nvPr/>
              </p:nvSpPr>
              <p:spPr>
                <a:xfrm flipH="1" flipV="1" rot="16031400">
                  <a:off x="7851240" y="5649840"/>
                  <a:ext cx="32976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8026560" y="5414040"/>
                <a:ext cx="443160" cy="399960"/>
                <a:chOff x="8026560" y="5414040"/>
                <a:chExt cx="443160" cy="399960"/>
              </a:xfrm>
            </p:grpSpPr>
            <p:sp>
              <p:nvSpPr>
                <p:cNvPr id="237" name="Freeform 239"/>
                <p:cNvSpPr/>
                <p:nvPr/>
              </p:nvSpPr>
              <p:spPr>
                <a:xfrm flipH="1" flipV="1" rot="10003800">
                  <a:off x="8062560" y="545220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240"/>
                <p:cNvSpPr/>
                <p:nvPr/>
              </p:nvSpPr>
              <p:spPr>
                <a:xfrm flipH="1" flipV="1" rot="12048600">
                  <a:off x="8042400" y="5573160"/>
                  <a:ext cx="42840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241"/>
                <p:cNvSpPr/>
                <p:nvPr/>
              </p:nvSpPr>
              <p:spPr>
                <a:xfrm flipH="1" flipV="1" rot="12346800">
                  <a:off x="8015760" y="557748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242"/>
                <p:cNvSpPr/>
                <p:nvPr/>
              </p:nvSpPr>
              <p:spPr>
                <a:xfrm flipH="1" flipV="1" rot="12346800">
                  <a:off x="8031600" y="562248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7731360" y="5007960"/>
                <a:ext cx="493920" cy="494640"/>
                <a:chOff x="7731360" y="5007960"/>
                <a:chExt cx="493920" cy="494640"/>
              </a:xfrm>
            </p:grpSpPr>
            <p:sp>
              <p:nvSpPr>
                <p:cNvPr id="242" name="Freeform 244"/>
                <p:cNvSpPr/>
                <p:nvPr/>
              </p:nvSpPr>
              <p:spPr>
                <a:xfrm flipH="1" flipV="1" rot="2727600">
                  <a:off x="7785720" y="5097960"/>
                  <a:ext cx="38484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245"/>
                <p:cNvSpPr/>
                <p:nvPr/>
              </p:nvSpPr>
              <p:spPr>
                <a:xfrm flipH="1" flipV="1" rot="4772400">
                  <a:off x="7736040" y="5242320"/>
                  <a:ext cx="439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246"/>
                <p:cNvSpPr/>
                <p:nvPr/>
              </p:nvSpPr>
              <p:spPr>
                <a:xfrm flipH="1" flipV="1" rot="5070600">
                  <a:off x="7832160" y="531792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247"/>
                <p:cNvSpPr/>
                <p:nvPr/>
              </p:nvSpPr>
              <p:spPr>
                <a:xfrm flipH="1" flipV="1" rot="5070600">
                  <a:off x="7857000" y="5287320"/>
                  <a:ext cx="33012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8040600" y="5074200"/>
                <a:ext cx="339120" cy="405000"/>
                <a:chOff x="8040600" y="5074200"/>
                <a:chExt cx="339120" cy="405000"/>
              </a:xfrm>
            </p:grpSpPr>
            <p:sp>
              <p:nvSpPr>
                <p:cNvPr id="247" name="Freeform 249"/>
                <p:cNvSpPr/>
                <p:nvPr/>
              </p:nvSpPr>
              <p:spPr>
                <a:xfrm flipH="1" flipV="1" rot="5628000">
                  <a:off x="8017560" y="5118840"/>
                  <a:ext cx="38484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250"/>
                <p:cNvSpPr/>
                <p:nvPr/>
              </p:nvSpPr>
              <p:spPr>
                <a:xfrm flipH="1" flipV="1" rot="7672800">
                  <a:off x="7971480" y="5245920"/>
                  <a:ext cx="439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251"/>
                <p:cNvSpPr/>
                <p:nvPr/>
              </p:nvSpPr>
              <p:spPr>
                <a:xfrm flipH="1" flipV="1" rot="7971000">
                  <a:off x="7999920" y="532764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252"/>
                <p:cNvSpPr/>
                <p:nvPr/>
              </p:nvSpPr>
              <p:spPr>
                <a:xfrm flipH="1" flipV="1" rot="7971000">
                  <a:off x="8043120" y="5328360"/>
                  <a:ext cx="33012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8024040" y="5144760"/>
                <a:ext cx="452160" cy="477000"/>
                <a:chOff x="8024040" y="5144760"/>
                <a:chExt cx="452160" cy="477000"/>
              </a:xfrm>
            </p:grpSpPr>
            <p:sp>
              <p:nvSpPr>
                <p:cNvPr id="252" name="Freeform 254"/>
                <p:cNvSpPr/>
                <p:nvPr/>
              </p:nvSpPr>
              <p:spPr>
                <a:xfrm flipH="1" flipV="1" rot="6925800">
                  <a:off x="8062560" y="522144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255"/>
                <p:cNvSpPr/>
                <p:nvPr/>
              </p:nvSpPr>
              <p:spPr>
                <a:xfrm flipH="1" flipV="1" rot="8970600">
                  <a:off x="8023320" y="5345640"/>
                  <a:ext cx="428400" cy="374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256"/>
                <p:cNvSpPr/>
                <p:nvPr/>
              </p:nvSpPr>
              <p:spPr>
                <a:xfrm flipH="1" flipV="1" rot="9268800">
                  <a:off x="8026200" y="541152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257"/>
                <p:cNvSpPr/>
                <p:nvPr/>
              </p:nvSpPr>
              <p:spPr>
                <a:xfrm flipH="1" flipV="1" rot="9268800">
                  <a:off x="8067240" y="542916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7583760" y="5176800"/>
                <a:ext cx="451800" cy="413640"/>
                <a:chOff x="7583760" y="5176800"/>
                <a:chExt cx="451800" cy="413640"/>
              </a:xfrm>
            </p:grpSpPr>
            <p:sp>
              <p:nvSpPr>
                <p:cNvPr id="257" name="Freeform 259"/>
                <p:cNvSpPr/>
                <p:nvPr/>
              </p:nvSpPr>
              <p:spPr>
                <a:xfrm flipH="1" flipV="1" rot="20636400">
                  <a:off x="7620840" y="522180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260"/>
                <p:cNvSpPr/>
                <p:nvPr/>
              </p:nvSpPr>
              <p:spPr>
                <a:xfrm flipH="1" flipV="1" rot="1081200">
                  <a:off x="7587720" y="5386680"/>
                  <a:ext cx="42840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261"/>
                <p:cNvSpPr/>
                <p:nvPr/>
              </p:nvSpPr>
              <p:spPr>
                <a:xfrm flipH="1" flipV="1" rot="1379400">
                  <a:off x="7721280" y="538812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262"/>
                <p:cNvSpPr/>
                <p:nvPr/>
              </p:nvSpPr>
              <p:spPr>
                <a:xfrm flipH="1" flipV="1" rot="1379400">
                  <a:off x="7704000" y="535356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7688520" y="5104080"/>
                <a:ext cx="444960" cy="385560"/>
                <a:chOff x="7688520" y="5104080"/>
                <a:chExt cx="444960" cy="385560"/>
              </a:xfrm>
            </p:grpSpPr>
            <p:sp>
              <p:nvSpPr>
                <p:cNvPr id="262" name="Freeform 264"/>
                <p:cNvSpPr/>
                <p:nvPr/>
              </p:nvSpPr>
              <p:spPr>
                <a:xfrm flipH="1" flipV="1" rot="805800">
                  <a:off x="7718400" y="5144040"/>
                  <a:ext cx="384840" cy="303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265"/>
                <p:cNvSpPr/>
                <p:nvPr/>
              </p:nvSpPr>
              <p:spPr>
                <a:xfrm flipH="1" flipV="1" rot="2850600">
                  <a:off x="7675560" y="5293440"/>
                  <a:ext cx="43992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6"/>
                <p:cNvSpPr/>
                <p:nvPr/>
              </p:nvSpPr>
              <p:spPr>
                <a:xfrm flipH="1" flipV="1" rot="3148800">
                  <a:off x="7801560" y="5338080"/>
                  <a:ext cx="329760" cy="255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67"/>
                <p:cNvSpPr/>
                <p:nvPr/>
              </p:nvSpPr>
              <p:spPr>
                <a:xfrm flipH="1" flipV="1" rot="3148800">
                  <a:off x="7804080" y="5299560"/>
                  <a:ext cx="32976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954200" y="5232960"/>
                <a:ext cx="525600" cy="489600"/>
                <a:chOff x="7954200" y="5232960"/>
                <a:chExt cx="525600" cy="489600"/>
              </a:xfrm>
            </p:grpSpPr>
            <p:sp>
              <p:nvSpPr>
                <p:cNvPr id="267" name="Freeform 269"/>
                <p:cNvSpPr/>
                <p:nvPr/>
              </p:nvSpPr>
              <p:spPr>
                <a:xfrm flipH="1" flipV="1" rot="7717200">
                  <a:off x="8093520" y="5239440"/>
                  <a:ext cx="246240" cy="476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70"/>
                <p:cNvSpPr/>
                <p:nvPr/>
              </p:nvSpPr>
              <p:spPr>
                <a:xfrm flipH="1" flipV="1" rot="9762000">
                  <a:off x="8066520" y="5417640"/>
                  <a:ext cx="281520" cy="55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71"/>
                <p:cNvSpPr/>
                <p:nvPr/>
              </p:nvSpPr>
              <p:spPr>
                <a:xfrm flipH="1" flipV="1" rot="10060200">
                  <a:off x="8065800" y="5484240"/>
                  <a:ext cx="210600" cy="403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272"/>
                <p:cNvSpPr/>
                <p:nvPr/>
              </p:nvSpPr>
              <p:spPr>
                <a:xfrm flipH="1" flipV="1" rot="10060200">
                  <a:off x="8095680" y="5529240"/>
                  <a:ext cx="210600" cy="27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7744320" y="5450760"/>
                <a:ext cx="476280" cy="434880"/>
                <a:chOff x="7744320" y="5450760"/>
                <a:chExt cx="476280" cy="434880"/>
              </a:xfrm>
            </p:grpSpPr>
            <p:sp>
              <p:nvSpPr>
                <p:cNvPr id="272" name="Freeform 274"/>
                <p:cNvSpPr/>
                <p:nvPr/>
              </p:nvSpPr>
              <p:spPr>
                <a:xfrm flipH="1" flipV="1" rot="13857000">
                  <a:off x="7889760" y="5436000"/>
                  <a:ext cx="184320" cy="463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275"/>
                <p:cNvSpPr/>
                <p:nvPr/>
              </p:nvSpPr>
              <p:spPr>
                <a:xfrm flipH="1" flipV="1" rot="15901800">
                  <a:off x="7908840" y="5640120"/>
                  <a:ext cx="210600" cy="53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276"/>
                <p:cNvSpPr/>
                <p:nvPr/>
              </p:nvSpPr>
              <p:spPr>
                <a:xfrm flipH="1" flipV="1" rot="16200000">
                  <a:off x="7886520" y="5611680"/>
                  <a:ext cx="158040" cy="39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277"/>
                <p:cNvSpPr/>
                <p:nvPr/>
              </p:nvSpPr>
              <p:spPr>
                <a:xfrm flipH="1" flipV="1" rot="16200000">
                  <a:off x="7844400" y="5633280"/>
                  <a:ext cx="158040" cy="26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950960" y="5416920"/>
                <a:ext cx="368640" cy="387720"/>
                <a:chOff x="7950960" y="5416920"/>
                <a:chExt cx="368640" cy="387720"/>
              </a:xfrm>
            </p:grpSpPr>
            <p:sp>
              <p:nvSpPr>
                <p:cNvPr id="277" name="Freeform 279"/>
                <p:cNvSpPr/>
                <p:nvPr/>
              </p:nvSpPr>
              <p:spPr>
                <a:xfrm flipH="1" flipV="1" rot="11895600">
                  <a:off x="7993080" y="5453280"/>
                  <a:ext cx="28440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80"/>
                <p:cNvSpPr/>
                <p:nvPr/>
              </p:nvSpPr>
              <p:spPr>
                <a:xfrm flipH="1" flipV="1" rot="13940400">
                  <a:off x="7989480" y="5578920"/>
                  <a:ext cx="325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281"/>
                <p:cNvSpPr/>
                <p:nvPr/>
              </p:nvSpPr>
              <p:spPr>
                <a:xfrm flipH="1" flipV="1" rot="14238600">
                  <a:off x="7972560" y="5555160"/>
                  <a:ext cx="243720" cy="27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282"/>
                <p:cNvSpPr/>
                <p:nvPr/>
              </p:nvSpPr>
              <p:spPr>
                <a:xfrm flipH="1" flipV="1" rot="14238600">
                  <a:off x="7961400" y="5595480"/>
                  <a:ext cx="2440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879680" y="4962960"/>
                <a:ext cx="436680" cy="476280"/>
                <a:chOff x="7879680" y="4962960"/>
                <a:chExt cx="436680" cy="476280"/>
              </a:xfrm>
            </p:grpSpPr>
            <p:sp>
              <p:nvSpPr>
                <p:cNvPr id="282" name="Freeform 284"/>
                <p:cNvSpPr/>
                <p:nvPr/>
              </p:nvSpPr>
              <p:spPr>
                <a:xfrm flipH="1" flipV="1" rot="4063800">
                  <a:off x="7905240" y="5042880"/>
                  <a:ext cx="38448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85"/>
                <p:cNvSpPr/>
                <p:nvPr/>
              </p:nvSpPr>
              <p:spPr>
                <a:xfrm flipH="1" flipV="1" rot="6108000">
                  <a:off x="7855920" y="5179680"/>
                  <a:ext cx="43956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286"/>
                <p:cNvSpPr/>
                <p:nvPr/>
              </p:nvSpPr>
              <p:spPr>
                <a:xfrm flipH="1" flipV="1" rot="6406200">
                  <a:off x="7920720" y="526392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287"/>
                <p:cNvSpPr/>
                <p:nvPr/>
              </p:nvSpPr>
              <p:spPr>
                <a:xfrm flipH="1" flipV="1" rot="6406200">
                  <a:off x="7958160" y="5246640"/>
                  <a:ext cx="32976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891920" y="5292720"/>
                <a:ext cx="321120" cy="329760"/>
                <a:chOff x="7891920" y="5292720"/>
                <a:chExt cx="321120" cy="329760"/>
              </a:xfrm>
            </p:grpSpPr>
            <p:sp>
              <p:nvSpPr>
                <p:cNvPr id="287" name="AutoShape 289"/>
                <p:cNvSpPr/>
                <p:nvPr/>
              </p:nvSpPr>
              <p:spPr>
                <a:xfrm flipH="1" flipV="1">
                  <a:off x="7891920" y="5292720"/>
                  <a:ext cx="321120" cy="329760"/>
                </a:xfrm>
                <a:custGeom>
                  <a:avLst/>
                  <a:gdLst>
                    <a:gd name="textAreaLeft" fmla="*/ 75240 w 321120"/>
                    <a:gd name="textAreaRight" fmla="*/ 245880 w 321120"/>
                    <a:gd name="textAreaTop" fmla="*/ 77400 h 329760"/>
                    <a:gd name="textAreaBottom" fmla="*/ 252360 h 32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 flipH="1" flipV="1">
                  <a:off x="7942680" y="5354280"/>
                  <a:ext cx="214200" cy="21960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7918200" y="5166000"/>
              <a:ext cx="1002240" cy="906840"/>
              <a:chOff x="7918200" y="5166000"/>
              <a:chExt cx="1002240" cy="9068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8170200" y="5241240"/>
                <a:ext cx="489960" cy="478440"/>
                <a:chOff x="8170200" y="5241240"/>
                <a:chExt cx="489960" cy="478440"/>
              </a:xfrm>
            </p:grpSpPr>
            <p:sp>
              <p:nvSpPr>
                <p:cNvPr id="291" name="Freeform 293"/>
                <p:cNvSpPr/>
                <p:nvPr/>
              </p:nvSpPr>
              <p:spPr>
                <a:xfrm flipH="1" flipV="1" rot="13149000">
                  <a:off x="8222400" y="5328000"/>
                  <a:ext cx="384480" cy="30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94"/>
                <p:cNvSpPr/>
                <p:nvPr/>
              </p:nvSpPr>
              <p:spPr>
                <a:xfrm flipH="1" flipV="1" rot="15194400">
                  <a:off x="8214840" y="5454720"/>
                  <a:ext cx="43956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295"/>
                <p:cNvSpPr/>
                <p:nvPr/>
              </p:nvSpPr>
              <p:spPr>
                <a:xfrm flipH="1" flipV="1" rot="15492600">
                  <a:off x="8223120" y="539352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296"/>
                <p:cNvSpPr/>
                <p:nvPr/>
              </p:nvSpPr>
              <p:spPr>
                <a:xfrm flipH="1" flipV="1" rot="15492600">
                  <a:off x="8202960" y="5435280"/>
                  <a:ext cx="32976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8425080" y="5274360"/>
                <a:ext cx="404280" cy="457560"/>
                <a:chOff x="8425080" y="5274360"/>
                <a:chExt cx="404280" cy="457560"/>
              </a:xfrm>
            </p:grpSpPr>
            <p:sp>
              <p:nvSpPr>
                <p:cNvPr id="296" name="Freeform 298"/>
                <p:cNvSpPr/>
                <p:nvPr/>
              </p:nvSpPr>
              <p:spPr>
                <a:xfrm flipH="1" flipV="1" rot="17227800">
                  <a:off x="8434440" y="5351400"/>
                  <a:ext cx="38484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99"/>
                <p:cNvSpPr/>
                <p:nvPr/>
              </p:nvSpPr>
              <p:spPr>
                <a:xfrm flipH="1" flipV="1" rot="19273200">
                  <a:off x="8420760" y="5501160"/>
                  <a:ext cx="43992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300"/>
                <p:cNvSpPr/>
                <p:nvPr/>
              </p:nvSpPr>
              <p:spPr>
                <a:xfrm flipH="1" flipV="1" rot="19571400">
                  <a:off x="8519760" y="543744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301"/>
                <p:cNvSpPr/>
                <p:nvPr/>
              </p:nvSpPr>
              <p:spPr>
                <a:xfrm flipH="1" flipV="1" rot="19571400">
                  <a:off x="8477640" y="5436720"/>
                  <a:ext cx="330120" cy="16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8085240" y="5316120"/>
                <a:ext cx="414360" cy="360720"/>
                <a:chOff x="8085240" y="5316120"/>
                <a:chExt cx="414360" cy="360720"/>
              </a:xfrm>
            </p:grpSpPr>
            <p:sp>
              <p:nvSpPr>
                <p:cNvPr id="301" name="Freeform 303"/>
                <p:cNvSpPr/>
                <p:nvPr/>
              </p:nvSpPr>
              <p:spPr>
                <a:xfrm flipH="1" flipV="1" rot="11275800">
                  <a:off x="8104320" y="5340600"/>
                  <a:ext cx="374760" cy="311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304"/>
                <p:cNvSpPr/>
                <p:nvPr/>
              </p:nvSpPr>
              <p:spPr>
                <a:xfrm flipH="1" flipV="1" rot="13320600">
                  <a:off x="8091360" y="5461920"/>
                  <a:ext cx="428040" cy="35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305"/>
                <p:cNvSpPr/>
                <p:nvPr/>
              </p:nvSpPr>
              <p:spPr>
                <a:xfrm flipH="1" flipV="1" rot="13619400">
                  <a:off x="8071560" y="5435640"/>
                  <a:ext cx="321120" cy="26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06"/>
                <p:cNvSpPr/>
                <p:nvPr/>
              </p:nvSpPr>
              <p:spPr>
                <a:xfrm flipH="1" flipV="1" rot="13619400">
                  <a:off x="8072280" y="5483160"/>
                  <a:ext cx="321120" cy="180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8348400" y="5585040"/>
                <a:ext cx="438120" cy="392040"/>
                <a:chOff x="8348400" y="5585040"/>
                <a:chExt cx="438120" cy="392040"/>
              </a:xfrm>
            </p:grpSpPr>
            <p:sp>
              <p:nvSpPr>
                <p:cNvPr id="306" name="Freeform 308"/>
                <p:cNvSpPr/>
                <p:nvPr/>
              </p:nvSpPr>
              <p:spPr>
                <a:xfrm flipH="1" flipV="1" rot="823800">
                  <a:off x="8379720" y="5624640"/>
                  <a:ext cx="37476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09"/>
                <p:cNvSpPr/>
                <p:nvPr/>
              </p:nvSpPr>
              <p:spPr>
                <a:xfrm flipH="1" flipV="1" rot="2868600">
                  <a:off x="8338320" y="5777280"/>
                  <a:ext cx="428040" cy="3636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310"/>
                <p:cNvSpPr/>
                <p:nvPr/>
              </p:nvSpPr>
              <p:spPr>
                <a:xfrm flipH="1" flipV="1" rot="3166800">
                  <a:off x="8461080" y="5820120"/>
                  <a:ext cx="321120" cy="26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311"/>
                <p:cNvSpPr/>
                <p:nvPr/>
              </p:nvSpPr>
              <p:spPr>
                <a:xfrm flipH="1" flipV="1" rot="3166800">
                  <a:off x="8464680" y="578268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8034840" y="5469840"/>
                <a:ext cx="458640" cy="486720"/>
                <a:chOff x="8034840" y="5469840"/>
                <a:chExt cx="458640" cy="486720"/>
              </a:xfrm>
            </p:grpSpPr>
            <p:sp>
              <p:nvSpPr>
                <p:cNvPr id="311" name="Freeform 313"/>
                <p:cNvSpPr/>
                <p:nvPr/>
              </p:nvSpPr>
              <p:spPr>
                <a:xfrm flipH="1" flipV="1" rot="7251000">
                  <a:off x="8071560" y="5560920"/>
                  <a:ext cx="38484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14"/>
                <p:cNvSpPr/>
                <p:nvPr/>
              </p:nvSpPr>
              <p:spPr>
                <a:xfrm flipH="1" flipV="1" rot="9295800">
                  <a:off x="8034120" y="5676480"/>
                  <a:ext cx="43992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315"/>
                <p:cNvSpPr/>
                <p:nvPr/>
              </p:nvSpPr>
              <p:spPr>
                <a:xfrm flipH="1" flipV="1" rot="9594000">
                  <a:off x="8029800" y="573660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16"/>
                <p:cNvSpPr/>
                <p:nvPr/>
              </p:nvSpPr>
              <p:spPr>
                <a:xfrm flipH="1" flipV="1" rot="9594000">
                  <a:off x="8070120" y="5756040"/>
                  <a:ext cx="33012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8463240" y="5476680"/>
                <a:ext cx="457200" cy="416880"/>
                <a:chOff x="8463240" y="5476680"/>
                <a:chExt cx="457200" cy="416880"/>
              </a:xfrm>
            </p:grpSpPr>
            <p:sp>
              <p:nvSpPr>
                <p:cNvPr id="316" name="Freeform 318"/>
                <p:cNvSpPr/>
                <p:nvPr/>
              </p:nvSpPr>
              <p:spPr>
                <a:xfrm flipH="1" flipV="1" rot="20461800">
                  <a:off x="8503200" y="5528880"/>
                  <a:ext cx="37440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319"/>
                <p:cNvSpPr/>
                <p:nvPr/>
              </p:nvSpPr>
              <p:spPr>
                <a:xfrm flipH="1" flipV="1" rot="906600">
                  <a:off x="8472240" y="5688360"/>
                  <a:ext cx="428040" cy="35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320"/>
                <p:cNvSpPr/>
                <p:nvPr/>
              </p:nvSpPr>
              <p:spPr>
                <a:xfrm flipH="1" flipV="1" rot="1205400">
                  <a:off x="8604000" y="5686560"/>
                  <a:ext cx="321120" cy="26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321"/>
                <p:cNvSpPr/>
                <p:nvPr/>
              </p:nvSpPr>
              <p:spPr>
                <a:xfrm flipH="1" flipV="1" rot="1205400">
                  <a:off x="8584560" y="565416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8215200" y="5553360"/>
                <a:ext cx="406440" cy="464040"/>
                <a:chOff x="8215200" y="5553360"/>
                <a:chExt cx="406440" cy="464040"/>
              </a:xfrm>
            </p:grpSpPr>
            <p:sp>
              <p:nvSpPr>
                <p:cNvPr id="321" name="Freeform 323"/>
                <p:cNvSpPr/>
                <p:nvPr/>
              </p:nvSpPr>
              <p:spPr>
                <a:xfrm flipH="1" flipV="1" rot="4341600">
                  <a:off x="8225280" y="5630040"/>
                  <a:ext cx="38484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324"/>
                <p:cNvSpPr/>
                <p:nvPr/>
              </p:nvSpPr>
              <p:spPr>
                <a:xfrm flipH="1" flipV="1" rot="6385800">
                  <a:off x="8177040" y="5759640"/>
                  <a:ext cx="43992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325"/>
                <p:cNvSpPr/>
                <p:nvPr/>
              </p:nvSpPr>
              <p:spPr>
                <a:xfrm flipH="1" flipV="1" rot="6684000">
                  <a:off x="8234640" y="584568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326"/>
                <p:cNvSpPr/>
                <p:nvPr/>
              </p:nvSpPr>
              <p:spPr>
                <a:xfrm flipH="1" flipV="1" rot="6684000">
                  <a:off x="8272800" y="5829840"/>
                  <a:ext cx="33012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8291880" y="5166000"/>
                <a:ext cx="424080" cy="473040"/>
                <a:chOff x="8291880" y="5166000"/>
                <a:chExt cx="424080" cy="473040"/>
              </a:xfrm>
            </p:grpSpPr>
            <p:sp>
              <p:nvSpPr>
                <p:cNvPr id="326" name="Freeform 328"/>
                <p:cNvSpPr/>
                <p:nvPr/>
              </p:nvSpPr>
              <p:spPr>
                <a:xfrm flipH="1" flipV="1" rot="14905200">
                  <a:off x="8311320" y="5252040"/>
                  <a:ext cx="384840" cy="30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329"/>
                <p:cNvSpPr/>
                <p:nvPr/>
              </p:nvSpPr>
              <p:spPr>
                <a:xfrm flipH="1" flipV="1" rot="16950000">
                  <a:off x="8304480" y="5389920"/>
                  <a:ext cx="43992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330"/>
                <p:cNvSpPr/>
                <p:nvPr/>
              </p:nvSpPr>
              <p:spPr>
                <a:xfrm flipH="1" flipV="1" rot="17248800">
                  <a:off x="8351280" y="531396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331"/>
                <p:cNvSpPr/>
                <p:nvPr/>
              </p:nvSpPr>
              <p:spPr>
                <a:xfrm flipH="1" flipV="1" rot="17248800">
                  <a:off x="8314920" y="5340600"/>
                  <a:ext cx="33012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8385840" y="5335560"/>
                <a:ext cx="479880" cy="487440"/>
                <a:chOff x="8385840" y="5335560"/>
                <a:chExt cx="479880" cy="487440"/>
              </a:xfrm>
            </p:grpSpPr>
            <p:sp>
              <p:nvSpPr>
                <p:cNvPr id="331" name="Freeform 333"/>
                <p:cNvSpPr/>
                <p:nvPr/>
              </p:nvSpPr>
              <p:spPr>
                <a:xfrm flipH="1" flipV="1" rot="18606000">
                  <a:off x="8438040" y="5422320"/>
                  <a:ext cx="37440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34"/>
                <p:cNvSpPr/>
                <p:nvPr/>
              </p:nvSpPr>
              <p:spPr>
                <a:xfrm flipH="1" flipV="1" rot="20650200">
                  <a:off x="8418240" y="5581080"/>
                  <a:ext cx="428040" cy="360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35"/>
                <p:cNvSpPr/>
                <p:nvPr/>
              </p:nvSpPr>
              <p:spPr>
                <a:xfrm flipH="1" flipV="1" rot="20948400">
                  <a:off x="8536680" y="5540400"/>
                  <a:ext cx="321120" cy="26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6"/>
                <p:cNvSpPr/>
                <p:nvPr/>
              </p:nvSpPr>
              <p:spPr>
                <a:xfrm flipH="1" flipV="1" rot="20948400">
                  <a:off x="8500320" y="552276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918200" y="5370840"/>
                <a:ext cx="485640" cy="469800"/>
                <a:chOff x="7918200" y="5370840"/>
                <a:chExt cx="485640" cy="469800"/>
              </a:xfrm>
            </p:grpSpPr>
            <p:sp>
              <p:nvSpPr>
                <p:cNvPr id="336" name="Freeform 338"/>
                <p:cNvSpPr/>
                <p:nvPr/>
              </p:nvSpPr>
              <p:spPr>
                <a:xfrm flipH="1" flipV="1" rot="8719200">
                  <a:off x="7972920" y="5449320"/>
                  <a:ext cx="37476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39"/>
                <p:cNvSpPr/>
                <p:nvPr/>
              </p:nvSpPr>
              <p:spPr>
                <a:xfrm flipH="1" flipV="1" rot="10764000">
                  <a:off x="7944840" y="5566680"/>
                  <a:ext cx="428040" cy="360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340"/>
                <p:cNvSpPr/>
                <p:nvPr/>
              </p:nvSpPr>
              <p:spPr>
                <a:xfrm flipH="1" flipV="1" rot="11062200">
                  <a:off x="7923960" y="5597640"/>
                  <a:ext cx="321120" cy="26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341"/>
                <p:cNvSpPr/>
                <p:nvPr/>
              </p:nvSpPr>
              <p:spPr>
                <a:xfrm flipH="1" flipV="1" rot="11062200">
                  <a:off x="7952760" y="563328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8174520" y="5539680"/>
                <a:ext cx="366840" cy="431640"/>
                <a:chOff x="8174520" y="5539680"/>
                <a:chExt cx="366840" cy="431640"/>
              </a:xfrm>
            </p:grpSpPr>
            <p:sp>
              <p:nvSpPr>
                <p:cNvPr id="341" name="Freeform 343"/>
                <p:cNvSpPr/>
                <p:nvPr/>
              </p:nvSpPr>
              <p:spPr>
                <a:xfrm flipH="1" flipV="1" rot="5998800">
                  <a:off x="8165880" y="5603040"/>
                  <a:ext cx="384840" cy="30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44"/>
                <p:cNvSpPr/>
                <p:nvPr/>
              </p:nvSpPr>
              <p:spPr>
                <a:xfrm flipH="1" flipV="1" rot="8043600">
                  <a:off x="8121960" y="5723640"/>
                  <a:ext cx="439920" cy="3456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45"/>
                <p:cNvSpPr/>
                <p:nvPr/>
              </p:nvSpPr>
              <p:spPr>
                <a:xfrm flipH="1" flipV="1" rot="8341800">
                  <a:off x="8142480" y="5801040"/>
                  <a:ext cx="33012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46"/>
                <p:cNvSpPr/>
                <p:nvPr/>
              </p:nvSpPr>
              <p:spPr>
                <a:xfrm flipH="1" flipV="1" rot="8341800">
                  <a:off x="8184600" y="5805000"/>
                  <a:ext cx="33012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8265960" y="5585400"/>
                <a:ext cx="486000" cy="487440"/>
                <a:chOff x="8265960" y="5585400"/>
                <a:chExt cx="486000" cy="487440"/>
              </a:xfrm>
            </p:grpSpPr>
            <p:sp>
              <p:nvSpPr>
                <p:cNvPr id="346" name="Freeform 348"/>
                <p:cNvSpPr/>
                <p:nvPr/>
              </p:nvSpPr>
              <p:spPr>
                <a:xfrm flipH="1" flipV="1" rot="2739000">
                  <a:off x="8316360" y="5677200"/>
                  <a:ext cx="384840" cy="30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49"/>
                <p:cNvSpPr/>
                <p:nvPr/>
              </p:nvSpPr>
              <p:spPr>
                <a:xfrm flipH="1" flipV="1" rot="4783800">
                  <a:off x="8268120" y="5815800"/>
                  <a:ext cx="439920" cy="35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50"/>
                <p:cNvSpPr/>
                <p:nvPr/>
              </p:nvSpPr>
              <p:spPr>
                <a:xfrm flipH="1" flipV="1" rot="5082000">
                  <a:off x="8362080" y="589140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51"/>
                <p:cNvSpPr/>
                <p:nvPr/>
              </p:nvSpPr>
              <p:spPr>
                <a:xfrm flipH="1" flipV="1" rot="5082000">
                  <a:off x="8386560" y="5861160"/>
                  <a:ext cx="33012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375040" y="5527080"/>
                <a:ext cx="396360" cy="313560"/>
                <a:chOff x="8375040" y="5527080"/>
                <a:chExt cx="396360" cy="313560"/>
              </a:xfrm>
            </p:grpSpPr>
            <p:sp>
              <p:nvSpPr>
                <p:cNvPr id="351" name="Freeform 353"/>
                <p:cNvSpPr/>
                <p:nvPr/>
              </p:nvSpPr>
              <p:spPr>
                <a:xfrm flipH="1" flipV="1" rot="12600">
                  <a:off x="8385120" y="5527080"/>
                  <a:ext cx="37476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54"/>
                <p:cNvSpPr/>
                <p:nvPr/>
              </p:nvSpPr>
              <p:spPr>
                <a:xfrm flipH="1" flipV="1" rot="2057400">
                  <a:off x="8347680" y="5684400"/>
                  <a:ext cx="428040" cy="35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55"/>
                <p:cNvSpPr/>
                <p:nvPr/>
              </p:nvSpPr>
              <p:spPr>
                <a:xfrm flipH="1" flipV="1" rot="2355600">
                  <a:off x="8478000" y="5708880"/>
                  <a:ext cx="321120" cy="26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356"/>
                <p:cNvSpPr/>
                <p:nvPr/>
              </p:nvSpPr>
              <p:spPr>
                <a:xfrm flipH="1" flipV="1" rot="2355600">
                  <a:off x="8471160" y="567180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8115120" y="5223960"/>
                <a:ext cx="475920" cy="449280"/>
                <a:chOff x="8115120" y="5223960"/>
                <a:chExt cx="475920" cy="449280"/>
              </a:xfrm>
            </p:grpSpPr>
            <p:sp>
              <p:nvSpPr>
                <p:cNvPr id="356" name="Freeform 358"/>
                <p:cNvSpPr/>
                <p:nvPr/>
              </p:nvSpPr>
              <p:spPr>
                <a:xfrm flipH="1" flipV="1" rot="12437400">
                  <a:off x="8165520" y="5292360"/>
                  <a:ext cx="37476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359"/>
                <p:cNvSpPr/>
                <p:nvPr/>
              </p:nvSpPr>
              <p:spPr>
                <a:xfrm flipH="1" flipV="1" rot="14482200">
                  <a:off x="8156880" y="5418720"/>
                  <a:ext cx="428040" cy="35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360"/>
                <p:cNvSpPr/>
                <p:nvPr/>
              </p:nvSpPr>
              <p:spPr>
                <a:xfrm flipH="1" flipV="1" rot="14781000">
                  <a:off x="8151120" y="5370840"/>
                  <a:ext cx="321120" cy="26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361"/>
                <p:cNvSpPr/>
                <p:nvPr/>
              </p:nvSpPr>
              <p:spPr>
                <a:xfrm flipH="1" flipV="1" rot="14781000">
                  <a:off x="8137800" y="541512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7986600" y="5352840"/>
                <a:ext cx="418680" cy="352440"/>
                <a:chOff x="7986600" y="5352840"/>
                <a:chExt cx="418680" cy="352440"/>
              </a:xfrm>
            </p:grpSpPr>
            <p:sp>
              <p:nvSpPr>
                <p:cNvPr id="361" name="Freeform 363"/>
                <p:cNvSpPr/>
                <p:nvPr/>
              </p:nvSpPr>
              <p:spPr>
                <a:xfrm flipH="1" flipV="1" rot="10413000">
                  <a:off x="8011440" y="5373000"/>
                  <a:ext cx="374760" cy="312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64"/>
                <p:cNvSpPr/>
                <p:nvPr/>
              </p:nvSpPr>
              <p:spPr>
                <a:xfrm flipH="1" flipV="1" rot="12457800">
                  <a:off x="7993080" y="5491080"/>
                  <a:ext cx="427680" cy="360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65"/>
                <p:cNvSpPr/>
                <p:nvPr/>
              </p:nvSpPr>
              <p:spPr>
                <a:xfrm flipH="1" flipV="1" rot="12756600">
                  <a:off x="7967880" y="5485320"/>
                  <a:ext cx="32112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66"/>
                <p:cNvSpPr/>
                <p:nvPr/>
              </p:nvSpPr>
              <p:spPr>
                <a:xfrm flipH="1" flipV="1" rot="12756600">
                  <a:off x="7979400" y="552996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8216640" y="5391720"/>
                <a:ext cx="432360" cy="436320"/>
                <a:chOff x="8216640" y="5391720"/>
                <a:chExt cx="432360" cy="436320"/>
              </a:xfrm>
            </p:grpSpPr>
            <p:sp>
              <p:nvSpPr>
                <p:cNvPr id="366" name="AutoShape 368"/>
                <p:cNvSpPr/>
                <p:nvPr/>
              </p:nvSpPr>
              <p:spPr>
                <a:xfrm flipH="1" flipV="1" rot="12343200">
                  <a:off x="8271720" y="5444640"/>
                  <a:ext cx="321120" cy="329760"/>
                </a:xfrm>
                <a:custGeom>
                  <a:avLst/>
                  <a:gdLst>
                    <a:gd name="textAreaLeft" fmla="*/ 75240 w 321120"/>
                    <a:gd name="textAreaRight" fmla="*/ 245880 w 321120"/>
                    <a:gd name="textAreaTop" fmla="*/ 77400 h 329760"/>
                    <a:gd name="textAreaBottom" fmla="*/ 252360 h 32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369"/>
                <p:cNvSpPr/>
                <p:nvPr/>
              </p:nvSpPr>
              <p:spPr>
                <a:xfrm flipH="1" flipV="1" rot="12343200">
                  <a:off x="8329680" y="5495040"/>
                  <a:ext cx="214200" cy="21996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8" name=""/>
            <p:cNvGrpSpPr/>
            <p:nvPr/>
          </p:nvGrpSpPr>
          <p:grpSpPr>
            <a:xfrm>
              <a:off x="8155440" y="4633200"/>
              <a:ext cx="896040" cy="988200"/>
              <a:chOff x="8155440" y="4633200"/>
              <a:chExt cx="896040" cy="98820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8160120" y="4923360"/>
                <a:ext cx="492120" cy="493560"/>
                <a:chOff x="8160120" y="4923360"/>
                <a:chExt cx="492120" cy="493560"/>
              </a:xfrm>
            </p:grpSpPr>
            <p:sp>
              <p:nvSpPr>
                <p:cNvPr id="370" name="Freeform 372"/>
                <p:cNvSpPr/>
                <p:nvPr/>
              </p:nvSpPr>
              <p:spPr>
                <a:xfrm flipH="1" flipV="1" rot="18826800">
                  <a:off x="8218440" y="5008320"/>
                  <a:ext cx="37440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73"/>
                <p:cNvSpPr/>
                <p:nvPr/>
              </p:nvSpPr>
              <p:spPr>
                <a:xfrm flipH="1" flipV="1" rot="20871600">
                  <a:off x="8197200" y="5173560"/>
                  <a:ext cx="428400" cy="367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74"/>
                <p:cNvSpPr/>
                <p:nvPr/>
              </p:nvSpPr>
              <p:spPr>
                <a:xfrm flipH="1" flipV="1" rot="21169800">
                  <a:off x="8318520" y="513576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75"/>
                <p:cNvSpPr/>
                <p:nvPr/>
              </p:nvSpPr>
              <p:spPr>
                <a:xfrm flipH="1" flipV="1" rot="21169800">
                  <a:off x="8283960" y="5114520"/>
                  <a:ext cx="3214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242200" y="5065560"/>
                <a:ext cx="403200" cy="441000"/>
                <a:chOff x="8242200" y="5065560"/>
                <a:chExt cx="403200" cy="441000"/>
              </a:xfrm>
            </p:grpSpPr>
            <p:sp>
              <p:nvSpPr>
                <p:cNvPr id="375" name="Freeform 377"/>
                <p:cNvSpPr/>
                <p:nvPr/>
              </p:nvSpPr>
              <p:spPr>
                <a:xfrm flipH="1" flipV="1" rot="17034600">
                  <a:off x="8256240" y="5124240"/>
                  <a:ext cx="37440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78"/>
                <p:cNvSpPr/>
                <p:nvPr/>
              </p:nvSpPr>
              <p:spPr>
                <a:xfrm flipH="1" flipV="1" rot="19078800">
                  <a:off x="8245800" y="5282640"/>
                  <a:ext cx="42804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79"/>
                <p:cNvSpPr/>
                <p:nvPr/>
              </p:nvSpPr>
              <p:spPr>
                <a:xfrm flipH="1" flipV="1" rot="19377600">
                  <a:off x="8336160" y="5217480"/>
                  <a:ext cx="32112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380"/>
                <p:cNvSpPr/>
                <p:nvPr/>
              </p:nvSpPr>
              <p:spPr>
                <a:xfrm flipH="1" flipV="1" rot="19377600">
                  <a:off x="8293320" y="5217120"/>
                  <a:ext cx="32112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8385120" y="5125320"/>
                <a:ext cx="490680" cy="496080"/>
                <a:chOff x="8385120" y="5125320"/>
                <a:chExt cx="490680" cy="496080"/>
              </a:xfrm>
            </p:grpSpPr>
            <p:sp>
              <p:nvSpPr>
                <p:cNvPr id="380" name="Freeform 382"/>
                <p:cNvSpPr/>
                <p:nvPr/>
              </p:nvSpPr>
              <p:spPr>
                <a:xfrm flipH="1" flipV="1" rot="13688400">
                  <a:off x="8437320" y="5216040"/>
                  <a:ext cx="384840" cy="313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383"/>
                <p:cNvSpPr/>
                <p:nvPr/>
              </p:nvSpPr>
              <p:spPr>
                <a:xfrm flipH="1" flipV="1" rot="15733200">
                  <a:off x="8432280" y="5349960"/>
                  <a:ext cx="43956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384"/>
                <p:cNvSpPr/>
                <p:nvPr/>
              </p:nvSpPr>
              <p:spPr>
                <a:xfrm flipH="1" flipV="1" rot="16031400">
                  <a:off x="8449920" y="528264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385"/>
                <p:cNvSpPr/>
                <p:nvPr/>
              </p:nvSpPr>
              <p:spPr>
                <a:xfrm flipH="1" flipV="1" rot="16031400">
                  <a:off x="8422920" y="5320080"/>
                  <a:ext cx="32976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8598240" y="5084280"/>
                <a:ext cx="443160" cy="399960"/>
                <a:chOff x="8598240" y="5084280"/>
                <a:chExt cx="443160" cy="399960"/>
              </a:xfrm>
            </p:grpSpPr>
            <p:sp>
              <p:nvSpPr>
                <p:cNvPr id="385" name="Freeform 387"/>
                <p:cNvSpPr/>
                <p:nvPr/>
              </p:nvSpPr>
              <p:spPr>
                <a:xfrm flipH="1" flipV="1" rot="10003800">
                  <a:off x="8634240" y="512244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388"/>
                <p:cNvSpPr/>
                <p:nvPr/>
              </p:nvSpPr>
              <p:spPr>
                <a:xfrm flipH="1" flipV="1" rot="12048600">
                  <a:off x="8614080" y="5243400"/>
                  <a:ext cx="42840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389"/>
                <p:cNvSpPr/>
                <p:nvPr/>
              </p:nvSpPr>
              <p:spPr>
                <a:xfrm flipH="1" flipV="1" rot="12346800">
                  <a:off x="8587440" y="524772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390"/>
                <p:cNvSpPr/>
                <p:nvPr/>
              </p:nvSpPr>
              <p:spPr>
                <a:xfrm flipH="1" flipV="1" rot="12346800">
                  <a:off x="8603280" y="529272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8303040" y="4678200"/>
                <a:ext cx="493920" cy="494640"/>
                <a:chOff x="8303040" y="4678200"/>
                <a:chExt cx="493920" cy="494640"/>
              </a:xfrm>
            </p:grpSpPr>
            <p:sp>
              <p:nvSpPr>
                <p:cNvPr id="390" name="Freeform 392"/>
                <p:cNvSpPr/>
                <p:nvPr/>
              </p:nvSpPr>
              <p:spPr>
                <a:xfrm flipH="1" flipV="1" rot="2727600">
                  <a:off x="8357400" y="4768200"/>
                  <a:ext cx="38484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93"/>
                <p:cNvSpPr/>
                <p:nvPr/>
              </p:nvSpPr>
              <p:spPr>
                <a:xfrm flipH="1" flipV="1" rot="4772400">
                  <a:off x="8307720" y="4912560"/>
                  <a:ext cx="439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94"/>
                <p:cNvSpPr/>
                <p:nvPr/>
              </p:nvSpPr>
              <p:spPr>
                <a:xfrm flipH="1" flipV="1" rot="5070600">
                  <a:off x="8403840" y="498816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95"/>
                <p:cNvSpPr/>
                <p:nvPr/>
              </p:nvSpPr>
              <p:spPr>
                <a:xfrm flipH="1" flipV="1" rot="5070600">
                  <a:off x="8428680" y="4957560"/>
                  <a:ext cx="33012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8612280" y="4744440"/>
                <a:ext cx="339120" cy="405000"/>
                <a:chOff x="8612280" y="4744440"/>
                <a:chExt cx="339120" cy="405000"/>
              </a:xfrm>
            </p:grpSpPr>
            <p:sp>
              <p:nvSpPr>
                <p:cNvPr id="395" name="Freeform 397"/>
                <p:cNvSpPr/>
                <p:nvPr/>
              </p:nvSpPr>
              <p:spPr>
                <a:xfrm flipH="1" flipV="1" rot="5628000">
                  <a:off x="8589240" y="4789080"/>
                  <a:ext cx="38484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398"/>
                <p:cNvSpPr/>
                <p:nvPr/>
              </p:nvSpPr>
              <p:spPr>
                <a:xfrm flipH="1" flipV="1" rot="7672800">
                  <a:off x="8543160" y="4916160"/>
                  <a:ext cx="439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99"/>
                <p:cNvSpPr/>
                <p:nvPr/>
              </p:nvSpPr>
              <p:spPr>
                <a:xfrm flipH="1" flipV="1" rot="7971000">
                  <a:off x="8571600" y="499788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400"/>
                <p:cNvSpPr/>
                <p:nvPr/>
              </p:nvSpPr>
              <p:spPr>
                <a:xfrm flipH="1" flipV="1" rot="7971000">
                  <a:off x="8614800" y="4998600"/>
                  <a:ext cx="33012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8595720" y="4815000"/>
                <a:ext cx="452160" cy="477000"/>
                <a:chOff x="8595720" y="4815000"/>
                <a:chExt cx="452160" cy="477000"/>
              </a:xfrm>
            </p:grpSpPr>
            <p:sp>
              <p:nvSpPr>
                <p:cNvPr id="400" name="Freeform 402"/>
                <p:cNvSpPr/>
                <p:nvPr/>
              </p:nvSpPr>
              <p:spPr>
                <a:xfrm flipH="1" flipV="1" rot="6925800">
                  <a:off x="8634240" y="489168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403"/>
                <p:cNvSpPr/>
                <p:nvPr/>
              </p:nvSpPr>
              <p:spPr>
                <a:xfrm flipH="1" flipV="1" rot="8970600">
                  <a:off x="8595000" y="5015880"/>
                  <a:ext cx="428400" cy="374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404"/>
                <p:cNvSpPr/>
                <p:nvPr/>
              </p:nvSpPr>
              <p:spPr>
                <a:xfrm flipH="1" flipV="1" rot="9268800">
                  <a:off x="8597880" y="508176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5"/>
                <p:cNvSpPr/>
                <p:nvPr/>
              </p:nvSpPr>
              <p:spPr>
                <a:xfrm flipH="1" flipV="1" rot="9268800">
                  <a:off x="8638920" y="509940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8155440" y="4847040"/>
                <a:ext cx="451800" cy="413640"/>
                <a:chOff x="8155440" y="4847040"/>
                <a:chExt cx="451800" cy="413640"/>
              </a:xfrm>
            </p:grpSpPr>
            <p:sp>
              <p:nvSpPr>
                <p:cNvPr id="405" name="Freeform 407"/>
                <p:cNvSpPr/>
                <p:nvPr/>
              </p:nvSpPr>
              <p:spPr>
                <a:xfrm flipH="1" flipV="1" rot="20636400">
                  <a:off x="8192520" y="489204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408"/>
                <p:cNvSpPr/>
                <p:nvPr/>
              </p:nvSpPr>
              <p:spPr>
                <a:xfrm flipH="1" flipV="1" rot="1081200">
                  <a:off x="8159400" y="5056920"/>
                  <a:ext cx="42840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09"/>
                <p:cNvSpPr/>
                <p:nvPr/>
              </p:nvSpPr>
              <p:spPr>
                <a:xfrm flipH="1" flipV="1" rot="1379400">
                  <a:off x="8292960" y="505836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410"/>
                <p:cNvSpPr/>
                <p:nvPr/>
              </p:nvSpPr>
              <p:spPr>
                <a:xfrm flipH="1" flipV="1" rot="1379400">
                  <a:off x="8275680" y="502380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8260200" y="4774320"/>
                <a:ext cx="444960" cy="385560"/>
                <a:chOff x="8260200" y="4774320"/>
                <a:chExt cx="444960" cy="385560"/>
              </a:xfrm>
            </p:grpSpPr>
            <p:sp>
              <p:nvSpPr>
                <p:cNvPr id="410" name="Freeform 412"/>
                <p:cNvSpPr/>
                <p:nvPr/>
              </p:nvSpPr>
              <p:spPr>
                <a:xfrm flipH="1" flipV="1" rot="805800">
                  <a:off x="8290080" y="4814280"/>
                  <a:ext cx="384840" cy="303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13"/>
                <p:cNvSpPr/>
                <p:nvPr/>
              </p:nvSpPr>
              <p:spPr>
                <a:xfrm flipH="1" flipV="1" rot="2850600">
                  <a:off x="8247240" y="4963680"/>
                  <a:ext cx="43992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414"/>
                <p:cNvSpPr/>
                <p:nvPr/>
              </p:nvSpPr>
              <p:spPr>
                <a:xfrm flipH="1" flipV="1" rot="3148800">
                  <a:off x="8373240" y="5008320"/>
                  <a:ext cx="329760" cy="255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415"/>
                <p:cNvSpPr/>
                <p:nvPr/>
              </p:nvSpPr>
              <p:spPr>
                <a:xfrm flipH="1" flipV="1" rot="3148800">
                  <a:off x="8375760" y="4969800"/>
                  <a:ext cx="32976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8525880" y="4903200"/>
                <a:ext cx="525600" cy="489600"/>
                <a:chOff x="8525880" y="4903200"/>
                <a:chExt cx="525600" cy="489600"/>
              </a:xfrm>
            </p:grpSpPr>
            <p:sp>
              <p:nvSpPr>
                <p:cNvPr id="415" name="Freeform 417"/>
                <p:cNvSpPr/>
                <p:nvPr/>
              </p:nvSpPr>
              <p:spPr>
                <a:xfrm flipH="1" flipV="1" rot="7717200">
                  <a:off x="8665200" y="4909680"/>
                  <a:ext cx="246240" cy="476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418"/>
                <p:cNvSpPr/>
                <p:nvPr/>
              </p:nvSpPr>
              <p:spPr>
                <a:xfrm flipH="1" flipV="1" rot="9762000">
                  <a:off x="8638200" y="5087880"/>
                  <a:ext cx="281520" cy="55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419"/>
                <p:cNvSpPr/>
                <p:nvPr/>
              </p:nvSpPr>
              <p:spPr>
                <a:xfrm flipH="1" flipV="1" rot="10060200">
                  <a:off x="8637480" y="5154480"/>
                  <a:ext cx="210600" cy="403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420"/>
                <p:cNvSpPr/>
                <p:nvPr/>
              </p:nvSpPr>
              <p:spPr>
                <a:xfrm flipH="1" flipV="1" rot="10060200">
                  <a:off x="8667360" y="5199480"/>
                  <a:ext cx="210600" cy="27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8316000" y="5121000"/>
                <a:ext cx="476280" cy="434880"/>
                <a:chOff x="8316000" y="5121000"/>
                <a:chExt cx="476280" cy="434880"/>
              </a:xfrm>
            </p:grpSpPr>
            <p:sp>
              <p:nvSpPr>
                <p:cNvPr id="420" name="Freeform 422"/>
                <p:cNvSpPr/>
                <p:nvPr/>
              </p:nvSpPr>
              <p:spPr>
                <a:xfrm flipH="1" flipV="1" rot="13857000">
                  <a:off x="8461440" y="5106240"/>
                  <a:ext cx="184320" cy="463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23"/>
                <p:cNvSpPr/>
                <p:nvPr/>
              </p:nvSpPr>
              <p:spPr>
                <a:xfrm flipH="1" flipV="1" rot="15901800">
                  <a:off x="8480520" y="5310360"/>
                  <a:ext cx="210600" cy="53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24"/>
                <p:cNvSpPr/>
                <p:nvPr/>
              </p:nvSpPr>
              <p:spPr>
                <a:xfrm flipH="1" flipV="1" rot="16200000">
                  <a:off x="8458200" y="5281920"/>
                  <a:ext cx="158040" cy="39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25"/>
                <p:cNvSpPr/>
                <p:nvPr/>
              </p:nvSpPr>
              <p:spPr>
                <a:xfrm flipH="1" flipV="1" rot="16200000">
                  <a:off x="8416080" y="5303520"/>
                  <a:ext cx="158040" cy="26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8522640" y="5087160"/>
                <a:ext cx="368640" cy="387720"/>
                <a:chOff x="8522640" y="5087160"/>
                <a:chExt cx="368640" cy="387720"/>
              </a:xfrm>
            </p:grpSpPr>
            <p:sp>
              <p:nvSpPr>
                <p:cNvPr id="425" name="Freeform 427"/>
                <p:cNvSpPr/>
                <p:nvPr/>
              </p:nvSpPr>
              <p:spPr>
                <a:xfrm flipH="1" flipV="1" rot="11895600">
                  <a:off x="8564760" y="5123520"/>
                  <a:ext cx="28440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28"/>
                <p:cNvSpPr/>
                <p:nvPr/>
              </p:nvSpPr>
              <p:spPr>
                <a:xfrm flipH="1" flipV="1" rot="13940400">
                  <a:off x="8561160" y="5249160"/>
                  <a:ext cx="325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29"/>
                <p:cNvSpPr/>
                <p:nvPr/>
              </p:nvSpPr>
              <p:spPr>
                <a:xfrm flipH="1" flipV="1" rot="14238600">
                  <a:off x="8544240" y="5225400"/>
                  <a:ext cx="243720" cy="27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430"/>
                <p:cNvSpPr/>
                <p:nvPr/>
              </p:nvSpPr>
              <p:spPr>
                <a:xfrm flipH="1" flipV="1" rot="14238600">
                  <a:off x="8533080" y="5265720"/>
                  <a:ext cx="2440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8451360" y="4633200"/>
                <a:ext cx="436680" cy="476280"/>
                <a:chOff x="8451360" y="4633200"/>
                <a:chExt cx="436680" cy="476280"/>
              </a:xfrm>
            </p:grpSpPr>
            <p:sp>
              <p:nvSpPr>
                <p:cNvPr id="430" name="Freeform 432"/>
                <p:cNvSpPr/>
                <p:nvPr/>
              </p:nvSpPr>
              <p:spPr>
                <a:xfrm flipH="1" flipV="1" rot="4063800">
                  <a:off x="8476920" y="4713120"/>
                  <a:ext cx="38448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33"/>
                <p:cNvSpPr/>
                <p:nvPr/>
              </p:nvSpPr>
              <p:spPr>
                <a:xfrm flipH="1" flipV="1" rot="6108000">
                  <a:off x="8427600" y="4849920"/>
                  <a:ext cx="43956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434"/>
                <p:cNvSpPr/>
                <p:nvPr/>
              </p:nvSpPr>
              <p:spPr>
                <a:xfrm flipH="1" flipV="1" rot="6406200">
                  <a:off x="8492400" y="493416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35"/>
                <p:cNvSpPr/>
                <p:nvPr/>
              </p:nvSpPr>
              <p:spPr>
                <a:xfrm flipH="1" flipV="1" rot="6406200">
                  <a:off x="8529840" y="4916880"/>
                  <a:ext cx="32976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8463600" y="4962960"/>
                <a:ext cx="321120" cy="329760"/>
                <a:chOff x="8463600" y="4962960"/>
                <a:chExt cx="321120" cy="329760"/>
              </a:xfrm>
            </p:grpSpPr>
            <p:sp>
              <p:nvSpPr>
                <p:cNvPr id="435" name="AutoShape 437"/>
                <p:cNvSpPr/>
                <p:nvPr/>
              </p:nvSpPr>
              <p:spPr>
                <a:xfrm flipH="1" flipV="1">
                  <a:off x="8463600" y="4962960"/>
                  <a:ext cx="321120" cy="329760"/>
                </a:xfrm>
                <a:custGeom>
                  <a:avLst/>
                  <a:gdLst>
                    <a:gd name="textAreaLeft" fmla="*/ 75240 w 321120"/>
                    <a:gd name="textAreaRight" fmla="*/ 245880 w 321120"/>
                    <a:gd name="textAreaTop" fmla="*/ 77400 h 329760"/>
                    <a:gd name="textAreaBottom" fmla="*/ 252360 h 32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438"/>
                <p:cNvSpPr/>
                <p:nvPr/>
              </p:nvSpPr>
              <p:spPr>
                <a:xfrm flipH="1" flipV="1">
                  <a:off x="8514360" y="5024520"/>
                  <a:ext cx="214200" cy="21960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37" name="Picture 23" descr="3"/>
          <p:cNvPicPr/>
          <p:nvPr/>
        </p:nvPicPr>
        <p:blipFill>
          <a:blip r:embed="rId9"/>
          <a:srcRect l="0" t="0" r="0" b="63660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3" descr="3"/>
          <p:cNvPicPr/>
          <p:nvPr/>
        </p:nvPicPr>
        <p:blipFill>
          <a:blip r:embed="rId10"/>
          <a:srcRect l="0" t="89910" r="0" b="0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1"/>
          <a:stretch/>
        </p:blipFill>
        <p:spPr>
          <a:xfrm>
            <a:off x="0" y="115920"/>
            <a:ext cx="914400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51" descr="2.png"/>
          <p:cNvPicPr/>
          <p:nvPr/>
        </p:nvPicPr>
        <p:blipFill>
          <a:blip r:embed="rId2">
            <a:lum bright="5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Freeform 3"/>
          <p:cNvSpPr/>
          <p:nvPr/>
        </p:nvSpPr>
        <p:spPr>
          <a:xfrm>
            <a:off x="-9360" y="44280"/>
            <a:ext cx="9153360" cy="1621080"/>
          </a:xfrm>
          <a:prstGeom prst="pie">
            <a:avLst/>
          </a:prstGeom>
          <a:solidFill>
            <a:srgbClr val="ccec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4"/>
          <p:cNvSpPr/>
          <p:nvPr/>
        </p:nvSpPr>
        <p:spPr>
          <a:xfrm>
            <a:off x="-15840" y="312840"/>
            <a:ext cx="9159840" cy="1006200"/>
          </a:xfrm>
          <a:prstGeom prst="pi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956720" y="541440"/>
            <a:ext cx="387360" cy="366480"/>
            <a:chOff x="7956720" y="541440"/>
            <a:chExt cx="387360" cy="366480"/>
          </a:xfrm>
        </p:grpSpPr>
        <p:sp>
          <p:nvSpPr>
            <p:cNvPr id="480" name="Oval 6"/>
            <p:cNvSpPr/>
            <p:nvPr/>
          </p:nvSpPr>
          <p:spPr>
            <a:xfrm>
              <a:off x="7956720" y="54144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7cee9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7"/>
            <p:cNvSpPr/>
            <p:nvPr/>
          </p:nvSpPr>
          <p:spPr>
            <a:xfrm>
              <a:off x="7956720" y="541440"/>
              <a:ext cx="258120" cy="24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8317080" y="54000"/>
            <a:ext cx="609480" cy="592200"/>
            <a:chOff x="8317080" y="54000"/>
            <a:chExt cx="609480" cy="592200"/>
          </a:xfrm>
        </p:grpSpPr>
        <p:sp>
          <p:nvSpPr>
            <p:cNvPr id="483" name="Oval 9"/>
            <p:cNvSpPr/>
            <p:nvPr/>
          </p:nvSpPr>
          <p:spPr>
            <a:xfrm>
              <a:off x="8317080" y="54000"/>
              <a:ext cx="60948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0"/>
            <p:cNvSpPr/>
            <p:nvPr/>
          </p:nvSpPr>
          <p:spPr>
            <a:xfrm>
              <a:off x="8317080" y="152640"/>
              <a:ext cx="507960" cy="39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-2520" y="30960"/>
            <a:ext cx="1449360" cy="1298160"/>
            <a:chOff x="-2520" y="30960"/>
            <a:chExt cx="1449360" cy="1298160"/>
          </a:xfrm>
        </p:grpSpPr>
        <p:grpSp>
          <p:nvGrpSpPr>
            <p:cNvPr id="486" name=""/>
            <p:cNvGrpSpPr/>
            <p:nvPr/>
          </p:nvGrpSpPr>
          <p:grpSpPr>
            <a:xfrm>
              <a:off x="569880" y="146880"/>
              <a:ext cx="876960" cy="891000"/>
              <a:chOff x="569880" y="146880"/>
              <a:chExt cx="876960" cy="89100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966600" y="322560"/>
                <a:ext cx="467280" cy="467640"/>
                <a:chOff x="966600" y="322560"/>
                <a:chExt cx="467280" cy="467640"/>
              </a:xfrm>
            </p:grpSpPr>
            <p:sp>
              <p:nvSpPr>
                <p:cNvPr id="488" name="Freeform 14"/>
                <p:cNvSpPr/>
                <p:nvPr/>
              </p:nvSpPr>
              <p:spPr>
                <a:xfrm rot="18826800">
                  <a:off x="1013760" y="41400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15"/>
                <p:cNvSpPr/>
                <p:nvPr/>
              </p:nvSpPr>
              <p:spPr>
                <a:xfrm rot="20871600">
                  <a:off x="981000" y="52092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6"/>
                <p:cNvSpPr/>
                <p:nvPr/>
              </p:nvSpPr>
              <p:spPr>
                <a:xfrm rot="21169800">
                  <a:off x="966600" y="56448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7"/>
                <p:cNvSpPr/>
                <p:nvPr/>
              </p:nvSpPr>
              <p:spPr>
                <a:xfrm rot="21169800">
                  <a:off x="1001160" y="59004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973800" y="237600"/>
                <a:ext cx="372960" cy="432360"/>
                <a:chOff x="973800" y="237600"/>
                <a:chExt cx="372960" cy="432360"/>
              </a:xfrm>
            </p:grpSpPr>
            <p:sp>
              <p:nvSpPr>
                <p:cNvPr id="493" name="Freeform 19"/>
                <p:cNvSpPr/>
                <p:nvPr/>
              </p:nvSpPr>
              <p:spPr>
                <a:xfrm rot="17034600">
                  <a:off x="975960" y="31104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20"/>
                <p:cNvSpPr/>
                <p:nvPr/>
              </p:nvSpPr>
              <p:spPr>
                <a:xfrm rot="19078800">
                  <a:off x="934560" y="42336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21"/>
                <p:cNvSpPr/>
                <p:nvPr/>
              </p:nvSpPr>
              <p:spPr>
                <a:xfrm rot="19377600">
                  <a:off x="948600" y="49572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22"/>
                <p:cNvSpPr/>
                <p:nvPr/>
              </p:nvSpPr>
              <p:spPr>
                <a:xfrm rot="19377600">
                  <a:off x="989280" y="50112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46280" y="146880"/>
                <a:ext cx="460800" cy="462960"/>
                <a:chOff x="746280" y="146880"/>
                <a:chExt cx="460800" cy="462960"/>
              </a:xfrm>
            </p:grpSpPr>
            <p:sp>
              <p:nvSpPr>
                <p:cNvPr id="498" name="Freeform 24"/>
                <p:cNvSpPr/>
                <p:nvPr/>
              </p:nvSpPr>
              <p:spPr>
                <a:xfrm rot="13688400">
                  <a:off x="806760" y="22104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5"/>
                <p:cNvSpPr/>
                <p:nvPr/>
              </p:nvSpPr>
              <p:spPr>
                <a:xfrm rot="15733200">
                  <a:off x="760680" y="36432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26"/>
                <p:cNvSpPr/>
                <p:nvPr/>
              </p:nvSpPr>
              <p:spPr>
                <a:xfrm rot="16031400">
                  <a:off x="846000" y="43272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27"/>
                <p:cNvSpPr/>
                <p:nvPr/>
              </p:nvSpPr>
              <p:spPr>
                <a:xfrm rot="16031400">
                  <a:off x="873360" y="40680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69880" y="273960"/>
                <a:ext cx="437760" cy="363240"/>
                <a:chOff x="569880" y="273960"/>
                <a:chExt cx="437760" cy="363240"/>
              </a:xfrm>
            </p:grpSpPr>
            <p:sp>
              <p:nvSpPr>
                <p:cNvPr id="503" name="Freeform 29"/>
                <p:cNvSpPr/>
                <p:nvPr/>
              </p:nvSpPr>
              <p:spPr>
                <a:xfrm rot="10003800">
                  <a:off x="597600" y="31320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30"/>
                <p:cNvSpPr/>
                <p:nvPr/>
              </p:nvSpPr>
              <p:spPr>
                <a:xfrm rot="12048600">
                  <a:off x="564840" y="45828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1"/>
                <p:cNvSpPr/>
                <p:nvPr/>
              </p:nvSpPr>
              <p:spPr>
                <a:xfrm rot="12346800">
                  <a:off x="696600" y="46692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2"/>
                <p:cNvSpPr/>
                <p:nvPr/>
              </p:nvSpPr>
              <p:spPr>
                <a:xfrm rot="12346800">
                  <a:off x="679680" y="43344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5840" y="541080"/>
                <a:ext cx="462600" cy="462960"/>
                <a:chOff x="825840" y="541080"/>
                <a:chExt cx="462600" cy="462960"/>
              </a:xfrm>
            </p:grpSpPr>
            <p:sp>
              <p:nvSpPr>
                <p:cNvPr id="508" name="Freeform 34"/>
                <p:cNvSpPr/>
                <p:nvPr/>
              </p:nvSpPr>
              <p:spPr>
                <a:xfrm rot="2727600">
                  <a:off x="887040" y="614880"/>
                  <a:ext cx="33984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5"/>
                <p:cNvSpPr/>
                <p:nvPr/>
              </p:nvSpPr>
              <p:spPr>
                <a:xfrm rot="4772400">
                  <a:off x="884520" y="749520"/>
                  <a:ext cx="38844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6"/>
                <p:cNvSpPr/>
                <p:nvPr/>
              </p:nvSpPr>
              <p:spPr>
                <a:xfrm rot="5070600">
                  <a:off x="893520" y="69228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7"/>
                <p:cNvSpPr/>
                <p:nvPr/>
              </p:nvSpPr>
              <p:spPr>
                <a:xfrm rot="5070600">
                  <a:off x="867240" y="727920"/>
                  <a:ext cx="29160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58440" y="573840"/>
                <a:ext cx="336600" cy="360000"/>
                <a:chOff x="658440" y="573840"/>
                <a:chExt cx="336600" cy="360000"/>
              </a:xfrm>
            </p:grpSpPr>
            <p:sp>
              <p:nvSpPr>
                <p:cNvPr id="513" name="Freeform 39"/>
                <p:cNvSpPr/>
                <p:nvPr/>
              </p:nvSpPr>
              <p:spPr>
                <a:xfrm rot="5628000">
                  <a:off x="656640" y="596160"/>
                  <a:ext cx="33984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0"/>
                <p:cNvSpPr/>
                <p:nvPr/>
              </p:nvSpPr>
              <p:spPr>
                <a:xfrm rot="7672800">
                  <a:off x="650160" y="748800"/>
                  <a:ext cx="38844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41"/>
                <p:cNvSpPr/>
                <p:nvPr/>
              </p:nvSpPr>
              <p:spPr>
                <a:xfrm rot="7971000">
                  <a:off x="719280" y="68256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2"/>
                <p:cNvSpPr/>
                <p:nvPr/>
              </p:nvSpPr>
              <p:spPr>
                <a:xfrm rot="7971000">
                  <a:off x="678240" y="687960"/>
                  <a:ext cx="29160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576000" y="429840"/>
                <a:ext cx="423000" cy="461160"/>
                <a:chOff x="576000" y="429840"/>
                <a:chExt cx="423000" cy="461160"/>
              </a:xfrm>
            </p:grpSpPr>
            <p:sp>
              <p:nvSpPr>
                <p:cNvPr id="518" name="Freeform 44"/>
                <p:cNvSpPr/>
                <p:nvPr/>
              </p:nvSpPr>
              <p:spPr>
                <a:xfrm rot="6925800">
                  <a:off x="597600" y="51804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45"/>
                <p:cNvSpPr/>
                <p:nvPr/>
              </p:nvSpPr>
              <p:spPr>
                <a:xfrm rot="8970600">
                  <a:off x="582120" y="66024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6"/>
                <p:cNvSpPr/>
                <p:nvPr/>
              </p:nvSpPr>
              <p:spPr>
                <a:xfrm rot="9268800">
                  <a:off x="687960" y="60624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7"/>
                <p:cNvSpPr/>
                <p:nvPr/>
              </p:nvSpPr>
              <p:spPr>
                <a:xfrm rot="9268800">
                  <a:off x="648000" y="60012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1000800" y="471600"/>
                <a:ext cx="446040" cy="377280"/>
                <a:chOff x="1000800" y="471600"/>
                <a:chExt cx="446040" cy="377280"/>
              </a:xfrm>
            </p:grpSpPr>
            <p:sp>
              <p:nvSpPr>
                <p:cNvPr id="523" name="Freeform 49"/>
                <p:cNvSpPr/>
                <p:nvPr/>
              </p:nvSpPr>
              <p:spPr>
                <a:xfrm rot="20636400">
                  <a:off x="1039680" y="51768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50"/>
                <p:cNvSpPr/>
                <p:nvPr/>
              </p:nvSpPr>
              <p:spPr>
                <a:xfrm rot="1081200">
                  <a:off x="1017000" y="62388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1"/>
                <p:cNvSpPr/>
                <p:nvPr/>
              </p:nvSpPr>
              <p:spPr>
                <a:xfrm rot="1379400">
                  <a:off x="992520" y="62784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2"/>
                <p:cNvSpPr/>
                <p:nvPr/>
              </p:nvSpPr>
              <p:spPr>
                <a:xfrm rot="1379400">
                  <a:off x="1011240" y="66816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923400" y="549720"/>
                <a:ext cx="401040" cy="374760"/>
                <a:chOff x="923400" y="549720"/>
                <a:chExt cx="401040" cy="374760"/>
              </a:xfrm>
            </p:grpSpPr>
            <p:sp>
              <p:nvSpPr>
                <p:cNvPr id="528" name="Freeform 54"/>
                <p:cNvSpPr/>
                <p:nvPr/>
              </p:nvSpPr>
              <p:spPr>
                <a:xfrm rot="805800">
                  <a:off x="953640" y="585000"/>
                  <a:ext cx="339840" cy="304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55"/>
                <p:cNvSpPr/>
                <p:nvPr/>
              </p:nvSpPr>
              <p:spPr>
                <a:xfrm rot="2850600">
                  <a:off x="944640" y="704520"/>
                  <a:ext cx="38844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56"/>
                <p:cNvSpPr/>
                <p:nvPr/>
              </p:nvSpPr>
              <p:spPr>
                <a:xfrm rot="3148800">
                  <a:off x="927720" y="676080"/>
                  <a:ext cx="291240" cy="25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57"/>
                <p:cNvSpPr/>
                <p:nvPr/>
              </p:nvSpPr>
              <p:spPr>
                <a:xfrm rot="3148800">
                  <a:off x="923040" y="720000"/>
                  <a:ext cx="29160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577080" y="349200"/>
                <a:ext cx="482760" cy="455400"/>
                <a:chOff x="577080" y="349200"/>
                <a:chExt cx="482760" cy="455400"/>
              </a:xfrm>
            </p:grpSpPr>
            <p:sp>
              <p:nvSpPr>
                <p:cNvPr id="533" name="Freeform 59"/>
                <p:cNvSpPr/>
                <p:nvPr/>
              </p:nvSpPr>
              <p:spPr>
                <a:xfrm rot="7717200">
                  <a:off x="695160" y="366480"/>
                  <a:ext cx="246600" cy="420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60"/>
                <p:cNvSpPr/>
                <p:nvPr/>
              </p:nvSpPr>
              <p:spPr>
                <a:xfrm rot="9762000">
                  <a:off x="685440" y="581040"/>
                  <a:ext cx="281880" cy="48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61"/>
                <p:cNvSpPr/>
                <p:nvPr/>
              </p:nvSpPr>
              <p:spPr>
                <a:xfrm rot="10060200">
                  <a:off x="757800" y="533520"/>
                  <a:ext cx="211320" cy="35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62"/>
                <p:cNvSpPr/>
                <p:nvPr/>
              </p:nvSpPr>
              <p:spPr>
                <a:xfrm rot="10060200">
                  <a:off x="729360" y="506160"/>
                  <a:ext cx="21132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821160" y="198360"/>
                <a:ext cx="463320" cy="419040"/>
                <a:chOff x="821160" y="198360"/>
                <a:chExt cx="463320" cy="419040"/>
              </a:xfrm>
            </p:grpSpPr>
            <p:sp>
              <p:nvSpPr>
                <p:cNvPr id="538" name="Freeform 64"/>
                <p:cNvSpPr/>
                <p:nvPr/>
              </p:nvSpPr>
              <p:spPr>
                <a:xfrm rot="13857000">
                  <a:off x="971280" y="175680"/>
                  <a:ext cx="162720" cy="46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65"/>
                <p:cNvSpPr/>
                <p:nvPr/>
              </p:nvSpPr>
              <p:spPr>
                <a:xfrm rot="15901800">
                  <a:off x="927720" y="382320"/>
                  <a:ext cx="185760" cy="53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66"/>
                <p:cNvSpPr/>
                <p:nvPr/>
              </p:nvSpPr>
              <p:spPr>
                <a:xfrm rot="16200000">
                  <a:off x="1000080" y="420480"/>
                  <a:ext cx="139320" cy="396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7"/>
                <p:cNvSpPr/>
                <p:nvPr/>
              </p:nvSpPr>
              <p:spPr>
                <a:xfrm rot="16200000">
                  <a:off x="1042560" y="413640"/>
                  <a:ext cx="1393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31880" y="270360"/>
                <a:ext cx="337320" cy="377640"/>
                <a:chOff x="731880" y="270360"/>
                <a:chExt cx="337320" cy="377640"/>
              </a:xfrm>
            </p:grpSpPr>
            <p:sp>
              <p:nvSpPr>
                <p:cNvPr id="543" name="Freeform 69"/>
                <p:cNvSpPr/>
                <p:nvPr/>
              </p:nvSpPr>
              <p:spPr>
                <a:xfrm rot="11895600">
                  <a:off x="774720" y="301680"/>
                  <a:ext cx="2512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70"/>
                <p:cNvSpPr/>
                <p:nvPr/>
              </p:nvSpPr>
              <p:spPr>
                <a:xfrm rot="13940400">
                  <a:off x="739440" y="454320"/>
                  <a:ext cx="2872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71"/>
                <p:cNvSpPr/>
                <p:nvPr/>
              </p:nvSpPr>
              <p:spPr>
                <a:xfrm rot="14238600">
                  <a:off x="829800" y="482040"/>
                  <a:ext cx="21528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72"/>
                <p:cNvSpPr/>
                <p:nvPr/>
              </p:nvSpPr>
              <p:spPr>
                <a:xfrm rot="14238600">
                  <a:off x="842760" y="452880"/>
                  <a:ext cx="2156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728640" y="604440"/>
                <a:ext cx="419760" cy="433440"/>
                <a:chOff x="728640" y="604440"/>
                <a:chExt cx="419760" cy="433440"/>
              </a:xfrm>
            </p:grpSpPr>
            <p:sp>
              <p:nvSpPr>
                <p:cNvPr id="548" name="Freeform 74"/>
                <p:cNvSpPr/>
                <p:nvPr/>
              </p:nvSpPr>
              <p:spPr>
                <a:xfrm rot="4063800">
                  <a:off x="768600" y="66348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75"/>
                <p:cNvSpPr/>
                <p:nvPr/>
              </p:nvSpPr>
              <p:spPr>
                <a:xfrm rot="6108000">
                  <a:off x="766080" y="80676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6"/>
                <p:cNvSpPr/>
                <p:nvPr/>
              </p:nvSpPr>
              <p:spPr>
                <a:xfrm rot="6406200">
                  <a:off x="801360" y="73908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77"/>
                <p:cNvSpPr/>
                <p:nvPr/>
              </p:nvSpPr>
              <p:spPr>
                <a:xfrm rot="6406200">
                  <a:off x="765360" y="76248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822240" y="448920"/>
                <a:ext cx="321480" cy="291240"/>
                <a:chOff x="822240" y="448920"/>
                <a:chExt cx="321480" cy="291240"/>
              </a:xfrm>
            </p:grpSpPr>
            <p:sp>
              <p:nvSpPr>
                <p:cNvPr id="553" name="AutoShape 79"/>
                <p:cNvSpPr/>
                <p:nvPr/>
              </p:nvSpPr>
              <p:spPr>
                <a:xfrm>
                  <a:off x="822240" y="44892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80"/>
                <p:cNvSpPr/>
                <p:nvPr/>
              </p:nvSpPr>
              <p:spPr>
                <a:xfrm>
                  <a:off x="878040" y="491760"/>
                  <a:ext cx="214560" cy="1940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5" name=""/>
            <p:cNvGrpSpPr/>
            <p:nvPr/>
          </p:nvGrpSpPr>
          <p:grpSpPr>
            <a:xfrm>
              <a:off x="115200" y="30960"/>
              <a:ext cx="988920" cy="826560"/>
              <a:chOff x="115200" y="30960"/>
              <a:chExt cx="988920" cy="82656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397440" y="353880"/>
                <a:ext cx="455040" cy="450360"/>
                <a:chOff x="397440" y="353880"/>
                <a:chExt cx="455040" cy="450360"/>
              </a:xfrm>
            </p:grpSpPr>
            <p:sp>
              <p:nvSpPr>
                <p:cNvPr id="557" name="Freeform 83"/>
                <p:cNvSpPr/>
                <p:nvPr/>
              </p:nvSpPr>
              <p:spPr>
                <a:xfrm rot="13149000">
                  <a:off x="455040" y="42696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84"/>
                <p:cNvSpPr/>
                <p:nvPr/>
              </p:nvSpPr>
              <p:spPr>
                <a:xfrm rot="15194400">
                  <a:off x="410760" y="56844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85"/>
                <p:cNvSpPr/>
                <p:nvPr/>
              </p:nvSpPr>
              <p:spPr>
                <a:xfrm rot="15492600">
                  <a:off x="504000" y="63036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86"/>
                <p:cNvSpPr/>
                <p:nvPr/>
              </p:nvSpPr>
              <p:spPr>
                <a:xfrm rot="15492600">
                  <a:off x="525240" y="60120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219960" y="341280"/>
                <a:ext cx="390600" cy="414000"/>
                <a:chOff x="219960" y="341280"/>
                <a:chExt cx="390600" cy="414000"/>
              </a:xfrm>
            </p:grpSpPr>
            <p:sp>
              <p:nvSpPr>
                <p:cNvPr id="562" name="Freeform 88"/>
                <p:cNvSpPr/>
                <p:nvPr/>
              </p:nvSpPr>
              <p:spPr>
                <a:xfrm rot="17227800">
                  <a:off x="245520" y="39600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89"/>
                <p:cNvSpPr/>
                <p:nvPr/>
              </p:nvSpPr>
              <p:spPr>
                <a:xfrm rot="19273200">
                  <a:off x="207360" y="51480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90"/>
                <p:cNvSpPr/>
                <p:nvPr/>
              </p:nvSpPr>
              <p:spPr>
                <a:xfrm rot="19571400">
                  <a:off x="218880" y="58248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91"/>
                <p:cNvSpPr/>
                <p:nvPr/>
              </p:nvSpPr>
              <p:spPr>
                <a:xfrm rot="19571400">
                  <a:off x="258120" y="59400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538560" y="406800"/>
                <a:ext cx="409680" cy="335880"/>
                <a:chOff x="538560" y="406800"/>
                <a:chExt cx="409680" cy="335880"/>
              </a:xfrm>
            </p:grpSpPr>
            <p:sp>
              <p:nvSpPr>
                <p:cNvPr id="567" name="Freeform 93"/>
                <p:cNvSpPr/>
                <p:nvPr/>
              </p:nvSpPr>
              <p:spPr>
                <a:xfrm rot="11275800">
                  <a:off x="555480" y="43092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94"/>
                <p:cNvSpPr/>
                <p:nvPr/>
              </p:nvSpPr>
              <p:spPr>
                <a:xfrm rot="13320600">
                  <a:off x="517320" y="56808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95"/>
                <p:cNvSpPr/>
                <p:nvPr/>
              </p:nvSpPr>
              <p:spPr>
                <a:xfrm rot="13619400">
                  <a:off x="641160" y="6051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96"/>
                <p:cNvSpPr/>
                <p:nvPr/>
              </p:nvSpPr>
              <p:spPr>
                <a:xfrm rot="13619400">
                  <a:off x="637560" y="56916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245880" y="111240"/>
                <a:ext cx="429840" cy="367200"/>
                <a:chOff x="245880" y="111240"/>
                <a:chExt cx="429840" cy="367200"/>
              </a:xfrm>
            </p:grpSpPr>
            <p:sp>
              <p:nvSpPr>
                <p:cNvPr id="572" name="Freeform 98"/>
                <p:cNvSpPr/>
                <p:nvPr/>
              </p:nvSpPr>
              <p:spPr>
                <a:xfrm rot="823800">
                  <a:off x="273240" y="162000"/>
                  <a:ext cx="375120" cy="275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99"/>
                <p:cNvSpPr/>
                <p:nvPr/>
              </p:nvSpPr>
              <p:spPr>
                <a:xfrm rot="2868600">
                  <a:off x="259200" y="27000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100"/>
                <p:cNvSpPr/>
                <p:nvPr/>
              </p:nvSpPr>
              <p:spPr>
                <a:xfrm rot="3166800">
                  <a:off x="246240" y="2343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01"/>
                <p:cNvSpPr/>
                <p:nvPr/>
              </p:nvSpPr>
              <p:spPr>
                <a:xfrm rot="3166800">
                  <a:off x="244800" y="278280"/>
                  <a:ext cx="321840" cy="158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543960" y="152280"/>
                <a:ext cx="435600" cy="447840"/>
                <a:chOff x="543960" y="152280"/>
                <a:chExt cx="435600" cy="447840"/>
              </a:xfrm>
            </p:grpSpPr>
            <p:sp>
              <p:nvSpPr>
                <p:cNvPr id="577" name="Freeform 103"/>
                <p:cNvSpPr/>
                <p:nvPr/>
              </p:nvSpPr>
              <p:spPr>
                <a:xfrm rot="7251000">
                  <a:off x="591840" y="223560"/>
                  <a:ext cx="33948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04"/>
                <p:cNvSpPr/>
                <p:nvPr/>
              </p:nvSpPr>
              <p:spPr>
                <a:xfrm rot="9295800">
                  <a:off x="577440" y="37656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105"/>
                <p:cNvSpPr/>
                <p:nvPr/>
              </p:nvSpPr>
              <p:spPr>
                <a:xfrm rot="9594000">
                  <a:off x="676080" y="32904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6"/>
                <p:cNvSpPr/>
                <p:nvPr/>
              </p:nvSpPr>
              <p:spPr>
                <a:xfrm rot="9594000">
                  <a:off x="640080" y="31680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115200" y="189360"/>
                <a:ext cx="451440" cy="382320"/>
                <a:chOff x="115200" y="189360"/>
                <a:chExt cx="451440" cy="382320"/>
              </a:xfrm>
            </p:grpSpPr>
            <p:sp>
              <p:nvSpPr>
                <p:cNvPr id="582" name="Freeform 108"/>
                <p:cNvSpPr/>
                <p:nvPr/>
              </p:nvSpPr>
              <p:spPr>
                <a:xfrm rot="20461800">
                  <a:off x="156960" y="24264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109"/>
                <p:cNvSpPr/>
                <p:nvPr/>
              </p:nvSpPr>
              <p:spPr>
                <a:xfrm rot="906600">
                  <a:off x="133200" y="34524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0"/>
                <p:cNvSpPr/>
                <p:nvPr/>
              </p:nvSpPr>
              <p:spPr>
                <a:xfrm rot="1205400">
                  <a:off x="109080" y="35244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111"/>
                <p:cNvSpPr/>
                <p:nvPr/>
              </p:nvSpPr>
              <p:spPr>
                <a:xfrm rot="1205400">
                  <a:off x="129960" y="39060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10400" y="96480"/>
                <a:ext cx="393120" cy="415800"/>
                <a:chOff x="410400" y="96480"/>
                <a:chExt cx="393120" cy="415800"/>
              </a:xfrm>
            </p:grpSpPr>
            <p:sp>
              <p:nvSpPr>
                <p:cNvPr id="587" name="Freeform 113"/>
                <p:cNvSpPr/>
                <p:nvPr/>
              </p:nvSpPr>
              <p:spPr>
                <a:xfrm rot="4341600">
                  <a:off x="437040" y="151920"/>
                  <a:ext cx="33948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4"/>
                <p:cNvSpPr/>
                <p:nvPr/>
              </p:nvSpPr>
              <p:spPr>
                <a:xfrm rot="6385800">
                  <a:off x="433080" y="29196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15"/>
                <p:cNvSpPr/>
                <p:nvPr/>
              </p:nvSpPr>
              <p:spPr>
                <a:xfrm rot="6684000">
                  <a:off x="475560" y="22392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16"/>
                <p:cNvSpPr/>
                <p:nvPr/>
              </p:nvSpPr>
              <p:spPr>
                <a:xfrm rot="6684000">
                  <a:off x="439200" y="24444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336960" y="429840"/>
                <a:ext cx="407880" cy="427680"/>
                <a:chOff x="336960" y="429840"/>
                <a:chExt cx="407880" cy="427680"/>
              </a:xfrm>
            </p:grpSpPr>
            <p:sp>
              <p:nvSpPr>
                <p:cNvPr id="592" name="Freeform 118"/>
                <p:cNvSpPr/>
                <p:nvPr/>
              </p:nvSpPr>
              <p:spPr>
                <a:xfrm rot="14905200">
                  <a:off x="370800" y="49140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19"/>
                <p:cNvSpPr/>
                <p:nvPr/>
              </p:nvSpPr>
              <p:spPr>
                <a:xfrm rot="16950000">
                  <a:off x="325800" y="62208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120"/>
                <p:cNvSpPr/>
                <p:nvPr/>
              </p:nvSpPr>
              <p:spPr>
                <a:xfrm rot="17248800">
                  <a:off x="385200" y="69876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1"/>
                <p:cNvSpPr/>
                <p:nvPr/>
              </p:nvSpPr>
              <p:spPr>
                <a:xfrm rot="17248800">
                  <a:off x="420120" y="68436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181440" y="246960"/>
                <a:ext cx="458280" cy="464400"/>
                <a:chOff x="181440" y="246960"/>
                <a:chExt cx="458280" cy="464400"/>
              </a:xfrm>
            </p:grpSpPr>
            <p:sp>
              <p:nvSpPr>
                <p:cNvPr id="597" name="Freeform 123"/>
                <p:cNvSpPr/>
                <p:nvPr/>
              </p:nvSpPr>
              <p:spPr>
                <a:xfrm rot="18606000">
                  <a:off x="226080" y="34128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124"/>
                <p:cNvSpPr/>
                <p:nvPr/>
              </p:nvSpPr>
              <p:spPr>
                <a:xfrm rot="20650200">
                  <a:off x="192240" y="44460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5"/>
                <p:cNvSpPr/>
                <p:nvPr/>
              </p:nvSpPr>
              <p:spPr>
                <a:xfrm rot="20948400">
                  <a:off x="180720" y="49104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6"/>
                <p:cNvSpPr/>
                <p:nvPr/>
              </p:nvSpPr>
              <p:spPr>
                <a:xfrm rot="20948400">
                  <a:off x="216000" y="51372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634680" y="256680"/>
                <a:ext cx="469440" cy="440280"/>
                <a:chOff x="634680" y="256680"/>
                <a:chExt cx="469440" cy="440280"/>
              </a:xfrm>
            </p:grpSpPr>
            <p:sp>
              <p:nvSpPr>
                <p:cNvPr id="602" name="Freeform 128"/>
                <p:cNvSpPr/>
                <p:nvPr/>
              </p:nvSpPr>
              <p:spPr>
                <a:xfrm rot="8719200">
                  <a:off x="679680" y="338760"/>
                  <a:ext cx="375120" cy="275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129"/>
                <p:cNvSpPr/>
                <p:nvPr/>
              </p:nvSpPr>
              <p:spPr>
                <a:xfrm rot="10764000">
                  <a:off x="654120" y="48024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30"/>
                <p:cNvSpPr/>
                <p:nvPr/>
              </p:nvSpPr>
              <p:spPr>
                <a:xfrm rot="11062200">
                  <a:off x="781920" y="4611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131"/>
                <p:cNvSpPr/>
                <p:nvPr/>
              </p:nvSpPr>
              <p:spPr>
                <a:xfrm rot="11062200">
                  <a:off x="752400" y="437400"/>
                  <a:ext cx="321840" cy="158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88520" y="139320"/>
                <a:ext cx="358560" cy="387000"/>
                <a:chOff x="488520" y="139320"/>
                <a:chExt cx="358560" cy="387000"/>
              </a:xfrm>
            </p:grpSpPr>
            <p:sp>
              <p:nvSpPr>
                <p:cNvPr id="607" name="Freeform 133"/>
                <p:cNvSpPr/>
                <p:nvPr/>
              </p:nvSpPr>
              <p:spPr>
                <a:xfrm rot="5998800">
                  <a:off x="497880" y="18036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34"/>
                <p:cNvSpPr/>
                <p:nvPr/>
              </p:nvSpPr>
              <p:spPr>
                <a:xfrm rot="8043600">
                  <a:off x="489240" y="32940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135"/>
                <p:cNvSpPr/>
                <p:nvPr/>
              </p:nvSpPr>
              <p:spPr>
                <a:xfrm rot="8341800">
                  <a:off x="565560" y="26676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36"/>
                <p:cNvSpPr/>
                <p:nvPr/>
              </p:nvSpPr>
              <p:spPr>
                <a:xfrm rot="8341800">
                  <a:off x="525960" y="26856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288000" y="30960"/>
                <a:ext cx="454680" cy="455400"/>
                <a:chOff x="288000" y="30960"/>
                <a:chExt cx="454680" cy="455400"/>
              </a:xfrm>
            </p:grpSpPr>
            <p:sp>
              <p:nvSpPr>
                <p:cNvPr id="612" name="Freeform 138"/>
                <p:cNvSpPr/>
                <p:nvPr/>
              </p:nvSpPr>
              <p:spPr>
                <a:xfrm rot="2739000">
                  <a:off x="345240" y="10656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39"/>
                <p:cNvSpPr/>
                <p:nvPr/>
              </p:nvSpPr>
              <p:spPr>
                <a:xfrm rot="4783800">
                  <a:off x="341640" y="23652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140"/>
                <p:cNvSpPr/>
                <p:nvPr/>
              </p:nvSpPr>
              <p:spPr>
                <a:xfrm rot="5082000">
                  <a:off x="352080" y="17892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41"/>
                <p:cNvSpPr/>
                <p:nvPr/>
              </p:nvSpPr>
              <p:spPr>
                <a:xfrm rot="5082000">
                  <a:off x="326880" y="21420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263160" y="236520"/>
                <a:ext cx="392040" cy="289440"/>
                <a:chOff x="263160" y="236520"/>
                <a:chExt cx="392040" cy="289440"/>
              </a:xfrm>
            </p:grpSpPr>
            <p:sp>
              <p:nvSpPr>
                <p:cNvPr id="617" name="Freeform 143"/>
                <p:cNvSpPr/>
                <p:nvPr/>
              </p:nvSpPr>
              <p:spPr>
                <a:xfrm rot="12600">
                  <a:off x="271800" y="24948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144"/>
                <p:cNvSpPr/>
                <p:nvPr/>
              </p:nvSpPr>
              <p:spPr>
                <a:xfrm rot="2057400">
                  <a:off x="254520" y="35424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45"/>
                <p:cNvSpPr/>
                <p:nvPr/>
              </p:nvSpPr>
              <p:spPr>
                <a:xfrm rot="2355600">
                  <a:off x="234000" y="33552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46"/>
                <p:cNvSpPr/>
                <p:nvPr/>
              </p:nvSpPr>
              <p:spPr>
                <a:xfrm rot="2355600">
                  <a:off x="242280" y="37908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57200" y="400680"/>
                <a:ext cx="459720" cy="425880"/>
                <a:chOff x="457200" y="400680"/>
                <a:chExt cx="459720" cy="425880"/>
              </a:xfrm>
            </p:grpSpPr>
            <p:sp>
              <p:nvSpPr>
                <p:cNvPr id="622" name="Freeform 148"/>
                <p:cNvSpPr/>
                <p:nvPr/>
              </p:nvSpPr>
              <p:spPr>
                <a:xfrm rot="12437400">
                  <a:off x="499320" y="47124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49"/>
                <p:cNvSpPr/>
                <p:nvPr/>
              </p:nvSpPr>
              <p:spPr>
                <a:xfrm rot="14482200">
                  <a:off x="455760" y="60444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50"/>
                <p:cNvSpPr/>
                <p:nvPr/>
              </p:nvSpPr>
              <p:spPr>
                <a:xfrm rot="14781000">
                  <a:off x="565560" y="6627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151"/>
                <p:cNvSpPr/>
                <p:nvPr/>
              </p:nvSpPr>
              <p:spPr>
                <a:xfrm rot="14781000">
                  <a:off x="575280" y="62820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628920" y="385920"/>
                <a:ext cx="415800" cy="315720"/>
                <a:chOff x="628920" y="385920"/>
                <a:chExt cx="415800" cy="315720"/>
              </a:xfrm>
            </p:grpSpPr>
            <p:sp>
              <p:nvSpPr>
                <p:cNvPr id="627" name="Freeform 153"/>
                <p:cNvSpPr/>
                <p:nvPr/>
              </p:nvSpPr>
              <p:spPr>
                <a:xfrm rot="10413000">
                  <a:off x="646200" y="40572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54"/>
                <p:cNvSpPr/>
                <p:nvPr/>
              </p:nvSpPr>
              <p:spPr>
                <a:xfrm rot="12457800">
                  <a:off x="611640" y="54576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155"/>
                <p:cNvSpPr/>
                <p:nvPr/>
              </p:nvSpPr>
              <p:spPr>
                <a:xfrm rot="12756600">
                  <a:off x="741960" y="56448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56"/>
                <p:cNvSpPr/>
                <p:nvPr/>
              </p:nvSpPr>
              <p:spPr>
                <a:xfrm rot="12756600">
                  <a:off x="728640" y="53064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392760" y="259560"/>
                <a:ext cx="416160" cy="401760"/>
                <a:chOff x="392760" y="259560"/>
                <a:chExt cx="416160" cy="401760"/>
              </a:xfrm>
            </p:grpSpPr>
            <p:sp>
              <p:nvSpPr>
                <p:cNvPr id="632" name="AutoShape 158"/>
                <p:cNvSpPr/>
                <p:nvPr/>
              </p:nvSpPr>
              <p:spPr>
                <a:xfrm rot="12343200">
                  <a:off x="439920" y="31464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Oval 159"/>
                <p:cNvSpPr/>
                <p:nvPr/>
              </p:nvSpPr>
              <p:spPr>
                <a:xfrm rot="12343200">
                  <a:off x="488880" y="367560"/>
                  <a:ext cx="214560" cy="1940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4" name=""/>
            <p:cNvGrpSpPr/>
            <p:nvPr/>
          </p:nvGrpSpPr>
          <p:grpSpPr>
            <a:xfrm>
              <a:off x="-2520" y="438120"/>
              <a:ext cx="876960" cy="891000"/>
              <a:chOff x="-2520" y="438120"/>
              <a:chExt cx="876960" cy="8910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394200" y="613800"/>
                <a:ext cx="467280" cy="467640"/>
                <a:chOff x="394200" y="613800"/>
                <a:chExt cx="467280" cy="467640"/>
              </a:xfrm>
            </p:grpSpPr>
            <p:sp>
              <p:nvSpPr>
                <p:cNvPr id="636" name="Freeform 162"/>
                <p:cNvSpPr/>
                <p:nvPr/>
              </p:nvSpPr>
              <p:spPr>
                <a:xfrm rot="18826800">
                  <a:off x="441360" y="70524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63"/>
                <p:cNvSpPr/>
                <p:nvPr/>
              </p:nvSpPr>
              <p:spPr>
                <a:xfrm rot="20871600">
                  <a:off x="408600" y="81216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164"/>
                <p:cNvSpPr/>
                <p:nvPr/>
              </p:nvSpPr>
              <p:spPr>
                <a:xfrm rot="21169800">
                  <a:off x="394200" y="85572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65"/>
                <p:cNvSpPr/>
                <p:nvPr/>
              </p:nvSpPr>
              <p:spPr>
                <a:xfrm rot="21169800">
                  <a:off x="428760" y="88128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401400" y="528840"/>
                <a:ext cx="372960" cy="432360"/>
                <a:chOff x="401400" y="528840"/>
                <a:chExt cx="372960" cy="432360"/>
              </a:xfrm>
            </p:grpSpPr>
            <p:sp>
              <p:nvSpPr>
                <p:cNvPr id="641" name="Freeform 167"/>
                <p:cNvSpPr/>
                <p:nvPr/>
              </p:nvSpPr>
              <p:spPr>
                <a:xfrm rot="17034600">
                  <a:off x="403560" y="60228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68"/>
                <p:cNvSpPr/>
                <p:nvPr/>
              </p:nvSpPr>
              <p:spPr>
                <a:xfrm rot="19078800">
                  <a:off x="362160" y="71460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69"/>
                <p:cNvSpPr/>
                <p:nvPr/>
              </p:nvSpPr>
              <p:spPr>
                <a:xfrm rot="19377600">
                  <a:off x="376200" y="78696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70"/>
                <p:cNvSpPr/>
                <p:nvPr/>
              </p:nvSpPr>
              <p:spPr>
                <a:xfrm rot="19377600">
                  <a:off x="416880" y="79236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173880" y="438120"/>
                <a:ext cx="460800" cy="462960"/>
                <a:chOff x="173880" y="438120"/>
                <a:chExt cx="460800" cy="462960"/>
              </a:xfrm>
            </p:grpSpPr>
            <p:sp>
              <p:nvSpPr>
                <p:cNvPr id="646" name="Freeform 172"/>
                <p:cNvSpPr/>
                <p:nvPr/>
              </p:nvSpPr>
              <p:spPr>
                <a:xfrm rot="13688400">
                  <a:off x="234360" y="51228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173"/>
                <p:cNvSpPr/>
                <p:nvPr/>
              </p:nvSpPr>
              <p:spPr>
                <a:xfrm rot="15733200">
                  <a:off x="188280" y="65556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74"/>
                <p:cNvSpPr/>
                <p:nvPr/>
              </p:nvSpPr>
              <p:spPr>
                <a:xfrm rot="16031400">
                  <a:off x="273600" y="72396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175"/>
                <p:cNvSpPr/>
                <p:nvPr/>
              </p:nvSpPr>
              <p:spPr>
                <a:xfrm rot="16031400">
                  <a:off x="300960" y="69804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-2520" y="565200"/>
                <a:ext cx="437760" cy="363240"/>
                <a:chOff x="-2520" y="565200"/>
                <a:chExt cx="437760" cy="363240"/>
              </a:xfrm>
            </p:grpSpPr>
            <p:sp>
              <p:nvSpPr>
                <p:cNvPr id="651" name="Freeform 177"/>
                <p:cNvSpPr/>
                <p:nvPr/>
              </p:nvSpPr>
              <p:spPr>
                <a:xfrm rot="10003800">
                  <a:off x="25200" y="60444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78"/>
                <p:cNvSpPr/>
                <p:nvPr/>
              </p:nvSpPr>
              <p:spPr>
                <a:xfrm rot="12048600">
                  <a:off x="-7200" y="74952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79"/>
                <p:cNvSpPr/>
                <p:nvPr/>
              </p:nvSpPr>
              <p:spPr>
                <a:xfrm rot="12346800">
                  <a:off x="124200" y="75816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80"/>
                <p:cNvSpPr/>
                <p:nvPr/>
              </p:nvSpPr>
              <p:spPr>
                <a:xfrm rot="12346800">
                  <a:off x="107280" y="72468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253440" y="832320"/>
                <a:ext cx="462600" cy="462960"/>
                <a:chOff x="253440" y="832320"/>
                <a:chExt cx="462600" cy="462960"/>
              </a:xfrm>
            </p:grpSpPr>
            <p:sp>
              <p:nvSpPr>
                <p:cNvPr id="656" name="Freeform 182"/>
                <p:cNvSpPr/>
                <p:nvPr/>
              </p:nvSpPr>
              <p:spPr>
                <a:xfrm rot="2727600">
                  <a:off x="314640" y="906120"/>
                  <a:ext cx="33984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83"/>
                <p:cNvSpPr/>
                <p:nvPr/>
              </p:nvSpPr>
              <p:spPr>
                <a:xfrm rot="4772400">
                  <a:off x="312120" y="1040760"/>
                  <a:ext cx="38844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184"/>
                <p:cNvSpPr/>
                <p:nvPr/>
              </p:nvSpPr>
              <p:spPr>
                <a:xfrm rot="5070600">
                  <a:off x="321120" y="98352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85"/>
                <p:cNvSpPr/>
                <p:nvPr/>
              </p:nvSpPr>
              <p:spPr>
                <a:xfrm rot="5070600">
                  <a:off x="294840" y="1019160"/>
                  <a:ext cx="29160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86040" y="865080"/>
                <a:ext cx="336600" cy="360000"/>
                <a:chOff x="86040" y="865080"/>
                <a:chExt cx="336600" cy="360000"/>
              </a:xfrm>
            </p:grpSpPr>
            <p:sp>
              <p:nvSpPr>
                <p:cNvPr id="661" name="Freeform 187"/>
                <p:cNvSpPr/>
                <p:nvPr/>
              </p:nvSpPr>
              <p:spPr>
                <a:xfrm rot="5628000">
                  <a:off x="84240" y="887400"/>
                  <a:ext cx="33984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88"/>
                <p:cNvSpPr/>
                <p:nvPr/>
              </p:nvSpPr>
              <p:spPr>
                <a:xfrm rot="7672800">
                  <a:off x="77760" y="1040040"/>
                  <a:ext cx="38844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89"/>
                <p:cNvSpPr/>
                <p:nvPr/>
              </p:nvSpPr>
              <p:spPr>
                <a:xfrm rot="7971000">
                  <a:off x="146880" y="97380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190"/>
                <p:cNvSpPr/>
                <p:nvPr/>
              </p:nvSpPr>
              <p:spPr>
                <a:xfrm rot="7971000">
                  <a:off x="105840" y="979200"/>
                  <a:ext cx="29160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3600" y="721080"/>
                <a:ext cx="423000" cy="461160"/>
                <a:chOff x="3600" y="721080"/>
                <a:chExt cx="423000" cy="461160"/>
              </a:xfrm>
            </p:grpSpPr>
            <p:sp>
              <p:nvSpPr>
                <p:cNvPr id="666" name="Freeform 192"/>
                <p:cNvSpPr/>
                <p:nvPr/>
              </p:nvSpPr>
              <p:spPr>
                <a:xfrm rot="6925800">
                  <a:off x="25200" y="80928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93"/>
                <p:cNvSpPr/>
                <p:nvPr/>
              </p:nvSpPr>
              <p:spPr>
                <a:xfrm rot="8970600">
                  <a:off x="9720" y="95148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94"/>
                <p:cNvSpPr/>
                <p:nvPr/>
              </p:nvSpPr>
              <p:spPr>
                <a:xfrm rot="9268800">
                  <a:off x="115560" y="89748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195"/>
                <p:cNvSpPr/>
                <p:nvPr/>
              </p:nvSpPr>
              <p:spPr>
                <a:xfrm rot="9268800">
                  <a:off x="75600" y="89136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28400" y="762840"/>
                <a:ext cx="446040" cy="377280"/>
                <a:chOff x="428400" y="762840"/>
                <a:chExt cx="446040" cy="377280"/>
              </a:xfrm>
            </p:grpSpPr>
            <p:sp>
              <p:nvSpPr>
                <p:cNvPr id="671" name="Freeform 197"/>
                <p:cNvSpPr/>
                <p:nvPr/>
              </p:nvSpPr>
              <p:spPr>
                <a:xfrm rot="20636400">
                  <a:off x="467280" y="80892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98"/>
                <p:cNvSpPr/>
                <p:nvPr/>
              </p:nvSpPr>
              <p:spPr>
                <a:xfrm rot="1081200">
                  <a:off x="444600" y="91512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99"/>
                <p:cNvSpPr/>
                <p:nvPr/>
              </p:nvSpPr>
              <p:spPr>
                <a:xfrm rot="1379400">
                  <a:off x="420120" y="91908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200"/>
                <p:cNvSpPr/>
                <p:nvPr/>
              </p:nvSpPr>
              <p:spPr>
                <a:xfrm rot="1379400">
                  <a:off x="438840" y="95940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351000" y="840960"/>
                <a:ext cx="401040" cy="374760"/>
                <a:chOff x="351000" y="840960"/>
                <a:chExt cx="401040" cy="374760"/>
              </a:xfrm>
            </p:grpSpPr>
            <p:sp>
              <p:nvSpPr>
                <p:cNvPr id="676" name="Freeform 202"/>
                <p:cNvSpPr/>
                <p:nvPr/>
              </p:nvSpPr>
              <p:spPr>
                <a:xfrm rot="805800">
                  <a:off x="381240" y="876240"/>
                  <a:ext cx="339840" cy="304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203"/>
                <p:cNvSpPr/>
                <p:nvPr/>
              </p:nvSpPr>
              <p:spPr>
                <a:xfrm rot="2850600">
                  <a:off x="372240" y="995760"/>
                  <a:ext cx="38844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204"/>
                <p:cNvSpPr/>
                <p:nvPr/>
              </p:nvSpPr>
              <p:spPr>
                <a:xfrm rot="3148800">
                  <a:off x="355320" y="967320"/>
                  <a:ext cx="291240" cy="25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205"/>
                <p:cNvSpPr/>
                <p:nvPr/>
              </p:nvSpPr>
              <p:spPr>
                <a:xfrm rot="3148800">
                  <a:off x="350640" y="1011240"/>
                  <a:ext cx="29160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4680" y="640440"/>
                <a:ext cx="482760" cy="455400"/>
                <a:chOff x="4680" y="640440"/>
                <a:chExt cx="482760" cy="455400"/>
              </a:xfrm>
            </p:grpSpPr>
            <p:sp>
              <p:nvSpPr>
                <p:cNvPr id="681" name="Freeform 207"/>
                <p:cNvSpPr/>
                <p:nvPr/>
              </p:nvSpPr>
              <p:spPr>
                <a:xfrm rot="7717200">
                  <a:off x="122760" y="657720"/>
                  <a:ext cx="246600" cy="420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208"/>
                <p:cNvSpPr/>
                <p:nvPr/>
              </p:nvSpPr>
              <p:spPr>
                <a:xfrm rot="9762000">
                  <a:off x="113040" y="872280"/>
                  <a:ext cx="281880" cy="48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09"/>
                <p:cNvSpPr/>
                <p:nvPr/>
              </p:nvSpPr>
              <p:spPr>
                <a:xfrm rot="10060200">
                  <a:off x="185400" y="824760"/>
                  <a:ext cx="211320" cy="35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10"/>
                <p:cNvSpPr/>
                <p:nvPr/>
              </p:nvSpPr>
              <p:spPr>
                <a:xfrm rot="10060200">
                  <a:off x="156960" y="797400"/>
                  <a:ext cx="21132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48760" y="489600"/>
                <a:ext cx="463320" cy="419040"/>
                <a:chOff x="248760" y="489600"/>
                <a:chExt cx="463320" cy="419040"/>
              </a:xfrm>
            </p:grpSpPr>
            <p:sp>
              <p:nvSpPr>
                <p:cNvPr id="686" name="Freeform 212"/>
                <p:cNvSpPr/>
                <p:nvPr/>
              </p:nvSpPr>
              <p:spPr>
                <a:xfrm rot="13857000">
                  <a:off x="398880" y="466920"/>
                  <a:ext cx="162720" cy="46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213"/>
                <p:cNvSpPr/>
                <p:nvPr/>
              </p:nvSpPr>
              <p:spPr>
                <a:xfrm rot="15901800">
                  <a:off x="355320" y="673560"/>
                  <a:ext cx="185760" cy="53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214"/>
                <p:cNvSpPr/>
                <p:nvPr/>
              </p:nvSpPr>
              <p:spPr>
                <a:xfrm rot="16200000">
                  <a:off x="427680" y="711720"/>
                  <a:ext cx="139320" cy="396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215"/>
                <p:cNvSpPr/>
                <p:nvPr/>
              </p:nvSpPr>
              <p:spPr>
                <a:xfrm rot="16200000">
                  <a:off x="470160" y="704880"/>
                  <a:ext cx="1393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159480" y="561600"/>
                <a:ext cx="337320" cy="377640"/>
                <a:chOff x="159480" y="561600"/>
                <a:chExt cx="337320" cy="377640"/>
              </a:xfrm>
            </p:grpSpPr>
            <p:sp>
              <p:nvSpPr>
                <p:cNvPr id="691" name="Freeform 217"/>
                <p:cNvSpPr/>
                <p:nvPr/>
              </p:nvSpPr>
              <p:spPr>
                <a:xfrm rot="11895600">
                  <a:off x="202320" y="592920"/>
                  <a:ext cx="2512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18"/>
                <p:cNvSpPr/>
                <p:nvPr/>
              </p:nvSpPr>
              <p:spPr>
                <a:xfrm rot="13940400">
                  <a:off x="167040" y="745560"/>
                  <a:ext cx="2872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219"/>
                <p:cNvSpPr/>
                <p:nvPr/>
              </p:nvSpPr>
              <p:spPr>
                <a:xfrm rot="14238600">
                  <a:off x="257400" y="773280"/>
                  <a:ext cx="21528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220"/>
                <p:cNvSpPr/>
                <p:nvPr/>
              </p:nvSpPr>
              <p:spPr>
                <a:xfrm rot="14238600">
                  <a:off x="270360" y="744120"/>
                  <a:ext cx="2156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156240" y="895680"/>
                <a:ext cx="419760" cy="433440"/>
                <a:chOff x="156240" y="895680"/>
                <a:chExt cx="419760" cy="433440"/>
              </a:xfrm>
            </p:grpSpPr>
            <p:sp>
              <p:nvSpPr>
                <p:cNvPr id="696" name="Freeform 222"/>
                <p:cNvSpPr/>
                <p:nvPr/>
              </p:nvSpPr>
              <p:spPr>
                <a:xfrm rot="4063800">
                  <a:off x="196200" y="95472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223"/>
                <p:cNvSpPr/>
                <p:nvPr/>
              </p:nvSpPr>
              <p:spPr>
                <a:xfrm rot="6108000">
                  <a:off x="193680" y="109800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224"/>
                <p:cNvSpPr/>
                <p:nvPr/>
              </p:nvSpPr>
              <p:spPr>
                <a:xfrm rot="6406200">
                  <a:off x="228960" y="103032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25"/>
                <p:cNvSpPr/>
                <p:nvPr/>
              </p:nvSpPr>
              <p:spPr>
                <a:xfrm rot="6406200">
                  <a:off x="192960" y="105372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249840" y="740160"/>
                <a:ext cx="321480" cy="291240"/>
                <a:chOff x="249840" y="740160"/>
                <a:chExt cx="321480" cy="291240"/>
              </a:xfrm>
            </p:grpSpPr>
            <p:sp>
              <p:nvSpPr>
                <p:cNvPr id="701" name="AutoShape 227"/>
                <p:cNvSpPr/>
                <p:nvPr/>
              </p:nvSpPr>
              <p:spPr>
                <a:xfrm>
                  <a:off x="249840" y="74016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Oval 228"/>
                <p:cNvSpPr/>
                <p:nvPr/>
              </p:nvSpPr>
              <p:spPr>
                <a:xfrm>
                  <a:off x="305640" y="783000"/>
                  <a:ext cx="214560" cy="19404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3.png"/><Relationship Id="rId25" Type="http://schemas.openxmlformats.org/officeDocument/2006/relationships/image" Target="../media/image14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3.png"/><Relationship Id="rId29" Type="http://schemas.openxmlformats.org/officeDocument/2006/relationships/image" Target="../media/image14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image" Target="../media/image13.png"/><Relationship Id="rId35" Type="http://schemas.openxmlformats.org/officeDocument/2006/relationships/image" Target="../media/image14.png"/><Relationship Id="rId36" Type="http://schemas.openxmlformats.org/officeDocument/2006/relationships/image" Target="../media/image10.png"/><Relationship Id="rId37" Type="http://schemas.openxmlformats.org/officeDocument/2006/relationships/image" Target="../media/image11.png"/><Relationship Id="rId38" Type="http://schemas.openxmlformats.org/officeDocument/2006/relationships/image" Target="../media/image12.png"/><Relationship Id="rId39" Type="http://schemas.openxmlformats.org/officeDocument/2006/relationships/image" Target="../media/image13.png"/><Relationship Id="rId40" Type="http://schemas.openxmlformats.org/officeDocument/2006/relationships/image" Target="../media/image14.png"/><Relationship Id="rId4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0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矩形 2"/>
          <p:cNvSpPr/>
          <p:nvPr/>
        </p:nvSpPr>
        <p:spPr>
          <a:xfrm>
            <a:off x="326124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949040" y="24192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淡雅菊花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4"/>
          <p:cNvSpPr/>
          <p:nvPr/>
        </p:nvSpPr>
        <p:spPr>
          <a:xfrm>
            <a:off x="-6480" y="2208240"/>
            <a:ext cx="13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262160" y="1947960"/>
            <a:ext cx="1682640" cy="4392360"/>
            <a:chOff x="1262160" y="1947960"/>
            <a:chExt cx="1682640" cy="4392360"/>
          </a:xfrm>
        </p:grpSpPr>
        <p:sp>
          <p:nvSpPr>
            <p:cNvPr id="746" name="Rectangle 10"/>
            <p:cNvSpPr/>
            <p:nvPr/>
          </p:nvSpPr>
          <p:spPr>
            <a:xfrm>
              <a:off x="126216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e2f0ff"/>
                </a:gs>
                <a:gs pos="100000">
                  <a:srgbClr val="99cc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1"/>
            <p:cNvSpPr/>
            <p:nvPr/>
          </p:nvSpPr>
          <p:spPr>
            <a:xfrm>
              <a:off x="12844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2"/>
            <p:cNvSpPr/>
            <p:nvPr/>
          </p:nvSpPr>
          <p:spPr>
            <a:xfrm>
              <a:off x="1268640" y="2145960"/>
              <a:ext cx="163800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3"/>
            <p:cNvSpPr/>
            <p:nvPr/>
          </p:nvSpPr>
          <p:spPr>
            <a:xfrm>
              <a:off x="1268640" y="296820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4"/>
            <p:cNvSpPr/>
            <p:nvPr/>
          </p:nvSpPr>
          <p:spPr>
            <a:xfrm>
              <a:off x="1268640" y="377316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5"/>
            <p:cNvSpPr/>
            <p:nvPr/>
          </p:nvSpPr>
          <p:spPr>
            <a:xfrm>
              <a:off x="1268640" y="465588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16"/>
            <p:cNvSpPr/>
            <p:nvPr/>
          </p:nvSpPr>
          <p:spPr>
            <a:xfrm>
              <a:off x="1268640" y="554004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305160" y="1947960"/>
            <a:ext cx="1684440" cy="4392360"/>
            <a:chOff x="3305160" y="1947960"/>
            <a:chExt cx="1684440" cy="4392360"/>
          </a:xfrm>
        </p:grpSpPr>
        <p:sp>
          <p:nvSpPr>
            <p:cNvPr id="754" name="Rectangle 18"/>
            <p:cNvSpPr/>
            <p:nvPr/>
          </p:nvSpPr>
          <p:spPr>
            <a:xfrm>
              <a:off x="330516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e7e7ff"/>
                </a:gs>
                <a:gs pos="100000">
                  <a:srgbClr val="cccc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9"/>
            <p:cNvSpPr/>
            <p:nvPr/>
          </p:nvSpPr>
          <p:spPr>
            <a:xfrm>
              <a:off x="33256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20"/>
            <p:cNvSpPr/>
            <p:nvPr/>
          </p:nvSpPr>
          <p:spPr>
            <a:xfrm>
              <a:off x="3321000" y="2836440"/>
              <a:ext cx="166860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21"/>
            <p:cNvSpPr/>
            <p:nvPr/>
          </p:nvSpPr>
          <p:spPr>
            <a:xfrm>
              <a:off x="3321000" y="3706560"/>
              <a:ext cx="165276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2"/>
            <p:cNvSpPr/>
            <p:nvPr/>
          </p:nvSpPr>
          <p:spPr>
            <a:xfrm>
              <a:off x="3321000" y="4576680"/>
              <a:ext cx="166068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23"/>
            <p:cNvSpPr/>
            <p:nvPr/>
          </p:nvSpPr>
          <p:spPr>
            <a:xfrm>
              <a:off x="3321000" y="5446440"/>
              <a:ext cx="165096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4"/>
            <p:cNvSpPr/>
            <p:nvPr/>
          </p:nvSpPr>
          <p:spPr>
            <a:xfrm>
              <a:off x="3355920" y="2145960"/>
              <a:ext cx="155088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5"/>
            <p:cNvSpPr/>
            <p:nvPr/>
          </p:nvSpPr>
          <p:spPr>
            <a:xfrm>
              <a:off x="3355920" y="296820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26"/>
            <p:cNvSpPr/>
            <p:nvPr/>
          </p:nvSpPr>
          <p:spPr>
            <a:xfrm>
              <a:off x="3355920" y="377316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7"/>
            <p:cNvSpPr/>
            <p:nvPr/>
          </p:nvSpPr>
          <p:spPr>
            <a:xfrm>
              <a:off x="3355920" y="465588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8"/>
            <p:cNvSpPr/>
            <p:nvPr/>
          </p:nvSpPr>
          <p:spPr>
            <a:xfrm>
              <a:off x="3355920" y="554004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5340240" y="1947960"/>
            <a:ext cx="1684440" cy="4392360"/>
            <a:chOff x="5340240" y="1947960"/>
            <a:chExt cx="1684440" cy="4392360"/>
          </a:xfrm>
        </p:grpSpPr>
        <p:sp>
          <p:nvSpPr>
            <p:cNvPr id="766" name="Rectangle 30"/>
            <p:cNvSpPr/>
            <p:nvPr/>
          </p:nvSpPr>
          <p:spPr>
            <a:xfrm>
              <a:off x="534024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f8e8a3"/>
                </a:gs>
                <a:gs pos="100000">
                  <a:srgbClr val="f3d75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31"/>
            <p:cNvSpPr/>
            <p:nvPr/>
          </p:nvSpPr>
          <p:spPr>
            <a:xfrm>
              <a:off x="53686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32"/>
            <p:cNvSpPr/>
            <p:nvPr/>
          </p:nvSpPr>
          <p:spPr>
            <a:xfrm>
              <a:off x="5356080" y="2836440"/>
              <a:ext cx="166860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33"/>
            <p:cNvSpPr/>
            <p:nvPr/>
          </p:nvSpPr>
          <p:spPr>
            <a:xfrm>
              <a:off x="5356080" y="3706560"/>
              <a:ext cx="165276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34"/>
            <p:cNvSpPr/>
            <p:nvPr/>
          </p:nvSpPr>
          <p:spPr>
            <a:xfrm>
              <a:off x="5356080" y="4576680"/>
              <a:ext cx="166068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35"/>
            <p:cNvSpPr/>
            <p:nvPr/>
          </p:nvSpPr>
          <p:spPr>
            <a:xfrm>
              <a:off x="5356080" y="5446440"/>
              <a:ext cx="165096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36"/>
            <p:cNvSpPr/>
            <p:nvPr/>
          </p:nvSpPr>
          <p:spPr>
            <a:xfrm>
              <a:off x="5395680" y="2145960"/>
              <a:ext cx="15703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37"/>
            <p:cNvSpPr/>
            <p:nvPr/>
          </p:nvSpPr>
          <p:spPr>
            <a:xfrm>
              <a:off x="5395680" y="296820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38"/>
            <p:cNvSpPr/>
            <p:nvPr/>
          </p:nvSpPr>
          <p:spPr>
            <a:xfrm>
              <a:off x="5395680" y="377784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9"/>
            <p:cNvSpPr/>
            <p:nvPr/>
          </p:nvSpPr>
          <p:spPr>
            <a:xfrm>
              <a:off x="5395680" y="465588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40"/>
            <p:cNvSpPr/>
            <p:nvPr/>
          </p:nvSpPr>
          <p:spPr>
            <a:xfrm>
              <a:off x="5395680" y="554004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7370640" y="1947960"/>
            <a:ext cx="1682640" cy="4392360"/>
            <a:chOff x="7370640" y="1947960"/>
            <a:chExt cx="1682640" cy="4392360"/>
          </a:xfrm>
        </p:grpSpPr>
        <p:sp>
          <p:nvSpPr>
            <p:cNvPr id="778" name="Rectangle 42"/>
            <p:cNvSpPr/>
            <p:nvPr/>
          </p:nvSpPr>
          <p:spPr>
            <a:xfrm>
              <a:off x="737064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e2ffa7"/>
                </a:gs>
                <a:gs pos="100000">
                  <a:srgbClr val="ccff6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43"/>
            <p:cNvSpPr/>
            <p:nvPr/>
          </p:nvSpPr>
          <p:spPr>
            <a:xfrm>
              <a:off x="74134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44"/>
            <p:cNvSpPr/>
            <p:nvPr/>
          </p:nvSpPr>
          <p:spPr>
            <a:xfrm>
              <a:off x="7380000" y="2836440"/>
              <a:ext cx="166860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45"/>
            <p:cNvSpPr/>
            <p:nvPr/>
          </p:nvSpPr>
          <p:spPr>
            <a:xfrm>
              <a:off x="7380000" y="3706560"/>
              <a:ext cx="165276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46"/>
            <p:cNvSpPr/>
            <p:nvPr/>
          </p:nvSpPr>
          <p:spPr>
            <a:xfrm>
              <a:off x="7380000" y="4576680"/>
              <a:ext cx="166068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47"/>
            <p:cNvSpPr/>
            <p:nvPr/>
          </p:nvSpPr>
          <p:spPr>
            <a:xfrm>
              <a:off x="7380000" y="5446440"/>
              <a:ext cx="165132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48"/>
            <p:cNvSpPr/>
            <p:nvPr/>
          </p:nvSpPr>
          <p:spPr>
            <a:xfrm>
              <a:off x="7402320" y="2145960"/>
              <a:ext cx="161460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9"/>
            <p:cNvSpPr/>
            <p:nvPr/>
          </p:nvSpPr>
          <p:spPr>
            <a:xfrm>
              <a:off x="7402320" y="296820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50"/>
            <p:cNvSpPr/>
            <p:nvPr/>
          </p:nvSpPr>
          <p:spPr>
            <a:xfrm>
              <a:off x="7402320" y="377784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51"/>
            <p:cNvSpPr/>
            <p:nvPr/>
          </p:nvSpPr>
          <p:spPr>
            <a:xfrm>
              <a:off x="7402320" y="465588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52"/>
            <p:cNvSpPr/>
            <p:nvPr/>
          </p:nvSpPr>
          <p:spPr>
            <a:xfrm>
              <a:off x="7402320" y="554004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1174680" y="1168560"/>
            <a:ext cx="7983360" cy="768240"/>
            <a:chOff x="1174680" y="1168560"/>
            <a:chExt cx="7983360" cy="768240"/>
          </a:xfrm>
        </p:grpSpPr>
        <p:grpSp>
          <p:nvGrpSpPr>
            <p:cNvPr id="790" name=""/>
            <p:cNvGrpSpPr/>
            <p:nvPr/>
          </p:nvGrpSpPr>
          <p:grpSpPr>
            <a:xfrm>
              <a:off x="1174680" y="1168560"/>
              <a:ext cx="1908000" cy="768240"/>
              <a:chOff x="1174680" y="1168560"/>
              <a:chExt cx="1908000" cy="768240"/>
            </a:xfrm>
          </p:grpSpPr>
          <p:pic>
            <p:nvPicPr>
              <p:cNvPr id="791" name="Picture 55" descr=""/>
              <p:cNvPicPr/>
              <p:nvPr/>
            </p:nvPicPr>
            <p:blipFill>
              <a:blip r:embed="rId1"/>
              <a:stretch/>
            </p:blipFill>
            <p:spPr>
              <a:xfrm>
                <a:off x="117468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Picture 56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4520" y="1233720"/>
                <a:ext cx="179244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"/>
            <p:cNvGrpSpPr/>
            <p:nvPr/>
          </p:nvGrpSpPr>
          <p:grpSpPr>
            <a:xfrm>
              <a:off x="5224320" y="1168560"/>
              <a:ext cx="1908000" cy="768240"/>
              <a:chOff x="5224320" y="1168560"/>
              <a:chExt cx="1908000" cy="768240"/>
            </a:xfrm>
          </p:grpSpPr>
          <p:pic>
            <p:nvPicPr>
              <p:cNvPr id="794" name="Picture 58" descr=""/>
              <p:cNvPicPr/>
              <p:nvPr/>
            </p:nvPicPr>
            <p:blipFill>
              <a:blip r:embed="rId3"/>
              <a:stretch/>
            </p:blipFill>
            <p:spPr>
              <a:xfrm>
                <a:off x="522432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Picture 59" descr=""/>
              <p:cNvPicPr/>
              <p:nvPr/>
            </p:nvPicPr>
            <p:blipFill>
              <a:blip r:embed="rId4"/>
              <a:stretch/>
            </p:blipFill>
            <p:spPr>
              <a:xfrm>
                <a:off x="5305320" y="1233720"/>
                <a:ext cx="179208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6" name=""/>
            <p:cNvGrpSpPr/>
            <p:nvPr/>
          </p:nvGrpSpPr>
          <p:grpSpPr>
            <a:xfrm>
              <a:off x="7250040" y="1168560"/>
              <a:ext cx="1908000" cy="768240"/>
              <a:chOff x="7250040" y="1168560"/>
              <a:chExt cx="1908000" cy="768240"/>
            </a:xfrm>
          </p:grpSpPr>
          <p:pic>
            <p:nvPicPr>
              <p:cNvPr id="797" name="Picture 61" descr=""/>
              <p:cNvPicPr/>
              <p:nvPr/>
            </p:nvPicPr>
            <p:blipFill>
              <a:blip r:embed="rId5"/>
              <a:stretch/>
            </p:blipFill>
            <p:spPr>
              <a:xfrm>
                <a:off x="725004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8" name="Picture 62" descr=""/>
              <p:cNvPicPr/>
              <p:nvPr/>
            </p:nvPicPr>
            <p:blipFill>
              <a:blip r:embed="rId6"/>
              <a:stretch/>
            </p:blipFill>
            <p:spPr>
              <a:xfrm>
                <a:off x="7338960" y="1241640"/>
                <a:ext cx="1785960" cy="646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9" name="Rectangle 63"/>
            <p:cNvSpPr/>
            <p:nvPr/>
          </p:nvSpPr>
          <p:spPr>
            <a:xfrm>
              <a:off x="5427720" y="1362240"/>
              <a:ext cx="149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64"/>
            <p:cNvSpPr/>
            <p:nvPr/>
          </p:nvSpPr>
          <p:spPr>
            <a:xfrm>
              <a:off x="7513560" y="1362240"/>
              <a:ext cx="137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3198600" y="1168560"/>
              <a:ext cx="1908000" cy="768240"/>
              <a:chOff x="3198600" y="1168560"/>
              <a:chExt cx="1908000" cy="768240"/>
            </a:xfrm>
          </p:grpSpPr>
          <p:pic>
            <p:nvPicPr>
              <p:cNvPr id="802" name="Picture 66" descr=""/>
              <p:cNvPicPr/>
              <p:nvPr/>
            </p:nvPicPr>
            <p:blipFill>
              <a:blip r:embed="rId7"/>
              <a:stretch/>
            </p:blipFill>
            <p:spPr>
              <a:xfrm>
                <a:off x="319860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Picture 67" descr=""/>
              <p:cNvPicPr/>
              <p:nvPr/>
            </p:nvPicPr>
            <p:blipFill>
              <a:blip r:embed="rId8"/>
              <a:stretch/>
            </p:blipFill>
            <p:spPr>
              <a:xfrm>
                <a:off x="3277800" y="1233720"/>
                <a:ext cx="179244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4" name="Rectangle 68"/>
            <p:cNvSpPr/>
            <p:nvPr/>
          </p:nvSpPr>
          <p:spPr>
            <a:xfrm>
              <a:off x="1350720" y="1357560"/>
              <a:ext cx="1527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69"/>
            <p:cNvSpPr/>
            <p:nvPr/>
          </p:nvSpPr>
          <p:spPr>
            <a:xfrm>
              <a:off x="3413160" y="1357560"/>
              <a:ext cx="14652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70"/>
          <p:cNvSpPr/>
          <p:nvPr/>
        </p:nvSpPr>
        <p:spPr>
          <a:xfrm>
            <a:off x="63360" y="2836800"/>
            <a:ext cx="287028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71"/>
          <p:cNvSpPr/>
          <p:nvPr/>
        </p:nvSpPr>
        <p:spPr>
          <a:xfrm>
            <a:off x="63360" y="3706920"/>
            <a:ext cx="284328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72"/>
          <p:cNvSpPr/>
          <p:nvPr/>
        </p:nvSpPr>
        <p:spPr>
          <a:xfrm>
            <a:off x="63360" y="4576680"/>
            <a:ext cx="285588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3"/>
          <p:cNvSpPr/>
          <p:nvPr/>
        </p:nvSpPr>
        <p:spPr>
          <a:xfrm>
            <a:off x="63360" y="5446800"/>
            <a:ext cx="284004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4"/>
          <p:cNvSpPr/>
          <p:nvPr/>
        </p:nvSpPr>
        <p:spPr>
          <a:xfrm>
            <a:off x="0" y="309708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75"/>
          <p:cNvSpPr/>
          <p:nvPr/>
        </p:nvSpPr>
        <p:spPr>
          <a:xfrm>
            <a:off x="0" y="392760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6"/>
          <p:cNvSpPr/>
          <p:nvPr/>
        </p:nvSpPr>
        <p:spPr>
          <a:xfrm>
            <a:off x="7920" y="481644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7"/>
          <p:cNvSpPr/>
          <p:nvPr/>
        </p:nvSpPr>
        <p:spPr>
          <a:xfrm>
            <a:off x="0" y="566748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6"/>
          <p:cNvSpPr/>
          <p:nvPr/>
        </p:nvSpPr>
        <p:spPr>
          <a:xfrm>
            <a:off x="223920" y="272088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152280" y="367020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8"/>
          <p:cNvSpPr/>
          <p:nvPr/>
        </p:nvSpPr>
        <p:spPr>
          <a:xfrm>
            <a:off x="190440" y="463716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833480" y="1870200"/>
            <a:ext cx="1655640" cy="3171240"/>
            <a:chOff x="1833480" y="1870200"/>
            <a:chExt cx="1655640" cy="3171240"/>
          </a:xfrm>
        </p:grpSpPr>
        <p:sp>
          <p:nvSpPr>
            <p:cNvPr id="818" name="AutoShape 13"/>
            <p:cNvSpPr/>
            <p:nvPr/>
          </p:nvSpPr>
          <p:spPr>
            <a:xfrm>
              <a:off x="1851120" y="26589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14"/>
            <p:cNvSpPr/>
            <p:nvPr/>
          </p:nvSpPr>
          <p:spPr>
            <a:xfrm>
              <a:off x="1851120" y="36273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008080">
                <a:alpha val="76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15"/>
            <p:cNvSpPr/>
            <p:nvPr/>
          </p:nvSpPr>
          <p:spPr>
            <a:xfrm>
              <a:off x="1851120" y="4589280"/>
              <a:ext cx="1638000" cy="45216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1833480" y="1870200"/>
              <a:ext cx="1646280" cy="452160"/>
              <a:chOff x="1833480" y="1870200"/>
              <a:chExt cx="1646280" cy="452160"/>
            </a:xfrm>
          </p:grpSpPr>
          <p:sp>
            <p:nvSpPr>
              <p:cNvPr id="822" name="AutoShape 17"/>
              <p:cNvSpPr/>
              <p:nvPr/>
            </p:nvSpPr>
            <p:spPr>
              <a:xfrm>
                <a:off x="1833480" y="1870200"/>
                <a:ext cx="1638360" cy="452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AutoShape 18"/>
              <p:cNvSpPr/>
              <p:nvPr/>
            </p:nvSpPr>
            <p:spPr>
              <a:xfrm>
                <a:off x="1841400" y="1879200"/>
                <a:ext cx="1638360" cy="15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AutoShape 19"/>
            <p:cNvSpPr/>
            <p:nvPr/>
          </p:nvSpPr>
          <p:spPr>
            <a:xfrm>
              <a:off x="1838160" y="2341440"/>
              <a:ext cx="1638360" cy="15336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009999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0"/>
            <p:cNvSpPr/>
            <p:nvPr/>
          </p:nvSpPr>
          <p:spPr>
            <a:xfrm>
              <a:off x="1979640" y="1936440"/>
              <a:ext cx="13348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21"/>
            <p:cNvSpPr/>
            <p:nvPr/>
          </p:nvSpPr>
          <p:spPr>
            <a:xfrm>
              <a:off x="1852560" y="2690640"/>
              <a:ext cx="15876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22"/>
            <p:cNvSpPr/>
            <p:nvPr/>
          </p:nvSpPr>
          <p:spPr>
            <a:xfrm>
              <a:off x="1861920" y="4606560"/>
              <a:ext cx="158760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23"/>
            <p:cNvSpPr/>
            <p:nvPr/>
          </p:nvSpPr>
          <p:spPr>
            <a:xfrm>
              <a:off x="1877760" y="3636720"/>
              <a:ext cx="158940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665520" y="1870200"/>
            <a:ext cx="1662120" cy="3171240"/>
            <a:chOff x="3665520" y="1870200"/>
            <a:chExt cx="1662120" cy="3171240"/>
          </a:xfrm>
        </p:grpSpPr>
        <p:sp>
          <p:nvSpPr>
            <p:cNvPr id="830" name="AutoShape 25"/>
            <p:cNvSpPr/>
            <p:nvPr/>
          </p:nvSpPr>
          <p:spPr>
            <a:xfrm>
              <a:off x="3681360" y="26589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26"/>
            <p:cNvSpPr/>
            <p:nvPr/>
          </p:nvSpPr>
          <p:spPr>
            <a:xfrm>
              <a:off x="3681360" y="36273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3333cc">
                <a:alpha val="71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27"/>
            <p:cNvSpPr/>
            <p:nvPr/>
          </p:nvSpPr>
          <p:spPr>
            <a:xfrm>
              <a:off x="3681360" y="458928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3665520" y="1870200"/>
              <a:ext cx="1646280" cy="452160"/>
              <a:chOff x="3665520" y="1870200"/>
              <a:chExt cx="1646280" cy="452160"/>
            </a:xfrm>
          </p:grpSpPr>
          <p:sp>
            <p:nvSpPr>
              <p:cNvPr id="834" name="AutoShape 29"/>
              <p:cNvSpPr/>
              <p:nvPr/>
            </p:nvSpPr>
            <p:spPr>
              <a:xfrm>
                <a:off x="3665520" y="1870200"/>
                <a:ext cx="1638360" cy="452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18185e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AutoShape 30"/>
              <p:cNvSpPr/>
              <p:nvPr/>
            </p:nvSpPr>
            <p:spPr>
              <a:xfrm>
                <a:off x="3673440" y="1879200"/>
                <a:ext cx="1638360" cy="15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31"/>
            <p:cNvSpPr/>
            <p:nvPr/>
          </p:nvSpPr>
          <p:spPr>
            <a:xfrm>
              <a:off x="3689280" y="2344680"/>
              <a:ext cx="1638360" cy="15336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0000ff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32"/>
            <p:cNvSpPr/>
            <p:nvPr/>
          </p:nvSpPr>
          <p:spPr>
            <a:xfrm>
              <a:off x="3821040" y="1936440"/>
              <a:ext cx="133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33"/>
            <p:cNvSpPr/>
            <p:nvPr/>
          </p:nvSpPr>
          <p:spPr>
            <a:xfrm>
              <a:off x="3701880" y="2678040"/>
              <a:ext cx="15876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34"/>
            <p:cNvSpPr/>
            <p:nvPr/>
          </p:nvSpPr>
          <p:spPr>
            <a:xfrm>
              <a:off x="3711600" y="4593960"/>
              <a:ext cx="158760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35"/>
            <p:cNvSpPr/>
            <p:nvPr/>
          </p:nvSpPr>
          <p:spPr>
            <a:xfrm>
              <a:off x="3727440" y="3624120"/>
              <a:ext cx="15638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497560" y="1870200"/>
            <a:ext cx="1667880" cy="3171240"/>
            <a:chOff x="5497560" y="1870200"/>
            <a:chExt cx="1667880" cy="3171240"/>
          </a:xfrm>
        </p:grpSpPr>
        <p:sp>
          <p:nvSpPr>
            <p:cNvPr id="842" name="AutoShape 37"/>
            <p:cNvSpPr/>
            <p:nvPr/>
          </p:nvSpPr>
          <p:spPr>
            <a:xfrm>
              <a:off x="5511600" y="26589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8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38"/>
            <p:cNvSpPr/>
            <p:nvPr/>
          </p:nvSpPr>
          <p:spPr>
            <a:xfrm>
              <a:off x="5511600" y="36273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800080">
                <a:alpha val="7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39"/>
            <p:cNvSpPr/>
            <p:nvPr/>
          </p:nvSpPr>
          <p:spPr>
            <a:xfrm>
              <a:off x="5511600" y="4589280"/>
              <a:ext cx="1638000" cy="452160"/>
            </a:xfrm>
            <a:prstGeom prst="roundRect">
              <a:avLst>
                <a:gd name="adj" fmla="val 0"/>
              </a:avLst>
            </a:prstGeom>
            <a:solidFill>
              <a:srgbClr val="8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40"/>
            <p:cNvSpPr/>
            <p:nvPr/>
          </p:nvSpPr>
          <p:spPr>
            <a:xfrm>
              <a:off x="5497560" y="1870200"/>
              <a:ext cx="1638000" cy="45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41"/>
            <p:cNvSpPr/>
            <p:nvPr/>
          </p:nvSpPr>
          <p:spPr>
            <a:xfrm>
              <a:off x="5527440" y="1879200"/>
              <a:ext cx="1638000" cy="15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0008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42"/>
            <p:cNvSpPr/>
            <p:nvPr/>
          </p:nvSpPr>
          <p:spPr>
            <a:xfrm>
              <a:off x="5505120" y="2339640"/>
              <a:ext cx="1638000" cy="15372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800080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43"/>
            <p:cNvSpPr/>
            <p:nvPr/>
          </p:nvSpPr>
          <p:spPr>
            <a:xfrm>
              <a:off x="5659200" y="1941120"/>
              <a:ext cx="1334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44"/>
            <p:cNvSpPr/>
            <p:nvPr/>
          </p:nvSpPr>
          <p:spPr>
            <a:xfrm>
              <a:off x="5501880" y="2680920"/>
              <a:ext cx="15872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45"/>
            <p:cNvSpPr/>
            <p:nvPr/>
          </p:nvSpPr>
          <p:spPr>
            <a:xfrm>
              <a:off x="5511600" y="4597200"/>
              <a:ext cx="15868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46"/>
            <p:cNvSpPr/>
            <p:nvPr/>
          </p:nvSpPr>
          <p:spPr>
            <a:xfrm>
              <a:off x="5527440" y="3627360"/>
              <a:ext cx="158868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7321680" y="1870200"/>
            <a:ext cx="1658880" cy="3171240"/>
            <a:chOff x="7321680" y="1870200"/>
            <a:chExt cx="1658880" cy="3171240"/>
          </a:xfrm>
        </p:grpSpPr>
        <p:sp>
          <p:nvSpPr>
            <p:cNvPr id="853" name="AutoShape 48"/>
            <p:cNvSpPr/>
            <p:nvPr/>
          </p:nvSpPr>
          <p:spPr>
            <a:xfrm>
              <a:off x="7342200" y="26589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49"/>
            <p:cNvSpPr/>
            <p:nvPr/>
          </p:nvSpPr>
          <p:spPr>
            <a:xfrm>
              <a:off x="7342200" y="36273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008000">
                <a:alpha val="74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50"/>
            <p:cNvSpPr/>
            <p:nvPr/>
          </p:nvSpPr>
          <p:spPr>
            <a:xfrm>
              <a:off x="7342200" y="458928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7321680" y="1870200"/>
              <a:ext cx="1646280" cy="452160"/>
              <a:chOff x="7321680" y="1870200"/>
              <a:chExt cx="1646280" cy="452160"/>
            </a:xfrm>
          </p:grpSpPr>
          <p:sp>
            <p:nvSpPr>
              <p:cNvPr id="857" name="AutoShape 52"/>
              <p:cNvSpPr/>
              <p:nvPr/>
            </p:nvSpPr>
            <p:spPr>
              <a:xfrm>
                <a:off x="7321680" y="1870200"/>
                <a:ext cx="1638360" cy="452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AutoShape 53"/>
              <p:cNvSpPr/>
              <p:nvPr/>
            </p:nvSpPr>
            <p:spPr>
              <a:xfrm>
                <a:off x="7329600" y="1879200"/>
                <a:ext cx="1638360" cy="15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AutoShape 54"/>
            <p:cNvSpPr/>
            <p:nvPr/>
          </p:nvSpPr>
          <p:spPr>
            <a:xfrm>
              <a:off x="7331040" y="2334960"/>
              <a:ext cx="1638360" cy="15372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008000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55"/>
            <p:cNvSpPr/>
            <p:nvPr/>
          </p:nvSpPr>
          <p:spPr>
            <a:xfrm>
              <a:off x="7500960" y="1941120"/>
              <a:ext cx="133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56"/>
            <p:cNvSpPr/>
            <p:nvPr/>
          </p:nvSpPr>
          <p:spPr>
            <a:xfrm>
              <a:off x="7334280" y="2684160"/>
              <a:ext cx="15876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57"/>
            <p:cNvSpPr/>
            <p:nvPr/>
          </p:nvSpPr>
          <p:spPr>
            <a:xfrm>
              <a:off x="7344000" y="4600440"/>
              <a:ext cx="158724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58"/>
            <p:cNvSpPr/>
            <p:nvPr/>
          </p:nvSpPr>
          <p:spPr>
            <a:xfrm>
              <a:off x="7359840" y="3630240"/>
              <a:ext cx="15890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100080" y="2048040"/>
            <a:ext cx="8664480" cy="559800"/>
            <a:chOff x="100080" y="2048040"/>
            <a:chExt cx="8664480" cy="559800"/>
          </a:xfrm>
        </p:grpSpPr>
        <p:pic>
          <p:nvPicPr>
            <p:cNvPr id="865" name="Picture 14" descr=""/>
            <p:cNvPicPr/>
            <p:nvPr/>
          </p:nvPicPr>
          <p:blipFill>
            <a:blip r:embed="rId1"/>
            <a:stretch/>
          </p:blipFill>
          <p:spPr>
            <a:xfrm>
              <a:off x="100080" y="205884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"/>
            <p:cNvGrpSpPr/>
            <p:nvPr/>
          </p:nvGrpSpPr>
          <p:grpSpPr>
            <a:xfrm>
              <a:off x="2084400" y="2048040"/>
              <a:ext cx="6680160" cy="549000"/>
              <a:chOff x="2084400" y="2048040"/>
              <a:chExt cx="6680160" cy="549000"/>
            </a:xfrm>
          </p:grpSpPr>
          <p:pic>
            <p:nvPicPr>
              <p:cNvPr id="867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84400" y="204804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817800" y="20480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Picture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9480" y="20480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Picture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7300800" y="20480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1" name="Rectangle 20"/>
            <p:cNvSpPr/>
            <p:nvPr/>
          </p:nvSpPr>
          <p:spPr>
            <a:xfrm>
              <a:off x="2403720" y="209844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1"/>
            <p:cNvSpPr/>
            <p:nvPr/>
          </p:nvSpPr>
          <p:spPr>
            <a:xfrm>
              <a:off x="227160" y="2139840"/>
              <a:ext cx="176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2"/>
            <p:cNvSpPr/>
            <p:nvPr/>
          </p:nvSpPr>
          <p:spPr>
            <a:xfrm>
              <a:off x="4119480" y="209196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3"/>
            <p:cNvSpPr/>
            <p:nvPr/>
          </p:nvSpPr>
          <p:spPr>
            <a:xfrm>
              <a:off x="5880240" y="209700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24"/>
            <p:cNvSpPr/>
            <p:nvPr/>
          </p:nvSpPr>
          <p:spPr>
            <a:xfrm>
              <a:off x="7618320" y="209052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100080" y="2585880"/>
            <a:ext cx="8664480" cy="560520"/>
            <a:chOff x="100080" y="2585880"/>
            <a:chExt cx="8664480" cy="560520"/>
          </a:xfrm>
        </p:grpSpPr>
        <p:pic>
          <p:nvPicPr>
            <p:cNvPr id="877" name="Picture 26" descr=""/>
            <p:cNvPicPr/>
            <p:nvPr/>
          </p:nvPicPr>
          <p:blipFill>
            <a:blip r:embed="rId6"/>
            <a:stretch/>
          </p:blipFill>
          <p:spPr>
            <a:xfrm>
              <a:off x="100080" y="259704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8" name=""/>
            <p:cNvGrpSpPr/>
            <p:nvPr/>
          </p:nvGrpSpPr>
          <p:grpSpPr>
            <a:xfrm>
              <a:off x="2084400" y="2585880"/>
              <a:ext cx="6680160" cy="549360"/>
              <a:chOff x="2084400" y="2585880"/>
              <a:chExt cx="6680160" cy="549360"/>
            </a:xfrm>
          </p:grpSpPr>
          <p:pic>
            <p:nvPicPr>
              <p:cNvPr id="879" name="Picture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2084400" y="25858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Pictur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3817800" y="258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Picture 30" descr=""/>
              <p:cNvPicPr/>
              <p:nvPr/>
            </p:nvPicPr>
            <p:blipFill>
              <a:blip r:embed="rId9"/>
              <a:stretch/>
            </p:blipFill>
            <p:spPr>
              <a:xfrm>
                <a:off x="5559480" y="258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Pictur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00800" y="258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3" name="Rectangle 32"/>
            <p:cNvSpPr/>
            <p:nvPr/>
          </p:nvSpPr>
          <p:spPr>
            <a:xfrm>
              <a:off x="2403720" y="263988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3"/>
            <p:cNvSpPr/>
            <p:nvPr/>
          </p:nvSpPr>
          <p:spPr>
            <a:xfrm>
              <a:off x="227160" y="267804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4"/>
            <p:cNvSpPr/>
            <p:nvPr/>
          </p:nvSpPr>
          <p:spPr>
            <a:xfrm>
              <a:off x="4119480" y="263340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5"/>
            <p:cNvSpPr/>
            <p:nvPr/>
          </p:nvSpPr>
          <p:spPr>
            <a:xfrm>
              <a:off x="5880240" y="263844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6"/>
            <p:cNvSpPr/>
            <p:nvPr/>
          </p:nvSpPr>
          <p:spPr>
            <a:xfrm>
              <a:off x="7618320" y="263196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00080" y="3125880"/>
            <a:ext cx="8664480" cy="557280"/>
            <a:chOff x="100080" y="3125880"/>
            <a:chExt cx="8664480" cy="557280"/>
          </a:xfrm>
        </p:grpSpPr>
        <p:pic>
          <p:nvPicPr>
            <p:cNvPr id="889" name="Picture 38" descr=""/>
            <p:cNvPicPr/>
            <p:nvPr/>
          </p:nvPicPr>
          <p:blipFill>
            <a:blip r:embed="rId11"/>
            <a:stretch/>
          </p:blipFill>
          <p:spPr>
            <a:xfrm>
              <a:off x="100080" y="313380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0" name=""/>
            <p:cNvGrpSpPr/>
            <p:nvPr/>
          </p:nvGrpSpPr>
          <p:grpSpPr>
            <a:xfrm>
              <a:off x="2084400" y="3125880"/>
              <a:ext cx="6680160" cy="549360"/>
              <a:chOff x="2084400" y="3125880"/>
              <a:chExt cx="6680160" cy="549360"/>
            </a:xfrm>
          </p:grpSpPr>
          <p:pic>
            <p:nvPicPr>
              <p:cNvPr id="891" name="Picture 40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84400" y="31258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Picture 41" descr=""/>
              <p:cNvPicPr/>
              <p:nvPr/>
            </p:nvPicPr>
            <p:blipFill>
              <a:blip r:embed="rId13"/>
              <a:stretch/>
            </p:blipFill>
            <p:spPr>
              <a:xfrm>
                <a:off x="3817800" y="312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42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59480" y="312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Picture 43" descr=""/>
              <p:cNvPicPr/>
              <p:nvPr/>
            </p:nvPicPr>
            <p:blipFill>
              <a:blip r:embed="rId15"/>
              <a:stretch/>
            </p:blipFill>
            <p:spPr>
              <a:xfrm>
                <a:off x="7300800" y="312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5" name="Rectangle 44"/>
            <p:cNvSpPr/>
            <p:nvPr/>
          </p:nvSpPr>
          <p:spPr>
            <a:xfrm>
              <a:off x="2403720" y="318132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45"/>
            <p:cNvSpPr/>
            <p:nvPr/>
          </p:nvSpPr>
          <p:spPr>
            <a:xfrm>
              <a:off x="227160" y="321804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46"/>
            <p:cNvSpPr/>
            <p:nvPr/>
          </p:nvSpPr>
          <p:spPr>
            <a:xfrm>
              <a:off x="4119480" y="317520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47"/>
            <p:cNvSpPr/>
            <p:nvPr/>
          </p:nvSpPr>
          <p:spPr>
            <a:xfrm>
              <a:off x="5880240" y="317988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48"/>
            <p:cNvSpPr/>
            <p:nvPr/>
          </p:nvSpPr>
          <p:spPr>
            <a:xfrm>
              <a:off x="7618320" y="317340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00080" y="3664080"/>
            <a:ext cx="8664480" cy="556560"/>
            <a:chOff x="100080" y="3664080"/>
            <a:chExt cx="8664480" cy="556560"/>
          </a:xfrm>
        </p:grpSpPr>
        <p:pic>
          <p:nvPicPr>
            <p:cNvPr id="901" name="Picture 50" descr=""/>
            <p:cNvPicPr/>
            <p:nvPr/>
          </p:nvPicPr>
          <p:blipFill>
            <a:blip r:embed="rId16"/>
            <a:stretch/>
          </p:blipFill>
          <p:spPr>
            <a:xfrm>
              <a:off x="100080" y="367164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2" name=""/>
            <p:cNvGrpSpPr/>
            <p:nvPr/>
          </p:nvGrpSpPr>
          <p:grpSpPr>
            <a:xfrm>
              <a:off x="2084400" y="3664080"/>
              <a:ext cx="6680160" cy="549000"/>
              <a:chOff x="2084400" y="3664080"/>
              <a:chExt cx="6680160" cy="549000"/>
            </a:xfrm>
          </p:grpSpPr>
          <p:pic>
            <p:nvPicPr>
              <p:cNvPr id="903" name="Picture 52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84400" y="366408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Picture 53" descr=""/>
              <p:cNvPicPr/>
              <p:nvPr/>
            </p:nvPicPr>
            <p:blipFill>
              <a:blip r:embed="rId18"/>
              <a:stretch/>
            </p:blipFill>
            <p:spPr>
              <a:xfrm>
                <a:off x="3817800" y="36640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Picture 54" descr=""/>
              <p:cNvPicPr/>
              <p:nvPr/>
            </p:nvPicPr>
            <p:blipFill>
              <a:blip r:embed="rId19"/>
              <a:stretch/>
            </p:blipFill>
            <p:spPr>
              <a:xfrm>
                <a:off x="5559480" y="36640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Picture 55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00800" y="36640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7" name="Rectangle 56"/>
            <p:cNvSpPr/>
            <p:nvPr/>
          </p:nvSpPr>
          <p:spPr>
            <a:xfrm>
              <a:off x="2403720" y="372240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57"/>
            <p:cNvSpPr/>
            <p:nvPr/>
          </p:nvSpPr>
          <p:spPr>
            <a:xfrm>
              <a:off x="208080" y="3757320"/>
              <a:ext cx="18432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58"/>
            <p:cNvSpPr/>
            <p:nvPr/>
          </p:nvSpPr>
          <p:spPr>
            <a:xfrm>
              <a:off x="4119480" y="371628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59"/>
            <p:cNvSpPr/>
            <p:nvPr/>
          </p:nvSpPr>
          <p:spPr>
            <a:xfrm>
              <a:off x="5880240" y="372096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0"/>
            <p:cNvSpPr/>
            <p:nvPr/>
          </p:nvSpPr>
          <p:spPr>
            <a:xfrm>
              <a:off x="7618320" y="371448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00080" y="4197240"/>
            <a:ext cx="8664480" cy="560520"/>
            <a:chOff x="100080" y="4197240"/>
            <a:chExt cx="8664480" cy="560520"/>
          </a:xfrm>
        </p:grpSpPr>
        <p:pic>
          <p:nvPicPr>
            <p:cNvPr id="913" name="Picture 62" descr=""/>
            <p:cNvPicPr/>
            <p:nvPr/>
          </p:nvPicPr>
          <p:blipFill>
            <a:blip r:embed="rId21"/>
            <a:stretch/>
          </p:blipFill>
          <p:spPr>
            <a:xfrm>
              <a:off x="100080" y="420840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4" name=""/>
            <p:cNvGrpSpPr/>
            <p:nvPr/>
          </p:nvGrpSpPr>
          <p:grpSpPr>
            <a:xfrm>
              <a:off x="2084400" y="4197240"/>
              <a:ext cx="6680160" cy="549360"/>
              <a:chOff x="2084400" y="4197240"/>
              <a:chExt cx="6680160" cy="549360"/>
            </a:xfrm>
          </p:grpSpPr>
          <p:pic>
            <p:nvPicPr>
              <p:cNvPr id="915" name="Picture 64" descr=""/>
              <p:cNvPicPr/>
              <p:nvPr/>
            </p:nvPicPr>
            <p:blipFill>
              <a:blip r:embed="rId22"/>
              <a:stretch/>
            </p:blipFill>
            <p:spPr>
              <a:xfrm>
                <a:off x="2084400" y="419724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6" name="Picture 65" descr=""/>
              <p:cNvPicPr/>
              <p:nvPr/>
            </p:nvPicPr>
            <p:blipFill>
              <a:blip r:embed="rId23"/>
              <a:stretch/>
            </p:blipFill>
            <p:spPr>
              <a:xfrm>
                <a:off x="3817800" y="41972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66" descr=""/>
              <p:cNvPicPr/>
              <p:nvPr/>
            </p:nvPicPr>
            <p:blipFill>
              <a:blip r:embed="rId24"/>
              <a:stretch/>
            </p:blipFill>
            <p:spPr>
              <a:xfrm>
                <a:off x="5559480" y="41972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8" name="Picture 67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00800" y="41972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9" name="Rectangle 68"/>
            <p:cNvSpPr/>
            <p:nvPr/>
          </p:nvSpPr>
          <p:spPr>
            <a:xfrm>
              <a:off x="2403720" y="426384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69"/>
            <p:cNvSpPr/>
            <p:nvPr/>
          </p:nvSpPr>
          <p:spPr>
            <a:xfrm>
              <a:off x="227160" y="429732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0"/>
            <p:cNvSpPr/>
            <p:nvPr/>
          </p:nvSpPr>
          <p:spPr>
            <a:xfrm>
              <a:off x="4119480" y="425772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1"/>
            <p:cNvSpPr/>
            <p:nvPr/>
          </p:nvSpPr>
          <p:spPr>
            <a:xfrm>
              <a:off x="5880240" y="426240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2"/>
            <p:cNvSpPr/>
            <p:nvPr/>
          </p:nvSpPr>
          <p:spPr>
            <a:xfrm>
              <a:off x="7618320" y="425592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100080" y="4735440"/>
            <a:ext cx="8664480" cy="560520"/>
            <a:chOff x="100080" y="4735440"/>
            <a:chExt cx="8664480" cy="560520"/>
          </a:xfrm>
        </p:grpSpPr>
        <p:grpSp>
          <p:nvGrpSpPr>
            <p:cNvPr id="925" name=""/>
            <p:cNvGrpSpPr/>
            <p:nvPr/>
          </p:nvGrpSpPr>
          <p:grpSpPr>
            <a:xfrm>
              <a:off x="2084400" y="4735440"/>
              <a:ext cx="6680160" cy="549360"/>
              <a:chOff x="2084400" y="4735440"/>
              <a:chExt cx="6680160" cy="549360"/>
            </a:xfrm>
          </p:grpSpPr>
          <p:pic>
            <p:nvPicPr>
              <p:cNvPr id="926" name="Picture 75" descr=""/>
              <p:cNvPicPr/>
              <p:nvPr/>
            </p:nvPicPr>
            <p:blipFill>
              <a:blip r:embed="rId26"/>
              <a:stretch/>
            </p:blipFill>
            <p:spPr>
              <a:xfrm>
                <a:off x="2084400" y="473544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7" name="Picture 76" descr=""/>
              <p:cNvPicPr/>
              <p:nvPr/>
            </p:nvPicPr>
            <p:blipFill>
              <a:blip r:embed="rId27"/>
              <a:stretch/>
            </p:blipFill>
            <p:spPr>
              <a:xfrm>
                <a:off x="3817800" y="47354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8" name="Picture 77" descr=""/>
              <p:cNvPicPr/>
              <p:nvPr/>
            </p:nvPicPr>
            <p:blipFill>
              <a:blip r:embed="rId28"/>
              <a:stretch/>
            </p:blipFill>
            <p:spPr>
              <a:xfrm>
                <a:off x="5559480" y="47354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9" name="Picture 78" descr=""/>
              <p:cNvPicPr/>
              <p:nvPr/>
            </p:nvPicPr>
            <p:blipFill>
              <a:blip r:embed="rId29"/>
              <a:stretch/>
            </p:blipFill>
            <p:spPr>
              <a:xfrm>
                <a:off x="7300800" y="47354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0" name=""/>
            <p:cNvGrpSpPr/>
            <p:nvPr/>
          </p:nvGrpSpPr>
          <p:grpSpPr>
            <a:xfrm>
              <a:off x="100080" y="4746600"/>
              <a:ext cx="8372520" cy="549360"/>
              <a:chOff x="100080" y="4746600"/>
              <a:chExt cx="8372520" cy="549360"/>
            </a:xfrm>
          </p:grpSpPr>
          <p:pic>
            <p:nvPicPr>
              <p:cNvPr id="931" name="Picture 80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0080" y="4746600"/>
                <a:ext cx="1987560" cy="54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2" name="Rectangle 81"/>
              <p:cNvSpPr/>
              <p:nvPr/>
            </p:nvSpPr>
            <p:spPr>
              <a:xfrm>
                <a:off x="2403720" y="480528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Rectangle 82"/>
              <p:cNvSpPr/>
              <p:nvPr/>
            </p:nvSpPr>
            <p:spPr>
              <a:xfrm>
                <a:off x="227160" y="4836960"/>
                <a:ext cx="1765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幼圆"/>
                  </a:rPr>
                  <a:t>项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83"/>
              <p:cNvSpPr/>
              <p:nvPr/>
            </p:nvSpPr>
            <p:spPr>
              <a:xfrm>
                <a:off x="4119480" y="479916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3300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84"/>
              <p:cNvSpPr/>
              <p:nvPr/>
            </p:nvSpPr>
            <p:spPr>
              <a:xfrm>
                <a:off x="5880240" y="480384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85"/>
              <p:cNvSpPr/>
              <p:nvPr/>
            </p:nvSpPr>
            <p:spPr>
              <a:xfrm>
                <a:off x="7618320" y="479736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100080" y="5813280"/>
            <a:ext cx="8664480" cy="555480"/>
            <a:chOff x="100080" y="5813280"/>
            <a:chExt cx="8664480" cy="555480"/>
          </a:xfrm>
        </p:grpSpPr>
        <p:pic>
          <p:nvPicPr>
            <p:cNvPr id="938" name="Picture 87" descr=""/>
            <p:cNvPicPr/>
            <p:nvPr/>
          </p:nvPicPr>
          <p:blipFill>
            <a:blip r:embed="rId31"/>
            <a:stretch/>
          </p:blipFill>
          <p:spPr>
            <a:xfrm>
              <a:off x="100080" y="581976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9" name=""/>
            <p:cNvGrpSpPr/>
            <p:nvPr/>
          </p:nvGrpSpPr>
          <p:grpSpPr>
            <a:xfrm>
              <a:off x="2084400" y="5813280"/>
              <a:ext cx="6680160" cy="549360"/>
              <a:chOff x="2084400" y="5813280"/>
              <a:chExt cx="6680160" cy="549360"/>
            </a:xfrm>
          </p:grpSpPr>
          <p:pic>
            <p:nvPicPr>
              <p:cNvPr id="940" name="Picture 89" descr=""/>
              <p:cNvPicPr/>
              <p:nvPr/>
            </p:nvPicPr>
            <p:blipFill>
              <a:blip r:embed="rId32"/>
              <a:stretch/>
            </p:blipFill>
            <p:spPr>
              <a:xfrm>
                <a:off x="2084400" y="58132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90" descr=""/>
              <p:cNvPicPr/>
              <p:nvPr/>
            </p:nvPicPr>
            <p:blipFill>
              <a:blip r:embed="rId33"/>
              <a:stretch/>
            </p:blipFill>
            <p:spPr>
              <a:xfrm>
                <a:off x="3817800" y="58132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2" name="Picture 9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559480" y="58132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3" name="Picture 92" descr=""/>
              <p:cNvPicPr/>
              <p:nvPr/>
            </p:nvPicPr>
            <p:blipFill>
              <a:blip r:embed="rId35"/>
              <a:stretch/>
            </p:blipFill>
            <p:spPr>
              <a:xfrm>
                <a:off x="7300800" y="58132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4" name="Rectangle 93"/>
            <p:cNvSpPr/>
            <p:nvPr/>
          </p:nvSpPr>
          <p:spPr>
            <a:xfrm>
              <a:off x="2403720" y="588780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94"/>
            <p:cNvSpPr/>
            <p:nvPr/>
          </p:nvSpPr>
          <p:spPr>
            <a:xfrm>
              <a:off x="227160" y="591660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95"/>
            <p:cNvSpPr/>
            <p:nvPr/>
          </p:nvSpPr>
          <p:spPr>
            <a:xfrm>
              <a:off x="4119480" y="58816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96"/>
            <p:cNvSpPr/>
            <p:nvPr/>
          </p:nvSpPr>
          <p:spPr>
            <a:xfrm>
              <a:off x="5880240" y="588636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97"/>
            <p:cNvSpPr/>
            <p:nvPr/>
          </p:nvSpPr>
          <p:spPr>
            <a:xfrm>
              <a:off x="7618320" y="58798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100080" y="5275440"/>
            <a:ext cx="8664480" cy="556560"/>
            <a:chOff x="100080" y="5275440"/>
            <a:chExt cx="8664480" cy="556560"/>
          </a:xfrm>
        </p:grpSpPr>
        <p:pic>
          <p:nvPicPr>
            <p:cNvPr id="950" name="Picture 99" descr=""/>
            <p:cNvPicPr/>
            <p:nvPr/>
          </p:nvPicPr>
          <p:blipFill>
            <a:blip r:embed="rId36"/>
            <a:stretch/>
          </p:blipFill>
          <p:spPr>
            <a:xfrm>
              <a:off x="100080" y="528300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1" name=""/>
            <p:cNvGrpSpPr/>
            <p:nvPr/>
          </p:nvGrpSpPr>
          <p:grpSpPr>
            <a:xfrm>
              <a:off x="2084400" y="5275440"/>
              <a:ext cx="6680160" cy="549000"/>
              <a:chOff x="2084400" y="5275440"/>
              <a:chExt cx="6680160" cy="549000"/>
            </a:xfrm>
          </p:grpSpPr>
          <p:pic>
            <p:nvPicPr>
              <p:cNvPr id="952" name="Picture 101" descr=""/>
              <p:cNvPicPr/>
              <p:nvPr/>
            </p:nvPicPr>
            <p:blipFill>
              <a:blip r:embed="rId37"/>
              <a:stretch/>
            </p:blipFill>
            <p:spPr>
              <a:xfrm>
                <a:off x="2084400" y="527544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3" name="Picture 102" descr=""/>
              <p:cNvPicPr/>
              <p:nvPr/>
            </p:nvPicPr>
            <p:blipFill>
              <a:blip r:embed="rId38"/>
              <a:stretch/>
            </p:blipFill>
            <p:spPr>
              <a:xfrm>
                <a:off x="3817800" y="52754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4" name="Picture 103" descr=""/>
              <p:cNvPicPr/>
              <p:nvPr/>
            </p:nvPicPr>
            <p:blipFill>
              <a:blip r:embed="rId39"/>
              <a:stretch/>
            </p:blipFill>
            <p:spPr>
              <a:xfrm>
                <a:off x="5559480" y="52754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5" name="Picture 104" descr=""/>
              <p:cNvPicPr/>
              <p:nvPr/>
            </p:nvPicPr>
            <p:blipFill>
              <a:blip r:embed="rId40"/>
              <a:stretch/>
            </p:blipFill>
            <p:spPr>
              <a:xfrm>
                <a:off x="7300800" y="52754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6" name="Rectangle 105"/>
            <p:cNvSpPr/>
            <p:nvPr/>
          </p:nvSpPr>
          <p:spPr>
            <a:xfrm>
              <a:off x="2403720" y="534636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06"/>
            <p:cNvSpPr/>
            <p:nvPr/>
          </p:nvSpPr>
          <p:spPr>
            <a:xfrm>
              <a:off x="227160" y="537660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07"/>
            <p:cNvSpPr/>
            <p:nvPr/>
          </p:nvSpPr>
          <p:spPr>
            <a:xfrm>
              <a:off x="4119480" y="534024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08"/>
            <p:cNvSpPr/>
            <p:nvPr/>
          </p:nvSpPr>
          <p:spPr>
            <a:xfrm>
              <a:off x="5880240" y="534492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09"/>
            <p:cNvSpPr/>
            <p:nvPr/>
          </p:nvSpPr>
          <p:spPr>
            <a:xfrm>
              <a:off x="7618320" y="533844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Rectangle 112"/>
          <p:cNvSpPr/>
          <p:nvPr/>
        </p:nvSpPr>
        <p:spPr>
          <a:xfrm>
            <a:off x="2174760" y="139716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13"/>
          <p:cNvSpPr/>
          <p:nvPr/>
        </p:nvSpPr>
        <p:spPr>
          <a:xfrm>
            <a:off x="3892680" y="140004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14"/>
          <p:cNvSpPr/>
          <p:nvPr/>
        </p:nvSpPr>
        <p:spPr>
          <a:xfrm>
            <a:off x="5635800" y="1389240"/>
            <a:ext cx="13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15"/>
          <p:cNvSpPr/>
          <p:nvPr/>
        </p:nvSpPr>
        <p:spPr>
          <a:xfrm>
            <a:off x="7370640" y="139212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"/>
          <p:cNvGrpSpPr/>
          <p:nvPr/>
        </p:nvGrpSpPr>
        <p:grpSpPr>
          <a:xfrm>
            <a:off x="7920" y="2244600"/>
            <a:ext cx="142920" cy="3672000"/>
            <a:chOff x="7920" y="2244600"/>
            <a:chExt cx="142920" cy="3672000"/>
          </a:xfrm>
        </p:grpSpPr>
        <p:sp>
          <p:nvSpPr>
            <p:cNvPr id="969" name="Line 5"/>
            <p:cNvSpPr/>
            <p:nvPr/>
          </p:nvSpPr>
          <p:spPr>
            <a:xfrm>
              <a:off x="7920" y="224460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6"/>
            <p:cNvSpPr/>
            <p:nvPr/>
          </p:nvSpPr>
          <p:spPr>
            <a:xfrm>
              <a:off x="7920" y="297792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7"/>
            <p:cNvSpPr/>
            <p:nvPr/>
          </p:nvSpPr>
          <p:spPr>
            <a:xfrm>
              <a:off x="7920" y="371304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8"/>
            <p:cNvSpPr/>
            <p:nvPr/>
          </p:nvSpPr>
          <p:spPr>
            <a:xfrm>
              <a:off x="7920" y="444636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9"/>
            <p:cNvSpPr/>
            <p:nvPr/>
          </p:nvSpPr>
          <p:spPr>
            <a:xfrm>
              <a:off x="7920" y="518148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10"/>
            <p:cNvSpPr/>
            <p:nvPr/>
          </p:nvSpPr>
          <p:spPr>
            <a:xfrm>
              <a:off x="7920" y="591660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5" name="Picture 11" descr=""/>
          <p:cNvPicPr/>
          <p:nvPr/>
        </p:nvPicPr>
        <p:blipFill>
          <a:blip r:embed="rId1"/>
          <a:stretch/>
        </p:blipFill>
        <p:spPr>
          <a:xfrm>
            <a:off x="2840040" y="132732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2" descr=""/>
          <p:cNvPicPr/>
          <p:nvPr/>
        </p:nvPicPr>
        <p:blipFill>
          <a:blip r:embed="rId2"/>
          <a:stretch/>
        </p:blipFill>
        <p:spPr>
          <a:xfrm>
            <a:off x="4664160" y="132732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3" descr=""/>
          <p:cNvPicPr/>
          <p:nvPr/>
        </p:nvPicPr>
        <p:blipFill>
          <a:blip r:embed="rId3"/>
          <a:stretch/>
        </p:blipFill>
        <p:spPr>
          <a:xfrm>
            <a:off x="6486480" y="132732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4" descr=""/>
          <p:cNvPicPr/>
          <p:nvPr/>
        </p:nvPicPr>
        <p:blipFill>
          <a:blip r:embed="rId4"/>
          <a:stretch/>
        </p:blipFill>
        <p:spPr>
          <a:xfrm>
            <a:off x="1015920" y="1327320"/>
            <a:ext cx="2560680" cy="804600"/>
          </a:xfrm>
          <a:prstGeom prst="rect">
            <a:avLst/>
          </a:prstGeom>
          <a:ln w="0">
            <a:noFill/>
          </a:ln>
        </p:spPr>
      </p:pic>
      <p:sp>
        <p:nvSpPr>
          <p:cNvPr id="979" name="Rectangle 15"/>
          <p:cNvSpPr/>
          <p:nvPr/>
        </p:nvSpPr>
        <p:spPr>
          <a:xfrm>
            <a:off x="520380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ffe1e1"/>
              </a:gs>
              <a:gs pos="100000">
                <a:srgbClr val="fff6f6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6"/>
          <p:cNvSpPr/>
          <p:nvPr/>
        </p:nvSpPr>
        <p:spPr>
          <a:xfrm>
            <a:off x="701820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c5ecff"/>
              </a:gs>
              <a:gs pos="100000">
                <a:srgbClr val="eefa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7"/>
          <p:cNvSpPr/>
          <p:nvPr/>
        </p:nvSpPr>
        <p:spPr>
          <a:xfrm>
            <a:off x="150192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cdff9b"/>
              </a:gs>
              <a:gs pos="100000">
                <a:srgbClr val="f1ffe2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8" descr=""/>
          <p:cNvPicPr/>
          <p:nvPr/>
        </p:nvPicPr>
        <p:blipFill>
          <a:blip r:embed="rId5"/>
          <a:stretch/>
        </p:blipFill>
        <p:spPr>
          <a:xfrm>
            <a:off x="216684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9" descr=""/>
          <p:cNvPicPr/>
          <p:nvPr/>
        </p:nvPicPr>
        <p:blipFill>
          <a:blip r:embed="rId6"/>
          <a:stretch/>
        </p:blipFill>
        <p:spPr>
          <a:xfrm>
            <a:off x="582300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20" descr=""/>
          <p:cNvPicPr/>
          <p:nvPr/>
        </p:nvPicPr>
        <p:blipFill>
          <a:blip r:embed="rId7"/>
          <a:stretch/>
        </p:blipFill>
        <p:spPr>
          <a:xfrm>
            <a:off x="7658280" y="2216160"/>
            <a:ext cx="115560" cy="37432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1" descr=""/>
          <p:cNvPicPr/>
          <p:nvPr/>
        </p:nvPicPr>
        <p:blipFill>
          <a:blip r:embed="rId8"/>
          <a:stretch/>
        </p:blipFill>
        <p:spPr>
          <a:xfrm>
            <a:off x="2249640" y="2216160"/>
            <a:ext cx="115560" cy="374328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22"/>
          <p:cNvSpPr/>
          <p:nvPr/>
        </p:nvSpPr>
        <p:spPr>
          <a:xfrm>
            <a:off x="338760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f6de7a"/>
              </a:gs>
              <a:gs pos="100000">
                <a:srgbClr val="fcf6d9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23" descr=""/>
          <p:cNvPicPr/>
          <p:nvPr/>
        </p:nvPicPr>
        <p:blipFill>
          <a:blip r:embed="rId9"/>
          <a:stretch/>
        </p:blipFill>
        <p:spPr>
          <a:xfrm>
            <a:off x="400680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4" descr=""/>
          <p:cNvPicPr/>
          <p:nvPr/>
        </p:nvPicPr>
        <p:blipFill>
          <a:blip r:embed="rId10"/>
          <a:stretch/>
        </p:blipFill>
        <p:spPr>
          <a:xfrm>
            <a:off x="409572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5" descr=""/>
          <p:cNvPicPr/>
          <p:nvPr/>
        </p:nvPicPr>
        <p:blipFill>
          <a:blip r:embed="rId11"/>
          <a:stretch/>
        </p:blipFill>
        <p:spPr>
          <a:xfrm>
            <a:off x="591012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6" descr=""/>
          <p:cNvPicPr/>
          <p:nvPr/>
        </p:nvPicPr>
        <p:blipFill>
          <a:blip r:embed="rId12"/>
          <a:stretch/>
        </p:blipFill>
        <p:spPr>
          <a:xfrm>
            <a:off x="7751880" y="2216160"/>
            <a:ext cx="115920" cy="3743280"/>
          </a:xfrm>
          <a:prstGeom prst="rect">
            <a:avLst/>
          </a:prstGeom>
          <a:ln w="0">
            <a:noFill/>
          </a:ln>
        </p:spPr>
      </p:pic>
      <p:grpSp>
        <p:nvGrpSpPr>
          <p:cNvPr id="991" name=""/>
          <p:cNvGrpSpPr/>
          <p:nvPr/>
        </p:nvGrpSpPr>
        <p:grpSpPr>
          <a:xfrm>
            <a:off x="1501920" y="2390760"/>
            <a:ext cx="1488960" cy="3346560"/>
            <a:chOff x="1501920" y="2390760"/>
            <a:chExt cx="1488960" cy="3346560"/>
          </a:xfrm>
        </p:grpSpPr>
        <p:sp>
          <p:nvSpPr>
            <p:cNvPr id="992" name="Rectangle 33"/>
            <p:cNvSpPr/>
            <p:nvPr/>
          </p:nvSpPr>
          <p:spPr>
            <a:xfrm>
              <a:off x="152748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34"/>
            <p:cNvSpPr/>
            <p:nvPr/>
          </p:nvSpPr>
          <p:spPr>
            <a:xfrm>
              <a:off x="151776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5"/>
            <p:cNvSpPr/>
            <p:nvPr/>
          </p:nvSpPr>
          <p:spPr>
            <a:xfrm>
              <a:off x="153540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36"/>
            <p:cNvSpPr/>
            <p:nvPr/>
          </p:nvSpPr>
          <p:spPr>
            <a:xfrm>
              <a:off x="150984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37"/>
            <p:cNvSpPr/>
            <p:nvPr/>
          </p:nvSpPr>
          <p:spPr>
            <a:xfrm>
              <a:off x="150192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6983280" y="2390760"/>
            <a:ext cx="1488960" cy="3346560"/>
            <a:chOff x="6983280" y="2390760"/>
            <a:chExt cx="1488960" cy="3346560"/>
          </a:xfrm>
        </p:grpSpPr>
        <p:sp>
          <p:nvSpPr>
            <p:cNvPr id="998" name="Rectangle 49"/>
            <p:cNvSpPr/>
            <p:nvPr/>
          </p:nvSpPr>
          <p:spPr>
            <a:xfrm>
              <a:off x="700884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50"/>
            <p:cNvSpPr/>
            <p:nvPr/>
          </p:nvSpPr>
          <p:spPr>
            <a:xfrm>
              <a:off x="699912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51"/>
            <p:cNvSpPr/>
            <p:nvPr/>
          </p:nvSpPr>
          <p:spPr>
            <a:xfrm>
              <a:off x="701676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52"/>
            <p:cNvSpPr/>
            <p:nvPr/>
          </p:nvSpPr>
          <p:spPr>
            <a:xfrm>
              <a:off x="699120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53"/>
            <p:cNvSpPr/>
            <p:nvPr/>
          </p:nvSpPr>
          <p:spPr>
            <a:xfrm>
              <a:off x="698328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3381480" y="2390760"/>
            <a:ext cx="1488960" cy="3346560"/>
            <a:chOff x="3381480" y="2390760"/>
            <a:chExt cx="1488960" cy="3346560"/>
          </a:xfrm>
        </p:grpSpPr>
        <p:sp>
          <p:nvSpPr>
            <p:cNvPr id="1004" name="Rectangle 55"/>
            <p:cNvSpPr/>
            <p:nvPr/>
          </p:nvSpPr>
          <p:spPr>
            <a:xfrm>
              <a:off x="340704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56"/>
            <p:cNvSpPr/>
            <p:nvPr/>
          </p:nvSpPr>
          <p:spPr>
            <a:xfrm>
              <a:off x="339732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57"/>
            <p:cNvSpPr/>
            <p:nvPr/>
          </p:nvSpPr>
          <p:spPr>
            <a:xfrm>
              <a:off x="341496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58"/>
            <p:cNvSpPr/>
            <p:nvPr/>
          </p:nvSpPr>
          <p:spPr>
            <a:xfrm>
              <a:off x="338940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59"/>
            <p:cNvSpPr/>
            <p:nvPr/>
          </p:nvSpPr>
          <p:spPr>
            <a:xfrm>
              <a:off x="338148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5192640" y="2390760"/>
            <a:ext cx="1488960" cy="3346560"/>
            <a:chOff x="5192640" y="2390760"/>
            <a:chExt cx="1488960" cy="3346560"/>
          </a:xfrm>
        </p:grpSpPr>
        <p:sp>
          <p:nvSpPr>
            <p:cNvPr id="1010" name="Rectangle 61"/>
            <p:cNvSpPr/>
            <p:nvPr/>
          </p:nvSpPr>
          <p:spPr>
            <a:xfrm>
              <a:off x="521820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62"/>
            <p:cNvSpPr/>
            <p:nvPr/>
          </p:nvSpPr>
          <p:spPr>
            <a:xfrm>
              <a:off x="520848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63"/>
            <p:cNvSpPr/>
            <p:nvPr/>
          </p:nvSpPr>
          <p:spPr>
            <a:xfrm>
              <a:off x="522612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64"/>
            <p:cNvSpPr/>
            <p:nvPr/>
          </p:nvSpPr>
          <p:spPr>
            <a:xfrm>
              <a:off x="520056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65"/>
            <p:cNvSpPr/>
            <p:nvPr/>
          </p:nvSpPr>
          <p:spPr>
            <a:xfrm>
              <a:off x="519264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Rectangle 66"/>
          <p:cNvSpPr/>
          <p:nvPr/>
        </p:nvSpPr>
        <p:spPr>
          <a:xfrm>
            <a:off x="-6480" y="2208240"/>
            <a:ext cx="13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67"/>
          <p:cNvSpPr/>
          <p:nvPr/>
        </p:nvSpPr>
        <p:spPr>
          <a:xfrm>
            <a:off x="0" y="309708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68"/>
          <p:cNvSpPr/>
          <p:nvPr/>
        </p:nvSpPr>
        <p:spPr>
          <a:xfrm>
            <a:off x="0" y="392760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69"/>
          <p:cNvSpPr/>
          <p:nvPr/>
        </p:nvSpPr>
        <p:spPr>
          <a:xfrm>
            <a:off x="7920" y="481644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70"/>
          <p:cNvSpPr/>
          <p:nvPr/>
        </p:nvSpPr>
        <p:spPr>
          <a:xfrm>
            <a:off x="0" y="566748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71"/>
          <p:cNvSpPr/>
          <p:nvPr/>
        </p:nvSpPr>
        <p:spPr>
          <a:xfrm>
            <a:off x="1650960" y="129240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72"/>
          <p:cNvSpPr/>
          <p:nvPr/>
        </p:nvSpPr>
        <p:spPr>
          <a:xfrm>
            <a:off x="3444840" y="129528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73"/>
          <p:cNvSpPr/>
          <p:nvPr/>
        </p:nvSpPr>
        <p:spPr>
          <a:xfrm>
            <a:off x="5264280" y="128412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74"/>
          <p:cNvSpPr/>
          <p:nvPr/>
        </p:nvSpPr>
        <p:spPr>
          <a:xfrm>
            <a:off x="7056360" y="128736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1111E-006 L 0.07378 -1.11111E-006 E">
                                      <p:cBhvr>
                                        <p:cTn id="98" dur="20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-0.07604 -1.11111E-006 E">
                                      <p:cBhvr>
                                        <p:cTn id="100" dur="2000" fill="hold"/>
                                        <p:tgtEl>
                                          <p:spTgt spid="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075 -1.11111E-006 E">
                                      <p:cBhvr>
                                        <p:cTn id="110" dur="2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-0.06788 -1.11111E-006 E">
                                      <p:cBhvr>
                                        <p:cTn id="112" dur="20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07865 -1.11111E-006 E">
                                      <p:cBhvr>
                                        <p:cTn id="118" dur="2000" fill="hold"/>
                                        <p:tgtEl>
                                          <p:spTgt spid="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6788 -1.11111E-006 E">
                                      <p:cBhvr>
                                        <p:cTn id="120" dur="2000" fill="hold"/>
                                        <p:tgtEl>
                                          <p:spTgt spid="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0.07622 -1.11111E-006 E">
                                      <p:cBhvr>
                                        <p:cTn id="126" dur="2000" fill="hold"/>
                                        <p:tgtEl>
                                          <p:spTgt spid="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111E-006 L -0.06771 -1.11111E-006 E">
                                      <p:cBhvr>
                                        <p:cTn id="128" dur="2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6:54:2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14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