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035-12A2-4CC1-A42A-73533D75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DBD-990D-470F-8C3D-E5FBBEB9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9CC-8D6E-4B22-817B-39E9CBBB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8EA-7E17-4BE1-9241-913EE9FB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D76-0CA7-4F4D-9883-260C5569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FFF-DC0C-4CCB-ABB6-42EED109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C4A-A646-4060-8C93-75FC9B97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723-033C-4C6D-AB28-72033073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852-D377-40CC-B7EC-F63F2DEB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3CD-CA41-4392-82A7-96C9B7A1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187-9250-4F90-AA7B-F55CCE21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1380-71DB-4388-AB72-0D199DD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79F0-1FDA-459B-A1D4-FA8FCEF88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fn2-c2_Pro副本.jp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内容占位符 5" descr="株洲学校rs1_Pro2012-4-19.jpg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-27000"/>
            <a:ext cx="9144000" cy="2303640"/>
          </a:xfrm>
          <a:prstGeom prst="rect">
            <a:avLst/>
          </a:prstGeom>
          <a:solidFill>
            <a:srgbClr val="ff66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168640"/>
            <a:ext cx="9144000" cy="1252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0920" y="476280"/>
            <a:ext cx="8532720" cy="106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77080" y="6165720"/>
            <a:ext cx="1798560" cy="368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黑体"/>
              </a:rPr>
              <a:t>新校区效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4880" y="2349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专工作报告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82560" y="3860640"/>
            <a:ext cx="7993080" cy="2232000"/>
            <a:chOff x="682560" y="3860640"/>
            <a:chExt cx="7993080" cy="22320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82560" y="3860640"/>
              <a:ext cx="362268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356000" y="3860640"/>
              <a:ext cx="4319640" cy="22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2124000" cy="1413000"/>
          </a:xfrm>
          <a:prstGeom prst="rect">
            <a:avLst/>
          </a:prstGeom>
          <a:solidFill>
            <a:srgbClr val="9933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4762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学校基本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68360" y="260280"/>
            <a:ext cx="1008000" cy="1081440"/>
            <a:chOff x="468360" y="260280"/>
            <a:chExt cx="1008000" cy="1081440"/>
          </a:xfrm>
        </p:grpSpPr>
        <p:sp>
          <p:nvSpPr>
            <p:cNvPr id="61" name=""/>
            <p:cNvSpPr/>
            <p:nvPr/>
          </p:nvSpPr>
          <p:spPr>
            <a:xfrm>
              <a:off x="468360" y="260280"/>
              <a:ext cx="1008000" cy="10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8360" y="333360"/>
              <a:ext cx="93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Arial"/>
                  <a:ea typeface="方正黄草简体"/>
                </a:rPr>
                <a:t>壹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50920" y="1557360"/>
            <a:ext cx="86040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学校现占地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7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亩，建筑面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固定资产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7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亿元，其中教学、医疗科研仪器设备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800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万元，馆藏图书资料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万册。学校在校学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841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人，在籍学生已突破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40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人，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教学系部，开设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专业，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校内实训中心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家附属医院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0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余家校外实训基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学校已累计为社会培养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万多名中医药人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27080" y="6262560"/>
            <a:ext cx="8837640" cy="530280"/>
            <a:chOff x="127080" y="6262560"/>
            <a:chExt cx="8837640" cy="530280"/>
          </a:xfrm>
        </p:grpSpPr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5238720" y="6315120"/>
              <a:ext cx="372600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127080" y="6262560"/>
              <a:ext cx="2952720" cy="53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08E-685E-4E0A-A5E0-82500E1403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2124000" cy="1413000"/>
          </a:xfrm>
          <a:prstGeom prst="rect">
            <a:avLst/>
          </a:prstGeom>
          <a:solidFill>
            <a:srgbClr val="9933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96720" cy="104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934092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40000" y="2708280"/>
            <a:ext cx="4968720" cy="1099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Arial"/>
                <a:ea typeface="方正黄草简体"/>
              </a:rPr>
              <a:t>谢谢大家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28000" y="6237360"/>
            <a:ext cx="2016000" cy="368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黑体"/>
              </a:rPr>
              <a:t>新校区效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124000" y="333360"/>
            <a:ext cx="4241880" cy="827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3T02:55:1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1:25Z</dcterms:modified>
  <cp:revision>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