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575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5a5b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5a5b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105a5b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105a5b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105a5b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105a5b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5a5b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5a5b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105a5b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105a5b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105a5b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105a5b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5a5b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105a5b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809520" y="42667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姓名</a:t>
            </a:r>
            <a:endParaRPr b="0" lang="en-US" sz="2400" spc="-1" strike="noStrike">
              <a:solidFill>
                <a:srgbClr val="105a5b"/>
              </a:solidFill>
              <a:latin typeface="Microsoft Sans Serif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76320" y="3562200"/>
            <a:ext cx="87436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放大镜为背景的求职简历</a:t>
            </a: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模板</a:t>
            </a:r>
            <a:endParaRPr b="0" lang="en-US" sz="40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6453360"/>
            <a:ext cx="5078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05a5b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d9aa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5a5b"/>
              </a:solidFill>
              <a:latin typeface="Microsoft Sans Serif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9640" y="2387520"/>
            <a:ext cx="453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9aa3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幻灯片之家：www.eeppt.com</dc:creator>
  <dc:description>幻灯片之家：www.eeppt.com</dc:description>
  <cp:keywords>幻灯片之家：www.eeppt.com</cp:keywords>
  <dc:language>en-US</dc:language>
  <cp:lastModifiedBy>Lenovo User</cp:lastModifiedBy>
  <dcterms:modified xsi:type="dcterms:W3CDTF">2015-08-12T14:35:43Z</dcterms:modified>
  <cp:revision>1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