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C35-947B-40BD-BE8F-CA79A77C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7CA-7A98-4AD8-B54B-DCB39009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E4F-BD70-4D9D-AEA8-6B52A173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A89-0233-4DAC-8331-4CBD35F5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78A-ECBF-4680-B767-B47AC1AC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1AA-8D3F-4DDB-93CB-2F4F7929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DFD-F522-453C-A2F7-45F5EF52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1C1-ACF9-433C-AF36-C1E65D26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B6B-5D91-4379-A81F-D52D2863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579-B9E7-45B6-BA18-1E357991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64F-CF6B-4885-A670-838AFE58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EE7-16D0-474F-AD27-EA432471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7EE7-DA40-41E3-A146-8AC6B36D3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92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方正中倩简体"/>
                <a:ea typeface="方正中倩简体"/>
              </a:rPr>
              <a:t>妇女节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DB9-5B11-43AB-AD8B-606E089E14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4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7:39:04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jccook</cp:lastModifiedBy>
  <dcterms:modified xsi:type="dcterms:W3CDTF">2015-08-14T12:51:27Z</dcterms:modified>
  <cp:revision>2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