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C8E-DF50-4559-8FCF-F227B985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36C-093F-4B8D-8872-1A3354A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9C1-2D0B-4AAB-8E70-A25C2B43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B0C-A7B7-4E6D-AFBB-4AE0636D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489-EC3D-42BB-A8AF-4D76805B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C0A-3641-48B6-8A47-1A0794B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CA7-844A-4EBA-8006-29A4B68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AA4-5D06-4D4A-BB6B-603239AD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06D-106C-46F7-BC20-F51FA30A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201-47F0-4DC1-AE27-CADE25EF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442-331E-4B03-B745-9FB4143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FB7-D96E-4B16-818C-46389FD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4E2-E96D-42B1-8E7A-FA39DDF76D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73E-1DA3-433C-8A3D-3A0661D75B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900000" y="303120"/>
            <a:ext cx="6186240" cy="371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3492360" y="1835280"/>
            <a:ext cx="2367000" cy="202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2898720" y="3870360"/>
            <a:ext cx="325764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7080" y="1125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妇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936360" cy="8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6443640" y="100080"/>
            <a:ext cx="1754280" cy="880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1433520" y="1335240"/>
            <a:ext cx="598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是国际劳动妇女节，又称三八节、妇女节、三八国际妇女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世界各国妇女争取和平、平等、发展的节日。一个世纪以来，各国妇女为争取自身的权利做出了不懈的努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为第一个国际劳动妇女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开始纪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八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。中国妇女第一次群众性的纪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八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活动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在广州举行的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中央人民政府政务院规定每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为妇女节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大会通过了一项决议，请每个国家按照自己的历史和民族传统习俗，选定一年中的某一天为联合国妇女权利和世界和平日。国际妇女节定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-1136520" y="0"/>
            <a:ext cx="8559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936360" cy="8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6443640" y="100080"/>
            <a:ext cx="1754280" cy="88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-1136520" y="0"/>
            <a:ext cx="8559720" cy="186696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3"/>
          <p:cNvGrpSpPr/>
          <p:nvPr/>
        </p:nvGrpSpPr>
        <p:grpSpPr>
          <a:xfrm>
            <a:off x="3276720" y="1558800"/>
            <a:ext cx="4248000" cy="1082880"/>
            <a:chOff x="3276720" y="1558800"/>
            <a:chExt cx="4248000" cy="1082880"/>
          </a:xfrm>
        </p:grpSpPr>
        <p:pic>
          <p:nvPicPr>
            <p:cNvPr id="56" name="图片 50" descr=""/>
            <p:cNvPicPr/>
            <p:nvPr/>
          </p:nvPicPr>
          <p:blipFill>
            <a:blip r:embed="rId5"/>
            <a:stretch/>
          </p:blipFill>
          <p:spPr>
            <a:xfrm flipH="1" rot="16200000">
              <a:off x="4859280" y="-23400"/>
              <a:ext cx="108288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51"/>
            <p:cNvSpPr/>
            <p:nvPr/>
          </p:nvSpPr>
          <p:spPr>
            <a:xfrm flipH="1">
              <a:off x="3636000" y="177660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53"/>
          <p:cNvGrpSpPr/>
          <p:nvPr/>
        </p:nvGrpSpPr>
        <p:grpSpPr>
          <a:xfrm>
            <a:off x="2612880" y="2887560"/>
            <a:ext cx="4249800" cy="1082880"/>
            <a:chOff x="2612880" y="2887560"/>
            <a:chExt cx="4249800" cy="1082880"/>
          </a:xfrm>
        </p:grpSpPr>
        <p:pic>
          <p:nvPicPr>
            <p:cNvPr id="59" name="图片 54" descr=""/>
            <p:cNvPicPr/>
            <p:nvPr/>
          </p:nvPicPr>
          <p:blipFill>
            <a:blip r:embed="rId6"/>
            <a:stretch/>
          </p:blipFill>
          <p:spPr>
            <a:xfrm flipH="1" rot="16200000">
              <a:off x="4196160" y="1303920"/>
              <a:ext cx="1082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55"/>
            <p:cNvSpPr/>
            <p:nvPr/>
          </p:nvSpPr>
          <p:spPr>
            <a:xfrm flipH="1">
              <a:off x="2972880" y="3105360"/>
              <a:ext cx="110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6"/>
          <p:cNvGrpSpPr/>
          <p:nvPr/>
        </p:nvGrpSpPr>
        <p:grpSpPr>
          <a:xfrm>
            <a:off x="1512720" y="4149000"/>
            <a:ext cx="4248360" cy="1082520"/>
            <a:chOff x="1512720" y="4149000"/>
            <a:chExt cx="4248360" cy="1082520"/>
          </a:xfrm>
        </p:grpSpPr>
        <p:pic>
          <p:nvPicPr>
            <p:cNvPr id="62" name="图片 57" descr=""/>
            <p:cNvPicPr/>
            <p:nvPr/>
          </p:nvPicPr>
          <p:blipFill>
            <a:blip r:embed="rId7"/>
            <a:stretch/>
          </p:blipFill>
          <p:spPr>
            <a:xfrm flipH="1" rot="16200000">
              <a:off x="3095640" y="2566080"/>
              <a:ext cx="1082520" cy="42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8"/>
            <p:cNvSpPr/>
            <p:nvPr/>
          </p:nvSpPr>
          <p:spPr>
            <a:xfrm flipH="1">
              <a:off x="1872000" y="436752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960-F0B9-43F7-878D-CFBFFE979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936360" cy="8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6443640" y="100080"/>
            <a:ext cx="1754280" cy="880920"/>
          </a:xfrm>
          <a:prstGeom prst="rect">
            <a:avLst/>
          </a:prstGeom>
          <a:ln w="0">
            <a:noFill/>
          </a:ln>
        </p:spPr>
      </p:pic>
      <p:sp>
        <p:nvSpPr>
          <p:cNvPr id="71" name="直接连接符 36"/>
          <p:cNvSpPr/>
          <p:nvPr/>
        </p:nvSpPr>
        <p:spPr>
          <a:xfrm>
            <a:off x="4181400" y="3828960"/>
            <a:ext cx="3851280" cy="0"/>
          </a:xfrm>
          <a:prstGeom prst="line">
            <a:avLst/>
          </a:prstGeom>
          <a:ln w="133200">
            <a:solidFill>
              <a:srgbClr val="dc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37" descr=""/>
          <p:cNvPicPr/>
          <p:nvPr/>
        </p:nvPicPr>
        <p:blipFill>
          <a:blip r:embed="rId4"/>
          <a:srcRect l="9127" t="26052" r="14654" b="33128"/>
          <a:stretch/>
        </p:blipFill>
        <p:spPr>
          <a:xfrm>
            <a:off x="4803840" y="4890960"/>
            <a:ext cx="1542960" cy="14828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8" descr=""/>
          <p:cNvPicPr/>
          <p:nvPr/>
        </p:nvPicPr>
        <p:blipFill>
          <a:blip r:embed="rId5"/>
          <a:srcRect l="9127" t="26052" r="14654" b="33128"/>
          <a:stretch/>
        </p:blipFill>
        <p:spPr>
          <a:xfrm>
            <a:off x="3106800" y="4041720"/>
            <a:ext cx="2166840" cy="20829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9" descr=""/>
          <p:cNvPicPr/>
          <p:nvPr/>
        </p:nvPicPr>
        <p:blipFill>
          <a:blip r:embed="rId6"/>
          <a:srcRect l="9127" t="26052" r="14654" b="33128"/>
          <a:stretch/>
        </p:blipFill>
        <p:spPr>
          <a:xfrm>
            <a:off x="946080" y="2654280"/>
            <a:ext cx="2889360" cy="2776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0" descr=""/>
          <p:cNvPicPr/>
          <p:nvPr/>
        </p:nvPicPr>
        <p:blipFill>
          <a:blip r:embed="rId7"/>
          <a:srcRect l="9127" t="30572" r="14654" b="33128"/>
          <a:stretch/>
        </p:blipFill>
        <p:spPr>
          <a:xfrm>
            <a:off x="1409760" y="0"/>
            <a:ext cx="4064040" cy="3475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1"/>
          <p:cNvSpPr/>
          <p:nvPr/>
        </p:nvSpPr>
        <p:spPr>
          <a:xfrm>
            <a:off x="4540320" y="31212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3c05"/>
                </a:solidFill>
                <a:latin typeface="Times New Roman"/>
                <a:ea typeface="微软雅黑"/>
              </a:rPr>
              <a:t>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2279520" y="946080"/>
            <a:ext cx="1727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2206800" y="1459080"/>
            <a:ext cx="197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44"/>
          <p:cNvSpPr/>
          <p:nvPr/>
        </p:nvSpPr>
        <p:spPr>
          <a:xfrm>
            <a:off x="2322360" y="1406520"/>
            <a:ext cx="1741680" cy="0"/>
          </a:xfrm>
          <a:prstGeom prst="line">
            <a:avLst/>
          </a:prstGeom>
          <a:ln w="2844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1343160" y="3475080"/>
            <a:ext cx="1726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6"/>
          <p:cNvSpPr/>
          <p:nvPr/>
        </p:nvSpPr>
        <p:spPr>
          <a:xfrm>
            <a:off x="1486080" y="3987720"/>
            <a:ext cx="158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here to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7"/>
          <p:cNvSpPr/>
          <p:nvPr/>
        </p:nvSpPr>
        <p:spPr>
          <a:xfrm>
            <a:off x="1630440" y="3935520"/>
            <a:ext cx="1295280" cy="0"/>
          </a:xfrm>
          <a:prstGeom prst="line">
            <a:avLst/>
          </a:prstGeom>
          <a:ln w="2844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3181320" y="4595760"/>
            <a:ext cx="1727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16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3432240" y="5006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50"/>
          <p:cNvSpPr/>
          <p:nvPr/>
        </p:nvSpPr>
        <p:spPr>
          <a:xfrm>
            <a:off x="3502080" y="4991040"/>
            <a:ext cx="1114200" cy="0"/>
          </a:xfrm>
          <a:prstGeom prst="line">
            <a:avLst/>
          </a:prstGeom>
          <a:ln w="2844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4960800" y="551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16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8"/>
          <a:stretch/>
        </p:blipFill>
        <p:spPr>
          <a:xfrm>
            <a:off x="-1136520" y="0"/>
            <a:ext cx="8559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2:37:00Z</dcterms:created>
  <dc:creator>幻灯片之家：www.eeppt.com</dc:creator>
  <dc:description>幻灯片之家：www.eeppt.com</dc:description>
  <cp:keywords>幻灯片之家：www.eeppt.com</cp:keywords>
  <dc:language>en-US</dc:language>
  <cp:lastModifiedBy>SUNNY-PC</cp:lastModifiedBy>
  <dcterms:modified xsi:type="dcterms:W3CDTF">2015-08-12T14:35:24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