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8C5-9C62-4E2F-B0EF-5B5FC901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3DD-7CD0-451C-9579-2A099700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635-2397-486C-BBCD-BE5407B8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CC9-A1B3-4934-8DF5-798DB8FE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FC3-C043-458C-A6A8-29733059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CAE-2F5B-4268-83DE-1CA137C5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A7F-F6D0-49AA-BBF8-0EBCA19A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AF4-8E4D-4704-8A90-2909BE58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866-2F86-4F64-B975-36B75A7A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D25-541F-4545-9E60-FA76DDC7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63B-8341-45CD-88FC-C79961D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265-DEF0-4F1E-96DF-054CDEE2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9B40-8437-4DF1-8EB5-A4DF6F74310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BD47-9CAB-49AB-B65A-3AB23E9C881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928960" y="4433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429000" y="52149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6640" y="26028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粉色浪漫七夕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001-975F-4CC0-AEC8-DBF50DD939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151200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179784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79808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65516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01212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86972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0836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155040" y="5429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3710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337104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3696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22684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01204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129780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369160" y="5357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56556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29796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79776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51268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1192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308376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51208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0120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58388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94092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01204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472680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3226680" y="2143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136908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22668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29812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3083760" y="5429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a</cp:lastModifiedBy>
  <dcterms:modified xsi:type="dcterms:W3CDTF">2015-08-12T14:36:04Z</dcterms:modified>
  <cp:revision>7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